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4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15BC-05D2-42FC-80FA-F6D5861E1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4B4F-E6B2-451A-9F78-93DCBB16C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713-AC36-408D-9BA4-7AE25BC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E03-82C4-42F4-B49F-5AF0F5C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DA7-D492-4CC9-AC6F-0BC82346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C4F-F487-423B-8451-E79F9B4D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0B3-4B8D-4BB7-B567-84F8569D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15F-4608-4B1E-90B6-A683B778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A39-DC0A-4F55-BDD8-9D8BC2C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A00-2F90-4471-BC70-DF2E8AD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546-6C57-4D91-9A3A-59B5349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CA6-61A0-4767-AA79-4F2CC92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C57-F705-43FC-AD5F-B183CD9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B57-AF04-4444-AC56-2ED3B09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FAA-A1AE-47F9-8020-C8C063839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749160" y="165240"/>
            <a:ext cx="7139160" cy="3138480"/>
          </a:xfrm>
          <a:prstGeom prst="rect">
            <a:avLst/>
          </a:prstGeom>
          <a:ln w="0">
            <a:noFill/>
          </a:ln>
        </p:spPr>
      </p:pic>
      <p:sp>
        <p:nvSpPr>
          <p:cNvPr id="49" name="Левая фигурная скобка 8"/>
          <p:cNvSpPr/>
          <p:nvPr/>
        </p:nvSpPr>
        <p:spPr>
          <a:xfrm rot="16200000">
            <a:off x="4067280" y="691920"/>
            <a:ext cx="576000" cy="5040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88560 h 5040360"/>
              <a:gd name="textAreaBottom" fmla="*/ 495180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8"/>
                  <a:pt x="10800" y="1215"/>
                </a:cubicBezTo>
                <a:lnTo>
                  <a:pt x="10800" y="9632"/>
                </a:lnTo>
                <a:cubicBezTo>
                  <a:pt x="10800" y="10240"/>
                  <a:pt x="5400" y="10847"/>
                  <a:pt x="0" y="10847"/>
                </a:cubicBezTo>
                <a:cubicBezTo>
                  <a:pt x="5400" y="10847"/>
                  <a:pt x="10800" y="11455"/>
                  <a:pt x="10800" y="12062"/>
                </a:cubicBezTo>
                <a:lnTo>
                  <a:pt x="10800" y="20385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9" descr=""/>
          <p:cNvPicPr/>
          <p:nvPr/>
        </p:nvPicPr>
        <p:blipFill>
          <a:blip r:embed="rId3"/>
          <a:stretch/>
        </p:blipFill>
        <p:spPr>
          <a:xfrm>
            <a:off x="1616040" y="3852720"/>
            <a:ext cx="562608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Box 3" descr=""/>
          <p:cNvPicPr/>
          <p:nvPr/>
        </p:nvPicPr>
        <p:blipFill>
          <a:blip r:embed="rId1"/>
          <a:stretch/>
        </p:blipFill>
        <p:spPr>
          <a:xfrm>
            <a:off x="390600" y="-176040"/>
            <a:ext cx="8508960" cy="1657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с двумя скругленными соседними углами 4"/>
          <p:cNvSpPr/>
          <p:nvPr/>
        </p:nvSpPr>
        <p:spPr>
          <a:xfrm>
            <a:off x="0" y="1341360"/>
            <a:ext cx="8569440" cy="4032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) ценности супружества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) ценности, связанные с демократизацией отношений в семье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) ценности родительства, воспитания детей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) ценности родственных связей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) ценности, связанные с саморазвитием;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) ценности внесемейных коммуник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) ценности профессиональной занят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8" descr="1278696637_screenhunter_10-jul.-09-21.21.gif"/>
          <p:cNvPicPr/>
          <p:nvPr/>
        </p:nvPicPr>
        <p:blipFill>
          <a:blip r:embed="rId2"/>
          <a:stretch/>
        </p:blipFill>
        <p:spPr>
          <a:xfrm>
            <a:off x="4427640" y="1700280"/>
            <a:ext cx="4716360" cy="3871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97845_rodzinka_dom_slonce.jpg"/>
          <p:cNvPicPr/>
          <p:nvPr/>
        </p:nvPicPr>
        <p:blipFill>
          <a:blip r:embed="rId3"/>
          <a:stretch/>
        </p:blipFill>
        <p:spPr>
          <a:xfrm>
            <a:off x="324000" y="3789360"/>
            <a:ext cx="4408200" cy="2627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3M_P-YA.jpg"/>
          <p:cNvPicPr/>
          <p:nvPr/>
        </p:nvPicPr>
        <p:blipFill>
          <a:blip r:embed="rId4"/>
          <a:stretch/>
        </p:blipFill>
        <p:spPr>
          <a:xfrm>
            <a:off x="0" y="836640"/>
            <a:ext cx="4521240" cy="2952720"/>
          </a:xfrm>
          <a:prstGeom prst="rect">
            <a:avLst/>
          </a:prstGeom>
          <a:ln w="0">
            <a:noFill/>
          </a:ln>
        </p:spPr>
      </p:pic>
      <p:sp>
        <p:nvSpPr>
          <p:cNvPr id="92" name="Рамка 11"/>
          <p:cNvSpPr/>
          <p:nvPr/>
        </p:nvSpPr>
        <p:spPr>
          <a:xfrm>
            <a:off x="0" y="836640"/>
            <a:ext cx="4572000" cy="3024000"/>
          </a:xfrm>
          <a:custGeom>
            <a:avLst/>
            <a:gdLst>
              <a:gd name="textAreaLeft" fmla="*/ 378000 w 4572000"/>
              <a:gd name="textAreaRight" fmla="*/ 4194000 w 4572000"/>
              <a:gd name="textAreaTop" fmla="*/ 378000 h 3024000"/>
              <a:gd name="textAreaBottom" fmla="*/ 2646000 h 3024000"/>
            </a:gdLst>
            <a:ahLst/>
            <a:rect l="textAreaLeft" t="textAreaTop" r="textAreaRight" b="textAreaBottom"/>
            <a:pathLst>
              <a:path w="4572000" h="3024187">
                <a:moveTo>
                  <a:pt x="0" y="0"/>
                </a:moveTo>
                <a:lnTo>
                  <a:pt x="4572000" y="0"/>
                </a:lnTo>
                <a:lnTo>
                  <a:pt x="4572000" y="3024187"/>
                </a:lnTo>
                <a:lnTo>
                  <a:pt x="0" y="3024187"/>
                </a:lnTo>
                <a:close/>
                <a:moveTo>
                  <a:pt x="378023" y="378023"/>
                </a:moveTo>
                <a:lnTo>
                  <a:pt x="378023" y="2646164"/>
                </a:lnTo>
                <a:lnTo>
                  <a:pt x="4193977" y="2646164"/>
                </a:lnTo>
                <a:lnTo>
                  <a:pt x="4193977" y="37802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мка 12"/>
          <p:cNvSpPr/>
          <p:nvPr/>
        </p:nvSpPr>
        <p:spPr>
          <a:xfrm>
            <a:off x="4140360" y="1773360"/>
            <a:ext cx="5003640" cy="3743280"/>
          </a:xfrm>
          <a:custGeom>
            <a:avLst/>
            <a:gdLst>
              <a:gd name="textAreaLeft" fmla="*/ 467640 w 5003640"/>
              <a:gd name="textAreaRight" fmla="*/ 4536000 w 5003640"/>
              <a:gd name="textAreaTop" fmla="*/ 467640 h 3743280"/>
              <a:gd name="textAreaBottom" fmla="*/ 3275640 h 3743280"/>
            </a:gdLst>
            <a:ahLst/>
            <a:rect l="textAreaLeft" t="textAreaTop" r="textAreaRight" b="textAreaBottom"/>
            <a:pathLst>
              <a:path w="5003800" h="3743325">
                <a:moveTo>
                  <a:pt x="0" y="0"/>
                </a:moveTo>
                <a:lnTo>
                  <a:pt x="5003800" y="0"/>
                </a:lnTo>
                <a:lnTo>
                  <a:pt x="5003800" y="3743325"/>
                </a:lnTo>
                <a:lnTo>
                  <a:pt x="0" y="3743325"/>
                </a:lnTo>
                <a:close/>
                <a:moveTo>
                  <a:pt x="467916" y="467916"/>
                </a:moveTo>
                <a:lnTo>
                  <a:pt x="467916" y="3275409"/>
                </a:lnTo>
                <a:lnTo>
                  <a:pt x="4535884" y="3275409"/>
                </a:lnTo>
                <a:lnTo>
                  <a:pt x="4535884" y="46791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мка 13"/>
          <p:cNvSpPr/>
          <p:nvPr/>
        </p:nvSpPr>
        <p:spPr>
          <a:xfrm>
            <a:off x="324000" y="3933720"/>
            <a:ext cx="4464000" cy="2519640"/>
          </a:xfrm>
          <a:custGeom>
            <a:avLst/>
            <a:gdLst>
              <a:gd name="textAreaLeft" fmla="*/ 175680 w 4464000"/>
              <a:gd name="textAreaRight" fmla="*/ 4288320 w 4464000"/>
              <a:gd name="textAreaTop" fmla="*/ 175680 h 2519640"/>
              <a:gd name="textAreaBottom" fmla="*/ 2343960 h 2519640"/>
            </a:gdLst>
            <a:ahLst/>
            <a:rect l="textAreaLeft" t="textAreaTop" r="textAreaRight" b="textAreaBottom"/>
            <a:pathLst>
              <a:path w="4464050" h="2519363">
                <a:moveTo>
                  <a:pt x="0" y="0"/>
                </a:moveTo>
                <a:lnTo>
                  <a:pt x="4464050" y="0"/>
                </a:lnTo>
                <a:lnTo>
                  <a:pt x="4464050" y="2519363"/>
                </a:lnTo>
                <a:lnTo>
                  <a:pt x="0" y="2519363"/>
                </a:lnTo>
                <a:close/>
                <a:moveTo>
                  <a:pt x="175776" y="175776"/>
                </a:moveTo>
                <a:lnTo>
                  <a:pt x="175776" y="2343587"/>
                </a:lnTo>
                <a:lnTo>
                  <a:pt x="4288274" y="2343587"/>
                </a:lnTo>
                <a:lnTo>
                  <a:pt x="4288274" y="17577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Блок-схема: перфолента 3"/>
          <p:cNvSpPr/>
          <p:nvPr/>
        </p:nvSpPr>
        <p:spPr>
          <a:xfrm>
            <a:off x="1403280" y="0"/>
            <a:ext cx="6697800" cy="6858000"/>
          </a:xfrm>
          <a:prstGeom prst="flowChartPunchedTap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Я желаю счастья вам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частья в этом мире большом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Как солнце по утр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усть оно заходит в дом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Я желаю счастья в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 оно должно быть таким-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гда ты счастлив сам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частьем поделись с други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тас Намин, ВИА «Цвет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2228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1231174251_semia_glavnoe.jpg"/>
          <p:cNvPicPr/>
          <p:nvPr/>
        </p:nvPicPr>
        <p:blipFill>
          <a:blip r:embed="rId2"/>
          <a:stretch/>
        </p:blipFill>
        <p:spPr>
          <a:xfrm>
            <a:off x="684360" y="549360"/>
            <a:ext cx="7659720" cy="57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.jpg"/>
          <p:cNvPicPr/>
          <p:nvPr/>
        </p:nvPicPr>
        <p:blipFill>
          <a:blip r:embed="rId1"/>
          <a:stretch/>
        </p:blipFill>
        <p:spPr>
          <a:xfrm>
            <a:off x="5580000" y="981000"/>
            <a:ext cx="3203640" cy="3005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8983798_5325452_1170928563_1164283070_kartino4ki1164231263_i_3147.jpg"/>
          <p:cNvPicPr/>
          <p:nvPr/>
        </p:nvPicPr>
        <p:blipFill>
          <a:blip r:embed="rId2"/>
          <a:stretch/>
        </p:blipFill>
        <p:spPr>
          <a:xfrm>
            <a:off x="395280" y="981000"/>
            <a:ext cx="3448080" cy="2473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iStock_000006610021Small.jpg"/>
          <p:cNvPicPr/>
          <p:nvPr/>
        </p:nvPicPr>
        <p:blipFill>
          <a:blip r:embed="rId3"/>
          <a:stretch/>
        </p:blipFill>
        <p:spPr>
          <a:xfrm>
            <a:off x="5219640" y="4221000"/>
            <a:ext cx="3240000" cy="2256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95513892.jpeg"/>
          <p:cNvPicPr/>
          <p:nvPr/>
        </p:nvPicPr>
        <p:blipFill>
          <a:blip r:embed="rId4"/>
          <a:stretch/>
        </p:blipFill>
        <p:spPr>
          <a:xfrm>
            <a:off x="611280" y="3716280"/>
            <a:ext cx="2376360" cy="2691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46_1.gif"/>
          <p:cNvPicPr/>
          <p:nvPr/>
        </p:nvPicPr>
        <p:blipFill>
          <a:blip r:embed="rId5"/>
          <a:stretch/>
        </p:blipFill>
        <p:spPr>
          <a:xfrm>
            <a:off x="1835280" y="2166840"/>
            <a:ext cx="511308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1"/>
          <a:stretch/>
        </p:blipFill>
        <p:spPr>
          <a:xfrm>
            <a:off x="1616040" y="420840"/>
            <a:ext cx="6272280" cy="7794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с двумя скругленными соседними углами 4"/>
          <p:cNvSpPr/>
          <p:nvPr/>
        </p:nvSpPr>
        <p:spPr>
          <a:xfrm>
            <a:off x="395280" y="260280"/>
            <a:ext cx="6624720" cy="6264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0_6217e_a70185b3_L.jpg"/>
          <p:cNvPicPr/>
          <p:nvPr/>
        </p:nvPicPr>
        <p:blipFill>
          <a:blip r:embed="rId2"/>
          <a:stretch/>
        </p:blipFill>
        <p:spPr>
          <a:xfrm>
            <a:off x="6313320" y="3328920"/>
            <a:ext cx="2830680" cy="3529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547640" y="1147680"/>
            <a:ext cx="35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f40"/>
                </a:solidFill>
                <a:latin typeface="Arial"/>
                <a:ea typeface="Times New Roman"/>
              </a:rPr>
              <a:t>12 сентября </a:t>
            </a:r>
            <a:r>
              <a:rPr b="0" lang="ru-RU" sz="4400" spc="-1" strike="noStrike">
                <a:solidFill>
                  <a:srgbClr val="000f40"/>
                </a:solidFill>
                <a:latin typeface="Calibri"/>
                <a:ea typeface="Times New Roman"/>
              </a:rPr>
              <a:t>–</a:t>
            </a:r>
            <a:r>
              <a:rPr b="0" lang="ru-RU" sz="4400" spc="-1" strike="noStrike">
                <a:solidFill>
                  <a:srgbClr val="000f40"/>
                </a:solidFill>
                <a:latin typeface="Arial"/>
                <a:ea typeface="Times New Roman"/>
              </a:rPr>
              <a:t> День семейного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2 сентября в Ульяновской области отмечается особый праздник, который наполняет наши сердца теплотой и радостью - День семейного общения. Родные и близкие люди – это главная опора и поддержка в жизни каждого челове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1835280" y="1442520"/>
            <a:ext cx="518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нно в семье формируется система нравственных и духовных ценностей, характер, внутренний стержень личности. Поэтому очень важно, чтобы мы ценили и поддерживали семейные тради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дь это залог развития не только каждого конкретного человека, но и все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3" descr=""/>
          <p:cNvPicPr/>
          <p:nvPr/>
        </p:nvPicPr>
        <p:blipFill>
          <a:blip r:embed="rId1"/>
          <a:stretch/>
        </p:blipFill>
        <p:spPr>
          <a:xfrm>
            <a:off x="1517760" y="85680"/>
            <a:ext cx="651024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с двумя скругленными соседними углами 4"/>
          <p:cNvSpPr/>
          <p:nvPr/>
        </p:nvSpPr>
        <p:spPr>
          <a:xfrm>
            <a:off x="755640" y="1052640"/>
            <a:ext cx="7632720" cy="54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Семья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— это  очень важная социальная единица, которая находится под охраной закона. В Статье 38 Конституции РФ четко изложено, 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 Материнство и детство, семья находятся под защитой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Забота о детях, их воспитание — равное право и обязаннос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Трудоспособные дети, достигшие 18 лет, должны заботиться о нетрудоспособных родит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3" descr=""/>
          <p:cNvPicPr/>
          <p:nvPr/>
        </p:nvPicPr>
        <p:blipFill>
          <a:blip r:embed="rId1"/>
          <a:stretch/>
        </p:blipFill>
        <p:spPr>
          <a:xfrm>
            <a:off x="1352520" y="85680"/>
            <a:ext cx="6688080" cy="98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с двумя скругленными соседними углами 4"/>
          <p:cNvSpPr/>
          <p:nvPr/>
        </p:nvSpPr>
        <p:spPr>
          <a:xfrm>
            <a:off x="324000" y="1125360"/>
            <a:ext cx="6696000" cy="49676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8 июля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День семь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любви и вер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первые отмеч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2008 год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оторый бы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бъявлен годом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вав.jpg"/>
          <p:cNvPicPr/>
          <p:nvPr/>
        </p:nvPicPr>
        <p:blipFill>
          <a:blip r:embed="rId2"/>
          <a:stretch/>
        </p:blipFill>
        <p:spPr>
          <a:xfrm>
            <a:off x="5508720" y="1700280"/>
            <a:ext cx="343368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Box 3" descr=""/>
          <p:cNvPicPr/>
          <p:nvPr/>
        </p:nvPicPr>
        <p:blipFill>
          <a:blip r:embed="rId1"/>
          <a:stretch/>
        </p:blipFill>
        <p:spPr>
          <a:xfrm>
            <a:off x="963720" y="85680"/>
            <a:ext cx="7253280" cy="987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с двумя скругленными соседними углами 4"/>
          <p:cNvSpPr/>
          <p:nvPr/>
        </p:nvSpPr>
        <p:spPr>
          <a:xfrm>
            <a:off x="684360" y="1700280"/>
            <a:ext cx="7991280" cy="44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50920" y="1125360"/>
            <a:ext cx="3960720" cy="230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мья – это кристалл общества (В.Гюг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572000" y="1197000"/>
            <a:ext cx="4572000" cy="1944720"/>
          </a:xfrm>
          <a:prstGeom prst="rect">
            <a:avLst/>
          </a:prstGeom>
          <a:solidFill>
            <a:srgbClr val="23e93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емья – один из шедевров природ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Джорж Сантая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324000" y="3789360"/>
            <a:ext cx="5111640" cy="2087640"/>
          </a:xfrm>
          <a:prstGeom prst="rect">
            <a:avLst/>
          </a:prstGeom>
          <a:solidFill>
            <a:srgbClr val="93e4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юбовь к родине начинается с семьи (Ф.Бэкон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schastlivaya-semya.jpg"/>
          <p:cNvPicPr/>
          <p:nvPr/>
        </p:nvPicPr>
        <p:blipFill>
          <a:blip r:embed="rId2"/>
          <a:stretch/>
        </p:blipFill>
        <p:spPr>
          <a:xfrm>
            <a:off x="5867280" y="3429000"/>
            <a:ext cx="2779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3" descr=""/>
          <p:cNvPicPr/>
          <p:nvPr/>
        </p:nvPicPr>
        <p:blipFill>
          <a:blip r:embed="rId1"/>
          <a:stretch/>
        </p:blipFill>
        <p:spPr>
          <a:xfrm>
            <a:off x="895320" y="-176040"/>
            <a:ext cx="7211880" cy="987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с двумя скругленными соседними углами 4"/>
          <p:cNvSpPr/>
          <p:nvPr/>
        </p:nvSpPr>
        <p:spPr>
          <a:xfrm>
            <a:off x="395280" y="1125360"/>
            <a:ext cx="8497800" cy="5256360"/>
          </a:xfrm>
          <a:prstGeom prst="pi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постройка, то какая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цвет, то какой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музыка, то кака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геометрическая фигура, то кака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название фильма, то каког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Если семья – это настроение, то како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3" descr=""/>
          <p:cNvPicPr/>
          <p:nvPr/>
        </p:nvPicPr>
        <p:blipFill>
          <a:blip r:embed="rId1"/>
          <a:stretch/>
        </p:blipFill>
        <p:spPr>
          <a:xfrm>
            <a:off x="822240" y="-176040"/>
            <a:ext cx="7656480" cy="165708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5"/>
          <p:cNvSpPr/>
          <p:nvPr/>
        </p:nvSpPr>
        <p:spPr>
          <a:xfrm>
            <a:off x="684360" y="573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3059280" y="5732640"/>
            <a:ext cx="237636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ер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2484360" y="249228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переживание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755640" y="364500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мение сл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5148360" y="5013360"/>
            <a:ext cx="2808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3635280" y="4292640"/>
            <a:ext cx="45370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испособля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6156360" y="3068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Юм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2"/>
          <p:cNvSpPr/>
          <p:nvPr/>
        </p:nvSpPr>
        <p:spPr>
          <a:xfrm>
            <a:off x="2627280" y="5013360"/>
            <a:ext cx="244944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3"/>
          <p:cNvSpPr/>
          <p:nvPr/>
        </p:nvSpPr>
        <p:spPr>
          <a:xfrm>
            <a:off x="5435640" y="5732640"/>
            <a:ext cx="244944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4"/>
          <p:cNvSpPr/>
          <p:nvPr/>
        </p:nvSpPr>
        <p:spPr>
          <a:xfrm>
            <a:off x="3492360" y="3068640"/>
            <a:ext cx="2664000" cy="576360"/>
          </a:xfrm>
          <a:prstGeom prst="roundRect">
            <a:avLst>
              <a:gd name="adj" fmla="val 500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5"/>
          <p:cNvSpPr/>
          <p:nvPr/>
        </p:nvSpPr>
        <p:spPr>
          <a:xfrm>
            <a:off x="0" y="5013360"/>
            <a:ext cx="259236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дер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6"/>
          <p:cNvSpPr/>
          <p:nvPr/>
        </p:nvSpPr>
        <p:spPr>
          <a:xfrm>
            <a:off x="539640" y="429264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4572000" y="3645000"/>
            <a:ext cx="338472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олера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 flipV="1" rot="10800000">
            <a:off x="1115640" y="3141720"/>
            <a:ext cx="2303640" cy="503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19"/>
          <p:cNvSpPr/>
          <p:nvPr/>
        </p:nvSpPr>
        <p:spPr>
          <a:xfrm>
            <a:off x="539640" y="1413000"/>
            <a:ext cx="8209080" cy="1079280"/>
          </a:xfrm>
          <a:prstGeom prst="triangle">
            <a:avLst>
              <a:gd name="adj" fmla="val 4974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1T11:30:26Z</dcterms:created>
  <dc:creator>Олег</dc:creator>
  <dc:description/>
  <dc:language>en-US</dc:language>
  <cp:lastModifiedBy>XTreme.ws</cp:lastModifiedBy>
  <dcterms:modified xsi:type="dcterms:W3CDTF">2013-09-12T06:54:40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8362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