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5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24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2408-158F-47DA-BE27-A8A130EAC0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E4BD-BC68-4936-A978-851CD4EDD6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C6D8-D7CB-4AF7-89C6-806029F7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7ED7-3255-4B52-9459-B4C2588A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2F2A-EC45-429E-B33A-9D72921D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3AB0-A2D5-475E-A335-ADF529E5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2D59-E2B2-44CB-9566-17E5575E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D434-1700-46ED-B8AB-9A7F5A8E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C20-6402-4C99-8041-2947DD15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7C8-B82D-48F7-BD72-43F67392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50C-BC6C-4970-B261-2C1D88CF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FA34-EF64-45F1-9C44-BD68D605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BD0-F80E-4655-9E0C-37846F83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88F-2462-4E7C-9C50-3A86595A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5B88-B1F2-482F-B260-74AEA9FA65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4" descr=""/>
          <p:cNvPicPr/>
          <p:nvPr/>
        </p:nvPicPr>
        <p:blipFill>
          <a:blip r:embed="rId2"/>
          <a:stretch/>
        </p:blipFill>
        <p:spPr>
          <a:xfrm>
            <a:off x="749160" y="165240"/>
            <a:ext cx="7139160" cy="3138480"/>
          </a:xfrm>
          <a:prstGeom prst="rect">
            <a:avLst/>
          </a:prstGeom>
          <a:ln w="0">
            <a:noFill/>
          </a:ln>
        </p:spPr>
      </p:pic>
      <p:sp>
        <p:nvSpPr>
          <p:cNvPr id="49" name="Левая фигурная скобка 8"/>
          <p:cNvSpPr/>
          <p:nvPr/>
        </p:nvSpPr>
        <p:spPr>
          <a:xfrm rot="16200000">
            <a:off x="4067280" y="691920"/>
            <a:ext cx="576000" cy="5040360"/>
          </a:xfrm>
          <a:custGeom>
            <a:avLst/>
            <a:gdLst>
              <a:gd name="textAreaLeft" fmla="*/ 367920 w 576000"/>
              <a:gd name="textAreaRight" fmla="*/ 576000 w 576000"/>
              <a:gd name="textAreaTop" fmla="*/ 88560 h 5040360"/>
              <a:gd name="textAreaBottom" fmla="*/ 495180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8"/>
                  <a:pt x="10800" y="1215"/>
                </a:cubicBezTo>
                <a:lnTo>
                  <a:pt x="10800" y="9632"/>
                </a:lnTo>
                <a:cubicBezTo>
                  <a:pt x="10800" y="10240"/>
                  <a:pt x="5400" y="10847"/>
                  <a:pt x="0" y="10847"/>
                </a:cubicBezTo>
                <a:cubicBezTo>
                  <a:pt x="5400" y="10847"/>
                  <a:pt x="10800" y="11455"/>
                  <a:pt x="10800" y="12062"/>
                </a:cubicBezTo>
                <a:lnTo>
                  <a:pt x="10800" y="20385"/>
                </a:lnTo>
                <a:cubicBezTo>
                  <a:pt x="10800" y="20993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9" descr=""/>
          <p:cNvPicPr/>
          <p:nvPr/>
        </p:nvPicPr>
        <p:blipFill>
          <a:blip r:embed="rId3"/>
          <a:stretch/>
        </p:blipFill>
        <p:spPr>
          <a:xfrm>
            <a:off x="1616040" y="3852720"/>
            <a:ext cx="5626080" cy="1401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extBox 3" descr=""/>
          <p:cNvPicPr/>
          <p:nvPr/>
        </p:nvPicPr>
        <p:blipFill>
          <a:blip r:embed="rId1"/>
          <a:stretch/>
        </p:blipFill>
        <p:spPr>
          <a:xfrm>
            <a:off x="390600" y="-176040"/>
            <a:ext cx="8508960" cy="16570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с двумя скругленными соседними углами 4"/>
          <p:cNvSpPr/>
          <p:nvPr/>
        </p:nvSpPr>
        <p:spPr>
          <a:xfrm>
            <a:off x="0" y="1341360"/>
            <a:ext cx="8569440" cy="4032360"/>
          </a:xfrm>
          <a:prstGeom prst="pi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) ценности супружества;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) ценности, связанные с демократизацией отношений в семье;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) ценности родительства, воспитания детей;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) ценности родственных связей;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5) ценности, связанные с саморазвитием;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6) ценности внесемейных коммуника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7) ценности профессиональной занятост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8" descr="1278696637_screenhunter_10-jul.-09-21.21.gif"/>
          <p:cNvPicPr/>
          <p:nvPr/>
        </p:nvPicPr>
        <p:blipFill>
          <a:blip r:embed="rId2"/>
          <a:stretch/>
        </p:blipFill>
        <p:spPr>
          <a:xfrm>
            <a:off x="4427640" y="1700280"/>
            <a:ext cx="4716360" cy="38718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9" descr="97845_rodzinka_dom_slonce.jpg"/>
          <p:cNvPicPr/>
          <p:nvPr/>
        </p:nvPicPr>
        <p:blipFill>
          <a:blip r:embed="rId3"/>
          <a:stretch/>
        </p:blipFill>
        <p:spPr>
          <a:xfrm>
            <a:off x="324000" y="3789360"/>
            <a:ext cx="4408200" cy="26272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0" descr="3M_P-YA.jpg"/>
          <p:cNvPicPr/>
          <p:nvPr/>
        </p:nvPicPr>
        <p:blipFill>
          <a:blip r:embed="rId4"/>
          <a:stretch/>
        </p:blipFill>
        <p:spPr>
          <a:xfrm>
            <a:off x="0" y="836640"/>
            <a:ext cx="4521240" cy="2952720"/>
          </a:xfrm>
          <a:prstGeom prst="rect">
            <a:avLst/>
          </a:prstGeom>
          <a:ln w="0">
            <a:noFill/>
          </a:ln>
        </p:spPr>
      </p:pic>
      <p:sp>
        <p:nvSpPr>
          <p:cNvPr id="92" name="Рамка 11"/>
          <p:cNvSpPr/>
          <p:nvPr/>
        </p:nvSpPr>
        <p:spPr>
          <a:xfrm>
            <a:off x="0" y="836640"/>
            <a:ext cx="4572000" cy="3024000"/>
          </a:xfrm>
          <a:custGeom>
            <a:avLst/>
            <a:gdLst>
              <a:gd name="textAreaLeft" fmla="*/ 378000 w 4572000"/>
              <a:gd name="textAreaRight" fmla="*/ 4194000 w 4572000"/>
              <a:gd name="textAreaTop" fmla="*/ 378000 h 3024000"/>
              <a:gd name="textAreaBottom" fmla="*/ 2646000 h 3024000"/>
            </a:gdLst>
            <a:ahLst/>
            <a:rect l="textAreaLeft" t="textAreaTop" r="textAreaRight" b="textAreaBottom"/>
            <a:pathLst>
              <a:path w="4572000" h="3024187">
                <a:moveTo>
                  <a:pt x="0" y="0"/>
                </a:moveTo>
                <a:lnTo>
                  <a:pt x="4572000" y="0"/>
                </a:lnTo>
                <a:lnTo>
                  <a:pt x="4572000" y="3024187"/>
                </a:lnTo>
                <a:lnTo>
                  <a:pt x="0" y="3024187"/>
                </a:lnTo>
                <a:close/>
                <a:moveTo>
                  <a:pt x="378023" y="378023"/>
                </a:moveTo>
                <a:lnTo>
                  <a:pt x="378023" y="2646164"/>
                </a:lnTo>
                <a:lnTo>
                  <a:pt x="4193977" y="2646164"/>
                </a:lnTo>
                <a:lnTo>
                  <a:pt x="4193977" y="37802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Рамка 12"/>
          <p:cNvSpPr/>
          <p:nvPr/>
        </p:nvSpPr>
        <p:spPr>
          <a:xfrm>
            <a:off x="4140360" y="1773360"/>
            <a:ext cx="5003640" cy="3743280"/>
          </a:xfrm>
          <a:custGeom>
            <a:avLst/>
            <a:gdLst>
              <a:gd name="textAreaLeft" fmla="*/ 467640 w 5003640"/>
              <a:gd name="textAreaRight" fmla="*/ 4536000 w 5003640"/>
              <a:gd name="textAreaTop" fmla="*/ 467640 h 3743280"/>
              <a:gd name="textAreaBottom" fmla="*/ 3275640 h 3743280"/>
            </a:gdLst>
            <a:ahLst/>
            <a:rect l="textAreaLeft" t="textAreaTop" r="textAreaRight" b="textAreaBottom"/>
            <a:pathLst>
              <a:path w="5003800" h="3743325">
                <a:moveTo>
                  <a:pt x="0" y="0"/>
                </a:moveTo>
                <a:lnTo>
                  <a:pt x="5003800" y="0"/>
                </a:lnTo>
                <a:lnTo>
                  <a:pt x="5003800" y="3743325"/>
                </a:lnTo>
                <a:lnTo>
                  <a:pt x="0" y="3743325"/>
                </a:lnTo>
                <a:close/>
                <a:moveTo>
                  <a:pt x="467916" y="467916"/>
                </a:moveTo>
                <a:lnTo>
                  <a:pt x="467916" y="3275409"/>
                </a:lnTo>
                <a:lnTo>
                  <a:pt x="4535884" y="3275409"/>
                </a:lnTo>
                <a:lnTo>
                  <a:pt x="4535884" y="46791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мка 13"/>
          <p:cNvSpPr/>
          <p:nvPr/>
        </p:nvSpPr>
        <p:spPr>
          <a:xfrm>
            <a:off x="324000" y="3933720"/>
            <a:ext cx="4464000" cy="2519640"/>
          </a:xfrm>
          <a:custGeom>
            <a:avLst/>
            <a:gdLst>
              <a:gd name="textAreaLeft" fmla="*/ 175680 w 4464000"/>
              <a:gd name="textAreaRight" fmla="*/ 4288320 w 4464000"/>
              <a:gd name="textAreaTop" fmla="*/ 175680 h 2519640"/>
              <a:gd name="textAreaBottom" fmla="*/ 2343960 h 2519640"/>
            </a:gdLst>
            <a:ahLst/>
            <a:rect l="textAreaLeft" t="textAreaTop" r="textAreaRight" b="textAreaBottom"/>
            <a:pathLst>
              <a:path w="4464050" h="2519363">
                <a:moveTo>
                  <a:pt x="0" y="0"/>
                </a:moveTo>
                <a:lnTo>
                  <a:pt x="4464050" y="0"/>
                </a:lnTo>
                <a:lnTo>
                  <a:pt x="4464050" y="2519363"/>
                </a:lnTo>
                <a:lnTo>
                  <a:pt x="0" y="2519363"/>
                </a:lnTo>
                <a:close/>
                <a:moveTo>
                  <a:pt x="175776" y="175776"/>
                </a:moveTo>
                <a:lnTo>
                  <a:pt x="175776" y="2343587"/>
                </a:lnTo>
                <a:lnTo>
                  <a:pt x="4288274" y="2343587"/>
                </a:lnTo>
                <a:lnTo>
                  <a:pt x="4288274" y="17577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00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Блок-схема: перфолента 3"/>
          <p:cNvSpPr/>
          <p:nvPr/>
        </p:nvSpPr>
        <p:spPr>
          <a:xfrm>
            <a:off x="1403280" y="0"/>
            <a:ext cx="6697800" cy="6858000"/>
          </a:xfrm>
          <a:prstGeom prst="flowChartPunchedTap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Я желаю счастья вам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частья в этом мире большом.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Как солнце по утрам,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усть оно заходит в дом.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Я желаю счастья вам,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И оно должно быть таким-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Когда ты счастлив сам,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частьем поделись с други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(Стас Намин, ВИА «Цветы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1322280" y="-64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7" name="Содержимое 4" descr="1231174251_semia_glavnoe.jpg"/>
          <p:cNvPicPr/>
          <p:nvPr/>
        </p:nvPicPr>
        <p:blipFill>
          <a:blip r:embed="rId2"/>
          <a:stretch/>
        </p:blipFill>
        <p:spPr>
          <a:xfrm>
            <a:off x="684360" y="549360"/>
            <a:ext cx="7659720" cy="5732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Arial Black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4" descr="1.jpg"/>
          <p:cNvPicPr/>
          <p:nvPr/>
        </p:nvPicPr>
        <p:blipFill>
          <a:blip r:embed="rId1"/>
          <a:stretch/>
        </p:blipFill>
        <p:spPr>
          <a:xfrm>
            <a:off x="5580000" y="981000"/>
            <a:ext cx="3203640" cy="3005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8983798_5325452_1170928563_1164283070_kartino4ki1164231263_i_3147.jpg"/>
          <p:cNvPicPr/>
          <p:nvPr/>
        </p:nvPicPr>
        <p:blipFill>
          <a:blip r:embed="rId2"/>
          <a:stretch/>
        </p:blipFill>
        <p:spPr>
          <a:xfrm>
            <a:off x="395280" y="981000"/>
            <a:ext cx="3448080" cy="24735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iStock_000006610021Small.jpg"/>
          <p:cNvPicPr/>
          <p:nvPr/>
        </p:nvPicPr>
        <p:blipFill>
          <a:blip r:embed="rId3"/>
          <a:stretch/>
        </p:blipFill>
        <p:spPr>
          <a:xfrm>
            <a:off x="5219640" y="4221000"/>
            <a:ext cx="3240000" cy="22561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95513892.jpeg"/>
          <p:cNvPicPr/>
          <p:nvPr/>
        </p:nvPicPr>
        <p:blipFill>
          <a:blip r:embed="rId4"/>
          <a:stretch/>
        </p:blipFill>
        <p:spPr>
          <a:xfrm>
            <a:off x="611280" y="3716280"/>
            <a:ext cx="2376360" cy="2691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3" descr="46_1.gif"/>
          <p:cNvPicPr/>
          <p:nvPr/>
        </p:nvPicPr>
        <p:blipFill>
          <a:blip r:embed="rId5"/>
          <a:stretch/>
        </p:blipFill>
        <p:spPr>
          <a:xfrm>
            <a:off x="1835280" y="2166840"/>
            <a:ext cx="5113080" cy="4691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Box 3" descr=""/>
          <p:cNvPicPr/>
          <p:nvPr/>
        </p:nvPicPr>
        <p:blipFill>
          <a:blip r:embed="rId1"/>
          <a:stretch/>
        </p:blipFill>
        <p:spPr>
          <a:xfrm>
            <a:off x="1616040" y="420840"/>
            <a:ext cx="6272280" cy="7794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с двумя скругленными соседними углами 4"/>
          <p:cNvSpPr/>
          <p:nvPr/>
        </p:nvSpPr>
        <p:spPr>
          <a:xfrm>
            <a:off x="395280" y="260280"/>
            <a:ext cx="6624720" cy="6264360"/>
          </a:xfrm>
          <a:prstGeom prst="pi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0_6217e_a70185b3_L.jpg"/>
          <p:cNvPicPr/>
          <p:nvPr/>
        </p:nvPicPr>
        <p:blipFill>
          <a:blip r:embed="rId2"/>
          <a:stretch/>
        </p:blipFill>
        <p:spPr>
          <a:xfrm>
            <a:off x="6313320" y="3328920"/>
            <a:ext cx="2830680" cy="35290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1547640" y="1147680"/>
            <a:ext cx="352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f40"/>
                </a:solidFill>
                <a:latin typeface="Arial"/>
                <a:ea typeface="Times New Roman"/>
              </a:rPr>
              <a:t>12 сентября </a:t>
            </a:r>
            <a:r>
              <a:rPr b="0" lang="ru-RU" sz="4400" spc="-1" strike="noStrike">
                <a:solidFill>
                  <a:srgbClr val="000f40"/>
                </a:solidFill>
                <a:latin typeface="Calibri"/>
                <a:ea typeface="Times New Roman"/>
              </a:rPr>
              <a:t>–</a:t>
            </a:r>
            <a:r>
              <a:rPr b="0" lang="ru-RU" sz="4400" spc="-1" strike="noStrike">
                <a:solidFill>
                  <a:srgbClr val="000f40"/>
                </a:solidFill>
                <a:latin typeface="Arial"/>
                <a:ea typeface="Times New Roman"/>
              </a:rPr>
              <a:t> День семейного об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2 сентября в Ульяновской области отмечается особый праздник, который наполняет наши сердца теплотой и радостью - День семейного общения. Родные и близкие люди – это главная опора и поддержка в жизни каждого человека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1835280" y="1442520"/>
            <a:ext cx="518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нно в семье формируется система нравственных и духовных ценностей, характер, внутренний стержень личности. Поэтому очень важно, чтобы мы ценили и поддерживали семейные традици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едь это залог развития не только каждого конкретного человека, но и всего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extBox 3" descr=""/>
          <p:cNvPicPr/>
          <p:nvPr/>
        </p:nvPicPr>
        <p:blipFill>
          <a:blip r:embed="rId1"/>
          <a:stretch/>
        </p:blipFill>
        <p:spPr>
          <a:xfrm>
            <a:off x="1517760" y="85680"/>
            <a:ext cx="6510240" cy="9874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с двумя скругленными соседними углами 4"/>
          <p:cNvSpPr/>
          <p:nvPr/>
        </p:nvSpPr>
        <p:spPr>
          <a:xfrm>
            <a:off x="755640" y="1052640"/>
            <a:ext cx="7632720" cy="5472000"/>
          </a:xfrm>
          <a:prstGeom prst="pi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Семья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— это  очень важная социальная единица, которая находится под охраной закона. В Статье 38 Конституции РФ четко изложено, ч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. Материнство и детство, семья находятся под защитой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. Забота о детях, их воспитание — равное право и обязанность род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. Трудоспособные дети, достигшие 18 лет, должны заботиться о нетрудоспособных родител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extBox 3" descr=""/>
          <p:cNvPicPr/>
          <p:nvPr/>
        </p:nvPicPr>
        <p:blipFill>
          <a:blip r:embed="rId1"/>
          <a:stretch/>
        </p:blipFill>
        <p:spPr>
          <a:xfrm>
            <a:off x="1352520" y="85680"/>
            <a:ext cx="6688080" cy="9874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с двумя скругленными соседними углами 4"/>
          <p:cNvSpPr/>
          <p:nvPr/>
        </p:nvSpPr>
        <p:spPr>
          <a:xfrm>
            <a:off x="324000" y="1125360"/>
            <a:ext cx="6696000" cy="4967640"/>
          </a:xfrm>
          <a:prstGeom prst="pi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8 июля 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День семьи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любви и верност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первые отмечал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 2008 году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который бы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объявлен годом Семь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6" descr="вав.jpg"/>
          <p:cNvPicPr/>
          <p:nvPr/>
        </p:nvPicPr>
        <p:blipFill>
          <a:blip r:embed="rId2"/>
          <a:stretch/>
        </p:blipFill>
        <p:spPr>
          <a:xfrm>
            <a:off x="5508720" y="1700280"/>
            <a:ext cx="343368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extBox 3" descr=""/>
          <p:cNvPicPr/>
          <p:nvPr/>
        </p:nvPicPr>
        <p:blipFill>
          <a:blip r:embed="rId1"/>
          <a:stretch/>
        </p:blipFill>
        <p:spPr>
          <a:xfrm>
            <a:off x="963720" y="85680"/>
            <a:ext cx="7253280" cy="9874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с двумя скругленными соседними углами 4"/>
          <p:cNvSpPr/>
          <p:nvPr/>
        </p:nvSpPr>
        <p:spPr>
          <a:xfrm>
            <a:off x="684360" y="1700280"/>
            <a:ext cx="7991280" cy="4465440"/>
          </a:xfrm>
          <a:prstGeom prst="pi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250920" y="1125360"/>
            <a:ext cx="3960720" cy="2303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емья – это кристалл общества (В.Гюг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6"/>
          <p:cNvSpPr/>
          <p:nvPr/>
        </p:nvSpPr>
        <p:spPr>
          <a:xfrm>
            <a:off x="4572000" y="1197000"/>
            <a:ext cx="4572000" cy="1944720"/>
          </a:xfrm>
          <a:prstGeom prst="rect">
            <a:avLst/>
          </a:prstGeom>
          <a:solidFill>
            <a:srgbClr val="23e93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Семья – один из шедевров природы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(Джорж Сантаян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7"/>
          <p:cNvSpPr/>
          <p:nvPr/>
        </p:nvSpPr>
        <p:spPr>
          <a:xfrm>
            <a:off x="324000" y="3789360"/>
            <a:ext cx="5111640" cy="2087640"/>
          </a:xfrm>
          <a:prstGeom prst="rect">
            <a:avLst/>
          </a:prstGeom>
          <a:solidFill>
            <a:srgbClr val="93e4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Любовь к родине начинается с семьи (Ф.Бэкон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8" descr="schastlivaya-semya.jpg"/>
          <p:cNvPicPr/>
          <p:nvPr/>
        </p:nvPicPr>
        <p:blipFill>
          <a:blip r:embed="rId2"/>
          <a:stretch/>
        </p:blipFill>
        <p:spPr>
          <a:xfrm>
            <a:off x="5867280" y="3429000"/>
            <a:ext cx="27799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extBox 3" descr=""/>
          <p:cNvPicPr/>
          <p:nvPr/>
        </p:nvPicPr>
        <p:blipFill>
          <a:blip r:embed="rId1"/>
          <a:stretch/>
        </p:blipFill>
        <p:spPr>
          <a:xfrm>
            <a:off x="895320" y="-176040"/>
            <a:ext cx="7211880" cy="9871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с двумя скругленными соседними углами 4"/>
          <p:cNvSpPr/>
          <p:nvPr/>
        </p:nvSpPr>
        <p:spPr>
          <a:xfrm>
            <a:off x="395280" y="1125360"/>
            <a:ext cx="8497800" cy="5256360"/>
          </a:xfrm>
          <a:prstGeom prst="pi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Если семья – это постройка, то какая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Если семья – это цвет, то какой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Если семья – это музыка, то какая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Если семья – это геометрическая фигура, то какая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Если семья – это название фильма, то каког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Если семья – это настроение, то како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extBox 3" descr=""/>
          <p:cNvPicPr/>
          <p:nvPr/>
        </p:nvPicPr>
        <p:blipFill>
          <a:blip r:embed="rId1"/>
          <a:stretch/>
        </p:blipFill>
        <p:spPr>
          <a:xfrm>
            <a:off x="822240" y="-176040"/>
            <a:ext cx="7656480" cy="1657080"/>
          </a:xfrm>
          <a:prstGeom prst="rect">
            <a:avLst/>
          </a:prstGeom>
          <a:ln w="0">
            <a:noFill/>
          </a:ln>
        </p:spPr>
      </p:pic>
      <p:sp>
        <p:nvSpPr>
          <p:cNvPr id="72" name="Скругленный прямоугольник 5"/>
          <p:cNvSpPr/>
          <p:nvPr/>
        </p:nvSpPr>
        <p:spPr>
          <a:xfrm>
            <a:off x="684360" y="573264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6"/>
          <p:cNvSpPr/>
          <p:nvPr/>
        </p:nvSpPr>
        <p:spPr>
          <a:xfrm>
            <a:off x="3059280" y="5732640"/>
            <a:ext cx="2376360" cy="7207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Вер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7"/>
          <p:cNvSpPr/>
          <p:nvPr/>
        </p:nvSpPr>
        <p:spPr>
          <a:xfrm>
            <a:off x="2484360" y="2492280"/>
            <a:ext cx="3600360" cy="5763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опереживание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8"/>
          <p:cNvSpPr/>
          <p:nvPr/>
        </p:nvSpPr>
        <p:spPr>
          <a:xfrm>
            <a:off x="755640" y="3645000"/>
            <a:ext cx="3745080" cy="6476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Умение слуш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9"/>
          <p:cNvSpPr/>
          <p:nvPr/>
        </p:nvSpPr>
        <p:spPr>
          <a:xfrm>
            <a:off x="5148360" y="5013360"/>
            <a:ext cx="2808360" cy="7192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Компроми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10"/>
          <p:cNvSpPr/>
          <p:nvPr/>
        </p:nvSpPr>
        <p:spPr>
          <a:xfrm>
            <a:off x="3635280" y="4292640"/>
            <a:ext cx="4537080" cy="7207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риспособляе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1"/>
          <p:cNvSpPr/>
          <p:nvPr/>
        </p:nvSpPr>
        <p:spPr>
          <a:xfrm>
            <a:off x="6156360" y="30686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Юмо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12"/>
          <p:cNvSpPr/>
          <p:nvPr/>
        </p:nvSpPr>
        <p:spPr>
          <a:xfrm>
            <a:off x="2627280" y="5013360"/>
            <a:ext cx="2449440" cy="7192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Равен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13"/>
          <p:cNvSpPr/>
          <p:nvPr/>
        </p:nvSpPr>
        <p:spPr>
          <a:xfrm>
            <a:off x="5435640" y="5732640"/>
            <a:ext cx="2449440" cy="7207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Неж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14"/>
          <p:cNvSpPr/>
          <p:nvPr/>
        </p:nvSpPr>
        <p:spPr>
          <a:xfrm>
            <a:off x="3492360" y="3068640"/>
            <a:ext cx="2664000" cy="576360"/>
          </a:xfrm>
          <a:prstGeom prst="roundRect">
            <a:avLst>
              <a:gd name="adj" fmla="val 50000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Жел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15"/>
          <p:cNvSpPr/>
          <p:nvPr/>
        </p:nvSpPr>
        <p:spPr>
          <a:xfrm>
            <a:off x="0" y="5013360"/>
            <a:ext cx="2592360" cy="7192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оддерж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16"/>
          <p:cNvSpPr/>
          <p:nvPr/>
        </p:nvSpPr>
        <p:spPr>
          <a:xfrm>
            <a:off x="539640" y="4292640"/>
            <a:ext cx="2952720" cy="7207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ризн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17"/>
          <p:cNvSpPr/>
          <p:nvPr/>
        </p:nvSpPr>
        <p:spPr>
          <a:xfrm>
            <a:off x="4572000" y="3645000"/>
            <a:ext cx="3384720" cy="6476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Толерант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18"/>
          <p:cNvSpPr/>
          <p:nvPr/>
        </p:nvSpPr>
        <p:spPr>
          <a:xfrm flipV="1" rot="10800000">
            <a:off x="1115640" y="3141720"/>
            <a:ext cx="2303640" cy="5032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овер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Равнобедренный треугольник 19"/>
          <p:cNvSpPr/>
          <p:nvPr/>
        </p:nvSpPr>
        <p:spPr>
          <a:xfrm>
            <a:off x="539640" y="1413000"/>
            <a:ext cx="8209080" cy="1079280"/>
          </a:xfrm>
          <a:prstGeom prst="triangle">
            <a:avLst>
              <a:gd name="adj" fmla="val 49741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6000"/>
                            </p:stCondLst>
                            <p:childTnLst>
                              <p:par>
                                <p:cTn id="1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1T11:30:26Z</dcterms:created>
  <dc:creator>Олег</dc:creator>
  <dc:description/>
  <dc:language>en-US</dc:language>
  <cp:lastModifiedBy>XTreme.ws</cp:lastModifiedBy>
  <dcterms:modified xsi:type="dcterms:W3CDTF">2013-09-12T06:54:40Z</dcterms:modified>
  <cp:revision>3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38362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</Properties>
</file>