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90D-12E6-47BB-8D6C-578D3A0C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420-6208-464A-9BDD-9BBDF2B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1E7-4D8C-4A72-A04A-7A42EA9E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86E-C219-4E8E-82C3-C17CBE4D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27A-28C5-40E0-9730-CC3D8F9D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26A-E64A-435F-911D-A540ACE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FB3-5F78-4DD1-A524-7BCF23F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ECA-9BD0-4952-8E19-6F7EBF57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848-7CE1-4AC7-AD4E-F7211A04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D88-5455-4072-ADE4-A598A8A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92E-3BAB-4B00-97F6-9A7A464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CD7-D5DB-45DF-867F-E09FE66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5DF-C208-489E-B491-5B310E92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965" t="-76" r="0" b="-3114"/>
          <a:stretch/>
        </p:blipFill>
        <p:spPr>
          <a:xfrm>
            <a:off x="179280" y="115920"/>
            <a:ext cx="896472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6160" y="1989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Урок – иг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казочный мараф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360" y="1125360"/>
            <a:ext cx="176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20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о. Орехово - Зуев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869000"/>
            <a:ext cx="30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Автор: Купц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Наталья Григо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3301" t="3312" r="2230" b="-1428"/>
          <a:stretch/>
        </p:blipFill>
        <p:spPr>
          <a:xfrm>
            <a:off x="1332000" y="2637000"/>
            <a:ext cx="1947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7946" t="3912" r="4998" b="8491"/>
          <a:stretch/>
        </p:blipFill>
        <p:spPr>
          <a:xfrm>
            <a:off x="4859280" y="2924280"/>
            <a:ext cx="1406520" cy="172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56000" y="978840"/>
            <a:ext cx="324036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О чём-то скрипит полов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И спице опять не спится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Присев на кровати, подушки 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Уже навострили ушки….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И сразу меняются л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Меняются звуки и краски…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Тихонько скрипит половица,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По комнате ходят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сказки.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3960" y="30679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Феликс Крив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628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81636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486240" cy="482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5014" t="0" r="4443" b="15251"/>
          <a:stretch/>
        </p:blipFill>
        <p:spPr>
          <a:xfrm>
            <a:off x="250920" y="189000"/>
            <a:ext cx="2896920" cy="331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7240" y="26028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. Н. 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28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13320" cy="518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7465" t="0" r="-378" b="23547"/>
          <a:stretch/>
        </p:blipFill>
        <p:spPr>
          <a:xfrm>
            <a:off x="900000" y="3213000"/>
            <a:ext cx="360072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9600" y="26028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. Ф. Одое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227628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6284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315936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0520" y="4046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. Пер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821040" cy="511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9528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628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565440" cy="511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673440" cy="323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2173" t="5315" r="7753" b="7553"/>
          <a:stretch/>
        </p:blipFill>
        <p:spPr>
          <a:xfrm>
            <a:off x="179280" y="189000"/>
            <a:ext cx="3024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4520" y="189000"/>
            <a:ext cx="46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ратья Грим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(Якоб и Вильгель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6284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182" t="7148" r="2800" b="5992"/>
          <a:stretch/>
        </p:blipFill>
        <p:spPr>
          <a:xfrm>
            <a:off x="5472000" y="1268280"/>
            <a:ext cx="3672000" cy="518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363760" cy="316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9240" y="2541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В.М. Гарш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6284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930480" cy="511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1956" r="7166" b="2283"/>
          <a:stretch/>
        </p:blipFill>
        <p:spPr>
          <a:xfrm>
            <a:off x="1187280" y="3284640"/>
            <a:ext cx="312120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257200" cy="2879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5800" y="4046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. Пер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6284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10:54:55Z</dcterms:created>
  <dc:creator>Gloria</dc:creator>
  <dc:description/>
  <dc:language>en-US</dc:language>
  <cp:lastModifiedBy>Gloria</cp:lastModifiedBy>
  <dcterms:modified xsi:type="dcterms:W3CDTF">2013-06-24T13:59:10Z</dcterms:modified>
  <cp:revision>7</cp:revision>
  <dc:subject/>
  <dc:title>Слайд 1</dc:title>
</cp:coreProperties>
</file>