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A6F-1771-4F4D-97C2-D4B3DD17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430-E591-495C-BBF9-D57B1E5B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076-87D2-4795-BACC-9FA003D4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387-4A10-4A52-8E50-12F87F69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161-BA93-48A7-B49B-3A8849C0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70C-C83E-4AD2-ADC6-C5CDC12E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77B-628F-4AA0-954D-2B4DBC1F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D47-6028-4977-8095-EE715C82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ED4-C04E-432E-A371-88427450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A00-A756-4A3A-B587-76B6A738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FC6-EB09-4AD8-95CE-CCE702FB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863-58C9-448A-94F7-D02D04CF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DE0D-5035-45D9-B25A-43F786519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965" t="-76" r="0" b="-3114"/>
          <a:stretch/>
        </p:blipFill>
        <p:spPr>
          <a:xfrm>
            <a:off x="179280" y="11592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6160" y="198900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Урок – иг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Сказочный мараф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360" y="1125360"/>
            <a:ext cx="176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У СОШ №20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о. Орехово - Зуев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ск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869000"/>
            <a:ext cx="30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Автор: Купц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Наталья Григо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3301" t="3312" r="2230" b="-1428"/>
          <a:stretch/>
        </p:blipFill>
        <p:spPr>
          <a:xfrm>
            <a:off x="1332000" y="2637000"/>
            <a:ext cx="1947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7946" t="3912" r="4998" b="8491"/>
          <a:stretch/>
        </p:blipFill>
        <p:spPr>
          <a:xfrm>
            <a:off x="4859280" y="2924280"/>
            <a:ext cx="1406520" cy="1726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56000" y="978840"/>
            <a:ext cx="324036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О чём-то скрипит половица,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И спице опять не спится,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Присев на кровати, подушки 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Уже навострили ушки…..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И сразу меняются лица,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Меняются звуки и краски….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Тихонько скрипит половица,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По комнате ходят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сказки.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3960" y="30679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Феликс Крив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628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3816360" cy="312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486240" cy="482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5014" t="0" r="4443" b="15251"/>
          <a:stretch/>
        </p:blipFill>
        <p:spPr>
          <a:xfrm>
            <a:off x="250920" y="189000"/>
            <a:ext cx="2896920" cy="331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7240" y="260280"/>
            <a:ext cx="32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А. Н. 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6284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613320" cy="518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7465" t="0" r="-378" b="23547"/>
          <a:stretch/>
        </p:blipFill>
        <p:spPr>
          <a:xfrm>
            <a:off x="900000" y="3213000"/>
            <a:ext cx="3600720" cy="340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99600" y="260280"/>
            <a:ext cx="39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В. Ф. Одое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2276280" cy="3029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6284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315936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0520" y="40464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Ш. Пер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821040" cy="511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9528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6284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565440" cy="511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3673440" cy="3236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2173" t="5315" r="7753" b="7553"/>
          <a:stretch/>
        </p:blipFill>
        <p:spPr>
          <a:xfrm>
            <a:off x="179280" y="189000"/>
            <a:ext cx="3024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34520" y="189000"/>
            <a:ext cx="46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ратья Гримм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(Якоб и Вильгель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50072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6284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2182" t="7148" r="2800" b="5992"/>
          <a:stretch/>
        </p:blipFill>
        <p:spPr>
          <a:xfrm>
            <a:off x="5472000" y="1268280"/>
            <a:ext cx="3672000" cy="518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4319280" cy="287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2363760" cy="316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9240" y="2541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В.М. Гарш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0072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6284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930480" cy="5111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11956" r="7166" b="2283"/>
          <a:stretch/>
        </p:blipFill>
        <p:spPr>
          <a:xfrm>
            <a:off x="1187280" y="3284640"/>
            <a:ext cx="3121200" cy="335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257200" cy="2879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45800" y="40464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Ш. Пер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50072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6284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10:54:55Z</dcterms:created>
  <dc:creator>Gloria</dc:creator>
  <dc:description/>
  <dc:language>en-US</dc:language>
  <cp:lastModifiedBy>Gloria</cp:lastModifiedBy>
  <dcterms:modified xsi:type="dcterms:W3CDTF">2013-06-24T13:59:10Z</dcterms:modified>
  <cp:revision>7</cp:revision>
  <dc:subject/>
  <dc:title>Слайд 1</dc:title>
</cp:coreProperties>
</file>