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CC3D-2F6F-4D1E-975A-7774AFD3C8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88B2-CD0A-4739-B8C1-BF64C78297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C44C-BFB7-448A-AB2F-53F67D258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52FA-73F2-4A97-95B0-1F26CAFB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07F9-FC03-42A5-9C4D-8583762E8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CBB6-F284-415E-A2B9-95227D6B7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7B51-BAE7-4BD0-8331-8324ACE65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3D9B-259F-45CE-876D-438821A8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299F-C33C-4997-BD6A-2897815C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07A0-95E5-474F-AD1E-AB5EB230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3A76-A946-498E-B089-5FD581728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4C286-8B8E-4C50-8276-E676E4FD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2AD6-99EC-4947-9CDA-DD8F8AC8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5AAF-B4FE-45C1-9724-3551CF52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662B-9BDF-407C-8CC2-1A09ABC9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AA22C-029B-49EE-B311-F0E5C24E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12F8-878D-483B-B317-00E8D576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9A5C-8537-46BD-87A6-D5B46D4C2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4E1E-3C41-4741-A6A7-9C3C40779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86E77-FFDE-48F4-A87C-13E559376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4E7FF-1BD2-463F-8F54-16CA689D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84554-0AF5-454B-9DC3-2EFD6105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C380F-8469-46FE-AA00-FCB0AE82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196C2-D4CE-44D3-B076-42C872F9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A6EE-BBCD-4D06-A5C2-137C10AC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3B874-5614-4111-AFF0-3395B2E3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8255D-B2A5-4B69-9857-B792D9DF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8EC8A-8DC7-4A44-A1B2-14CAFD9C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CC8B8-DA34-4557-92EB-4A6D5651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D01C4-DC9F-42BE-9FB1-FF8DEDC7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22618-38D8-4F9D-9359-E1E5ED90D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0B9C9-9F8D-4BC0-A447-C3A15902B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53F71-DEE1-4C5C-8909-288116CA3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C2830-BAC2-493B-84D3-791648E1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E2840-2126-4E53-A5C7-1FF580A6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137F-BD21-481E-A43C-F476F89E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D3CB8-2504-4C71-BA04-10C2BA41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207A6-FAC6-422B-A49D-EE415EC9F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CCCF3-24C2-472A-B12F-3CFA2D66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04E5E-CDCB-44C5-9C19-2A03ACAF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36971-A368-4277-B33C-5C6B4CEF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F1CBC-E565-4453-9E98-158A2950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ECFD3-AA45-476E-99C9-2F3C6CA1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9FD5A-8ECF-4569-B32F-2076915F9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50F4A-1BDB-48AD-A92F-392FD7B93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EDE7-553F-4890-835D-97E700BF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6970-01DD-4FA1-BAE1-BC01C366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AAC1-76ED-48E2-B78A-5B8487B5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61CB-E6D7-4E02-B332-7E1CD7BE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EFB3-4980-49C6-A195-F83DA85A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8371-30BC-46B1-A5C6-E55BD6402A1E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13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14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5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6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E25B-FDEA-4D84-815D-EF87F0365D9D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13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14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6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F3A9-3D48-4305-A047-082610EA9380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8213-05D1-4267-9E8F-72E680028D48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fullsizeMedia" descr=" photo asd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 Black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«Современные здоровьесберегающие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технологии в детском саду»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6" descr="http://knu.znate.ru/pars_docs/refs/533/532694/532694_html_m63213bd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ff"/>
                </a:solidFill>
                <a:uFillTx/>
                <a:latin typeface="Times New Roman"/>
              </a:rPr>
              <a:t>Технологии сохранения и стимулирования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060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Times New Roman"/>
              </a:rPr>
              <a:t>Динамические паузы</a:t>
            </a:r>
            <a:r>
              <a:rPr b="1" i="1" lang="ru-RU" sz="25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Times New Roman"/>
              </a:rPr>
              <a:t>Подвижные и спортивные игры</a:t>
            </a:r>
            <a:r>
              <a:rPr b="1" i="1" lang="ru-RU" sz="25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Times New Roman"/>
              </a:rPr>
              <a:t>Релаксация</a:t>
            </a:r>
            <a:r>
              <a:rPr b="1" i="1" lang="ru-RU" sz="25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Times New Roman"/>
              </a:rPr>
              <a:t>Гимнастика пальчиковая</a:t>
            </a:r>
            <a:r>
              <a:rPr b="1" i="1" lang="ru-RU" sz="25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Times New Roman"/>
              </a:rPr>
              <a:t>Гимнастика для глаз</a:t>
            </a:r>
            <a:r>
              <a:rPr b="1" i="1" lang="ru-RU" sz="25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Times New Roman"/>
              </a:rPr>
              <a:t>Гимнастика дыхательная</a:t>
            </a:r>
            <a:r>
              <a:rPr b="1" i="1" lang="ru-RU" sz="25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Times New Roman"/>
              </a:rPr>
              <a:t>Динамическая гимнастика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2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5" descr="http://st3.flashrolls.net/wallpaper/9d6/e972c725c58b051fbfb7b5261903763b_800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64352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ff"/>
                </a:solidFill>
                <a:uFillTx/>
                <a:latin typeface="Times New Roman"/>
              </a:rPr>
              <a:t>Технологии обучения здоровому образу жизни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11280" y="2276640"/>
            <a:ext cx="80755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Физкультурные заняти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Точечный массаж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Занятия в бассейн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Проблемно – игровые и коммуникативные игры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2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fullsizeMedia" descr=" photo asd16.jpg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300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Коррекционные технологии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68000" y="1844640"/>
            <a:ext cx="821844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Сказкотерапи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Песочная терапи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Арт –терапи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Су-Джок терапи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Музыкртерапи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684360" y="620640"/>
            <a:ext cx="7427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http://player.myshared.ru/907614/data/images/img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Гимнастика пальчиковая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26560" y="1934640"/>
            <a:ext cx="78598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Times New Roman"/>
              </a:rPr>
              <a:t>Способствует овладению навыкам мелкой моторик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Times New Roman"/>
              </a:rPr>
              <a:t>Помогает развивать речь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Times New Roman"/>
              </a:rPr>
              <a:t>Повышает работоспособность коры головного мозг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Times New Roman"/>
              </a:rPr>
              <a:t>Развивает психические способности: мышление, память, воображение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Times New Roman"/>
              </a:rPr>
              <a:t>Снимает тревожность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2000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5" descr="http://st3.flashrolls.net/wallpaper/9d6/e972c725c58b051fbfb7b5261903763b_800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Дыхательная гимнастика 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1341000"/>
            <a:ext cx="896472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ff0000"/>
                </a:solidFill>
                <a:latin typeface="Times New Roman"/>
              </a:rPr>
              <a:t>Положительно влияет на обменные процессы, играющие важную роль в кровоснабжении, в том числе и легочной ткани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3100" spc="-1" strike="noStrike">
                <a:solidFill>
                  <a:srgbClr val="ff0000"/>
                </a:solidFill>
                <a:latin typeface="Times New Roman"/>
              </a:rPr>
              <a:t>Улучшает дренажную функцию бронхов; - восстанавливает нарушенное носовое дыхание 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ff0000"/>
                </a:solidFill>
                <a:latin typeface="Times New Roman"/>
              </a:rPr>
              <a:t>Способствует восстановлению нормального крово - и лимфоснабжения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3100" spc="-1" strike="noStrike">
                <a:solidFill>
                  <a:srgbClr val="ff0000"/>
                </a:solidFill>
                <a:latin typeface="Times New Roman"/>
              </a:rPr>
              <a:t>Повышает общую сопротивляемость организма 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2000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3" descr="http://www.fondolove.com/bulkupload/wall-infantles3/Infantiles/Peque%20Arcoiris_800.jpg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Су - Джок терапия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785880" y="1268280"/>
            <a:ext cx="78897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9900"/>
                </a:solidFill>
                <a:latin typeface="Times New Roman"/>
              </a:rPr>
              <a:t>Воздействует на биологически активные точки организма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9900"/>
                </a:solidFill>
                <a:latin typeface="Times New Roman"/>
              </a:rPr>
              <a:t>Стимулирует речевые зоны коры головного мозга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9900"/>
                </a:solidFill>
                <a:latin typeface="Times New Roman"/>
              </a:rPr>
              <a:t>Способствует лечению внутренних органов, нормализует работу организма в целом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9900"/>
                </a:solidFill>
                <a:latin typeface="Times New Roman"/>
              </a:rPr>
              <a:t>Развивает мелкую моторику рук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9900"/>
                </a:solidFill>
                <a:latin typeface="Times New Roman"/>
              </a:rPr>
              <a:t>Развивает память, внимание, связную речь 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2000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7" descr="http://player.myshared.ru/972863/data/images/img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Точечный массаж и самомассаж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68000" y="1700280"/>
            <a:ext cx="8567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Times New Roman"/>
              </a:rPr>
              <a:t>Учит детей сознательно заботиться о своём здоровье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9900cc"/>
                </a:solidFill>
                <a:latin typeface="Times New Roman"/>
              </a:rPr>
              <a:t>Является профилактикой простудных заболеваний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Times New Roman"/>
              </a:rPr>
              <a:t>Повышает жизненный тонуса у детей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Times New Roman"/>
              </a:rPr>
              <a:t>Прививает им чувство ответственности за своё здоровье, уверенность в том, что они сами могут помочь себе улучшить своё самочувствие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2000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5" descr="http://img-fotki.yandex.ru/get/6421/87902893.16/0_13c4c3_36f45943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85988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Гимнастика для глаз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9280" y="1934640"/>
            <a:ext cx="814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d60093"/>
                </a:solidFill>
                <a:latin typeface="Times New Roman"/>
              </a:rPr>
              <a:t>Улучшает циркуляцию крови и внутриглазной жидкости глаз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d60093"/>
                </a:solidFill>
                <a:latin typeface="Times New Roman"/>
              </a:rPr>
              <a:t>Укрепляет мышцы глаз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d60093"/>
                </a:solidFill>
                <a:latin typeface="Times New Roman"/>
              </a:rPr>
              <a:t>Улучшает аккомодацию (это способность глаза человека к хорошему качеству зрения на разных расстояниях)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2000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fullsizeMedia" descr=" photo asd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14716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Релаксация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4000" y="1628280"/>
            <a:ext cx="8496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cc"/>
                </a:solidFill>
                <a:latin typeface="Times New Roman"/>
              </a:rPr>
              <a:t>Учит детей расслабляться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cc"/>
                </a:solidFill>
                <a:latin typeface="Times New Roman"/>
              </a:rPr>
              <a:t>Способствует концентрации внимания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cc"/>
                </a:solidFill>
                <a:latin typeface="Times New Roman"/>
              </a:rPr>
              <a:t>Помогает снять напряжение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9900cc"/>
                </a:solidFill>
                <a:latin typeface="Times New Roman"/>
              </a:rPr>
              <a:t>Снимает возбуждение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2000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10" descr="http://st3.flashrolls.net/wallpaper/9d6/e972c725c58b051fbfb7b5261903763b_800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552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ff"/>
                </a:solidFill>
                <a:latin typeface="Times New Roman"/>
              </a:rPr>
              <a:t>Музыкотерапия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78920" y="1934640"/>
            <a:ext cx="8713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Повышает иммунитет детей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Снимает напряжение и раздражительность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Снимает головную боль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Восстанавливает спокойное дыхание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2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fullsizeMedia" descr=" photo asd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404640"/>
            <a:ext cx="8229600" cy="59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 Black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Рисунок 4" descr="DSC05496.jpg"/>
          <p:cNvPicPr/>
          <p:nvPr/>
        </p:nvPicPr>
        <p:blipFill>
          <a:blip r:embed="rId2"/>
          <a:stretch/>
        </p:blipFill>
        <p:spPr>
          <a:xfrm>
            <a:off x="254160" y="620640"/>
            <a:ext cx="8421480" cy="5857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5" descr="http://img1.gtsstatic.com/wallpapers/645dd21fac99f63ddb5bffb37fbf4cc5_large.jpeg"/>
          <p:cNvPicPr/>
          <p:nvPr/>
        </p:nvPicPr>
        <p:blipFill>
          <a:blip r:embed="rId1"/>
          <a:stretch/>
        </p:blipFill>
        <p:spPr>
          <a:xfrm>
            <a:off x="0" y="-747720"/>
            <a:ext cx="9252000" cy="760572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19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60093"/>
                </a:solidFill>
                <a:latin typeface="Times New Roman"/>
              </a:rPr>
              <a:t>Применение в работе ДОУ здоровьесберегающих технологий, повышает результативность воспитательно-образовательного процесса, формирует у педагогов и родителей ценностные ориентации, направленные на сохранение и укрепление здоровья воспитанников.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 advTm="2000"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4" descr="http://player.myshared.ru/450514/data/images/img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36280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Times New Roman"/>
              </a:rPr>
              <a:t>Здоровье ребенка превыше всего,</a:t>
            </a:r>
            <a:br>
              <a:rPr sz="4000"/>
            </a:br>
            <a:r>
              <a:rPr b="1" i="1" lang="ru-RU" sz="4000" spc="-1" strike="noStrike">
                <a:solidFill>
                  <a:srgbClr val="ff33cc"/>
                </a:solidFill>
                <a:latin typeface="Times New Roman"/>
              </a:rPr>
              <a:t>Богатство земли не заменит его.</a:t>
            </a:r>
            <a:br>
              <a:rPr sz="4000"/>
            </a:br>
            <a:r>
              <a:rPr b="1" i="1" lang="ru-RU" sz="4000" spc="-1" strike="noStrike">
                <a:solidFill>
                  <a:srgbClr val="ff33cc"/>
                </a:solidFill>
                <a:latin typeface="Times New Roman"/>
              </a:rPr>
              <a:t>Здоровье не купишь, никто не продаст.</a:t>
            </a:r>
            <a:br>
              <a:rPr sz="4000"/>
            </a:br>
            <a:r>
              <a:rPr b="1" i="1" lang="ru-RU" sz="4000" spc="-1" strike="noStrike">
                <a:solidFill>
                  <a:srgbClr val="ff33cc"/>
                </a:solidFill>
                <a:latin typeface="Times New Roman"/>
              </a:rPr>
              <a:t>Его берегите, как сердце, как глаз!!!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 advTm="2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http://player.myshared.ru/450514/data/images/img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755640" y="83664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cc33"/>
                </a:solidFill>
                <a:latin typeface="Times New Roman"/>
              </a:rPr>
              <a:t>«Детям совершенно так же, как и взрослым, хочется быть здоровыми и сильными, только дети не знают, что для этого надо делать. Объясни им, и они будут беречься»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ff"/>
                </a:solidFill>
                <a:latin typeface="Times New Roman"/>
              </a:rPr>
              <a:t>Януш Корчак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2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http://player.myshared.ru/450514/data/images/img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Содержимое 3" descr="razvlechenie1.jpg"/>
          <p:cNvPicPr/>
          <p:nvPr/>
        </p:nvPicPr>
        <p:blipFill>
          <a:blip r:embed="rId2"/>
          <a:stretch/>
        </p:blipFill>
        <p:spPr>
          <a:xfrm>
            <a:off x="395280" y="260280"/>
            <a:ext cx="8271000" cy="62643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http://st3.flashrolls.net/wallpaper/9d6/e972c725c58b051fbfb7b5261903763b_800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685800" y="907560"/>
            <a:ext cx="77724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Здоровье </a:t>
            </a: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- это состояние полного физического, психического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и социального благополучия, а не просто отсутствие болезней ил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физических дефектов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(Всемирная организация здравоохранения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2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http://st3.flashrolls.net/wallpaper/9d6/e972c725c58b051fbfb7b5261903763b_800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Содержимое 3" descr="razvlechenie.jpg"/>
          <p:cNvPicPr/>
          <p:nvPr/>
        </p:nvPicPr>
        <p:blipFill>
          <a:blip r:embed="rId2"/>
          <a:stretch/>
        </p:blipFill>
        <p:spPr>
          <a:xfrm>
            <a:off x="611280" y="189000"/>
            <a:ext cx="7993080" cy="63817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http://img-fotki.yandex.ru/get/6421/87902893.16/0_13c4c3_36f45943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685800" y="907560"/>
            <a:ext cx="77724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Здоровьесберегающая технология</a:t>
            </a: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 -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это система мер, включающая взаимосвязь и взаимодействие всех факторов образовательной среды, направленных на сохранение здоровья ребенка на всех этапах его обучения и развития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2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5" descr="http://st3.flashrolls.net/wallpaper/9d6/e972c725c58b051fbfb7b5261903763b_800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Times New Roman"/>
              </a:rPr>
              <a:t>Задачи здоровьесбережения</a:t>
            </a:r>
            <a:r>
              <a:rPr b="0" lang="ru-RU" sz="3600" spc="-1" strike="noStrike">
                <a:solidFill>
                  <a:srgbClr val="3333ff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Times New Roman"/>
              </a:rPr>
              <a:t>сохранение здоровья детей и повышение двигательной активности и умственной работоспособност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Times New Roman"/>
              </a:rPr>
              <a:t>создание адекватных условий для развития, обучения, оздоровления дете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Times New Roman"/>
              </a:rPr>
              <a:t>создание положительного эмоционального настроя и снятие психоэмоционального напряжени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2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8" descr="http://img1.gtsstatic.com/wallpapers/645dd21fac99f63ddb5bffb37fbf4cc5_large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6600cc"/>
                </a:solidFill>
                <a:latin typeface="Times New Roman"/>
              </a:rPr>
              <a:t>Здоровьесберегающие образовательные технологии делятся на </a:t>
            </a:r>
            <a:r>
              <a:rPr b="1" i="1" lang="ru-RU" sz="3600" spc="-1" strike="noStrike" u="sng">
                <a:solidFill>
                  <a:srgbClr val="6600cc"/>
                </a:solidFill>
                <a:uFillTx/>
                <a:latin typeface="Times New Roman"/>
              </a:rPr>
              <a:t>три группы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Times New Roman"/>
              </a:rPr>
              <a:t>1. Технологии сохранения и стимулирования здоровь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Times New Roman"/>
              </a:rPr>
              <a:t>2. Технологии обучения здоровому образу жизн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Times New Roman"/>
              </a:rPr>
              <a:t>3. Коррекционные технологии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2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0:20:44Z</dcterms:created>
  <dc:creator>side</dc:creator>
  <dc:description/>
  <dc:language>en-US</dc:language>
  <cp:lastModifiedBy>e.naletov@outlook.com</cp:lastModifiedBy>
  <dcterms:modified xsi:type="dcterms:W3CDTF">2017-02-07T11:24:40Z</dcterms:modified>
  <cp:revision>47</cp:revision>
  <dc:subject/>
  <dc:title>Your Title Here…</dc:title>
</cp:coreProperties>
</file>