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7C95-9143-4FCD-8DCB-CEF92BCE9F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CF9A-FD76-47F5-AEF1-04A8491C8D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23DD-556F-4D38-880A-58E10CCCF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7F6F-C5CC-4187-8C50-5AF6D181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E504-5E53-4259-B8E5-0B4708C2C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C331-8BE4-481A-879E-302CE9A5E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E352-96D8-4E99-8DED-55B194C2A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21FE-5D89-4836-9DD2-BF687C3A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B8E3-D290-43E0-833B-E2DC121F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718A-6377-4910-9FC3-9136FF69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681A-E1D4-477A-B3E3-841FB9BD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F62C-B1E8-41F1-AF34-B880BDD4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C67F-0288-4C33-A216-360FF954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A79D-AFE5-4B9A-949C-BC3C41B3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BE74-8190-4BC7-81D1-3FA7F4E5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CCA75-78F9-4B20-9CF0-252B6BC6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C89D-0727-487F-9D45-2C835039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72BB-84D2-46B9-8457-B51A1E797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C3AB-6DE0-41A8-B47A-2D6D41FD6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BC6D9-ADF1-4B9B-B053-F4381417E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0A4A6-0F40-4897-9253-D9125EA5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60BFB-346B-4566-BC8D-4A59F32D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5415A-14E0-4638-9A7A-F1352E51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462DC-DFAB-4689-A3FA-A4BD188C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83C6-2541-4811-91BA-16B0C6EE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81DB5-DD05-4004-9CE6-E71637E3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E8796-077E-40EC-9E44-8265450D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8F1A2-54AB-49D3-BC03-A716155C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C1DED-0722-4E34-840C-FC64CF8F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71E54-E20F-42A6-B9AE-A62E2F12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412ED-48F3-4191-8EDD-F97DFC9AF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9525E-EDBE-4E16-8470-0C67794FD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48FF8-969A-438D-B8F6-0D3D2B5A6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06807-3C37-4337-862E-41591BEE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7C612-F02B-43E6-AD0A-3808CE21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0763-A417-453A-AFA0-1FD7EFFA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DB911-9501-4757-9845-407033CE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05939-1F13-4C74-BE30-C790AB8A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329A3-B156-41BF-8DBC-97416E28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A8596-9959-48F4-AB22-EA07396C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90A26-122F-4863-988D-7CE7A11E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21A32-D3B1-4B4A-AC29-9D2A0EE9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7B27F-5044-4459-AA20-12477930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0F652-3F0C-42FD-8FDB-82DB2994F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BCF48-6245-455F-AC75-3312E3F16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ED83-7DA5-497A-9301-F1562728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B49D-B946-4395-B8DC-2F995A01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2A95-B495-4A9E-A576-75B193B9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9287-38BD-475F-B7F0-21E4F674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F7D0-20D3-4435-A97F-497B6A74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2FC5-F3C5-4950-89B4-43BC4BB44FA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13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14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5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6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EFA5-C731-4876-A5A2-D93F27DFDEAE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13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14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6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3F9C-43C4-49C9-A2D8-3F6012B3ED94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31F5-B681-42FD-BA1E-F396F30A04DE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fullsizeMedia" descr=" photo asd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 Black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«Современные здоровьесберегающие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технологии в детском саду»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6" descr="http://knu.znate.ru/pars_docs/refs/533/532694/532694_html_m63213bd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ff"/>
                </a:solidFill>
                <a:uFillTx/>
                <a:latin typeface="Times New Roman"/>
              </a:rPr>
              <a:t>Технологии сохранения и стимулирования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060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Times New Roman"/>
              </a:rPr>
              <a:t>Динамические паузы</a:t>
            </a:r>
            <a:r>
              <a:rPr b="1" i="1" lang="ru-RU" sz="25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Times New Roman"/>
              </a:rPr>
              <a:t>Подвижные и спортивные игры</a:t>
            </a:r>
            <a:r>
              <a:rPr b="1" i="1" lang="ru-RU" sz="25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Times New Roman"/>
              </a:rPr>
              <a:t>Релаксация</a:t>
            </a:r>
            <a:r>
              <a:rPr b="1" i="1" lang="ru-RU" sz="25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Times New Roman"/>
              </a:rPr>
              <a:t>Гимнастика пальчиковая</a:t>
            </a:r>
            <a:r>
              <a:rPr b="1" i="1" lang="ru-RU" sz="25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Times New Roman"/>
              </a:rPr>
              <a:t>Гимнастика для глаз</a:t>
            </a:r>
            <a:r>
              <a:rPr b="1" i="1" lang="ru-RU" sz="25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Times New Roman"/>
              </a:rPr>
              <a:t>Гимнастика дыхательная</a:t>
            </a:r>
            <a:r>
              <a:rPr b="1" i="1" lang="ru-RU" sz="25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Times New Roman"/>
              </a:rPr>
              <a:t>Динамическая гимнастика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2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5" descr="http://st3.flashrolls.net/wallpaper/9d6/e972c725c58b051fbfb7b5261903763b_800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64352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ff"/>
                </a:solidFill>
                <a:uFillTx/>
                <a:latin typeface="Times New Roman"/>
              </a:rPr>
              <a:t>Технологии обучения здоровому образу жизни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11280" y="2276640"/>
            <a:ext cx="80755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Физкультурные заняти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Точечный массаж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Занятия в бассейн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Проблемно – игровые и коммуникативные игры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2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fullsizeMedia" descr=" photo asd16.jpg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300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Коррекционные технологии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68000" y="1844640"/>
            <a:ext cx="821844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Сказкотерапи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Песочная терапи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Арт –терапи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Су-Джок терапи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Музыкртерапи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684360" y="620640"/>
            <a:ext cx="7427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http://player.myshared.ru/907614/data/images/img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Гимнастика пальчиковая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26560" y="1934640"/>
            <a:ext cx="78598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Times New Roman"/>
              </a:rPr>
              <a:t>Способствует овладению навыкам мелкой моторик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Times New Roman"/>
              </a:rPr>
              <a:t>Помогает развивать речь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Times New Roman"/>
              </a:rPr>
              <a:t>Повышает работоспособность коры головного мозг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Times New Roman"/>
              </a:rPr>
              <a:t>Развивает психические способности: мышление, память, воображение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Times New Roman"/>
              </a:rPr>
              <a:t>Снимает тревожность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2000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5" descr="http://st3.flashrolls.net/wallpaper/9d6/e972c725c58b051fbfb7b5261903763b_800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Дыхательная гимнастика 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1341000"/>
            <a:ext cx="896472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ff0000"/>
                </a:solidFill>
                <a:latin typeface="Times New Roman"/>
              </a:rPr>
              <a:t>Положительно влияет на обменные процессы, играющие важную роль в кровоснабжении, в том числе и легочной ткани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3100" spc="-1" strike="noStrike">
                <a:solidFill>
                  <a:srgbClr val="ff0000"/>
                </a:solidFill>
                <a:latin typeface="Times New Roman"/>
              </a:rPr>
              <a:t>Улучшает дренажную функцию бронхов; - восстанавливает нарушенное носовое дыхание 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ff0000"/>
                </a:solidFill>
                <a:latin typeface="Times New Roman"/>
              </a:rPr>
              <a:t>Способствует восстановлению нормального крово - и лимфоснабжения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3100" spc="-1" strike="noStrike">
                <a:solidFill>
                  <a:srgbClr val="ff0000"/>
                </a:solidFill>
                <a:latin typeface="Times New Roman"/>
              </a:rPr>
              <a:t>Повышает общую сопротивляемость организма 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2000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3" descr="http://www.fondolove.com/bulkupload/wall-infantles3/Infantiles/Peque%20Arcoiris_800.jpg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Су - Джок терапия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785880" y="1268280"/>
            <a:ext cx="78897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9900"/>
                </a:solidFill>
                <a:latin typeface="Times New Roman"/>
              </a:rPr>
              <a:t>Воздействует на биологически активные точки организма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9900"/>
                </a:solidFill>
                <a:latin typeface="Times New Roman"/>
              </a:rPr>
              <a:t>Стимулирует речевые зоны коры головного мозга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9900"/>
                </a:solidFill>
                <a:latin typeface="Times New Roman"/>
              </a:rPr>
              <a:t>Способствует лечению внутренних органов, нормализует работу организма в целом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9900"/>
                </a:solidFill>
                <a:latin typeface="Times New Roman"/>
              </a:rPr>
              <a:t>Развивает мелкую моторику рук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9900"/>
                </a:solidFill>
                <a:latin typeface="Times New Roman"/>
              </a:rPr>
              <a:t>Развивает память, внимание, связную речь 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2000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7" descr="http://player.myshared.ru/972863/data/images/img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Точечный массаж и самомассаж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68000" y="1700280"/>
            <a:ext cx="8567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Times New Roman"/>
              </a:rPr>
              <a:t>Учит детей сознательно заботиться о своём здоровье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9900cc"/>
                </a:solidFill>
                <a:latin typeface="Times New Roman"/>
              </a:rPr>
              <a:t>Является профилактикой простудных заболеваний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Times New Roman"/>
              </a:rPr>
              <a:t>Повышает жизненный тонуса у детей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Times New Roman"/>
              </a:rPr>
              <a:t>Прививает им чувство ответственности за своё здоровье, уверенность в том, что они сами могут помочь себе улучшить своё самочувствие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2000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5" descr="http://img-fotki.yandex.ru/get/6421/87902893.16/0_13c4c3_36f45943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85988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Гимнастика для глаз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9280" y="1934640"/>
            <a:ext cx="814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d60093"/>
                </a:solidFill>
                <a:latin typeface="Times New Roman"/>
              </a:rPr>
              <a:t>Улучшает циркуляцию крови и внутриглазной жидкости глаз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d60093"/>
                </a:solidFill>
                <a:latin typeface="Times New Roman"/>
              </a:rPr>
              <a:t>Укрепляет мышцы глаз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d60093"/>
                </a:solidFill>
                <a:latin typeface="Times New Roman"/>
              </a:rPr>
              <a:t>Улучшает аккомодацию (это способность глаза человека к хорошему качеству зрения на разных расстояниях)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2000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fullsizeMedia" descr=" photo asd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14716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Релаксация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4000" y="1628280"/>
            <a:ext cx="8496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cc"/>
                </a:solidFill>
                <a:latin typeface="Times New Roman"/>
              </a:rPr>
              <a:t>Учит детей расслабляться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cc"/>
                </a:solidFill>
                <a:latin typeface="Times New Roman"/>
              </a:rPr>
              <a:t>Способствует концентрации внимания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cc"/>
                </a:solidFill>
                <a:latin typeface="Times New Roman"/>
              </a:rPr>
              <a:t>Помогает снять напряжение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9900cc"/>
                </a:solidFill>
                <a:latin typeface="Times New Roman"/>
              </a:rPr>
              <a:t>Снимает возбуждение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2000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10" descr="http://st3.flashrolls.net/wallpaper/9d6/e972c725c58b051fbfb7b5261903763b_800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552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ff"/>
                </a:solidFill>
                <a:latin typeface="Times New Roman"/>
              </a:rPr>
              <a:t>Музыкотерапия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78920" y="1934640"/>
            <a:ext cx="8713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Повышает иммунитет детей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Снимает напряжение и раздражительность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Снимает головную боль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Восстанавливает спокойное дыхание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2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fullsizeMedia" descr=" photo asd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404640"/>
            <a:ext cx="8229600" cy="59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 Black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Рисунок 4" descr="DSC05496.jpg"/>
          <p:cNvPicPr/>
          <p:nvPr/>
        </p:nvPicPr>
        <p:blipFill>
          <a:blip r:embed="rId2"/>
          <a:stretch/>
        </p:blipFill>
        <p:spPr>
          <a:xfrm>
            <a:off x="254160" y="620640"/>
            <a:ext cx="8421480" cy="5857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5" descr="http://img1.gtsstatic.com/wallpapers/645dd21fac99f63ddb5bffb37fbf4cc5_large.jpeg"/>
          <p:cNvPicPr/>
          <p:nvPr/>
        </p:nvPicPr>
        <p:blipFill>
          <a:blip r:embed="rId1"/>
          <a:stretch/>
        </p:blipFill>
        <p:spPr>
          <a:xfrm>
            <a:off x="0" y="-747720"/>
            <a:ext cx="9252000" cy="760572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19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60093"/>
                </a:solidFill>
                <a:latin typeface="Times New Roman"/>
              </a:rPr>
              <a:t>Применение в работе ДОУ здоровьесберегающих технологий, повышает результативность воспитательно-образовательного процесса, формирует у педагогов и родителей ценностные ориентации, направленные на сохранение и укрепление здоровья воспитанников.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 advTm="2000"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4" descr="http://player.myshared.ru/450514/data/images/img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36280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Times New Roman"/>
              </a:rPr>
              <a:t>Здоровье ребенка превыше всего,</a:t>
            </a:r>
            <a:br>
              <a:rPr sz="4000"/>
            </a:br>
            <a:r>
              <a:rPr b="1" i="1" lang="ru-RU" sz="4000" spc="-1" strike="noStrike">
                <a:solidFill>
                  <a:srgbClr val="ff33cc"/>
                </a:solidFill>
                <a:latin typeface="Times New Roman"/>
              </a:rPr>
              <a:t>Богатство земли не заменит его.</a:t>
            </a:r>
            <a:br>
              <a:rPr sz="4000"/>
            </a:br>
            <a:r>
              <a:rPr b="1" i="1" lang="ru-RU" sz="4000" spc="-1" strike="noStrike">
                <a:solidFill>
                  <a:srgbClr val="ff33cc"/>
                </a:solidFill>
                <a:latin typeface="Times New Roman"/>
              </a:rPr>
              <a:t>Здоровье не купишь, никто не продаст.</a:t>
            </a:r>
            <a:br>
              <a:rPr sz="4000"/>
            </a:br>
            <a:r>
              <a:rPr b="1" i="1" lang="ru-RU" sz="4000" spc="-1" strike="noStrike">
                <a:solidFill>
                  <a:srgbClr val="ff33cc"/>
                </a:solidFill>
                <a:latin typeface="Times New Roman"/>
              </a:rPr>
              <a:t>Его берегите, как сердце, как глаз!!!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 advTm="2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http://player.myshared.ru/450514/data/images/img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755640" y="83664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cc33"/>
                </a:solidFill>
                <a:latin typeface="Times New Roman"/>
              </a:rPr>
              <a:t>«Детям совершенно так же, как и взрослым, хочется быть здоровыми и сильными, только дети не знают, что для этого надо делать. Объясни им, и они будут беречься»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ff"/>
                </a:solidFill>
                <a:latin typeface="Times New Roman"/>
              </a:rPr>
              <a:t>Януш Корчак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2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http://player.myshared.ru/450514/data/images/img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Содержимое 3" descr="razvlechenie1.jpg"/>
          <p:cNvPicPr/>
          <p:nvPr/>
        </p:nvPicPr>
        <p:blipFill>
          <a:blip r:embed="rId2"/>
          <a:stretch/>
        </p:blipFill>
        <p:spPr>
          <a:xfrm>
            <a:off x="395280" y="260280"/>
            <a:ext cx="8271000" cy="62643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http://st3.flashrolls.net/wallpaper/9d6/e972c725c58b051fbfb7b5261903763b_800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685800" y="907560"/>
            <a:ext cx="77724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Здоровье </a:t>
            </a: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- это состояние полного физического, психического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и социального благополучия, а не просто отсутствие болезней ил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физических дефектов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(Всемирная организация здравоохранения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2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http://st3.flashrolls.net/wallpaper/9d6/e972c725c58b051fbfb7b5261903763b_800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Содержимое 3" descr="razvlechenie.jpg"/>
          <p:cNvPicPr/>
          <p:nvPr/>
        </p:nvPicPr>
        <p:blipFill>
          <a:blip r:embed="rId2"/>
          <a:stretch/>
        </p:blipFill>
        <p:spPr>
          <a:xfrm>
            <a:off x="611280" y="189000"/>
            <a:ext cx="7993080" cy="63817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http://img-fotki.yandex.ru/get/6421/87902893.16/0_13c4c3_36f45943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685800" y="907560"/>
            <a:ext cx="77724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Здоровьесберегающая технология</a:t>
            </a: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 -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это система мер, включающая взаимосвязь и взаимодействие всех факторов образовательной среды, направленных на сохранение здоровья ребенка на всех этапах его обучения и развития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2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5" descr="http://st3.flashrolls.net/wallpaper/9d6/e972c725c58b051fbfb7b5261903763b_800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Times New Roman"/>
              </a:rPr>
              <a:t>Задачи здоровьесбережения</a:t>
            </a:r>
            <a:r>
              <a:rPr b="0" lang="ru-RU" sz="3600" spc="-1" strike="noStrike">
                <a:solidFill>
                  <a:srgbClr val="3333ff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Times New Roman"/>
              </a:rPr>
              <a:t>сохранение здоровья детей и повышение двигательной активности и умственной работоспособност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Times New Roman"/>
              </a:rPr>
              <a:t>создание адекватных условий для развития, обучения, оздоровления дете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Times New Roman"/>
              </a:rPr>
              <a:t>создание положительного эмоционального настроя и снятие психоэмоционального напряжени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2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8" descr="http://img1.gtsstatic.com/wallpapers/645dd21fac99f63ddb5bffb37fbf4cc5_large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6600cc"/>
                </a:solidFill>
                <a:latin typeface="Times New Roman"/>
              </a:rPr>
              <a:t>Здоровьесберегающие образовательные технологии делятся на </a:t>
            </a:r>
            <a:r>
              <a:rPr b="1" i="1" lang="ru-RU" sz="3600" spc="-1" strike="noStrike" u="sng">
                <a:solidFill>
                  <a:srgbClr val="6600cc"/>
                </a:solidFill>
                <a:uFillTx/>
                <a:latin typeface="Times New Roman"/>
              </a:rPr>
              <a:t>три группы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Times New Roman"/>
              </a:rPr>
              <a:t>1. Технологии сохранения и стимулирования здоровь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Times New Roman"/>
              </a:rPr>
              <a:t>2. Технологии обучения здоровому образу жизн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Times New Roman"/>
              </a:rPr>
              <a:t>3. Коррекционные технологии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2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0:20:44Z</dcterms:created>
  <dc:creator>side</dc:creator>
  <dc:description/>
  <dc:language>en-US</dc:language>
  <cp:lastModifiedBy>e.naletov@outlook.com</cp:lastModifiedBy>
  <dcterms:modified xsi:type="dcterms:W3CDTF">2017-02-07T11:24:40Z</dcterms:modified>
  <cp:revision>47</cp:revision>
  <dc:subject/>
  <dc:title>Your Title Here…</dc:title>
</cp:coreProperties>
</file>