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E13C-3E97-4794-A38A-7CBC0CD2F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7DAB-3C65-4592-BAFC-CD1F7C40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D0A0-1106-40CB-A233-3D9C21919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6E7E-24A6-4657-8E71-AD4C7119E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7AEF3-D427-4C29-BE53-F123F0DF3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8A274-A14A-4797-B582-36D9289B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9F5C-3A0E-40EE-81F3-5047DA25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7C2F-DD28-40BE-BAFB-C7344B18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E182-B0A7-4ADC-9779-9C94026A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F6274-BBDC-44BD-B114-14F7B921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3F6C4-2336-4925-84E6-8727A76B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96B9-3A59-4D64-A14B-D49A3699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F584-C521-47D0-AC93-0981BAE9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88A6-555D-4651-A289-151248B5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5023-D342-4EC9-90D5-96BC3E80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E26A-5440-489B-9B8D-0F275C385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F0F7A-81F0-4B5B-B74F-686B0B592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6987-516A-4D64-8D38-211D7869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DAD7-D1F8-4CC5-9C67-12A7E30F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577E-971A-4C25-B78D-DCAB909E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534C-1786-43F7-BC5F-1339A56C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193C-D015-4C8A-904B-08B54B0F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9A55-49D2-4354-8025-AF7E1BA5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FB25-A615-4C1B-A8F7-CD7E078F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9759-285C-4A30-92AB-B2BBB82216D6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AEA0-1DFF-4579-8702-DACB224E7844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28800" y="4996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Типы химических реакций в органической химии.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Ионные реакции происходят без разрыва электронных пар, образующих химические связи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28400" y="2142720"/>
            <a:ext cx="83581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оба электрона переходят на орбиталь одного из атомов продукта реакции с образованием анион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етеролитический распад ковалентной полярной связи приводит к образованию нуклеофилов (анионов) и электрофилов (катионов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Br +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OH +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субстрат      реагент           продукты реакц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(нуклеофил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H + HO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H-O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субстрат        реагент           продукты  реакц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(электрофил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Классификация по направлению и конечному результату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7120" y="1928520"/>
            <a:ext cx="84297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акции замещения              А-В + С → А-С + 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акции присоединения       С=С + А-В → А-С-С-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акции отщеплени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элиминирования)       А-С-С-В → С=С + А-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акции перегруппировки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изомеризации)          Х-А-В → А-В-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акции окисления и восстановления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провождаются изменением степени окисления атома углерода в соединениях, где атом углерода – реакционный центр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Проблема: К какому типу реакций можно отнести реакцию полимеризации? Докажите её принадлежность к определённому типу реакций и приведите пример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42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Тестовое задание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999800"/>
            <a:ext cx="859788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. Соотнесите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здел химии                   Тип реакц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органическая         а) замещения     б) обме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рганическая            в) соединения     г) разлож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) отщепления   е) изомеризац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ж) присоедин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. Соотнесите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хема реакции                    Тип реакц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В + С → АВ + С           а) замещ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ВС → АВ + С               б) присоедин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ВС → АСВ                    в) отщепл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В + С → АС + В           г) изомеризации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84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. Бутан вступает в реакцию с веществом, формула которого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1100" spc="-1" strike="noStrike">
                <a:solidFill>
                  <a:srgbClr val="333399"/>
                </a:solidFill>
                <a:latin typeface="Tahoma"/>
              </a:rPr>
              <a:t>1)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1100" spc="-1" strike="noStrike">
                <a:solidFill>
                  <a:srgbClr val="333399"/>
                </a:solidFill>
                <a:latin typeface="Tahoma"/>
              </a:rPr>
              <a:t>2)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ahoma"/>
              </a:rPr>
              <a:t>8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1100" spc="-1" strike="noStrike">
                <a:solidFill>
                  <a:srgbClr val="333399"/>
                </a:solidFill>
                <a:latin typeface="Tahoma"/>
              </a:rPr>
              <a:t>3)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1100" spc="-1" strike="noStrike">
                <a:solidFill>
                  <a:srgbClr val="333399"/>
                </a:solidFill>
                <a:latin typeface="Tahoma"/>
              </a:rPr>
              <a:t>4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HC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928520"/>
            <a:ext cx="85978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 Субстратом в предложенных схемах реакций является веществ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СООН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(А)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+ 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ОН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(Б)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→ С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О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+ 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С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ОН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(A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-Br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(B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Br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Cl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(A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+ Na-OH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(B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+ NaCl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5. Левой части уравнения 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+ 5О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→ … соответствует правая часть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→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+ 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→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+ 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→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СО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+ 4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→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СО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+ 2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6. Объём кислорода, который потребуется для полного сгорания 5л метана, раве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)   1л         2) 5л         3) 10л          4) 15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Вывод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928600" y="2017800"/>
            <a:ext cx="602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рганические реакции подчиняются общим законам и общим закономерностям их протека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ни имеют общие для всех реакций признаки, но имеют и свои характерные особенност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 механизму протекания реакции делятся на свободнорадикальные и ионны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 направлению и конечному результату химического превращения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мещения, присоединения, окисления и восстановления, изомеризации, отщепления, поликонденсации и др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Содержимое 5" descr="http://www.yarfoto.ru/klipart_v_big/213.gif"/>
          <p:cNvPicPr/>
          <p:nvPr/>
        </p:nvPicPr>
        <p:blipFill>
          <a:blip r:embed="rId1"/>
          <a:stretch/>
        </p:blipFill>
        <p:spPr>
          <a:xfrm>
            <a:off x="357120" y="3143160"/>
            <a:ext cx="24289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Химическая реакция – 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евращение одних веществ в другие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214440" y="2017800"/>
            <a:ext cx="5740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ещества, полученные в результате реакции, отличаются от исходных веществ составом, строением и свойства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агент 1  +  Реагент 2  = Продук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убстрат  + Атакующий = Продук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аген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Содержимое 5" descr="http://www.yarfoto.ru/klipart_v_big/213.gif"/>
          <p:cNvPicPr/>
          <p:nvPr/>
        </p:nvPicPr>
        <p:blipFill>
          <a:blip r:embed="rId1"/>
          <a:stretch/>
        </p:blipFill>
        <p:spPr>
          <a:xfrm>
            <a:off x="785880" y="3357720"/>
            <a:ext cx="24289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изнаки классификации химических реакций в неорганической хими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182600" y="2500200"/>
            <a:ext cx="777240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 числу и составу исходных веществ и продукт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 тепловому эффект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 изменению степени окисления атом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 обратимости процесс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 фаз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 использованию катализато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Классификация по числу и составу исходных и образующихся веществ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71320" y="2017800"/>
            <a:ext cx="838332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акции соединения: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 + В = А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n + C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= ZnC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              CaO + C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= CaC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акции разложения: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В = А + 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2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 = 2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+ 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            Cu(OH)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= CuO + 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акции замещения: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В + С = А + С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uS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+ Fe = Cu + FeS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+ 2Al = 2Cr + A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акции обмена: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В +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D = AD + C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uO + H2SO4 = CuSO4 + H2O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aOH + HCl = NaCl + 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85920" y="285840"/>
            <a:ext cx="7477200" cy="257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Даны схемы реакций:</a:t>
            </a:r>
            <a:br>
              <a:rPr sz="2800"/>
            </a:b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1. Гидроксид меди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)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→ 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оксид меди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) + вода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2. Хлорид бария + сульфат натрия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→ …</a:t>
            </a:r>
            <a:br>
              <a:rPr sz="2800"/>
            </a:b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3. Соляная кислота + цинк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→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 хлорид цинка +    водород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4. Оксид фосфора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V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) + вода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→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500040" y="3643200"/>
            <a:ext cx="814392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уровень: Укажите типы реакций, запишите одно из уравнений (по выбору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уровень: Укажите типы реакций, запишите одно из уравнений, в котором не указаны продукты (по выбору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уровень: Укажите типы реакций и запишите все уравне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Реакции с участием органических соединений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928600" y="2786040"/>
            <a:ext cx="602604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дчиняются тем же законам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(закон сохранения массы и энергии, закон действия масс, закон Гесса и др.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проявляют те же закономерности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(стехиометрические, энергетические, кинематические)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 и реакции неорганически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Содержимое 5" descr="http://www.yarfoto.ru/klipart_v_big/213.gif"/>
          <p:cNvPicPr/>
          <p:nvPr/>
        </p:nvPicPr>
        <p:blipFill>
          <a:blip r:embed="rId1"/>
          <a:stretch/>
        </p:blipFill>
        <p:spPr>
          <a:xfrm>
            <a:off x="357120" y="3214800"/>
            <a:ext cx="24289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рганические реакции принято классифицировать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182600" y="2017440"/>
            <a:ext cx="77724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 механизмам протека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Под механизмом реакции понимают последовательность отдельных стадий протекания реакции с указанием промежуточных частиц, образующихся на каждой из этих стад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 направлению и конечным продуктам реак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- присоединен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- отщепления (элимирования)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- замещения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- перегруппировки (изомеризации)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- окисления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- восстановления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Способ разрыва ковалентной связи определяет тип механизма реакций: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28760" y="2017440"/>
            <a:ext cx="85262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дикальный (гомолитический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X:Y → X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+ 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ahoma"/>
              </a:rPr>
              <a:t>,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 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дикалы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(свободные атомы или частицы с неспаренными электронами, неустойчивые и способные вступать в химические превращения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онный (гетеролитический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X:Y → X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+ :Y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- электрофильный реагент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(электрофил: любящий электрон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Y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нуклеофильный реагент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(нуклеофил: любящий протон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Радикальные реакции имеют цепной механизм, включающий стадии: зарождение, развитие и обрыв цепи.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82600" y="2214360"/>
            <a:ext cx="77724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рождение цепи (инициирование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Cl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ост (развитие) цеп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→ 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+ Н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Cl + Cl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рыв цеп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Cl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+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Cl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06:05:51Z</dcterms:created>
  <dc:creator>Мария Тельнова</dc:creator>
  <dc:description/>
  <dc:language>en-US</dc:language>
  <cp:lastModifiedBy>№ 5</cp:lastModifiedBy>
  <dcterms:modified xsi:type="dcterms:W3CDTF">2017-02-07T06:58:02Z</dcterms:modified>
  <cp:revision>60</cp:revision>
  <dc:subject/>
  <dc:title>Алкины</dc:title>
</cp:coreProperties>
</file>