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FB2FA-4F40-4CAA-AECC-CA0560E53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676AC-A25B-4DAF-AE8E-63E20D43A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B434E-CDC5-4364-9D02-649557897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1BB6B-8417-4CB8-87B8-2E6B6427C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89D40-4462-4E56-B308-6BE5D09B4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EB836-3429-4EEA-B6ED-F04C81DFB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FECF2-6F23-4232-BFCB-A43BF6CEC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4A10B-CD77-43C5-8951-76EFA0799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DB4C4-640E-442D-BB37-D1E97B647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A0CA9-3FF1-4204-A356-615338FCC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11579-A37B-4398-A4BF-63F133846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26690-5259-41F9-8A88-9BAE58878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232B9-CF43-492F-A0B2-2168EF18B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4E5A4-06FB-4B5B-A935-3F59782AB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F1281-026E-4ABF-BCAE-36ECA17D0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FF7FD-692E-4AFE-9774-9D4EB0339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62F36-3BBD-4253-92E6-FA23656A5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62868-EE63-4468-98B1-3362B8BD4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91C62-709B-4D9F-93E8-F358A1412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95FBE-5715-4B7A-B969-01C203AC4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3E154-88ED-4621-A8BD-DA2F0F79E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DF284-6A08-4A11-B49A-BAAB21F0E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F6DDE-333E-4752-B112-5DA25CDEF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D4A35-EED0-4D1E-BADF-9E49C278E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C43FC-5C0F-41BA-8DA8-4DC1D5BCD6B1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A329C-7D8F-44F6-81F6-9FEE37BF45C3}" type="slidenum">
              <a:rPr b="0" lang="ru-RU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28800" y="4996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Типы химических реакций в органической химии.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Ионные реакции происходят без разрыва электронных пар, образующих химические связи: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28400" y="2142720"/>
            <a:ext cx="835812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333399"/>
                </a:solidFill>
                <a:latin typeface="Tahoma"/>
              </a:rPr>
              <a:t>оба электрона переходят на орбиталь одного из атомов продукта реакции с образованием анион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Гетеролитический распад ковалентной полярной связи приводит к образованию нуклеофилов (анионов) и электрофилов (катионов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Br +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OH +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                </a:t>
            </a: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субстрат      реагент           продукты реакции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                                </a:t>
            </a: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(нуклеофил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H + HO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→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+ H-O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               </a:t>
            </a: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субстрат        реагент           продукты  реакции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                                </a:t>
            </a: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(электрофил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Object 2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Классификация по направлению и конечному результату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57120" y="1928520"/>
            <a:ext cx="842976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Реакции замещения              А-В + С → А-С + В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Реакции присоединения       С=С + А-В → А-С-С-В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Реакции отщепления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         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(элиминирования)       А-С-С-В → С=С + А-В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Реакции перегруппировки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         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(изомеризации)          Х-А-В → А-В-Х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Реакции окисления и восстановления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опровождаются изменением степени окисления атома углерода в соединениях, где атом углерода – реакционный центр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Проблема: К какому типу реакций можно отнести реакцию полимеризации? Докажите её принадлежность к определённому типу реакций и приведите пример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1428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Тестовое задание.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56760" y="1999800"/>
            <a:ext cx="8597880" cy="46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1. Соотнесите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Раздел химии                   Тип реакции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еорганическая         а) замещения     б) обмен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Органическая            в) соединения     г) разложени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д) отщепления   е) изомеризации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ж) присоединени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2. Соотнесите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хема реакции                    Тип реакции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АВ + С → АВ + С           а) замещени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АВС → АВ + С               б) присоединени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АВС → АСВ                    в) отщеплени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АВ + С → АС + В           г) изомеризации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99680" y="-360"/>
            <a:ext cx="8443800" cy="171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3. Бутан вступает в реакцию с веществом, формула которого: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ru-RU" sz="1100" spc="-1" strike="noStrike">
                <a:solidFill>
                  <a:srgbClr val="333399"/>
                </a:solidFill>
                <a:latin typeface="Tahoma"/>
              </a:rPr>
              <a:t>1)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Н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О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ru-RU" sz="1100" spc="-1" strike="noStrike">
                <a:solidFill>
                  <a:srgbClr val="333399"/>
                </a:solidFill>
                <a:latin typeface="Tahoma"/>
              </a:rPr>
              <a:t>2)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С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Tahoma"/>
              </a:rPr>
              <a:t>8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ru-RU" sz="1100" spc="-1" strike="noStrike">
                <a:solidFill>
                  <a:srgbClr val="333399"/>
                </a:solidFill>
                <a:latin typeface="Tahoma"/>
              </a:rPr>
              <a:t>3)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ru-RU" sz="1100" spc="-1" strike="noStrike">
                <a:solidFill>
                  <a:srgbClr val="333399"/>
                </a:solidFill>
                <a:latin typeface="Tahoma"/>
              </a:rPr>
              <a:t>4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HCl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56760" y="1928520"/>
            <a:ext cx="859788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. Субстратом в предложенных схемах реакций является вещество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499"/>
              </a:spcBef>
              <a:buClr>
                <a:srgbClr val="3333cc"/>
              </a:buClr>
              <a:buSzPct val="6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Н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-СООН </a:t>
            </a: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(А)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+ С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Tahoma"/>
              </a:rPr>
              <a:t>5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-ОН </a:t>
            </a: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(Б)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→ СН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ООС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Tahoma"/>
              </a:rPr>
              <a:t>5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+ Н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О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499"/>
              </a:spcBef>
              <a:buClr>
                <a:srgbClr val="3333cc"/>
              </a:buClr>
              <a:buSzPct val="6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Н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-СН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-ОН 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(A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+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-Br 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(B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C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C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Br + 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499"/>
              </a:spcBef>
              <a:buClr>
                <a:srgbClr val="3333cc"/>
              </a:buClr>
              <a:buSzPct val="6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C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Cl 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(A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+ Na-OH 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(B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C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=C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+ NaCl + 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5. Левой части уравнения С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+ 5О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→ … соответствует правая часть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499"/>
              </a:spcBef>
              <a:buClr>
                <a:srgbClr val="3333cc"/>
              </a:buClr>
              <a:buSzPct val="6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→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Tahoma"/>
              </a:rPr>
              <a:t>6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+ Н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О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499"/>
              </a:spcBef>
              <a:buClr>
                <a:srgbClr val="3333cc"/>
              </a:buClr>
              <a:buSzPct val="6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→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+ Н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О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499"/>
              </a:spcBef>
              <a:buClr>
                <a:srgbClr val="3333cc"/>
              </a:buClr>
              <a:buSzPct val="6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→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3СО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+ 4Н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О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499"/>
              </a:spcBef>
              <a:buClr>
                <a:srgbClr val="3333cc"/>
              </a:buClr>
              <a:buSzPct val="6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→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3СО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+ 2Н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О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6. Объём кислорода, который потребуется для полного сгорания 5л метана, равен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1)   1л         2) 5л         3) 10л          4) 15л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Выводы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2928600" y="2017800"/>
            <a:ext cx="6026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just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Органические реакции подчиняются общим законам и общим закономерностям их протекания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just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Они имеют общие для всех реакций признаки, но имеют и свои характерные особенности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just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о механизму протекания реакции делятся на свободнорадикальные и ионные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just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о направлению и конечному результату химического превращения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замещения, присоединения, окисления и восстановления, изомеризации, отщепления, поликонденсации и др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0" name="Содержимое 5" descr="http://www.yarfoto.ru/klipart_v_big/213.gif"/>
          <p:cNvPicPr/>
          <p:nvPr/>
        </p:nvPicPr>
        <p:blipFill>
          <a:blip r:embed="rId1"/>
          <a:stretch/>
        </p:blipFill>
        <p:spPr>
          <a:xfrm>
            <a:off x="357120" y="3143160"/>
            <a:ext cx="242892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Химическая реакция – </a:t>
            </a:r>
            <a:br>
              <a:rPr sz="3200"/>
            </a:b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превращение одних веществ в другие.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214440" y="2017800"/>
            <a:ext cx="5740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ещества, полученные в результате реакции, отличаются от исходных веществ составом, строением и свойствам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Реагент 1  +  Реагент 2  = Продукты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убстрат  + Атакующий = Продукты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реаген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        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3" name="Содержимое 5" descr="http://www.yarfoto.ru/klipart_v_big/213.gif"/>
          <p:cNvPicPr/>
          <p:nvPr/>
        </p:nvPicPr>
        <p:blipFill>
          <a:blip r:embed="rId1"/>
          <a:stretch/>
        </p:blipFill>
        <p:spPr>
          <a:xfrm>
            <a:off x="785880" y="3357720"/>
            <a:ext cx="242892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Признаки классификации химических реакций в неорганической химии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182600" y="2500200"/>
            <a:ext cx="7772400" cy="31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о числу и составу исходных веществ и продуктов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о тепловому эффекту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о изменению степени окисления атомов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о обратимости процесс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о фаз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о использованию катализатор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Классификация по числу и составу исходных и образующихся веществ: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71320" y="2017800"/>
            <a:ext cx="8383320" cy="43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Реакции соединения: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А + В = АВ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                  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Zn + Cl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= ZnCl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               CaO + CO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= CaCO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Реакции разложения: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АВ = А + В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                  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2H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O = 2H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+ O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             Cu(OH)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= CuO + H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Реакции замещения: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АВ + С = А + СВ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                  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uSO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+ Fe = Cu + FeSO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                  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O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+ 2Al = 2Cr + Al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O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Реакции обмена: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АВ +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D = AD + C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                  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uO + H2SO4 = CuSO4 + H2O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                  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NaOH + HCl = NaCl + H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85920" y="285840"/>
            <a:ext cx="7477200" cy="2571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Даны схемы реакций:</a:t>
            </a:r>
            <a:br>
              <a:rPr sz="2800"/>
            </a:br>
            <a:r>
              <a:rPr b="0" lang="ru-RU" sz="2400" spc="-1" strike="noStrike">
                <a:solidFill>
                  <a:srgbClr val="333399"/>
                </a:solidFill>
                <a:latin typeface="Tahoma"/>
              </a:rPr>
              <a:t>1. Гидроксид меди(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II</a:t>
            </a:r>
            <a:r>
              <a:rPr b="0" lang="ru-RU" sz="2400" spc="-1" strike="noStrike">
                <a:solidFill>
                  <a:srgbClr val="333399"/>
                </a:solidFill>
                <a:latin typeface="Tahoma"/>
              </a:rPr>
              <a:t>) </a:t>
            </a: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→ </a:t>
            </a:r>
            <a:r>
              <a:rPr b="0" lang="ru-RU" sz="2400" spc="-1" strike="noStrike">
                <a:solidFill>
                  <a:srgbClr val="333399"/>
                </a:solidFill>
                <a:latin typeface="Tahoma"/>
              </a:rPr>
              <a:t>оксид меди(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II</a:t>
            </a:r>
            <a:r>
              <a:rPr b="0" lang="ru-RU" sz="2400" spc="-1" strike="noStrike">
                <a:solidFill>
                  <a:srgbClr val="333399"/>
                </a:solidFill>
                <a:latin typeface="Tahoma"/>
              </a:rPr>
              <a:t>) + вода</a:t>
            </a:r>
            <a:br>
              <a:rPr sz="2400"/>
            </a:br>
            <a:r>
              <a:rPr b="0" lang="ru-RU" sz="2400" spc="-1" strike="noStrike">
                <a:solidFill>
                  <a:srgbClr val="333399"/>
                </a:solidFill>
                <a:latin typeface="Tahoma"/>
              </a:rPr>
              <a:t>2. Хлорид бария + сульфат натрия </a:t>
            </a: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→ …</a:t>
            </a:r>
            <a:br>
              <a:rPr sz="2800"/>
            </a:br>
            <a:r>
              <a:rPr b="0" lang="ru-RU" sz="2400" spc="-1" strike="noStrike">
                <a:solidFill>
                  <a:srgbClr val="333399"/>
                </a:solidFill>
                <a:latin typeface="Tahoma"/>
              </a:rPr>
              <a:t>3. Соляная кислота + цинк </a:t>
            </a: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→</a:t>
            </a:r>
            <a:r>
              <a:rPr b="0" lang="ru-RU" sz="2400" spc="-1" strike="noStrike">
                <a:solidFill>
                  <a:srgbClr val="333399"/>
                </a:solidFill>
                <a:latin typeface="Tahoma"/>
              </a:rPr>
              <a:t> хлорид цинка +    водород</a:t>
            </a:r>
            <a:br>
              <a:rPr sz="2400"/>
            </a:br>
            <a:r>
              <a:rPr b="0" lang="ru-RU" sz="2400" spc="-1" strike="noStrike">
                <a:solidFill>
                  <a:srgbClr val="333399"/>
                </a:solidFill>
                <a:latin typeface="Tahoma"/>
              </a:rPr>
              <a:t>4. Оксид фосфора(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V</a:t>
            </a:r>
            <a:r>
              <a:rPr b="0" lang="ru-RU" sz="2400" spc="-1" strike="noStrike">
                <a:solidFill>
                  <a:srgbClr val="333399"/>
                </a:solidFill>
                <a:latin typeface="Tahoma"/>
              </a:rPr>
              <a:t>) + вода </a:t>
            </a: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→</a:t>
            </a:r>
            <a:r>
              <a:rPr b="0" lang="ru-RU" sz="2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…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500040" y="3643200"/>
            <a:ext cx="8143920" cy="285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уровень: Укажите типы реакций, запишите одно из уравнений (по выбору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I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уровень: Укажите типы реакций, запишите одно из уравнений, в котором не указаны продукты (по выбору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II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уровень: Укажите типы реакций и запишите все уравнения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Реакции с участием органических соединений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2928600" y="2786040"/>
            <a:ext cx="6026040" cy="30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одчиняются тем же законам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(закон сохранения массы и энергии, закон действия масс, закон Гесса и др.)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и проявляют те же закономерности </a:t>
            </a: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(стехиометрические, энергетические, кинематические)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что и реакции неорганические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2" name="Содержимое 5" descr="http://www.yarfoto.ru/klipart_v_big/213.gif"/>
          <p:cNvPicPr/>
          <p:nvPr/>
        </p:nvPicPr>
        <p:blipFill>
          <a:blip r:embed="rId1"/>
          <a:stretch/>
        </p:blipFill>
        <p:spPr>
          <a:xfrm>
            <a:off x="357120" y="3214800"/>
            <a:ext cx="242892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Органические реакции принято классифицировать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1182600" y="2017440"/>
            <a:ext cx="7772400" cy="455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о механизмам протекани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Под механизмом реакции понимают последовательность отдельных стадий протекания реакции с указанием промежуточных частиц, образующихся на каждой из этих стадий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о направлению и конечным продуктам реакци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- присоединения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- отщепления (элимирования);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- замещения;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- перегруппировки (изомеризации);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- окисления;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- восстановления.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Способ разрыва ковалентной связи определяет тип механизма реакций: 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28760" y="2017440"/>
            <a:ext cx="852624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Радикальный (гомолитический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                 </a:t>
            </a: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X:Y → X</a:t>
            </a:r>
            <a:r>
              <a:rPr b="0" lang="ru-RU" sz="3200" spc="-1" strike="noStrike" baseline="30000">
                <a:solidFill>
                  <a:srgbClr val="000000"/>
                </a:solidFill>
                <a:latin typeface="Tahoma"/>
              </a:rPr>
              <a:t>.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+ </a:t>
            </a:r>
            <a:r>
              <a:rPr b="0" lang="ru-RU" sz="3200" spc="-1" strike="noStrike" baseline="30000">
                <a:solidFill>
                  <a:srgbClr val="000000"/>
                </a:solidFill>
                <a:latin typeface="Tahoma"/>
              </a:rPr>
              <a:t>.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ru-RU" sz="3200" spc="-1" strike="noStrike" baseline="30000">
                <a:solidFill>
                  <a:srgbClr val="000000"/>
                </a:solidFill>
                <a:latin typeface="Tahoma"/>
              </a:rPr>
              <a:t>.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ahoma"/>
              </a:rPr>
              <a:t>. 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Tahoma"/>
              </a:rPr>
              <a:t>,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ahoma"/>
              </a:rPr>
              <a:t> .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–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радикалы </a:t>
            </a: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(свободные атомы или частицы с неспаренными электронами, неустойчивые и способные вступать в химические превращения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Ионный (гетеролитический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            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X:Y → X</a:t>
            </a:r>
            <a:r>
              <a:rPr b="0" lang="ru-RU" sz="3200" spc="-1" strike="noStrike" baseline="30000">
                <a:solidFill>
                  <a:srgbClr val="000000"/>
                </a:solidFill>
                <a:latin typeface="Tahoma"/>
              </a:rPr>
              <a:t>+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+ :Y</a:t>
            </a:r>
            <a:r>
              <a:rPr b="0" lang="ru-RU" sz="3200" spc="-1" strike="noStrike" baseline="30000">
                <a:solidFill>
                  <a:srgbClr val="000000"/>
                </a:solidFill>
                <a:latin typeface="Tahoma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ahoma"/>
              </a:rPr>
              <a:t>+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- электрофильный реагент </a:t>
            </a: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(электрофил: любящий электрон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:Y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ahoma"/>
              </a:rPr>
              <a:t>-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- нуклеофильный реагент </a:t>
            </a: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(нуклеофил: любящий протон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Радикальные реакции имеют цепной механизм, включающий стадии: зарождение, развитие и обрыв цепи. 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182600" y="2214360"/>
            <a:ext cx="7772400" cy="421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Зарождение цепи (инициирование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l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ahoma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+ Cl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Рост (развитие) цеп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Н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l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ahoma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→ СН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ahoma"/>
              </a:rPr>
              <a:t>.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+ Н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ahoma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+ C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Cl + Cl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брыв цеп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ahoma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+ Cl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ahoma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ahoma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+ 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ahoma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ahoma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+ Cl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ahoma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9T06:05:51Z</dcterms:created>
  <dc:creator>Мария Тельнова</dc:creator>
  <dc:description/>
  <dc:language>en-US</dc:language>
  <cp:lastModifiedBy>№ 5</cp:lastModifiedBy>
  <dcterms:modified xsi:type="dcterms:W3CDTF">2017-02-07T06:58:02Z</dcterms:modified>
  <cp:revision>60</cp:revision>
  <dc:subject/>
  <dc:title>Алкины</dc:title>
</cp:coreProperties>
</file>