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2.png" ContentType="image/png"/>
  <Override PartName="/ppt/media/image23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3.jpeg" ContentType="image/jpeg"/>
  <Override PartName="/ppt/media/image44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CA2-2555-4149-AAE0-629BA2A3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9A8-CBD1-45A9-960B-98B9E48B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24F61-6794-4424-995C-CFE37F4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B631-AC0B-49C1-B76A-558F4BC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18348-A1AE-4542-AA79-2BCFEA7B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EDC83-F056-40C5-BDD2-CEE5CAAE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C019F-9EBB-4288-8919-7EFC59DE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733F8-E093-4F3E-9471-13B45EE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674C-352F-41F1-BF86-4B3B837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31720-8084-4C60-98D7-B71BCF09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E4B34-2137-48BA-9883-A5A3A6C6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088-9A91-4CC5-8EED-BC888D8E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EDE-896F-439D-B4A9-72FD3EA5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1B8-AFCC-44BD-8940-8E521EA7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12C-7A49-42B5-A818-08058C6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C7C3-1A56-41EF-8FDC-C51ABA2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CF9-49C6-44AE-B4F7-EF15E31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6A5-C99E-4C6C-BB59-92037C9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389-68E6-478B-B79F-85734B3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44B1-5733-4914-937B-E24D198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FAF-CB84-42A5-8F9A-825C211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A56-1A57-4BDF-8CB9-94C463B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2616-9827-44C8-8D1A-94D0C25D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C295-D542-43B6-A899-7772C5A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D4D2-E781-4FF7-93EA-BE9C39A6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757-8167-4470-9B19-15FF857A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BCEC-CD6A-4B23-92FB-7837B38B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E4F3-5F3B-4B3D-A64A-02A667D4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7151-CC52-4ED6-B873-E92899FE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B438-4579-44B7-A906-704CDB0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F049-EEB7-4B83-86A8-4A94215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79C-D742-4491-B283-7C8348B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179C-0BDE-4572-BAA8-0AAA1047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B11F-6F57-4530-806C-D48EFAE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999A-6BB4-4CC4-8D08-90D250E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1388-0171-4025-B49C-E6CAA4E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65F3-08A3-41E4-A700-EF669505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4B8D-D91B-4013-876F-4CA79BB8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21D3-7E92-4C3E-A367-C985468A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8843-1BA2-4400-BD25-A15D7F1C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FE20-111A-4147-868B-741FC678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B5EE-6F28-44E2-81B9-4D42698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071-18B0-4D09-A1D6-65E7E275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7EA4-5291-4FCF-9E37-DF7D1C9C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B611-13E8-4227-B069-B5ABE795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85C7-8ED0-4F61-A0DC-59D3A745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5189-3B37-494D-92FE-6C122A8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F1CC-78BC-4D2C-B77C-41D3995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F980-DACF-4CCB-9555-A81745A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A177-FC10-4AED-8773-1DD7FCE6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451B-FFD2-49A7-82C4-FA29196B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0752-C81D-453D-B48E-611069C5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35DA-EFF0-4ED3-A783-45B92719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B2D-C7C5-4F3A-9705-E41B635D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3460-97FF-4806-8F13-98306273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F4F4-05CF-475F-8BA8-C575E7B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03EBE-CDB6-45FE-97AC-637DE12E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3E4B-7C8C-4C5E-A46F-A88DB3F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117D-A689-4251-9D5F-F54DDA8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2583-C305-4007-A3C4-BE9C7B59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FED3F-FB21-4DA0-B7BA-052DD30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D7AD9-A326-42DB-A2E4-DE91CF1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AF64-6E78-46B8-8D98-F0A764F0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2B2B-A0EA-4554-B307-B5872D48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E9A-D735-49B2-9418-D8FE865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360C-6DD3-452D-B4D1-96DA5EB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2E91F-7133-43CA-AB73-15BDB01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93E5-0634-4C12-B6D3-CF3BE26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6B5E-BD75-48FB-9D20-AEAE9FDF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8CC4-26DA-476B-842A-7283718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DB9B-7743-4568-95E1-C3CD05C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EB3B-22E4-42C7-BC36-DE0B762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1798-77D6-4287-953D-596F828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62A8-94D1-44FF-BB49-B5E3404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A582-9049-426A-95BF-24CD47D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8DF-A0B1-4B12-B5A7-9779524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76B5-8457-40A3-8FF7-A0C759C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9EC4-FA77-4AE8-A29C-CAECF558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F2A7D-FA61-4BCB-A60C-313A4FD6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9A6E-915A-46EE-9DF0-BC935B89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97AC-4C85-426B-90BC-93FF4A9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967C2-EF34-476D-998B-EFE93008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7CB48-54AE-4854-B078-92CF0DF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CB42-1884-4F1C-9BA9-CDF508F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DF65-11EF-4DFE-947D-3D7F8AE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DE05-93A8-44A2-B328-1CFCF5C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872-7836-431A-BBAA-D7CC0754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BD48-55ED-46BC-AEF5-5295C16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3B1C-1A7D-4523-92B0-8547A11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2AB9-5EF0-4DF9-AC91-D9BB926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6D04-32BA-4C60-A936-97FEBB43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0222D-F798-41BA-997F-3C543171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034F-8515-445D-82BA-B3A25417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94E32-3A29-48D8-9694-2D5CD20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1F00-D4F9-4349-9AC1-D8C85685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62127-3CAD-4A77-9188-7949189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EF68-7A5C-4AF0-B036-F4B5307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B3F-D97B-42CE-8A73-930BDAD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A072F-FDCD-4CF6-BBFC-006EA38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9E15-B878-4092-972B-16DC986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DBA9-06A6-4E9E-9419-4758A1A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5895-7746-46A2-8B87-144BBA4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33A2-0DE9-4C4D-8882-26ABF304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41AB-6034-4A12-8A9D-1D4C842C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C1B1-BF5F-442B-A9BB-DC7D1EBA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E0D5-56E5-47C8-8D59-BE4C842B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1503-6808-4DE8-81B1-27C16A09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DA70C-178F-44B5-8A26-A14CD15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D55-C97F-41D5-B6F0-0E4616B13D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04D-E204-467B-9CEB-23559B9010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A8E-103B-41F1-97CD-62074D3A8A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282-3A68-4A02-B323-2AF8BE2AC9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2A38-E79A-40E7-9822-5FD8014101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445-42FD-4627-8A5D-7E39FEA8AAC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3C18-2F7D-48E3-A11D-C899A27AC5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480-3AB2-4628-B73A-71CFF58D80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657-D4AB-46C6-B3B8-C99CA54519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23800" y="981000"/>
            <a:ext cx="7937640" cy="1944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142640" y="2999880"/>
            <a:ext cx="6629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Считать числительные по порядку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Соотносить каждое числительное с одним предметом пересчитанной группы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Подготовила презентацию воспитатель МАДОУ №55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43329"/>
                </a:solidFill>
                <a:latin typeface="Franklin Gothic Book"/>
              </a:rPr>
              <a:t>Хабарова Марина Анатольевна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овите несколько детей закрепите сче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дложите посчитать грибы, елки- замените демонстрационный материа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Сколько грибов и сколько ело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Грибов 3 и елок тоже 3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А как можно сказать по друго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рибов столько же, сколько елок по 3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684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ольше или меньше осталось грибов под елками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читайт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2" descr="C:\Documents and Settings\1\Мои документы\Мои рисунки\Ел.jpg"/>
          <p:cNvPicPr/>
          <p:nvPr/>
        </p:nvPicPr>
        <p:blipFill>
          <a:blip r:embed="rId2"/>
          <a:stretch/>
        </p:blipFill>
        <p:spPr>
          <a:xfrm>
            <a:off x="785880" y="242892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714240" y="4572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1857240" y="242892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1\Мои документы\Мои рисунки\Ел.jpg"/>
          <p:cNvPicPr/>
          <p:nvPr/>
        </p:nvPicPr>
        <p:blipFill>
          <a:blip r:embed="rId5"/>
          <a:stretch/>
        </p:blipFill>
        <p:spPr>
          <a:xfrm>
            <a:off x="2857680" y="2428920"/>
            <a:ext cx="866520" cy="1619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Documents and Settings\1\Мои документы\Мои рисунки\иб.jpg"/>
          <p:cNvPicPr/>
          <p:nvPr/>
        </p:nvPicPr>
        <p:blipFill>
          <a:blip r:embed="rId6"/>
          <a:stretch/>
        </p:blipFill>
        <p:spPr>
          <a:xfrm>
            <a:off x="1857240" y="457200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Documents and Settings\1\Мои документы\Мои рисунки\аленка.jpg"/>
          <p:cNvPicPr/>
          <p:nvPr/>
        </p:nvPicPr>
        <p:blipFill>
          <a:blip r:embed="rId7"/>
          <a:stretch/>
        </p:blipFill>
        <p:spPr>
          <a:xfrm>
            <a:off x="4214880" y="2786040"/>
            <a:ext cx="1500120" cy="3000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C:\Documents and Settings\1\Мои документы\Мои рисунки\иб.jpg"/>
          <p:cNvPicPr/>
          <p:nvPr/>
        </p:nvPicPr>
        <p:blipFill>
          <a:blip r:embed="rId8"/>
          <a:stretch/>
        </p:blipFill>
        <p:spPr>
          <a:xfrm>
            <a:off x="3000240" y="4572000"/>
            <a:ext cx="1067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едите , чтобы дети правильно считал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ывали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водили пересчитанные предметы круговым жесто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Сколько же елок и сколько гриб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меньше и поче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гриба, а елок 3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857160" y="342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Documents and Settings\1\Мои документы\Мои рисунки\Ел.jpg"/>
          <p:cNvPicPr/>
          <p:nvPr/>
        </p:nvPicPr>
        <p:blipFill>
          <a:blip r:embed="rId3"/>
          <a:stretch/>
        </p:blipFill>
        <p:spPr>
          <a:xfrm>
            <a:off x="2000160" y="342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Documents and Settings\1\Мои документы\Мои рисунки\иб.jpg"/>
          <p:cNvPicPr/>
          <p:nvPr/>
        </p:nvPicPr>
        <p:blipFill>
          <a:blip r:embed="rId4"/>
          <a:stretch/>
        </p:blipFill>
        <p:spPr>
          <a:xfrm>
            <a:off x="192888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C:\Documents and Settings\1\Мои документы\Мои рисунки\река.jpg"/>
          <p:cNvPicPr/>
          <p:nvPr/>
        </p:nvPicPr>
        <p:blipFill>
          <a:blip r:embed="rId5"/>
          <a:stretch/>
        </p:blipFill>
        <p:spPr>
          <a:xfrm>
            <a:off x="4357800" y="2928960"/>
            <a:ext cx="3000240" cy="3085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Documents and Settings\1\Мои документы\Мои рисунки\Ел.jpg"/>
          <p:cNvPicPr/>
          <p:nvPr/>
        </p:nvPicPr>
        <p:blipFill>
          <a:blip r:embed="rId6"/>
          <a:stretch/>
        </p:blipFill>
        <p:spPr>
          <a:xfrm>
            <a:off x="3000240" y="3429000"/>
            <a:ext cx="86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елок , сколько гриб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поров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14240" y="385776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642960" y="55720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1928880" y="5500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2071800" y="3857760"/>
            <a:ext cx="866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больше, 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рибов больше, потому что их два, а елок меньше, потому что она од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85880" y="3286080"/>
            <a:ext cx="866880" cy="1833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1496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C:\Documents and Settings\1\Мои документы\Мои рисунки\иб.jpg"/>
          <p:cNvPicPr/>
          <p:nvPr/>
        </p:nvPicPr>
        <p:blipFill>
          <a:blip r:embed="rId3"/>
          <a:stretch/>
        </p:blipFill>
        <p:spPr>
          <a:xfrm>
            <a:off x="2071800" y="5214960"/>
            <a:ext cx="1199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Одинаково ли осталось, тут и тут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тался один грибок и одна елочка их поров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785880" y="3286080"/>
            <a:ext cx="866880" cy="1833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785880" y="5214960"/>
            <a:ext cx="1200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е умеем мы считать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дыхать умеем тоже-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уки за спину положим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лову поднимем выш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легко-легко подыши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99680" y="928440"/>
            <a:ext cx="81867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тянулись на мысочк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олько раз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овно столько раз, сколько пальцев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руке у нас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опаем ног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2 3 4 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лопаем ру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зьмите карточки и тарелочки с квадрат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ушайте задание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ерхнею полоску  отсчитайте и положите 3 квадра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юю 2 треугольни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помните детям: раскладывать  один под други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обенности детей в счетной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чи обучения детей счет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тодика работы  по обучению детей счет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714240" y="428760"/>
            <a:ext cx="79725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 к детя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на верхней полоске квадр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ей полоске 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едующее задание 2 и 1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78588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185724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2928960" y="371484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Равнобедренный треугольник 6"/>
          <p:cNvSpPr/>
          <p:nvPr/>
        </p:nvSpPr>
        <p:spPr>
          <a:xfrm>
            <a:off x="571680" y="492912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Равнобедренный треугольник 7"/>
          <p:cNvSpPr/>
          <p:nvPr/>
        </p:nvSpPr>
        <p:spPr>
          <a:xfrm>
            <a:off x="1785960" y="49291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емные фигур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857160" y="2500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Documents and Settings\1\Мои документы\Мои рисунки\кубик.jpg"/>
          <p:cNvPicPr/>
          <p:nvPr/>
        </p:nvPicPr>
        <p:blipFill>
          <a:blip r:embed="rId3"/>
          <a:stretch/>
        </p:blipFill>
        <p:spPr>
          <a:xfrm>
            <a:off x="857160" y="4572000"/>
            <a:ext cx="1785960" cy="167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1\Мои документы\Мои рисунки\биби.jpg"/>
          <p:cNvPicPr/>
          <p:nvPr/>
        </p:nvPicPr>
        <p:blipFill>
          <a:blip r:embed="rId4"/>
          <a:stretch/>
        </p:blipFill>
        <p:spPr>
          <a:xfrm>
            <a:off x="3071880" y="24289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C:\Documents and Settings\1\Мои документы\Мои рисунки\кубик.jpg"/>
          <p:cNvPicPr/>
          <p:nvPr/>
        </p:nvPicPr>
        <p:blipFill>
          <a:blip r:embed="rId5"/>
          <a:stretch/>
        </p:blipFill>
        <p:spPr>
          <a:xfrm>
            <a:off x="3214800" y="4572000"/>
            <a:ext cx="17143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машин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можно о них сказать, поскольку и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поровну по 2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714240" y="4071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Documents and Settings\1\Мои документы\Мои рисунки\кубик.jpg"/>
          <p:cNvPicPr/>
          <p:nvPr/>
        </p:nvPicPr>
        <p:blipFill>
          <a:blip r:embed="rId2"/>
          <a:stretch/>
        </p:blipFill>
        <p:spPr>
          <a:xfrm>
            <a:off x="571680" y="5581800"/>
            <a:ext cx="1357200" cy="1276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2143080" y="4071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C:\Documents and Settings\1\Мои документы\Мои рисунки\кубик.jpg"/>
          <p:cNvPicPr/>
          <p:nvPr/>
        </p:nvPicPr>
        <p:blipFill>
          <a:blip r:embed="rId4"/>
          <a:stretch/>
        </p:blipFill>
        <p:spPr>
          <a:xfrm>
            <a:off x="2143080" y="5581800"/>
            <a:ext cx="1357200" cy="12762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C:\Documents and Settings\1\Мои документы\Мои рисунки\кубик.jpg"/>
          <p:cNvPicPr/>
          <p:nvPr/>
        </p:nvPicPr>
        <p:blipFill>
          <a:blip r:embed="rId5"/>
          <a:stretch/>
        </p:blipFill>
        <p:spPr>
          <a:xfrm>
            <a:off x="4357800" y="5581800"/>
            <a:ext cx="1357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нарушает равенство и ставит на небольшом расстоянии от 2 кубика, ставит еще 1 куб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ет 1 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2 пауза  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повышая интонацию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говорит 3, всего 3 куб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рительно дети воспринимают изменение  на нижней полоск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 получилось 3 кубик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К 2 кубикам прибавили 1 кубик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получилось 3 куби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илось равенств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больше 3 кубика или 2 машин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го больше, меньше машин или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57120" y="571320"/>
            <a:ext cx="83296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кубика больше,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ем 2 маш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больше, 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нужно сделать, чтобы кубиков и машин было поровну( добавьте по 3)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Что нужно сделать, чтобы машин было столько же сколько кубико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Как получилось 3 машины</a:t>
            </a: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?- </a:t>
            </a:r>
            <a:r>
              <a:rPr b="0" lang="ru-RU" sz="3200" spc="-1" strike="noStrike">
                <a:solidFill>
                  <a:srgbClr val="0d0d0d"/>
                </a:solidFill>
                <a:latin typeface="Franklin Gothic Book"/>
              </a:rPr>
              <a:t>главный </a:t>
            </a:r>
            <a:r>
              <a:rPr b="0" lang="en-US" sz="3200" spc="-1" strike="noStrike">
                <a:solidFill>
                  <a:srgbClr val="0d0d0d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Franklin Gothic Book"/>
              </a:rPr>
              <a:t>Что теперь можно сказать про кубики и машины</a:t>
            </a:r>
            <a:r>
              <a:rPr b="0" lang="en-US" sz="3200" spc="-1" strike="noStrike">
                <a:solidFill>
                  <a:srgbClr val="0d0d0d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 занят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молча выставляет 4 зайчика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 и поставь столько же зайчиков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ты постав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Picture 2" descr="C:\Documents and Settings\1\Мои документы\Мои рисунки\заяц.jpg"/>
          <p:cNvPicPr/>
          <p:nvPr/>
        </p:nvPicPr>
        <p:blipFill>
          <a:blip r:embed="rId2"/>
          <a:stretch/>
        </p:blipFill>
        <p:spPr>
          <a:xfrm>
            <a:off x="714240" y="421488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1\Мои документы\Мои рисунки\заяц.jpg"/>
          <p:cNvPicPr/>
          <p:nvPr/>
        </p:nvPicPr>
        <p:blipFill>
          <a:blip r:embed="rId3"/>
          <a:stretch/>
        </p:blipFill>
        <p:spPr>
          <a:xfrm>
            <a:off x="2286000" y="428616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Documents and Settings\1\Мои документы\Мои рисунки\заяц.jpg"/>
          <p:cNvPicPr/>
          <p:nvPr/>
        </p:nvPicPr>
        <p:blipFill>
          <a:blip r:embed="rId4"/>
          <a:stretch/>
        </p:blipFill>
        <p:spPr>
          <a:xfrm>
            <a:off x="3857760" y="421488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Documents and Settings\1\Мои документы\Мои рисунки\заяц.jpg"/>
          <p:cNvPicPr/>
          <p:nvPr/>
        </p:nvPicPr>
        <p:blipFill>
          <a:blip r:embed="rId5"/>
          <a:stretch/>
        </p:blipFill>
        <p:spPr>
          <a:xfrm>
            <a:off x="5357880" y="421488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ерхней ступеньке 4 з., мне нужно поставить столько же, я поставил 4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рь пересчитай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налогичные задания, но числа разн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: Сколько; Поче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детям карточ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Прямоугольник 3"/>
          <p:cNvSpPr/>
          <p:nvPr/>
        </p:nvSpPr>
        <p:spPr>
          <a:xfrm>
            <a:off x="142884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4"/>
          <p:cNvSpPr/>
          <p:nvPr/>
        </p:nvSpPr>
        <p:spPr>
          <a:xfrm>
            <a:off x="264312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5"/>
          <p:cNvSpPr/>
          <p:nvPr/>
        </p:nvSpPr>
        <p:spPr>
          <a:xfrm>
            <a:off x="385776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6"/>
          <p:cNvSpPr/>
          <p:nvPr/>
        </p:nvSpPr>
        <p:spPr>
          <a:xfrm>
            <a:off x="5143680" y="2428920"/>
            <a:ext cx="914400" cy="914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показывается дважд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д выполнением задания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е выполнения задания для проверк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обладает механический сч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вопрос «сколько»  ребенок сразу не отвечает, пересчитывает предме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на понимают значение итогового числа, они относят его к последнему числительном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начинают считать со слова ра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могут пересчитывать и отсчитывать  только единиц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C:\Documents and Settings\1\Мои документы\Мои рисунки\45.jpg"/>
          <p:cNvPicPr/>
          <p:nvPr/>
        </p:nvPicPr>
        <p:blipFill>
          <a:blip r:embed="rId2"/>
          <a:stretch/>
        </p:blipFill>
        <p:spPr>
          <a:xfrm>
            <a:off x="4572000" y="164304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C:\Documents and Settings\1\Мои документы\Мои рисунки\45.jpg"/>
          <p:cNvPicPr/>
          <p:nvPr/>
        </p:nvPicPr>
        <p:blipFill>
          <a:blip r:embed="rId3"/>
          <a:stretch/>
        </p:blipFill>
        <p:spPr>
          <a:xfrm>
            <a:off x="1357200" y="150012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C:\Documents and Settings\1\Мои документы\Мои рисунки\45.jpg"/>
          <p:cNvPicPr/>
          <p:nvPr/>
        </p:nvPicPr>
        <p:blipFill>
          <a:blip r:embed="rId4"/>
          <a:stretch/>
        </p:blipFill>
        <p:spPr>
          <a:xfrm>
            <a:off x="2928960" y="278604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C:\Documents and Settings\1\Мои документы\Мои рисунки\45.jpg"/>
          <p:cNvPicPr/>
          <p:nvPr/>
        </p:nvPicPr>
        <p:blipFill>
          <a:blip r:embed="rId5"/>
          <a:stretch/>
        </p:blipFill>
        <p:spPr>
          <a:xfrm>
            <a:off x="1428840" y="4214880"/>
            <a:ext cx="1333440" cy="1320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C:\Documents and Settings\1\Мои документы\Мои рисунки\45.jpg"/>
          <p:cNvPicPr/>
          <p:nvPr/>
        </p:nvPicPr>
        <p:blipFill>
          <a:blip r:embed="rId6"/>
          <a:stretch/>
        </p:blipFill>
        <p:spPr>
          <a:xfrm>
            <a:off x="5000760" y="4143240"/>
            <a:ext cx="13334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Овал 8"/>
          <p:cNvSpPr/>
          <p:nvPr/>
        </p:nvSpPr>
        <p:spPr>
          <a:xfrm>
            <a:off x="2214720" y="1928880"/>
            <a:ext cx="1285560" cy="11286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10"/>
          <p:cNvSpPr/>
          <p:nvPr/>
        </p:nvSpPr>
        <p:spPr>
          <a:xfrm>
            <a:off x="4714920" y="1857240"/>
            <a:ext cx="1428840" cy="121464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11"/>
          <p:cNvSpPr/>
          <p:nvPr/>
        </p:nvSpPr>
        <p:spPr>
          <a:xfrm>
            <a:off x="2214720" y="3786120"/>
            <a:ext cx="1143000" cy="11289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12"/>
          <p:cNvSpPr/>
          <p:nvPr/>
        </p:nvSpPr>
        <p:spPr>
          <a:xfrm>
            <a:off x="4857840" y="3500280"/>
            <a:ext cx="1285920" cy="13431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Посчитайт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 выложите 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столько ж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ругов на верхней полоске, сколько квадратов на карточ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Вопрос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Расскажи , что у тебя получилос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нижнюю полоску 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отсчитайт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 положите на </a:t>
            </a:r>
            <a:r>
              <a:rPr b="0" lang="ru-RU" sz="3200" spc="-1" strike="noStrike">
                <a:solidFill>
                  <a:srgbClr val="6d114c"/>
                </a:solidFill>
                <a:latin typeface="Franklin Gothic Book"/>
              </a:rPr>
              <a:t>1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предмет </a:t>
            </a:r>
            <a:r>
              <a:rPr b="0" lang="ru-RU" sz="3200" spc="-1" strike="noStrike">
                <a:solidFill>
                  <a:srgbClr val="0000ff"/>
                </a:solidFill>
                <a:latin typeface="Franklin Gothic Book"/>
              </a:rPr>
              <a:t>меньш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Franklin Gothic Book"/>
              </a:rPr>
              <a:t>Дается только после  усвоения  приемов счета по образц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-</a:t>
            </a:r>
            <a:r>
              <a:rPr b="0" lang="ru-RU" sz="3000" spc="-1" strike="noStrike">
                <a:solidFill>
                  <a:srgbClr val="0000ff"/>
                </a:solidFill>
                <a:latin typeface="Franklin Gothic Book"/>
              </a:rPr>
              <a:t>называет числ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- </a:t>
            </a:r>
            <a:r>
              <a:rPr b="0" lang="ru-RU" sz="3000" spc="-1" strike="noStrike">
                <a:solidFill>
                  <a:srgbClr val="3333ff"/>
                </a:solidFill>
                <a:latin typeface="Franklin Gothic Book"/>
              </a:rPr>
              <a:t>Отсчитайте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и положите  4 круг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- Сколько поставил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ff"/>
                </a:solidFill>
                <a:latin typeface="Franklin Gothic Book"/>
              </a:rPr>
              <a:t>Проверь- пересчитай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77714"/>
                </a:solidFill>
                <a:latin typeface="Franklin Gothic Book"/>
              </a:rPr>
              <a:t>Я положил 4 круга, вы сказали, что столько же надо поставить.- правило!!!!!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 и отложи кругов на один больше(меньше), чем число, которое я назову -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ложи 5 кругов и еще один. Сколько получилос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бразование числ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Franklin Gothic Book"/>
              </a:rPr>
              <a:t>Вопросы к детя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отлож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Зрите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Такти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Слухов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Franklin Gothic Book"/>
              </a:rPr>
              <a:t>Двигатель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 каком счете какой анализатор  задействуем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Зрительный- образцу, цифровому изображению, счет движе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Тактильный- счет на ощуп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Слуховой- счет по названному числу, слу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Franklin Gothic Book"/>
              </a:rPr>
              <a:t>Двигательный- счет движен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1" name="Picture 2" descr="C:\Documents and Settings\1\Мои документы\Мои рисунки\CA4H630H.jpg"/>
          <p:cNvPicPr/>
          <p:nvPr/>
        </p:nvPicPr>
        <p:blipFill>
          <a:blip r:embed="rId2"/>
          <a:stretch/>
        </p:blipFill>
        <p:spPr>
          <a:xfrm>
            <a:off x="571680" y="1469880"/>
            <a:ext cx="2286000" cy="2063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Documents and Settings\1\Мои документы\Мои рисунки\CAAPAJ8P.jpg"/>
          <p:cNvPicPr/>
          <p:nvPr/>
        </p:nvPicPr>
        <p:blipFill>
          <a:blip r:embed="rId3"/>
          <a:stretch/>
        </p:blipFill>
        <p:spPr>
          <a:xfrm>
            <a:off x="3214800" y="2428920"/>
            <a:ext cx="2666880" cy="1000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C:\Documents and Settings\1\Мои документы\Мои рисунки\CA4LONER.jpg"/>
          <p:cNvPicPr/>
          <p:nvPr/>
        </p:nvPicPr>
        <p:blipFill>
          <a:blip r:embed="rId4"/>
          <a:stretch/>
        </p:blipFill>
        <p:spPr>
          <a:xfrm>
            <a:off x="517680" y="4071960"/>
            <a:ext cx="1809720" cy="1447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C:\Documents and Settings\1\Мои документы\Мои рисунки\CAZ1P3TU.jpg"/>
          <p:cNvPicPr/>
          <p:nvPr/>
        </p:nvPicPr>
        <p:blipFill>
          <a:blip r:embed="rId5"/>
          <a:stretch/>
        </p:blipFill>
        <p:spPr>
          <a:xfrm>
            <a:off x="6215040" y="407196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C:\Documents and Settings\1\Мои документы\Мои рисунки\CASTYNST.jpg"/>
          <p:cNvPicPr/>
          <p:nvPr/>
        </p:nvPicPr>
        <p:blipFill>
          <a:blip r:embed="rId6"/>
          <a:stretch/>
        </p:blipFill>
        <p:spPr>
          <a:xfrm>
            <a:off x="3429000" y="3857760"/>
            <a:ext cx="2030400" cy="1519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C:\Documents and Settings\1\Мои документы\Мои рисунки\CA60DRMY.jpg"/>
          <p:cNvPicPr/>
          <p:nvPr/>
        </p:nvPicPr>
        <p:blipFill>
          <a:blip r:embed="rId7"/>
          <a:stretch/>
        </p:blipFill>
        <p:spPr>
          <a:xfrm>
            <a:off x="6286680" y="1130400"/>
            <a:ext cx="18572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9" name="Picture 2" descr="C:\Documents and Settings\1\Мои документы\Мои рисунки\CAUG125M.jpg"/>
          <p:cNvPicPr/>
          <p:nvPr/>
        </p:nvPicPr>
        <p:blipFill>
          <a:blip r:embed="rId2"/>
          <a:stretch/>
        </p:blipFill>
        <p:spPr>
          <a:xfrm>
            <a:off x="928800" y="3267000"/>
            <a:ext cx="2571480" cy="2016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C:\Documents and Settings\1\Мои документы\Мои рисунки\CAY3QZQ9.jpg"/>
          <p:cNvPicPr/>
          <p:nvPr/>
        </p:nvPicPr>
        <p:blipFill>
          <a:blip r:embed="rId3"/>
          <a:stretch/>
        </p:blipFill>
        <p:spPr>
          <a:xfrm>
            <a:off x="4643280" y="1981080"/>
            <a:ext cx="21434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3-4 лет учатся различать « один» 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много» зву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Одному звуку соотносится действ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( появление игрушки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ударяет  в барабан 1 раз и ставит на стол 1 игруш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Franklin Gothic Book"/>
              </a:rPr>
              <a:t>1 звук 1 игрушка, так несколько ра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71680" y="1571400"/>
            <a:ext cx="81151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 детей преобладает восприятие величины и пространства над восприятием чис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ти плохо знают математические термины- допускают ошибки при их употреблени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звуков вы услышали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игрушек появилос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5" name="Picture 2" descr="C:\Documents and Settings\1\Мои документы\Мои рисунки\жж.jpg"/>
          <p:cNvPicPr/>
          <p:nvPr/>
        </p:nvPicPr>
        <p:blipFill>
          <a:blip r:embed="rId2"/>
          <a:stretch/>
        </p:blipFill>
        <p:spPr>
          <a:xfrm>
            <a:off x="157320" y="3540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C:\Documents and Settings\1\Мои документы\Мои рисунки\жж.jpg"/>
          <p:cNvPicPr/>
          <p:nvPr/>
        </p:nvPicPr>
        <p:blipFill>
          <a:blip r:embed="rId3"/>
          <a:stretch/>
        </p:blipFill>
        <p:spPr>
          <a:xfrm>
            <a:off x="1928880" y="3500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42840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читайте, сколько раз я проиграл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йте вслух, отстукивайте в такт ударам(движение руки помогает счету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ние детя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, сколько зву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считайте столько же предме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отложи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величиваем количество звуков от 1-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меньшаем интервалы между зву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даются звуки разные по силе, тон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уйте шир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ложи кругов на один больше, чем звуков услышиш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обенности наглядного материа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емные предметы-кубики, пуговицы, камешки,желуд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шочки с мелкими  предметами или природным материалом- шишки, каштаны, морские камеш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елуди- старшей групп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ки с  пуговицами – пуговицы плоские, размером с 2 рублевую монет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ки с дырочками- ш.5-6 с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грушки накрытые салфет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ь: Научить детей считать предметы по  осязанию, отвечать на вопрос о количестве посчитанных предметов, именуя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монстрационный материал: Мелкие однородные предметы, накрытые салфет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рточки с нашитыми пуговиц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од занят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адка дет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рганизационный момен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юрпризный момен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. Ставит на стол 2-3 игрушки объемные, предлагает детям их посчитать, назвать итоговое числ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ы считали глазами и руками. Теперь будем считать только рук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как надо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ой рукой ощупывает пуговицы, двигая рукою слева направо и считая их, называя предм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14200" y="785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вызывает ребенка и предлагает посчитать  сколько пуговиц на планке( планка в чехле, материал не должен быть очень толстым, но не прозрачны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помните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язательно  выньте планку из чехла и покажите ребен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авильно ли он посчита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 детей мешоч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ждому ребенку не более 3 мешочков одного цвета, но с разным количеством предметов в н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выкладывает на фланелеграфе, счетной лесенке 4  игруш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те сколько игруше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йдите мешочки с таким же количеством предме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етная деятельность- название числительных по порядку и соотнесение их каждому элементу множества с выделением итогового числ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ь счетной деятельности- найти итоговое число, ответить на вопрос «ск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станьте и посчитай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прос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в мешоч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столько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Найди столько же»- карточки с разным количеством предме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читай сколько предметов под салфеткой / найди такую же карточку у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чему ты взял эту карточку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предметов на планк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итаем дви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ыж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сед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кло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нятия руки ввер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лопки перед соб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72" name="Picture 2" descr="C:\Documents and Settings\1\Мои документы\Мои рисунки\биби.jpg"/>
          <p:cNvPicPr/>
          <p:nvPr/>
        </p:nvPicPr>
        <p:blipFill>
          <a:blip r:embed="rId1"/>
          <a:stretch/>
        </p:blipFill>
        <p:spPr>
          <a:xfrm>
            <a:off x="0" y="17146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C:\Documents and Settings\1\Мои документы\Мои рисунки\биби.jpg"/>
          <p:cNvPicPr/>
          <p:nvPr/>
        </p:nvPicPr>
        <p:blipFill>
          <a:blip r:embed="rId2"/>
          <a:stretch/>
        </p:blipFill>
        <p:spPr>
          <a:xfrm>
            <a:off x="2571840" y="19288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Documents and Settings\1\Мои документы\Мои рисунки\биби.jpg"/>
          <p:cNvPicPr/>
          <p:nvPr/>
        </p:nvPicPr>
        <p:blipFill>
          <a:blip r:embed="rId3"/>
          <a:stretch/>
        </p:blipFill>
        <p:spPr>
          <a:xfrm>
            <a:off x="4786200" y="185724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ывает ребенка и предлагает  присесть  столько же раз, сколько ма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 раз ты присел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присел столько раз, сколько  машин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часть. Занят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четные карточки, предме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показывает карточк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зывает несколько детей предлагает посчитать  и выполнить движ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колько. Почем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359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  работа с демонстрационным материал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граммное содержа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детей считать до 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ывать числительные  по порядк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сить числительное с каждым из предме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считать предметы раскладывая их правой рукой слева на направ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ить детей сравнивать числа на основе сравнения элементов двух множеств, называя, какое число больше, какое меньш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ча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спитатель  ставит на полочку 3 елки а под ними – 3 гриба предлагая детям сказать, сколько елок и гриб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Как это можно проверит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веты дете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Сегодня мы будем учиться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99680" y="571320"/>
            <a:ext cx="81867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- Посмотрите как  надо счита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до называя  числа, показывать на предметы рукой, дотрагиваясь указательным пальцем  вот так: одна,две,три елки, обводя круговым жестом  предметы  ру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C:\Documents and Settings\1\Мои документы\Мои рисунки\Ел.jpg"/>
          <p:cNvPicPr/>
          <p:nvPr/>
        </p:nvPicPr>
        <p:blipFill>
          <a:blip r:embed="rId1"/>
          <a:stretch/>
        </p:blipFill>
        <p:spPr>
          <a:xfrm>
            <a:off x="642960" y="378612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1\Мои документы\Мои рисунки\иб.jpg"/>
          <p:cNvPicPr/>
          <p:nvPr/>
        </p:nvPicPr>
        <p:blipFill>
          <a:blip r:embed="rId2"/>
          <a:stretch/>
        </p:blipFill>
        <p:spPr>
          <a:xfrm>
            <a:off x="642960" y="528624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Documents and Settings\1\Мои документы\Мои рисунки\Ел.jpg"/>
          <p:cNvPicPr/>
          <p:nvPr/>
        </p:nvPicPr>
        <p:blipFill>
          <a:blip r:embed="rId3"/>
          <a:stretch/>
        </p:blipFill>
        <p:spPr>
          <a:xfrm>
            <a:off x="2000160" y="378612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1\Мои документы\Мои рисунки\Ел.jpg"/>
          <p:cNvPicPr/>
          <p:nvPr/>
        </p:nvPicPr>
        <p:blipFill>
          <a:blip r:embed="rId4"/>
          <a:stretch/>
        </p:blipFill>
        <p:spPr>
          <a:xfrm>
            <a:off x="3214800" y="3786120"/>
            <a:ext cx="866520" cy="1333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1\Мои документы\Мои рисунки\иб.jpg"/>
          <p:cNvPicPr/>
          <p:nvPr/>
        </p:nvPicPr>
        <p:blipFill>
          <a:blip r:embed="rId5"/>
          <a:stretch/>
        </p:blipFill>
        <p:spPr>
          <a:xfrm>
            <a:off x="1857240" y="528624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1\Мои документы\Мои рисунки\иб.jpg"/>
          <p:cNvPicPr/>
          <p:nvPr/>
        </p:nvPicPr>
        <p:blipFill>
          <a:blip r:embed="rId6"/>
          <a:stretch/>
        </p:blipFill>
        <p:spPr>
          <a:xfrm>
            <a:off x="3071880" y="5286240"/>
            <a:ext cx="1066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01:55Z</dcterms:created>
  <dc:creator>1</dc:creator>
  <dc:description/>
  <dc:language>en-US</dc:language>
  <cp:lastModifiedBy>асус</cp:lastModifiedBy>
  <dcterms:modified xsi:type="dcterms:W3CDTF">2017-02-07T16:07:08Z</dcterms:modified>
  <cp:revision>50</cp:revision>
  <dc:subject/>
  <dc:title>Учить считать до 5 </dc:title>
</cp:coreProperties>
</file>