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3.png" ContentType="image/png"/>
  <Override PartName="/ppt/media/image2.png" ContentType="image/png"/>
  <Override PartName="/ppt/media/image23.png" ContentType="image/png"/>
  <Override PartName="/ppt/media/image30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13.jpeg" ContentType="image/jpeg"/>
  <Override PartName="/ppt/media/image44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31.jpeg" ContentType="image/jpe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3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4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6.png" ContentType="image/png"/>
  <Override PartName="/ppt/media/image2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1FE-88DB-47B4-ACF1-13F9E3A7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F79-B235-4117-8423-DD3A0638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826D2-2775-4357-94DA-A9F3E534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DB739-95B1-4867-8DD9-587EA561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112A2-59B5-4FDF-8CF2-32BA809A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BA869-67FE-4D21-A407-430507A8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8D90D-C0A1-4669-906D-9FC3E0CF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BC3E4-A972-4F08-AF71-F82A83BA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BBBA5-F838-4C15-9D6F-1B5BF338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50816-49F8-4030-85BE-CBA33070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026F0-F8C8-4296-B49B-83E5A950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268-0390-4B6E-96D8-C8E9C0C0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AA1-0F7F-4FC1-8A61-38BBFEE8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1341-6489-443E-99A9-51442033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6A36-6436-4FA5-B6AF-A7428CFF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A735-675E-4F7E-B39E-AAD0DC6B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CAA7-4600-4FC8-A558-DE44D86F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1985-0D8F-4317-A877-5AEDF59E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0184-716A-4E57-8A8D-FC092FE8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7C94-D97C-43AA-8535-B96C90B3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60B-9142-4C7B-B0E5-8A62AD2A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F2B0-C01C-409B-BED4-09FCBD20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2A7A-3D05-45E9-A2F5-27A0068A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8F5E-CBE1-42EE-8AA0-7BE5FC6F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2563-9852-46E6-A0F3-FB7D6933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1E10-006F-49CC-84B6-6A037F73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3449F-B94F-456C-B80B-0798CA8D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1A21E-9995-4C07-9BDC-095A5A21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439C6-7999-4BB7-8585-0EF0D3E6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8BB9E-116B-4C23-89AE-C8DBA80F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D28A4-6B83-4E42-A6D1-8B3ABD4A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0D6-F96F-4AB1-AFBC-A9916177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0D2F3-FCB4-4B33-92A1-799ED823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B7E45-AB3B-42A6-82EA-4049977E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60B6F-40B9-4697-B618-374A1B1B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AB344-35D3-421A-8828-4FCF8CFE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F4FB2-70D3-4380-984C-9563DD8B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114A7-B5E1-487B-9194-02963FC3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317A6-FDDF-4985-AA5D-E8A7B434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84DDF-E70E-42A4-83CB-3FA07F13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FB50C-D8CC-4875-89DC-5298AA54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BCB0C-C80C-4304-99BC-F111A294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876-8D6A-40A8-8A04-1204F01C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56266-173F-42A0-A3CB-770A8551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516E6-FF4E-487B-A23C-CDDEAD6D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F9AE3-708A-43B4-9BB1-75569E04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71ADF-5728-4CFA-B87E-35B26E8C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EDD44-3ED0-46B0-AB0A-2824130F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1023C-0495-4A22-B05D-D35FE793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5CFE8-FBF3-4222-92DF-AFDCA43D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936E0-3FB9-43D5-8A5A-A79CEDB2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7D930-AED3-4641-8B7D-81977866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FD238-74CD-45AD-B3DF-590A8BF2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4DE-3CC5-4E16-84C1-D2270116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A21B7-F125-4364-A092-B2E8E0AF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DEE3E-8288-402A-B184-B47E39D0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3612D-4504-4054-9568-56EB0D38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81335-C94C-41FB-A637-C8DE46E6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B3141-C0BE-487E-9A50-18BBCF23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88B02-2A5F-44B7-9AA2-C57B95F0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83D8E-9022-4407-807A-39B39163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B1908-A844-47B8-A940-CAB714C0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0D6C2-50FB-4036-9631-3F1A68D4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B315D-DF66-4394-A633-6CC50169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1727-807B-4D62-8B4C-CFCECE09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063EE-90E5-4641-B31A-009D36B7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A7FE6-3749-4907-8D8A-D6A3E556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7AF37-EA62-4DAD-B37D-EAAC77B3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4861E-D358-4E06-8CF9-1ED2FD93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3ECD0-3642-4AC6-9225-F7918B9A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0C59F-31E8-480F-8214-7653D0A9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2C339-E69A-4215-A5B8-F256B499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144F3-D94C-4353-95A4-181D1CAC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929A5-2A29-4391-BBAD-D3400791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8B51A-D23E-4B10-AFF8-421F2F41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4F6F-FE69-4EF3-8893-F0A41171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57150-9D56-48F6-8961-B3E6B88C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C087E-4DA8-4CE3-964E-9E905265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132CA-DC7F-4251-B548-3043728B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E9D54-7DE1-472F-85FA-DCB62658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B0BC2-F78F-4DDD-B378-920B92FB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70ADE-2A8F-45F5-BBA8-691EC13B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5FA23-5B4A-4262-8A5D-C641AD32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55093-590F-471E-B2C3-1F79C9F2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1773D-2010-4295-9C53-460E21B4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4D0B0-2D2C-4C71-BF4C-ECA842C7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E3D-6268-4294-A677-35479AC8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90957-AAE9-411D-8458-684985A3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4AD55-7ED3-4ACF-8401-3B0E2819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B5BBE-2372-4A84-81CA-BBE50931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B4E96-1DCF-4453-9BD7-EA389EDF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8B271-C61A-483C-9AB5-D61BA344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C8EB5-F2EE-42C4-8543-16C75542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017EA-7283-48BB-82E3-0FB217C4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8D261-1DEF-4E54-B31D-D9793A63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B87B6-F3E7-4FAC-AF0E-CF504E67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DA628-6538-4163-BB8E-C6B93C4B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EB3-1790-4640-B86C-15408077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46B4B-5C3D-40DA-AEA9-E5E9F46F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460EB-D500-4632-9AD0-4047FF1B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0977E-E226-4CFD-A8AC-1CA0D616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9CF5F-19E7-419A-BABC-ACD2918A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48E0C-B72E-4BF0-9981-BADA954D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30267-66F3-40AB-9A3D-747CEF96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686B5-1062-4B9C-A790-A265E605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3315A-C2A4-46D4-BB23-A70EA1D9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BD8B7-3E6A-4DD3-BD7F-C981CD1E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FB373-A42D-495D-9DDC-DD8B635D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8A6B-21A9-4175-86F6-E77B10A6DE9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D92A-EFCF-435D-ADDB-5FB6EFF956F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A8F1-5D8A-42D2-93ED-1ED6A449BE3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F1A4-240F-409D-96B1-FC0E4A80373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18BB-E75F-44B2-97F5-DF1E2219357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B00E-A798-42FC-8477-DC07DFA0EE5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E9AA-6BF2-46C4-9606-E3A0A16D7D1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D055-99EF-48FB-931F-247BB64E310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85A0-62D9-4845-B831-92925260B44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3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5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523800" y="981000"/>
            <a:ext cx="7937640" cy="19447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142640" y="2999880"/>
            <a:ext cx="6629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43329"/>
                </a:solidFill>
                <a:latin typeface="Franklin Gothic Book"/>
              </a:rPr>
              <a:t>Считать числительные по порядку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43329"/>
                </a:solidFill>
                <a:latin typeface="Franklin Gothic Book"/>
              </a:rPr>
              <a:t>Соотносить каждое числительное с одним предметом пересчитанной группы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43329"/>
                </a:solidFill>
                <a:latin typeface="Franklin Gothic Book"/>
              </a:rPr>
              <a:t>Подготовила презентацию воспитатель МАДОУ №55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43329"/>
                </a:solidFill>
                <a:latin typeface="Franklin Gothic Book"/>
              </a:rPr>
              <a:t>Хабарова Марина Анатольевна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зовите несколько детей закрепите сче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едложите посчитать грибы, елки- замените демонстрационный материа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просы к детям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Сколько грибов и сколько елок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Грибов 3 и елок тоже 3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 А как можно сказать по другому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рибов столько же, сколько елок по 3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6840" y="1428840"/>
            <a:ext cx="8258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ольше или меньше осталось грибов под елками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считайте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Picture 2" descr="C:\Documents and Settings\1\Мои документы\Мои рисунки\Ел.jpg"/>
          <p:cNvPicPr/>
          <p:nvPr/>
        </p:nvPicPr>
        <p:blipFill>
          <a:blip r:embed="rId2"/>
          <a:stretch/>
        </p:blipFill>
        <p:spPr>
          <a:xfrm>
            <a:off x="785880" y="2428920"/>
            <a:ext cx="866880" cy="16192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C:\Documents and Settings\1\Мои документы\Мои рисунки\иб.jpg"/>
          <p:cNvPicPr/>
          <p:nvPr/>
        </p:nvPicPr>
        <p:blipFill>
          <a:blip r:embed="rId3"/>
          <a:stretch/>
        </p:blipFill>
        <p:spPr>
          <a:xfrm>
            <a:off x="714240" y="457200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C:\Documents and Settings\1\Мои документы\Мои рисунки\Ел.jpg"/>
          <p:cNvPicPr/>
          <p:nvPr/>
        </p:nvPicPr>
        <p:blipFill>
          <a:blip r:embed="rId4"/>
          <a:stretch/>
        </p:blipFill>
        <p:spPr>
          <a:xfrm>
            <a:off x="1857240" y="2428920"/>
            <a:ext cx="866880" cy="1619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C:\Documents and Settings\1\Мои документы\Мои рисунки\Ел.jpg"/>
          <p:cNvPicPr/>
          <p:nvPr/>
        </p:nvPicPr>
        <p:blipFill>
          <a:blip r:embed="rId5"/>
          <a:stretch/>
        </p:blipFill>
        <p:spPr>
          <a:xfrm>
            <a:off x="2857680" y="2428920"/>
            <a:ext cx="866520" cy="1619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C:\Documents and Settings\1\Мои документы\Мои рисунки\иб.jpg"/>
          <p:cNvPicPr/>
          <p:nvPr/>
        </p:nvPicPr>
        <p:blipFill>
          <a:blip r:embed="rId6"/>
          <a:stretch/>
        </p:blipFill>
        <p:spPr>
          <a:xfrm>
            <a:off x="1857240" y="457200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C:\Documents and Settings\1\Мои документы\Мои рисунки\аленка.jpg"/>
          <p:cNvPicPr/>
          <p:nvPr/>
        </p:nvPicPr>
        <p:blipFill>
          <a:blip r:embed="rId7"/>
          <a:stretch/>
        </p:blipFill>
        <p:spPr>
          <a:xfrm>
            <a:off x="4214880" y="2786040"/>
            <a:ext cx="1500120" cy="30002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C:\Documents and Settings\1\Мои документы\Мои рисунки\иб.jpg"/>
          <p:cNvPicPr/>
          <p:nvPr/>
        </p:nvPicPr>
        <p:blipFill>
          <a:blip r:embed="rId8"/>
          <a:stretch/>
        </p:blipFill>
        <p:spPr>
          <a:xfrm>
            <a:off x="3000240" y="4572000"/>
            <a:ext cx="10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ледите , чтобы дети правильно считал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зывали итоговое числ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водили пересчитанные предметы круговым жестом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- Сколько же елок и сколько грибов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его меньше и почему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гриба, а елок 3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8" name="Picture 2" descr="C:\Documents and Settings\1\Мои документы\Мои рисунки\Ел.jpg"/>
          <p:cNvPicPr/>
          <p:nvPr/>
        </p:nvPicPr>
        <p:blipFill>
          <a:blip r:embed="rId1"/>
          <a:stretch/>
        </p:blipFill>
        <p:spPr>
          <a:xfrm>
            <a:off x="857160" y="3429000"/>
            <a:ext cx="866880" cy="16192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C:\Documents and Settings\1\Мои документы\Мои рисунки\иб.jpg"/>
          <p:cNvPicPr/>
          <p:nvPr/>
        </p:nvPicPr>
        <p:blipFill>
          <a:blip r:embed="rId2"/>
          <a:stretch/>
        </p:blipFill>
        <p:spPr>
          <a:xfrm>
            <a:off x="785880" y="528624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C:\Documents and Settings\1\Мои документы\Мои рисунки\Ел.jpg"/>
          <p:cNvPicPr/>
          <p:nvPr/>
        </p:nvPicPr>
        <p:blipFill>
          <a:blip r:embed="rId3"/>
          <a:stretch/>
        </p:blipFill>
        <p:spPr>
          <a:xfrm>
            <a:off x="2000160" y="3429000"/>
            <a:ext cx="866880" cy="16192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C:\Documents and Settings\1\Мои документы\Мои рисунки\иб.jpg"/>
          <p:cNvPicPr/>
          <p:nvPr/>
        </p:nvPicPr>
        <p:blipFill>
          <a:blip r:embed="rId4"/>
          <a:stretch/>
        </p:blipFill>
        <p:spPr>
          <a:xfrm>
            <a:off x="1928880" y="528624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C:\Documents and Settings\1\Мои документы\Мои рисунки\река.jpg"/>
          <p:cNvPicPr/>
          <p:nvPr/>
        </p:nvPicPr>
        <p:blipFill>
          <a:blip r:embed="rId5"/>
          <a:stretch/>
        </p:blipFill>
        <p:spPr>
          <a:xfrm>
            <a:off x="4357800" y="2928960"/>
            <a:ext cx="3000240" cy="30859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C:\Documents and Settings\1\Мои документы\Мои рисунки\Ел.jpg"/>
          <p:cNvPicPr/>
          <p:nvPr/>
        </p:nvPicPr>
        <p:blipFill>
          <a:blip r:embed="rId6"/>
          <a:stretch/>
        </p:blipFill>
        <p:spPr>
          <a:xfrm>
            <a:off x="3000240" y="3429000"/>
            <a:ext cx="8668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просы к детя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читайт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елок , сколько грибов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- поровн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6" name="Picture 2" descr="C:\Documents and Settings\1\Мои документы\Мои рисунки\Ел.jpg"/>
          <p:cNvPicPr/>
          <p:nvPr/>
        </p:nvPicPr>
        <p:blipFill>
          <a:blip r:embed="rId1"/>
          <a:stretch/>
        </p:blipFill>
        <p:spPr>
          <a:xfrm>
            <a:off x="714240" y="3857760"/>
            <a:ext cx="866880" cy="1619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C:\Documents and Settings\1\Мои документы\Мои рисунки\иб.jpg"/>
          <p:cNvPicPr/>
          <p:nvPr/>
        </p:nvPicPr>
        <p:blipFill>
          <a:blip r:embed="rId2"/>
          <a:stretch/>
        </p:blipFill>
        <p:spPr>
          <a:xfrm>
            <a:off x="642960" y="557208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" descr="C:\Documents and Settings\1\Мои документы\Мои рисунки\иб.jpg"/>
          <p:cNvPicPr/>
          <p:nvPr/>
        </p:nvPicPr>
        <p:blipFill>
          <a:blip r:embed="rId3"/>
          <a:stretch/>
        </p:blipFill>
        <p:spPr>
          <a:xfrm>
            <a:off x="1928880" y="55008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C:\Documents and Settings\1\Мои документы\Мои рисунки\Ел.jpg"/>
          <p:cNvPicPr/>
          <p:nvPr/>
        </p:nvPicPr>
        <p:blipFill>
          <a:blip r:embed="rId4"/>
          <a:stretch/>
        </p:blipFill>
        <p:spPr>
          <a:xfrm>
            <a:off x="2071800" y="3857760"/>
            <a:ext cx="8665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его больше, меньше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рибов больше, потому что их два, а елок меньше, потому что она одн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2" name="Picture 2" descr="C:\Documents and Settings\1\Мои документы\Мои рисунки\Ел.jpg"/>
          <p:cNvPicPr/>
          <p:nvPr/>
        </p:nvPicPr>
        <p:blipFill>
          <a:blip r:embed="rId1"/>
          <a:stretch/>
        </p:blipFill>
        <p:spPr>
          <a:xfrm>
            <a:off x="785880" y="3286080"/>
            <a:ext cx="866880" cy="18334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C:\Documents and Settings\1\Мои документы\Мои рисунки\иб.jpg"/>
          <p:cNvPicPr/>
          <p:nvPr/>
        </p:nvPicPr>
        <p:blipFill>
          <a:blip r:embed="rId2"/>
          <a:stretch/>
        </p:blipFill>
        <p:spPr>
          <a:xfrm>
            <a:off x="785880" y="5214960"/>
            <a:ext cx="1200240" cy="12859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" descr="C:\Documents and Settings\1\Мои документы\Мои рисунки\иб.jpg"/>
          <p:cNvPicPr/>
          <p:nvPr/>
        </p:nvPicPr>
        <p:blipFill>
          <a:blip r:embed="rId3"/>
          <a:stretch/>
        </p:blipFill>
        <p:spPr>
          <a:xfrm>
            <a:off x="2071800" y="5214960"/>
            <a:ext cx="11998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Одинаково ли осталось, тут и тут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стался один грибок и одна елочка их поровн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7" name="Picture 2" descr="C:\Documents and Settings\1\Мои документы\Мои рисунки\Ел.jpg"/>
          <p:cNvPicPr/>
          <p:nvPr/>
        </p:nvPicPr>
        <p:blipFill>
          <a:blip r:embed="rId1"/>
          <a:stretch/>
        </p:blipFill>
        <p:spPr>
          <a:xfrm>
            <a:off x="785880" y="3286080"/>
            <a:ext cx="866880" cy="1833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C:\Documents and Settings\1\Мои документы\Мои рисунки\иб.jpg"/>
          <p:cNvPicPr/>
          <p:nvPr/>
        </p:nvPicPr>
        <p:blipFill>
          <a:blip r:embed="rId2"/>
          <a:stretch/>
        </p:blipFill>
        <p:spPr>
          <a:xfrm>
            <a:off x="785880" y="5214960"/>
            <a:ext cx="1200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 2 3 4 5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се умеем мы считать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дыхать умеем тоже-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уки за спину положим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лову поднимем выше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 легко-легко подыши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99680" y="928440"/>
            <a:ext cx="81867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тянулись на мысочка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олько раз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овно столько раз, сколько пальцев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 руке у нас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 2 3 4 5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 2 3 4 5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опаем ногам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 2 3 4 5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Хлопаем рукам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зьмите карточки и тарелочки с квадрата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лушайте задание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 верхнею полоску  отсчитайте и положите 3 квадра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 нижнюю 2 треугольни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помните детям: раскладывать  один под други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собенности детей в счетной деятель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дачи обучения детей счет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етодика работы  по обучению детей счет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714240" y="428760"/>
            <a:ext cx="79725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просы к детя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на верхней полоске квадр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 нижней полоске сколько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ледующее задание 2 и 1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Прямоугольник 3"/>
          <p:cNvSpPr/>
          <p:nvPr/>
        </p:nvSpPr>
        <p:spPr>
          <a:xfrm>
            <a:off x="785880" y="3714840"/>
            <a:ext cx="914400" cy="9144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4"/>
          <p:cNvSpPr/>
          <p:nvPr/>
        </p:nvSpPr>
        <p:spPr>
          <a:xfrm>
            <a:off x="1857240" y="3714840"/>
            <a:ext cx="914400" cy="9144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5"/>
          <p:cNvSpPr/>
          <p:nvPr/>
        </p:nvSpPr>
        <p:spPr>
          <a:xfrm>
            <a:off x="2928960" y="3714840"/>
            <a:ext cx="914400" cy="9144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Равнобедренный треугольник 6"/>
          <p:cNvSpPr/>
          <p:nvPr/>
        </p:nvSpPr>
        <p:spPr>
          <a:xfrm>
            <a:off x="571680" y="492912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Равнобедренный треугольник 7"/>
          <p:cNvSpPr/>
          <p:nvPr/>
        </p:nvSpPr>
        <p:spPr>
          <a:xfrm>
            <a:off x="1785960" y="49291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ъемные фигур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4" name="Picture 2" descr="C:\Documents and Settings\1\Мои документы\Мои рисунки\биби.jpg"/>
          <p:cNvPicPr/>
          <p:nvPr/>
        </p:nvPicPr>
        <p:blipFill>
          <a:blip r:embed="rId2"/>
          <a:stretch/>
        </p:blipFill>
        <p:spPr>
          <a:xfrm>
            <a:off x="857160" y="250020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" descr="C:\Documents and Settings\1\Мои документы\Мои рисунки\кубик.jpg"/>
          <p:cNvPicPr/>
          <p:nvPr/>
        </p:nvPicPr>
        <p:blipFill>
          <a:blip r:embed="rId3"/>
          <a:stretch/>
        </p:blipFill>
        <p:spPr>
          <a:xfrm>
            <a:off x="857160" y="4572000"/>
            <a:ext cx="1785960" cy="16794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" descr="C:\Documents and Settings\1\Мои документы\Мои рисунки\биби.jpg"/>
          <p:cNvPicPr/>
          <p:nvPr/>
        </p:nvPicPr>
        <p:blipFill>
          <a:blip r:embed="rId4"/>
          <a:stretch/>
        </p:blipFill>
        <p:spPr>
          <a:xfrm>
            <a:off x="3071880" y="24289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C:\Documents and Settings\1\Мои документы\Мои рисунки\кубик.jpg"/>
          <p:cNvPicPr/>
          <p:nvPr/>
        </p:nvPicPr>
        <p:blipFill>
          <a:blip r:embed="rId5"/>
          <a:stretch/>
        </p:blipFill>
        <p:spPr>
          <a:xfrm>
            <a:off x="3214800" y="4572000"/>
            <a:ext cx="171432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машин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кубиков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то можно о них сказать, поскольку их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х поровну по 2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0" name="Picture 2" descr="C:\Documents and Settings\1\Мои документы\Мои рисунки\биби.jpg"/>
          <p:cNvPicPr/>
          <p:nvPr/>
        </p:nvPicPr>
        <p:blipFill>
          <a:blip r:embed="rId1"/>
          <a:stretch/>
        </p:blipFill>
        <p:spPr>
          <a:xfrm>
            <a:off x="714240" y="40719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C:\Documents and Settings\1\Мои документы\Мои рисунки\кубик.jpg"/>
          <p:cNvPicPr/>
          <p:nvPr/>
        </p:nvPicPr>
        <p:blipFill>
          <a:blip r:embed="rId2"/>
          <a:stretch/>
        </p:blipFill>
        <p:spPr>
          <a:xfrm>
            <a:off x="571680" y="5581800"/>
            <a:ext cx="1357200" cy="12762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" descr="C:\Documents and Settings\1\Мои документы\Мои рисунки\биби.jpg"/>
          <p:cNvPicPr/>
          <p:nvPr/>
        </p:nvPicPr>
        <p:blipFill>
          <a:blip r:embed="rId3"/>
          <a:stretch/>
        </p:blipFill>
        <p:spPr>
          <a:xfrm>
            <a:off x="2143080" y="40719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C:\Documents and Settings\1\Мои документы\Мои рисунки\кубик.jpg"/>
          <p:cNvPicPr/>
          <p:nvPr/>
        </p:nvPicPr>
        <p:blipFill>
          <a:blip r:embed="rId4"/>
          <a:stretch/>
        </p:blipFill>
        <p:spPr>
          <a:xfrm>
            <a:off x="2143080" y="5581800"/>
            <a:ext cx="1357200" cy="12762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C:\Documents and Settings\1\Мои документы\Мои рисунки\кубик.jpg"/>
          <p:cNvPicPr/>
          <p:nvPr/>
        </p:nvPicPr>
        <p:blipFill>
          <a:blip r:embed="rId5"/>
          <a:stretch/>
        </p:blipFill>
        <p:spPr>
          <a:xfrm>
            <a:off x="4357800" y="5581800"/>
            <a:ext cx="1357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- нарушает равенство и ставит на небольшом расстоянии от 2 кубика, ставит еще 1 куби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читает 1 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2 пауза  и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повышая интонацию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говорит 3, всего 3 кубика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рительно дети воспринимают изменение  на нижней полоске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 получилось 3 кубика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- К 2 кубикам прибавили 1 кубик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получилось 3 куби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лучилось равенств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то больше 3 кубика или 2 машины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его больше, меньше машин или кубиков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чему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57120" y="571320"/>
            <a:ext cx="83296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кубика больше,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ем 2 машин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то больше, меньше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то нужно сделать, чтобы кубиков и машин было поровну( добавьте по 3)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то нужно сделать, чтобы машин было столько же сколько кубиков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Как получилось 3 машины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?- </a:t>
            </a:r>
            <a:r>
              <a:rPr b="0" lang="ru-RU" sz="3200" spc="-1" strike="noStrike">
                <a:solidFill>
                  <a:srgbClr val="0d0d0d"/>
                </a:solidFill>
                <a:latin typeface="Franklin Gothic Book"/>
              </a:rPr>
              <a:t>главный </a:t>
            </a:r>
            <a:r>
              <a:rPr b="0" lang="en-US" sz="3200" spc="-1" strike="noStrike">
                <a:solidFill>
                  <a:srgbClr val="0d0d0d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Franklin Gothic Book"/>
              </a:rPr>
              <a:t>Что теперь можно сказать про кубики и машины</a:t>
            </a:r>
            <a:r>
              <a:rPr b="0" lang="en-US" sz="3200" spc="-1" strike="noStrike">
                <a:solidFill>
                  <a:srgbClr val="0d0d0d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 часть занят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спитатель молча выставляет 4 зайчика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считай и поставь столько же зайчиков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ты поставил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чему столько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3" name="Picture 2" descr="C:\Documents and Settings\1\Мои документы\Мои рисунки\заяц.jpg"/>
          <p:cNvPicPr/>
          <p:nvPr/>
        </p:nvPicPr>
        <p:blipFill>
          <a:blip r:embed="rId2"/>
          <a:stretch/>
        </p:blipFill>
        <p:spPr>
          <a:xfrm>
            <a:off x="714240" y="421488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1\Мои документы\Мои рисунки\заяц.jpg"/>
          <p:cNvPicPr/>
          <p:nvPr/>
        </p:nvPicPr>
        <p:blipFill>
          <a:blip r:embed="rId3"/>
          <a:stretch/>
        </p:blipFill>
        <p:spPr>
          <a:xfrm>
            <a:off x="2286000" y="428616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C:\Documents and Settings\1\Мои документы\Мои рисунки\заяц.jpg"/>
          <p:cNvPicPr/>
          <p:nvPr/>
        </p:nvPicPr>
        <p:blipFill>
          <a:blip r:embed="rId4"/>
          <a:stretch/>
        </p:blipFill>
        <p:spPr>
          <a:xfrm>
            <a:off x="3857760" y="4214880"/>
            <a:ext cx="1428480" cy="10666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C:\Documents and Settings\1\Мои документы\Мои рисунки\заяц.jpg"/>
          <p:cNvPicPr/>
          <p:nvPr/>
        </p:nvPicPr>
        <p:blipFill>
          <a:blip r:embed="rId5"/>
          <a:stretch/>
        </p:blipFill>
        <p:spPr>
          <a:xfrm>
            <a:off x="5357880" y="4214880"/>
            <a:ext cx="1428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 верхней ступеньке 4 з., мне нужно поставить столько же, я поставил 4з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верь пересчитай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налогичные задания, но числа разны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просы: Сколько; Почем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Заголовок 1" descr=""/>
          <p:cNvPicPr/>
          <p:nvPr/>
        </p:nvPicPr>
        <p:blipFill>
          <a:blip r:embed="rId1"/>
          <a:stretch/>
        </p:blipFill>
        <p:spPr>
          <a:xfrm>
            <a:off x="225360" y="457200"/>
            <a:ext cx="8766360" cy="100008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спитатель показывает детям карточк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Прямоугольник 3"/>
          <p:cNvSpPr/>
          <p:nvPr/>
        </p:nvSpPr>
        <p:spPr>
          <a:xfrm>
            <a:off x="1428840" y="2428920"/>
            <a:ext cx="914400" cy="9144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4"/>
          <p:cNvSpPr/>
          <p:nvPr/>
        </p:nvSpPr>
        <p:spPr>
          <a:xfrm>
            <a:off x="2643120" y="2428920"/>
            <a:ext cx="914400" cy="9144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5"/>
          <p:cNvSpPr/>
          <p:nvPr/>
        </p:nvSpPr>
        <p:spPr>
          <a:xfrm>
            <a:off x="3857760" y="2428920"/>
            <a:ext cx="914400" cy="9144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6"/>
          <p:cNvSpPr/>
          <p:nvPr/>
        </p:nvSpPr>
        <p:spPr>
          <a:xfrm>
            <a:off x="5143680" y="2428920"/>
            <a:ext cx="914400" cy="9144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показывается дважды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еред выполнением задания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ле выполнения задания для проверки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28400" y="1214280"/>
            <a:ext cx="8258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еобладает механический сче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 вопрос «сколько»  ребенок сразу не отвечает, пересчитывает предмет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ети на понимают значение итогового числа, они относят его к последнему числительном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ети начинают считать со слова раз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ети могут пересчитывать и отсчитывать  только единиц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" descr="C:\Documents and Settings\1\Мои документы\Мои рисунки\45.jpg"/>
          <p:cNvPicPr/>
          <p:nvPr/>
        </p:nvPicPr>
        <p:blipFill>
          <a:blip r:embed="rId2"/>
          <a:stretch/>
        </p:blipFill>
        <p:spPr>
          <a:xfrm>
            <a:off x="4572000" y="1643040"/>
            <a:ext cx="1333440" cy="13208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" descr="C:\Documents and Settings\1\Мои документы\Мои рисунки\45.jpg"/>
          <p:cNvPicPr/>
          <p:nvPr/>
        </p:nvPicPr>
        <p:blipFill>
          <a:blip r:embed="rId3"/>
          <a:stretch/>
        </p:blipFill>
        <p:spPr>
          <a:xfrm>
            <a:off x="1357200" y="1500120"/>
            <a:ext cx="1333440" cy="13208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C:\Documents and Settings\1\Мои документы\Мои рисунки\45.jpg"/>
          <p:cNvPicPr/>
          <p:nvPr/>
        </p:nvPicPr>
        <p:blipFill>
          <a:blip r:embed="rId4"/>
          <a:stretch/>
        </p:blipFill>
        <p:spPr>
          <a:xfrm>
            <a:off x="2928960" y="2786040"/>
            <a:ext cx="1333440" cy="1320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" descr="C:\Documents and Settings\1\Мои документы\Мои рисунки\45.jpg"/>
          <p:cNvPicPr/>
          <p:nvPr/>
        </p:nvPicPr>
        <p:blipFill>
          <a:blip r:embed="rId5"/>
          <a:stretch/>
        </p:blipFill>
        <p:spPr>
          <a:xfrm>
            <a:off x="1428840" y="4214880"/>
            <a:ext cx="1333440" cy="13208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C:\Documents and Settings\1\Мои документы\Мои рисунки\45.jpg"/>
          <p:cNvPicPr/>
          <p:nvPr/>
        </p:nvPicPr>
        <p:blipFill>
          <a:blip r:embed="rId6"/>
          <a:stretch/>
        </p:blipFill>
        <p:spPr>
          <a:xfrm>
            <a:off x="5000760" y="4143240"/>
            <a:ext cx="133344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5" name="Овал 8"/>
          <p:cNvSpPr/>
          <p:nvPr/>
        </p:nvSpPr>
        <p:spPr>
          <a:xfrm>
            <a:off x="2214720" y="1928880"/>
            <a:ext cx="1285560" cy="11286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Овал 10"/>
          <p:cNvSpPr/>
          <p:nvPr/>
        </p:nvSpPr>
        <p:spPr>
          <a:xfrm>
            <a:off x="4714920" y="1857240"/>
            <a:ext cx="1428840" cy="121464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Овал 11"/>
          <p:cNvSpPr/>
          <p:nvPr/>
        </p:nvSpPr>
        <p:spPr>
          <a:xfrm>
            <a:off x="2214720" y="3786120"/>
            <a:ext cx="1143000" cy="11289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Овал 12"/>
          <p:cNvSpPr/>
          <p:nvPr/>
        </p:nvSpPr>
        <p:spPr>
          <a:xfrm>
            <a:off x="4857840" y="3500280"/>
            <a:ext cx="1285920" cy="13431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Посчитайте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и выложите </a:t>
            </a: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столько же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ругов на верхней полоске, сколько квадратов на карточке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Вопросы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: Расскажи , что у тебя получилос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 нижнюю полоску </a:t>
            </a: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отсчитайте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и положите на </a:t>
            </a:r>
            <a:r>
              <a:rPr b="0" lang="ru-RU" sz="3200" spc="-1" strike="noStrike">
                <a:solidFill>
                  <a:srgbClr val="6d114c"/>
                </a:solidFill>
                <a:latin typeface="Franklin Gothic Book"/>
              </a:rPr>
              <a:t>1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предмет </a:t>
            </a: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меньше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Franklin Gothic Book"/>
              </a:rPr>
              <a:t>Дается только после  усвоения  приемов счета по образцу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-</a:t>
            </a:r>
            <a:r>
              <a:rPr b="0" lang="ru-RU" sz="3000" spc="-1" strike="noStrike">
                <a:solidFill>
                  <a:srgbClr val="0000ff"/>
                </a:solidFill>
                <a:latin typeface="Franklin Gothic Book"/>
              </a:rPr>
              <a:t>называет число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- </a:t>
            </a:r>
            <a:r>
              <a:rPr b="0" lang="ru-RU" sz="3000" spc="-1" strike="noStrike">
                <a:solidFill>
                  <a:srgbClr val="3333ff"/>
                </a:solidFill>
                <a:latin typeface="Franklin Gothic Book"/>
              </a:rPr>
              <a:t>Отсчитайте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и положите  4 круг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- Сколько поставил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Почему столько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ff"/>
                </a:solidFill>
                <a:latin typeface="Franklin Gothic Book"/>
              </a:rPr>
              <a:t>Проверь- пересчитай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77714"/>
                </a:solidFill>
                <a:latin typeface="Franklin Gothic Book"/>
              </a:rPr>
              <a:t>Я положил 4 круга, вы сказали, что столько же надо поставить.- правило!!!!!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считай и отложи кругов на один больше(меньше), чем число, которое я назову -5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ложи 5 кругов и еще один. Сколько получилось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образование числ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Franklin Gothic Book"/>
              </a:rPr>
              <a:t>Вопросы к детя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отложил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чему столько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Franklin Gothic Book"/>
              </a:rPr>
              <a:t>Зритель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Franklin Gothic Book"/>
              </a:rPr>
              <a:t>Тактиль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Franklin Gothic Book"/>
              </a:rPr>
              <a:t>Слухов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Franklin Gothic Book"/>
              </a:rPr>
              <a:t>Двигатель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и каком счете какой анализатор  задействуем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Franklin Gothic Book"/>
              </a:rPr>
              <a:t>Зрительный- образцу, цифровому изображению, счет движени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Franklin Gothic Book"/>
              </a:rPr>
              <a:t>Тактильный- счет на ощуп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Franklin Gothic Book"/>
              </a:rPr>
              <a:t>Слуховой- счет по названному числу, слу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Franklin Gothic Book"/>
              </a:rPr>
              <a:t>Двигательный- счет движени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948880" cy="10000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31" name="Picture 2" descr="C:\Documents and Settings\1\Мои документы\Мои рисунки\CA4H630H.jpg"/>
          <p:cNvPicPr/>
          <p:nvPr/>
        </p:nvPicPr>
        <p:blipFill>
          <a:blip r:embed="rId2"/>
          <a:stretch/>
        </p:blipFill>
        <p:spPr>
          <a:xfrm>
            <a:off x="571680" y="1469880"/>
            <a:ext cx="2286000" cy="20638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C:\Documents and Settings\1\Мои документы\Мои рисунки\CAAPAJ8P.jpg"/>
          <p:cNvPicPr/>
          <p:nvPr/>
        </p:nvPicPr>
        <p:blipFill>
          <a:blip r:embed="rId3"/>
          <a:stretch/>
        </p:blipFill>
        <p:spPr>
          <a:xfrm>
            <a:off x="3214800" y="2428920"/>
            <a:ext cx="2666880" cy="10000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C:\Documents and Settings\1\Мои документы\Мои рисунки\CA4LONER.jpg"/>
          <p:cNvPicPr/>
          <p:nvPr/>
        </p:nvPicPr>
        <p:blipFill>
          <a:blip r:embed="rId4"/>
          <a:stretch/>
        </p:blipFill>
        <p:spPr>
          <a:xfrm>
            <a:off x="517680" y="4071960"/>
            <a:ext cx="1809720" cy="1447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C:\Documents and Settings\1\Мои документы\Мои рисунки\CAZ1P3TU.jpg"/>
          <p:cNvPicPr/>
          <p:nvPr/>
        </p:nvPicPr>
        <p:blipFill>
          <a:blip r:embed="rId5"/>
          <a:stretch/>
        </p:blipFill>
        <p:spPr>
          <a:xfrm>
            <a:off x="6215040" y="4071960"/>
            <a:ext cx="2190600" cy="16430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C:\Documents and Settings\1\Мои документы\Мои рисунки\CASTYNST.jpg"/>
          <p:cNvPicPr/>
          <p:nvPr/>
        </p:nvPicPr>
        <p:blipFill>
          <a:blip r:embed="rId6"/>
          <a:stretch/>
        </p:blipFill>
        <p:spPr>
          <a:xfrm>
            <a:off x="3429000" y="3857760"/>
            <a:ext cx="2030400" cy="1519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C:\Documents and Settings\1\Мои документы\Мои рисунки\CA60DRMY.jpg"/>
          <p:cNvPicPr/>
          <p:nvPr/>
        </p:nvPicPr>
        <p:blipFill>
          <a:blip r:embed="rId7"/>
          <a:stretch/>
        </p:blipFill>
        <p:spPr>
          <a:xfrm>
            <a:off x="6286680" y="1130400"/>
            <a:ext cx="185724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39" name="Picture 2" descr="C:\Documents and Settings\1\Мои документы\Мои рисунки\CAUG125M.jpg"/>
          <p:cNvPicPr/>
          <p:nvPr/>
        </p:nvPicPr>
        <p:blipFill>
          <a:blip r:embed="rId2"/>
          <a:stretch/>
        </p:blipFill>
        <p:spPr>
          <a:xfrm>
            <a:off x="928800" y="3267000"/>
            <a:ext cx="2571480" cy="2016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C:\Documents and Settings\1\Мои документы\Мои рисунки\CAY3QZQ9.jpg"/>
          <p:cNvPicPr/>
          <p:nvPr/>
        </p:nvPicPr>
        <p:blipFill>
          <a:blip r:embed="rId3"/>
          <a:stretch/>
        </p:blipFill>
        <p:spPr>
          <a:xfrm>
            <a:off x="4643280" y="1981080"/>
            <a:ext cx="21434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ети 3-4 лет учатся различать « один» и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 много» звук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Franklin Gothic Book"/>
              </a:rPr>
              <a:t>Одному звуку соотносится действ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Franklin Gothic Book"/>
              </a:rPr>
              <a:t>( появление игрушки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спитатель ударяет  в барабан 1 раз и ставит на стол 1 игрушк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Franklin Gothic Book"/>
              </a:rPr>
              <a:t>1 звук 1 игрушка, так несколько раз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71680" y="1571400"/>
            <a:ext cx="81151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 детей преобладает восприятие величины и пространства над восприятием числ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ети плохо знают математические термины- допускают ошибки при их употреблении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звуков вы услышали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игрушек появилось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5" name="Picture 2" descr="C:\Documents and Settings\1\Мои документы\Мои рисунки\жж.jpg"/>
          <p:cNvPicPr/>
          <p:nvPr/>
        </p:nvPicPr>
        <p:blipFill>
          <a:blip r:embed="rId2"/>
          <a:stretch/>
        </p:blipFill>
        <p:spPr>
          <a:xfrm>
            <a:off x="157320" y="35402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C:\Documents and Settings\1\Мои документы\Мои рисунки\жж.jpg"/>
          <p:cNvPicPr/>
          <p:nvPr/>
        </p:nvPicPr>
        <p:blipFill>
          <a:blip r:embed="rId3"/>
          <a:stretch/>
        </p:blipFill>
        <p:spPr>
          <a:xfrm>
            <a:off x="1928880" y="35002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 txBox="1"/>
          <p:nvPr/>
        </p:nvSpPr>
        <p:spPr>
          <a:xfrm>
            <a:off x="428400" y="1214280"/>
            <a:ext cx="8258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считайте, сколько раз я проиграла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читайте вслух, отстукивайте в такт ударам(движение руки помогает счету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дание детям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читайте, сколько звук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считайте столько же предмет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отложил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чему столько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величиваем количество звуков от 1-1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меньшаем интервалы между звукам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здаются звуки разные по силе, тон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спользуйте ширм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ложи кругов на один больше, чем звуков услышиш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собенности наглядного материал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ъемные предметы-кубики, пуговицы, камешки,желуд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ешочки с мелкими  предметами или природным материалом- шишки, каштаны, морские камеш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Желуди- старшей групп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ланки с  пуговицами – пуговицы плоские, размером с 2 рублевую монет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ланки с дырочками- ш.5-6 с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грушки накрытые салфетк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Цель: Научить детей считать предметы по  осязанию, отвечать на вопрос о количестве посчитанных предметов, именуя итоговое числ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емонстрационный материал: Мелкие однородные предметы, накрытые салфетко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рточки с нашитыми пуговица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Ход занятия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адка дете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рганизационный момен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юрпризный момен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. Ставит на стол 2-3 игрушки объемные, предлагает детям их посчитать, назвать итоговое числ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ы считали глазами и руками. Теперь будем считать только рука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спитатель показывает как надо счита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авой рукой ощупывает пуговицы, двигая рукою слева направо и считая их, называя предмет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214200" y="785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спитатель вызывает ребенка и предлагает посчитать  сколько пуговиц на планке( планка в чехле, материал не должен быть очень толстым, но не прозрачным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помните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язательно  выньте планку из чехла и покажите ребенк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авильно ли он посчита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214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 детей мешоч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ждому ребенку не более 3 мешочков одного цвета, но с разным количеством предметов в ни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спитатель выкладывает на фланелеграфе, счетной лесенке 4  игруш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читайте сколько игруше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йдите мешочки с таким же количеством предмет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четная деятельность- название числительных по порядку и соотнесение их каждому элементу множества с выделением итогового числ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Цель счетной деятельности- найти итоговое число, ответить на вопрос «сколько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станьте и посчитайт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просы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в мешочке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чему столько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 Найди столько же»- карточки с разным количеством предмет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читай сколько предметов под салфеткой / найди такую же карточку у себ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чему ты взял эту карточку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предметов на планке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читаем движ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ыжк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иседа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клон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днятия руки ввер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Хлопки перед соб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72" name="Picture 2" descr="C:\Documents and Settings\1\Мои документы\Мои рисунки\биби.jpg"/>
          <p:cNvPicPr/>
          <p:nvPr/>
        </p:nvPicPr>
        <p:blipFill>
          <a:blip r:embed="rId1"/>
          <a:stretch/>
        </p:blipFill>
        <p:spPr>
          <a:xfrm>
            <a:off x="0" y="17146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" descr="C:\Documents and Settings\1\Мои документы\Мои рисунки\биби.jpg"/>
          <p:cNvPicPr/>
          <p:nvPr/>
        </p:nvPicPr>
        <p:blipFill>
          <a:blip r:embed="rId2"/>
          <a:stretch/>
        </p:blipFill>
        <p:spPr>
          <a:xfrm>
            <a:off x="2571840" y="192888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" descr="C:\Documents and Settings\1\Мои документы\Мои рисунки\биби.jpg"/>
          <p:cNvPicPr/>
          <p:nvPr/>
        </p:nvPicPr>
        <p:blipFill>
          <a:blip r:embed="rId3"/>
          <a:stretch/>
        </p:blipFill>
        <p:spPr>
          <a:xfrm>
            <a:off x="4786200" y="185724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зывает ребенка и предлагает  присесть  столько же раз, сколько маши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раз ты присел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Я присел столько раз, сколько  машин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 часть. Занят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четные карточки, предмет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спитатель показывает карточк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зывает несколько детей предлагает посчитать  и выполнить движ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. Почем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 часть  работа с демонстрационным материало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граммное содержа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чить детей считать до 3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зывать числительные  по порядк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относить числительное с каждым из предмет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чить считать предметы раскладывая их правой рукой слева на направ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чить детей сравнивать числа на основе сравнения элементов двух множеств, называя, какое число больше, какое меньш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 час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спитатель  ставит на полочку 3 елки а под ними – 3 гриба предлагая детям сказать, сколько елок и гриб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-Как это можно проверить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веты детей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-Сегодня мы будем учиться счита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99680" y="571320"/>
            <a:ext cx="81867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- Посмотрите как  надо счита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до называя  числа, показывать на предметы рукой, дотрагиваясь указательным пальцем  вот так: одна,две,три елки, обводя круговым жестом  предметы  руко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2" descr="C:\Documents and Settings\1\Мои документы\Мои рисунки\Ел.jpg"/>
          <p:cNvPicPr/>
          <p:nvPr/>
        </p:nvPicPr>
        <p:blipFill>
          <a:blip r:embed="rId1"/>
          <a:stretch/>
        </p:blipFill>
        <p:spPr>
          <a:xfrm>
            <a:off x="642960" y="3786120"/>
            <a:ext cx="866880" cy="13334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C:\Documents and Settings\1\Мои документы\Мои рисунки\иб.jpg"/>
          <p:cNvPicPr/>
          <p:nvPr/>
        </p:nvPicPr>
        <p:blipFill>
          <a:blip r:embed="rId2"/>
          <a:stretch/>
        </p:blipFill>
        <p:spPr>
          <a:xfrm>
            <a:off x="642960" y="528624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Documents and Settings\1\Мои документы\Мои рисунки\Ел.jpg"/>
          <p:cNvPicPr/>
          <p:nvPr/>
        </p:nvPicPr>
        <p:blipFill>
          <a:blip r:embed="rId3"/>
          <a:stretch/>
        </p:blipFill>
        <p:spPr>
          <a:xfrm>
            <a:off x="2000160" y="3786120"/>
            <a:ext cx="866880" cy="1333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1\Мои документы\Мои рисунки\Ел.jpg"/>
          <p:cNvPicPr/>
          <p:nvPr/>
        </p:nvPicPr>
        <p:blipFill>
          <a:blip r:embed="rId4"/>
          <a:stretch/>
        </p:blipFill>
        <p:spPr>
          <a:xfrm>
            <a:off x="3214800" y="3786120"/>
            <a:ext cx="866520" cy="1333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Documents and Settings\1\Мои документы\Мои рисунки\иб.jpg"/>
          <p:cNvPicPr/>
          <p:nvPr/>
        </p:nvPicPr>
        <p:blipFill>
          <a:blip r:embed="rId5"/>
          <a:stretch/>
        </p:blipFill>
        <p:spPr>
          <a:xfrm>
            <a:off x="1857240" y="528624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Documents and Settings\1\Мои документы\Мои рисунки\иб.jpg"/>
          <p:cNvPicPr/>
          <p:nvPr/>
        </p:nvPicPr>
        <p:blipFill>
          <a:blip r:embed="rId6"/>
          <a:stretch/>
        </p:blipFill>
        <p:spPr>
          <a:xfrm>
            <a:off x="3071880" y="5286240"/>
            <a:ext cx="1066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4:01:55Z</dcterms:created>
  <dc:creator>1</dc:creator>
  <dc:description/>
  <dc:language>en-US</dc:language>
  <cp:lastModifiedBy>асус</cp:lastModifiedBy>
  <dcterms:modified xsi:type="dcterms:W3CDTF">2017-02-07T16:07:08Z</dcterms:modified>
  <cp:revision>50</cp:revision>
  <dc:subject/>
  <dc:title>Учить считать до 5 </dc:title>
</cp:coreProperties>
</file>