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6CCA-0B8C-492C-A71A-B2B9FE73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21AF-5377-4299-95A8-98527443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19A0-6DC7-42EF-9B0A-DB5B78A5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D5EF-5835-41D4-BDC4-F7A42FAA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2EBA-5AA0-46FB-A28F-D48D9194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D4E6-A4E1-44FF-BB75-0BBD7B33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EBDC-36DC-48A5-9DE4-4583AB4D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40EC-D828-493D-9C07-A38B901B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3010-6016-42D9-A1C3-E131A11F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A1A7-8675-4432-B72B-88348130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9634-B732-41C2-8D55-89B8A9E0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BC95-0651-4297-92FE-1FB76A0C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6734-7D22-4565-A431-8F9F9F3D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5130-9A72-4F38-9999-875CBB71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FEAE-181C-483E-8888-D2FDA084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22A5-D7D4-4022-81CB-F40261E5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3707-158C-43F1-B551-BBBA125A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27E0-75A5-4C5D-8DD3-C4085354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214A-3CB9-4F3A-9815-F8075B65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D3F7-7DC0-4515-B586-1537A1FA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6CBD-4DFC-4351-8DFC-CC032AFE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E39F-2E50-4BF1-B8B6-931D47C0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2954-C14C-471E-9BE4-72B07B17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E7AA-9FF9-44E6-A7DB-BE3AEAAC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8472-D921-410F-B764-9396B56CA41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72C4-4CD2-426F-BD72-F9240311B2B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" Target="slide3.xml"/><Relationship Id="rId8" Type="http://schemas.openxmlformats.org/officeDocument/2006/relationships/slide" Target="slide5.xml"/><Relationship Id="rId9" Type="http://schemas.openxmlformats.org/officeDocument/2006/relationships/image" Target="../media/image8.png"/><Relationship Id="rId10" Type="http://schemas.openxmlformats.org/officeDocument/2006/relationships/slide" Target="slide5.xml"/><Relationship Id="rId11" Type="http://schemas.openxmlformats.org/officeDocument/2006/relationships/slide" Target="slide7.xml"/><Relationship Id="rId12" Type="http://schemas.openxmlformats.org/officeDocument/2006/relationships/image" Target="../media/image9.png"/><Relationship Id="rId13" Type="http://schemas.openxmlformats.org/officeDocument/2006/relationships/slide" Target="slide7.xml"/><Relationship Id="rId14" Type="http://schemas.openxmlformats.org/officeDocument/2006/relationships/slide" Target="slide9.xml"/><Relationship Id="rId15" Type="http://schemas.openxmlformats.org/officeDocument/2006/relationships/image" Target="../media/image10.png"/><Relationship Id="rId16" Type="http://schemas.openxmlformats.org/officeDocument/2006/relationships/slide" Target="slide9.xml"/><Relationship Id="rId17" Type="http://schemas.openxmlformats.org/officeDocument/2006/relationships/slide" Target="slide11.xml"/><Relationship Id="rId18" Type="http://schemas.openxmlformats.org/officeDocument/2006/relationships/image" Target="../media/image11.png"/><Relationship Id="rId19" Type="http://schemas.openxmlformats.org/officeDocument/2006/relationships/slide" Target="slide11.xml"/><Relationship Id="rId20" Type="http://schemas.openxmlformats.org/officeDocument/2006/relationships/slide" Target="slide13.xml"/><Relationship Id="rId21" Type="http://schemas.openxmlformats.org/officeDocument/2006/relationships/image" Target="../media/image12.png"/><Relationship Id="rId22" Type="http://schemas.openxmlformats.org/officeDocument/2006/relationships/slide" Target="slide13.xml"/><Relationship Id="rId23" Type="http://schemas.openxmlformats.org/officeDocument/2006/relationships/slide" Target="slide15.xml"/><Relationship Id="rId24" Type="http://schemas.openxmlformats.org/officeDocument/2006/relationships/image" Target="../media/image13.png"/><Relationship Id="rId25" Type="http://schemas.openxmlformats.org/officeDocument/2006/relationships/slide" Target="slide15.xml"/><Relationship Id="rId26" Type="http://schemas.openxmlformats.org/officeDocument/2006/relationships/slide" Target="slide17.xml"/><Relationship Id="rId27" Type="http://schemas.openxmlformats.org/officeDocument/2006/relationships/image" Target="../media/image14.png"/><Relationship Id="rId28" Type="http://schemas.openxmlformats.org/officeDocument/2006/relationships/slide" Target="slide17.xml"/><Relationship Id="rId29" Type="http://schemas.openxmlformats.org/officeDocument/2006/relationships/slide" Target="slide19.xml"/><Relationship Id="rId30" Type="http://schemas.openxmlformats.org/officeDocument/2006/relationships/image" Target="../media/image15.png"/><Relationship Id="rId31" Type="http://schemas.openxmlformats.org/officeDocument/2006/relationships/slide" Target="slide19.xml"/><Relationship Id="rId32" Type="http://schemas.openxmlformats.org/officeDocument/2006/relationships/slide" Target="slide21.xml"/><Relationship Id="rId33" Type="http://schemas.openxmlformats.org/officeDocument/2006/relationships/image" Target="../media/image16.png"/><Relationship Id="rId34" Type="http://schemas.openxmlformats.org/officeDocument/2006/relationships/slide" Target="slide21.xml"/><Relationship Id="rId35" Type="http://schemas.openxmlformats.org/officeDocument/2006/relationships/slide" Target="slide23.xml"/><Relationship Id="rId36" Type="http://schemas.openxmlformats.org/officeDocument/2006/relationships/image" Target="../media/image17.png"/><Relationship Id="rId37" Type="http://schemas.openxmlformats.org/officeDocument/2006/relationships/slide" Target="slide23.xml"/><Relationship Id="rId38" Type="http://schemas.openxmlformats.org/officeDocument/2006/relationships/slide" Target="slide25.xml"/><Relationship Id="rId39" Type="http://schemas.openxmlformats.org/officeDocument/2006/relationships/image" Target="../media/image18.png"/><Relationship Id="rId40" Type="http://schemas.openxmlformats.org/officeDocument/2006/relationships/slide" Target="slide25.xml"/><Relationship Id="rId41" Type="http://schemas.openxmlformats.org/officeDocument/2006/relationships/slide" Target="slide27.xml"/><Relationship Id="rId42" Type="http://schemas.openxmlformats.org/officeDocument/2006/relationships/image" Target="../media/image19.png"/><Relationship Id="rId43" Type="http://schemas.openxmlformats.org/officeDocument/2006/relationships/slide" Target="slide27.xml"/><Relationship Id="rId44" Type="http://schemas.openxmlformats.org/officeDocument/2006/relationships/slide" Target="slide29.xml"/><Relationship Id="rId45" Type="http://schemas.openxmlformats.org/officeDocument/2006/relationships/image" Target="../media/image20.png"/><Relationship Id="rId46" Type="http://schemas.openxmlformats.org/officeDocument/2006/relationships/slide" Target="slide29.xml"/><Relationship Id="rId47" Type="http://schemas.openxmlformats.org/officeDocument/2006/relationships/slide" Target="slide31.xml"/><Relationship Id="rId48" Type="http://schemas.openxmlformats.org/officeDocument/2006/relationships/image" Target="../media/image21.png"/><Relationship Id="rId49" Type="http://schemas.openxmlformats.org/officeDocument/2006/relationships/slide" Target="slide31.xml"/><Relationship Id="rId50" Type="http://schemas.openxmlformats.org/officeDocument/2006/relationships/slide" Target="slide33.xml"/><Relationship Id="rId51" Type="http://schemas.openxmlformats.org/officeDocument/2006/relationships/image" Target="../media/image22.png"/><Relationship Id="rId52" Type="http://schemas.openxmlformats.org/officeDocument/2006/relationships/slide" Target="slide33.xml"/><Relationship Id="rId53" Type="http://schemas.openxmlformats.org/officeDocument/2006/relationships/slide" Target="slide35.xml"/><Relationship Id="rId54" Type="http://schemas.openxmlformats.org/officeDocument/2006/relationships/image" Target="../media/image23.png"/><Relationship Id="rId55" Type="http://schemas.openxmlformats.org/officeDocument/2006/relationships/slide" Target="slide35.xml"/><Relationship Id="rId56" Type="http://schemas.openxmlformats.org/officeDocument/2006/relationships/slide" Target="slide37.xml"/><Relationship Id="rId57" Type="http://schemas.openxmlformats.org/officeDocument/2006/relationships/image" Target="../media/image24.png"/><Relationship Id="rId58" Type="http://schemas.openxmlformats.org/officeDocument/2006/relationships/slide" Target="slide37.xml"/><Relationship Id="rId59" Type="http://schemas.openxmlformats.org/officeDocument/2006/relationships/slide" Target="slide39.xml"/><Relationship Id="rId60" Type="http://schemas.openxmlformats.org/officeDocument/2006/relationships/image" Target="../media/image25.png"/><Relationship Id="rId61" Type="http://schemas.openxmlformats.org/officeDocument/2006/relationships/slide" Target="slide39.xml"/><Relationship Id="rId62" Type="http://schemas.openxmlformats.org/officeDocument/2006/relationships/slide" Target="slide41.xml"/><Relationship Id="rId63" Type="http://schemas.openxmlformats.org/officeDocument/2006/relationships/image" Target="../media/image26.png"/><Relationship Id="rId64" Type="http://schemas.openxmlformats.org/officeDocument/2006/relationships/slide" Target="slide41.xml"/><Relationship Id="rId6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hyperlink" Target="http://ru.wikipedia.org/wiki/&#1054;&#1083;&#1080;&#1084;&#1087;&#1080;&#1081;&#1089;&#1082;&#1072;&#1103;_&#1089;&#1080;&#1084;&#1074;&#1086;&#1083;&#1080;&#1082;&#1072;" TargetMode="External"/><Relationship Id="rId4" Type="http://schemas.openxmlformats.org/officeDocument/2006/relationships/hyperlink" Target="http://ru.wikipedia.org/wiki/&#1047;&#1080;&#1084;&#1085;&#1080;&#1077;_&#1054;&#1083;&#1080;&#1084;&#1087;&#1080;&#1081;&#1089;&#1082;&#1080;&#1077;_&#1080;&#1075;&#1088;&#1099;_2014" TargetMode="External"/><Relationship Id="rId5" Type="http://schemas.openxmlformats.org/officeDocument/2006/relationships/hyperlink" Target="http://ru.wikipedia.org/wiki/&#1057;&#1086;&#1095;&#1080;" TargetMode="External"/><Relationship Id="rId6" Type="http://schemas.openxmlformats.org/officeDocument/2006/relationships/hyperlink" Target="http://ru.wikipedia.org/wiki/&#1056;&#1086;&#1089;&#1089;&#1080;&#1103;" TargetMode="External"/><Relationship Id="rId7" Type="http://schemas.openxmlformats.org/officeDocument/2006/relationships/hyperlink" Target="http://ru.wikipedia.org/wiki/&#1058;&#1072;&#1083;&#1080;&#1089;&#1084;&#1072;&#1085;" TargetMode="External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3" descr=""/>
          <p:cNvPicPr/>
          <p:nvPr/>
        </p:nvPicPr>
        <p:blipFill>
          <a:blip r:embed="rId1"/>
          <a:stretch/>
        </p:blipFill>
        <p:spPr>
          <a:xfrm>
            <a:off x="-146160" y="1670040"/>
            <a:ext cx="929664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713880" y="1071360"/>
            <a:ext cx="78771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 голодании изменяется обмен веществ, поэтому обязательно нужно наблюдение врача. А красивой фигуры можно добиться занимаясь физкультурой, правильно организовав питание и соблюдая правила гигиен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ЗОЖ: Вопрос 4. Отв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9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ЗОЖ: Вопрос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13840" y="999720"/>
            <a:ext cx="8643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весенние месяцы повышается утомляемость, вялость, раздражительность. Кровоточат десны. На коже могут появиться синяки. Отчего это бывает? Как с этим боротьс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9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87716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есной организм испытывает недостаток витамин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ЗОЖ: Вопрос 5. Отв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0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Анаграммы: Вопрос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6760" y="1071360"/>
            <a:ext cx="84121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ужно собрать слово, связанное со здоровь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2480400" y="3071880"/>
            <a:ext cx="47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КУЛЬФИТРА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09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Анаграммы: Вопрос1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оугольник 4"/>
          <p:cNvSpPr/>
          <p:nvPr/>
        </p:nvSpPr>
        <p:spPr>
          <a:xfrm>
            <a:off x="2461320" y="2714760"/>
            <a:ext cx="47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ФИЗКУЛЬТУ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14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Анаграммы: Вопрос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6760" y="1071360"/>
            <a:ext cx="84121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ужно собрать слово, связанное со здоровь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рямоугольник 4"/>
          <p:cNvSpPr/>
          <p:nvPr/>
        </p:nvSpPr>
        <p:spPr>
          <a:xfrm>
            <a:off x="2865240" y="3071880"/>
            <a:ext cx="30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КАЗАР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20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Анаграммы: Вопрос2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2793600" y="2714760"/>
            <a:ext cx="30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РЯД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25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Анаграммы: Вопрос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56760" y="1071360"/>
            <a:ext cx="84121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ужно собрать слово, связанное со здоровь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2729880" y="3071880"/>
            <a:ext cx="322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КАЗАК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31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Анаграммы: Вопрос3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оугольник 4"/>
          <p:cNvSpPr/>
          <p:nvPr/>
        </p:nvSpPr>
        <p:spPr>
          <a:xfrm>
            <a:off x="2518200" y="2714760"/>
            <a:ext cx="305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КАЛ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36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Анаграммы: Вопрос 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56760" y="1071360"/>
            <a:ext cx="84121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ужно собрать слово, связанное со здоровь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2871720" y="3071880"/>
            <a:ext cx="303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ЕНГИАГ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42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AutoShape 39"/>
          <p:cNvGrpSpPr/>
          <p:nvPr/>
        </p:nvGrpSpPr>
        <p:grpSpPr>
          <a:xfrm>
            <a:off x="152280" y="969840"/>
            <a:ext cx="3035520" cy="1224000"/>
            <a:chOff x="152280" y="969840"/>
            <a:chExt cx="3035520" cy="1224000"/>
          </a:xfrm>
        </p:grpSpPr>
        <p:pic>
          <p:nvPicPr>
            <p:cNvPr id="84" name="AutoShape 39" descr=""/>
            <p:cNvPicPr/>
            <p:nvPr/>
          </p:nvPicPr>
          <p:blipFill>
            <a:blip r:embed="rId1"/>
            <a:stretch/>
          </p:blipFill>
          <p:spPr>
            <a:xfrm>
              <a:off x="152280" y="969840"/>
              <a:ext cx="30355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15960" y="1170000"/>
              <a:ext cx="19065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ЗО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AutoShape 40"/>
          <p:cNvGrpSpPr/>
          <p:nvPr/>
        </p:nvGrpSpPr>
        <p:grpSpPr>
          <a:xfrm>
            <a:off x="152280" y="2193840"/>
            <a:ext cx="3035520" cy="1219320"/>
            <a:chOff x="152280" y="2193840"/>
            <a:chExt cx="3035520" cy="1219320"/>
          </a:xfrm>
        </p:grpSpPr>
        <p:pic>
          <p:nvPicPr>
            <p:cNvPr id="87" name="AutoShape 40" descr=""/>
            <p:cNvPicPr/>
            <p:nvPr/>
          </p:nvPicPr>
          <p:blipFill>
            <a:blip r:embed="rId2"/>
            <a:stretch/>
          </p:blipFill>
          <p:spPr>
            <a:xfrm>
              <a:off x="152280" y="2193840"/>
              <a:ext cx="30355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15960" y="2394000"/>
              <a:ext cx="19065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Анаграмм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AutoShape 41"/>
          <p:cNvGrpSpPr/>
          <p:nvPr/>
        </p:nvGrpSpPr>
        <p:grpSpPr>
          <a:xfrm>
            <a:off x="152280" y="3633840"/>
            <a:ext cx="3035520" cy="1224000"/>
            <a:chOff x="152280" y="3633840"/>
            <a:chExt cx="3035520" cy="1224000"/>
          </a:xfrm>
        </p:grpSpPr>
        <p:pic>
          <p:nvPicPr>
            <p:cNvPr id="90" name="AutoShape 41" descr=""/>
            <p:cNvPicPr/>
            <p:nvPr/>
          </p:nvPicPr>
          <p:blipFill>
            <a:blip r:embed="rId3"/>
            <a:stretch/>
          </p:blipFill>
          <p:spPr>
            <a:xfrm>
              <a:off x="152280" y="3633840"/>
              <a:ext cx="30355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615960" y="3833640"/>
              <a:ext cx="19065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Сочи 20 - 14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AutoShape 42"/>
          <p:cNvGrpSpPr/>
          <p:nvPr/>
        </p:nvGrpSpPr>
        <p:grpSpPr>
          <a:xfrm>
            <a:off x="152280" y="4932360"/>
            <a:ext cx="3035520" cy="1219320"/>
            <a:chOff x="152280" y="4932360"/>
            <a:chExt cx="3035520" cy="1219320"/>
          </a:xfrm>
        </p:grpSpPr>
        <p:pic>
          <p:nvPicPr>
            <p:cNvPr id="93" name="AutoShape 42" descr=""/>
            <p:cNvPicPr/>
            <p:nvPr/>
          </p:nvPicPr>
          <p:blipFill>
            <a:blip r:embed="rId4"/>
            <a:stretch/>
          </p:blipFill>
          <p:spPr>
            <a:xfrm>
              <a:off x="152280" y="4932360"/>
              <a:ext cx="30355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15960" y="5129280"/>
              <a:ext cx="19065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Ребу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AutoShape 46"/>
          <p:cNvGrpSpPr/>
          <p:nvPr/>
        </p:nvGrpSpPr>
        <p:grpSpPr>
          <a:xfrm>
            <a:off x="2865600" y="731880"/>
            <a:ext cx="1614240" cy="1523880"/>
            <a:chOff x="2865600" y="731880"/>
            <a:chExt cx="1614240" cy="1523880"/>
          </a:xfrm>
        </p:grpSpPr>
        <p:pic>
          <p:nvPicPr>
            <p:cNvPr id="96" name="AutoShape 46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65600" y="731880"/>
              <a:ext cx="16142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301920" y="118584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7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AutoShape 47"/>
          <p:cNvGrpSpPr/>
          <p:nvPr/>
        </p:nvGrpSpPr>
        <p:grpSpPr>
          <a:xfrm>
            <a:off x="4022640" y="731880"/>
            <a:ext cx="1609920" cy="1523880"/>
            <a:chOff x="4022640" y="731880"/>
            <a:chExt cx="1609920" cy="1523880"/>
          </a:xfrm>
        </p:grpSpPr>
        <p:pic>
          <p:nvPicPr>
            <p:cNvPr id="99" name="AutoShape 47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4022640" y="731880"/>
              <a:ext cx="16099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454640" y="118584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10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AutoShape 48"/>
          <p:cNvGrpSpPr/>
          <p:nvPr/>
        </p:nvGrpSpPr>
        <p:grpSpPr>
          <a:xfrm>
            <a:off x="5175360" y="731880"/>
            <a:ext cx="1609560" cy="1523880"/>
            <a:chOff x="5175360" y="731880"/>
            <a:chExt cx="1609560" cy="1523880"/>
          </a:xfrm>
        </p:grpSpPr>
        <p:pic>
          <p:nvPicPr>
            <p:cNvPr id="102" name="AutoShape 48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175360" y="731880"/>
              <a:ext cx="160956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607000" y="118584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13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AutoShape 49"/>
          <p:cNvGrpSpPr/>
          <p:nvPr/>
        </p:nvGrpSpPr>
        <p:grpSpPr>
          <a:xfrm>
            <a:off x="6321600" y="731880"/>
            <a:ext cx="1616040" cy="1523880"/>
            <a:chOff x="6321600" y="731880"/>
            <a:chExt cx="1616040" cy="1523880"/>
          </a:xfrm>
        </p:grpSpPr>
        <p:pic>
          <p:nvPicPr>
            <p:cNvPr id="105" name="AutoShape 49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6321600" y="731880"/>
              <a:ext cx="16160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757920" y="118584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16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AutoShape 50"/>
          <p:cNvGrpSpPr/>
          <p:nvPr/>
        </p:nvGrpSpPr>
        <p:grpSpPr>
          <a:xfrm>
            <a:off x="7583400" y="731880"/>
            <a:ext cx="1616040" cy="1523880"/>
            <a:chOff x="7583400" y="731880"/>
            <a:chExt cx="1616040" cy="1523880"/>
          </a:xfrm>
        </p:grpSpPr>
        <p:pic>
          <p:nvPicPr>
            <p:cNvPr id="108" name="AutoShape 50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583400" y="731880"/>
              <a:ext cx="16160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8018640" y="1185840"/>
              <a:ext cx="6426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19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AutoShape 51"/>
          <p:cNvGrpSpPr/>
          <p:nvPr/>
        </p:nvGrpSpPr>
        <p:grpSpPr>
          <a:xfrm>
            <a:off x="2865600" y="1809720"/>
            <a:ext cx="1614240" cy="1530360"/>
            <a:chOff x="2865600" y="1809720"/>
            <a:chExt cx="1614240" cy="1530360"/>
          </a:xfrm>
        </p:grpSpPr>
        <p:pic>
          <p:nvPicPr>
            <p:cNvPr id="111" name="AutoShape 51" descr="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2865600" y="1809720"/>
              <a:ext cx="161424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301920" y="226692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22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AutoShape 52"/>
          <p:cNvGrpSpPr/>
          <p:nvPr/>
        </p:nvGrpSpPr>
        <p:grpSpPr>
          <a:xfrm>
            <a:off x="4022640" y="1809720"/>
            <a:ext cx="1609920" cy="1530360"/>
            <a:chOff x="4022640" y="1809720"/>
            <a:chExt cx="1609920" cy="1530360"/>
          </a:xfrm>
        </p:grpSpPr>
        <p:pic>
          <p:nvPicPr>
            <p:cNvPr id="114" name="AutoShape 52" descr="">
              <a:hlinkClick r:id="rId23" action="ppaction://hlinksldjump"/>
            </p:cNvPr>
            <p:cNvPicPr/>
            <p:nvPr/>
          </p:nvPicPr>
          <p:blipFill>
            <a:blip r:embed="rId24"/>
            <a:stretch/>
          </p:blipFill>
          <p:spPr>
            <a:xfrm>
              <a:off x="4022640" y="1809720"/>
              <a:ext cx="16099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454640" y="226692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25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AutoShape 53"/>
          <p:cNvGrpSpPr/>
          <p:nvPr/>
        </p:nvGrpSpPr>
        <p:grpSpPr>
          <a:xfrm>
            <a:off x="5175360" y="1809720"/>
            <a:ext cx="1609560" cy="1530360"/>
            <a:chOff x="5175360" y="1809720"/>
            <a:chExt cx="1609560" cy="1530360"/>
          </a:xfrm>
        </p:grpSpPr>
        <p:pic>
          <p:nvPicPr>
            <p:cNvPr id="117" name="AutoShape 53" descr="">
              <a:hlinkClick r:id="rId26" action="ppaction://hlinksldjump"/>
            </p:cNvPr>
            <p:cNvPicPr/>
            <p:nvPr/>
          </p:nvPicPr>
          <p:blipFill>
            <a:blip r:embed="rId27"/>
            <a:stretch/>
          </p:blipFill>
          <p:spPr>
            <a:xfrm>
              <a:off x="5175360" y="1809720"/>
              <a:ext cx="160956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607000" y="226692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28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AutoShape 54"/>
          <p:cNvGrpSpPr/>
          <p:nvPr/>
        </p:nvGrpSpPr>
        <p:grpSpPr>
          <a:xfrm>
            <a:off x="6321600" y="1809720"/>
            <a:ext cx="1616040" cy="1530360"/>
            <a:chOff x="6321600" y="1809720"/>
            <a:chExt cx="1616040" cy="1530360"/>
          </a:xfrm>
        </p:grpSpPr>
        <p:pic>
          <p:nvPicPr>
            <p:cNvPr id="120" name="AutoShape 54" descr="">
              <a:hlinkClick r:id="rId29" action="ppaction://hlinksldjump"/>
            </p:cNvPr>
            <p:cNvPicPr/>
            <p:nvPr/>
          </p:nvPicPr>
          <p:blipFill>
            <a:blip r:embed="rId30"/>
            <a:stretch/>
          </p:blipFill>
          <p:spPr>
            <a:xfrm>
              <a:off x="6321600" y="1809720"/>
              <a:ext cx="161604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757920" y="226692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31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AutoShape 55"/>
          <p:cNvGrpSpPr/>
          <p:nvPr/>
        </p:nvGrpSpPr>
        <p:grpSpPr>
          <a:xfrm>
            <a:off x="7583400" y="1822320"/>
            <a:ext cx="1616040" cy="1524240"/>
            <a:chOff x="7583400" y="1822320"/>
            <a:chExt cx="1616040" cy="1524240"/>
          </a:xfrm>
        </p:grpSpPr>
        <p:pic>
          <p:nvPicPr>
            <p:cNvPr id="123" name="AutoShape 55" descr="">
              <a:hlinkClick r:id="rId32" action="ppaction://hlinksldjump"/>
            </p:cNvPr>
            <p:cNvPicPr/>
            <p:nvPr/>
          </p:nvPicPr>
          <p:blipFill>
            <a:blip r:embed="rId33"/>
            <a:stretch/>
          </p:blipFill>
          <p:spPr>
            <a:xfrm>
              <a:off x="7583400" y="1822320"/>
              <a:ext cx="16160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8018640" y="2276640"/>
              <a:ext cx="6426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34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AutoShape 56"/>
          <p:cNvGrpSpPr/>
          <p:nvPr/>
        </p:nvGrpSpPr>
        <p:grpSpPr>
          <a:xfrm>
            <a:off x="2865600" y="3108240"/>
            <a:ext cx="1614240" cy="1524240"/>
            <a:chOff x="2865600" y="3108240"/>
            <a:chExt cx="1614240" cy="1524240"/>
          </a:xfrm>
        </p:grpSpPr>
        <p:pic>
          <p:nvPicPr>
            <p:cNvPr id="126" name="AutoShape 56" descr="">
              <a:hlinkClick r:id="rId35" action="ppaction://hlinksldjump"/>
            </p:cNvPr>
            <p:cNvPicPr/>
            <p:nvPr/>
          </p:nvPicPr>
          <p:blipFill>
            <a:blip r:embed="rId36"/>
            <a:stretch/>
          </p:blipFill>
          <p:spPr>
            <a:xfrm>
              <a:off x="2865600" y="3108240"/>
              <a:ext cx="1614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301920" y="356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37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AutoShape 57"/>
          <p:cNvGrpSpPr/>
          <p:nvPr/>
        </p:nvGrpSpPr>
        <p:grpSpPr>
          <a:xfrm>
            <a:off x="4022640" y="3108240"/>
            <a:ext cx="1609920" cy="1524240"/>
            <a:chOff x="4022640" y="3108240"/>
            <a:chExt cx="1609920" cy="1524240"/>
          </a:xfrm>
        </p:grpSpPr>
        <p:pic>
          <p:nvPicPr>
            <p:cNvPr id="129" name="AutoShape 57" descr="">
              <a:hlinkClick r:id="rId38" action="ppaction://hlinksldjump"/>
            </p:cNvPr>
            <p:cNvPicPr/>
            <p:nvPr/>
          </p:nvPicPr>
          <p:blipFill>
            <a:blip r:embed="rId39"/>
            <a:stretch/>
          </p:blipFill>
          <p:spPr>
            <a:xfrm>
              <a:off x="4022640" y="3108240"/>
              <a:ext cx="160992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454640" y="356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40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AutoShape 58"/>
          <p:cNvGrpSpPr/>
          <p:nvPr/>
        </p:nvGrpSpPr>
        <p:grpSpPr>
          <a:xfrm>
            <a:off x="5175360" y="3108240"/>
            <a:ext cx="1609560" cy="1524240"/>
            <a:chOff x="5175360" y="3108240"/>
            <a:chExt cx="1609560" cy="1524240"/>
          </a:xfrm>
        </p:grpSpPr>
        <p:pic>
          <p:nvPicPr>
            <p:cNvPr id="132" name="AutoShape 58" descr="">
              <a:hlinkClick r:id="rId41" action="ppaction://hlinksldjump"/>
            </p:cNvPr>
            <p:cNvPicPr/>
            <p:nvPr/>
          </p:nvPicPr>
          <p:blipFill>
            <a:blip r:embed="rId42"/>
            <a:stretch/>
          </p:blipFill>
          <p:spPr>
            <a:xfrm>
              <a:off x="5175360" y="3108240"/>
              <a:ext cx="16095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07000" y="356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43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AutoShape 59"/>
          <p:cNvGrpSpPr/>
          <p:nvPr/>
        </p:nvGrpSpPr>
        <p:grpSpPr>
          <a:xfrm>
            <a:off x="6394320" y="3035160"/>
            <a:ext cx="1616040" cy="1524240"/>
            <a:chOff x="6394320" y="3035160"/>
            <a:chExt cx="1616040" cy="1524240"/>
          </a:xfrm>
        </p:grpSpPr>
        <p:pic>
          <p:nvPicPr>
            <p:cNvPr id="135" name="AutoShape 59" descr="">
              <a:hlinkClick r:id="rId44" action="ppaction://hlinksldjump"/>
            </p:cNvPr>
            <p:cNvPicPr/>
            <p:nvPr/>
          </p:nvPicPr>
          <p:blipFill>
            <a:blip r:embed="rId45"/>
            <a:stretch/>
          </p:blipFill>
          <p:spPr>
            <a:xfrm>
              <a:off x="6394320" y="3035160"/>
              <a:ext cx="16160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831000" y="349092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46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AutoShape 60"/>
          <p:cNvGrpSpPr/>
          <p:nvPr/>
        </p:nvGrpSpPr>
        <p:grpSpPr>
          <a:xfrm>
            <a:off x="7583400" y="3108240"/>
            <a:ext cx="1616040" cy="1524240"/>
            <a:chOff x="7583400" y="3108240"/>
            <a:chExt cx="1616040" cy="1524240"/>
          </a:xfrm>
        </p:grpSpPr>
        <p:pic>
          <p:nvPicPr>
            <p:cNvPr id="138" name="AutoShape 60" descr="">
              <a:hlinkClick r:id="rId47" action="ppaction://hlinksldjump"/>
            </p:cNvPr>
            <p:cNvPicPr/>
            <p:nvPr/>
          </p:nvPicPr>
          <p:blipFill>
            <a:blip r:embed="rId48"/>
            <a:stretch/>
          </p:blipFill>
          <p:spPr>
            <a:xfrm>
              <a:off x="7583400" y="3108240"/>
              <a:ext cx="16160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8018640" y="3562200"/>
              <a:ext cx="6426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49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AutoShape 61"/>
          <p:cNvGrpSpPr/>
          <p:nvPr/>
        </p:nvGrpSpPr>
        <p:grpSpPr>
          <a:xfrm>
            <a:off x="2865600" y="4548240"/>
            <a:ext cx="1614240" cy="1523880"/>
            <a:chOff x="2865600" y="4548240"/>
            <a:chExt cx="1614240" cy="1523880"/>
          </a:xfrm>
        </p:grpSpPr>
        <p:pic>
          <p:nvPicPr>
            <p:cNvPr id="141" name="AutoShape 61" descr="">
              <a:hlinkClick r:id="rId50" action="ppaction://hlinksldjump"/>
            </p:cNvPr>
            <p:cNvPicPr/>
            <p:nvPr/>
          </p:nvPicPr>
          <p:blipFill>
            <a:blip r:embed="rId51"/>
            <a:stretch/>
          </p:blipFill>
          <p:spPr>
            <a:xfrm>
              <a:off x="2865600" y="4548240"/>
              <a:ext cx="16142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301920" y="500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52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AutoShape 62"/>
          <p:cNvGrpSpPr/>
          <p:nvPr/>
        </p:nvGrpSpPr>
        <p:grpSpPr>
          <a:xfrm>
            <a:off x="4022640" y="4548240"/>
            <a:ext cx="1609920" cy="1523880"/>
            <a:chOff x="4022640" y="4548240"/>
            <a:chExt cx="1609920" cy="1523880"/>
          </a:xfrm>
        </p:grpSpPr>
        <p:pic>
          <p:nvPicPr>
            <p:cNvPr id="144" name="AutoShape 62" descr="">
              <a:hlinkClick r:id="rId53" action="ppaction://hlinksldjump"/>
            </p:cNvPr>
            <p:cNvPicPr/>
            <p:nvPr/>
          </p:nvPicPr>
          <p:blipFill>
            <a:blip r:embed="rId54"/>
            <a:stretch/>
          </p:blipFill>
          <p:spPr>
            <a:xfrm>
              <a:off x="4022640" y="4548240"/>
              <a:ext cx="16099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454640" y="500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55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AutoShape 63"/>
          <p:cNvGrpSpPr/>
          <p:nvPr/>
        </p:nvGrpSpPr>
        <p:grpSpPr>
          <a:xfrm>
            <a:off x="5175360" y="4548240"/>
            <a:ext cx="1609560" cy="1523880"/>
            <a:chOff x="5175360" y="4548240"/>
            <a:chExt cx="1609560" cy="1523880"/>
          </a:xfrm>
        </p:grpSpPr>
        <p:pic>
          <p:nvPicPr>
            <p:cNvPr id="147" name="AutoShape 63" descr="">
              <a:hlinkClick r:id="rId56" action="ppaction://hlinksldjump"/>
            </p:cNvPr>
            <p:cNvPicPr/>
            <p:nvPr/>
          </p:nvPicPr>
          <p:blipFill>
            <a:blip r:embed="rId57"/>
            <a:stretch/>
          </p:blipFill>
          <p:spPr>
            <a:xfrm>
              <a:off x="5175360" y="4548240"/>
              <a:ext cx="160956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607000" y="500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58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AutoShape 64"/>
          <p:cNvGrpSpPr/>
          <p:nvPr/>
        </p:nvGrpSpPr>
        <p:grpSpPr>
          <a:xfrm>
            <a:off x="6321600" y="4548240"/>
            <a:ext cx="1616040" cy="1523880"/>
            <a:chOff x="6321600" y="4548240"/>
            <a:chExt cx="1616040" cy="1523880"/>
          </a:xfrm>
        </p:grpSpPr>
        <p:pic>
          <p:nvPicPr>
            <p:cNvPr id="150" name="AutoShape 64" descr="">
              <a:hlinkClick r:id="rId59" action="ppaction://hlinksldjump"/>
            </p:cNvPr>
            <p:cNvPicPr/>
            <p:nvPr/>
          </p:nvPicPr>
          <p:blipFill>
            <a:blip r:embed="rId60"/>
            <a:stretch/>
          </p:blipFill>
          <p:spPr>
            <a:xfrm>
              <a:off x="6321600" y="4548240"/>
              <a:ext cx="16160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757920" y="500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61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AutoShape 65"/>
          <p:cNvGrpSpPr/>
          <p:nvPr/>
        </p:nvGrpSpPr>
        <p:grpSpPr>
          <a:xfrm>
            <a:off x="7583400" y="4548240"/>
            <a:ext cx="1616040" cy="1523880"/>
            <a:chOff x="7583400" y="4548240"/>
            <a:chExt cx="1616040" cy="1523880"/>
          </a:xfrm>
        </p:grpSpPr>
        <p:pic>
          <p:nvPicPr>
            <p:cNvPr id="153" name="AutoShape 65" descr="">
              <a:hlinkClick r:id="rId62" action="ppaction://hlinksldjump"/>
            </p:cNvPr>
            <p:cNvPicPr/>
            <p:nvPr/>
          </p:nvPicPr>
          <p:blipFill>
            <a:blip r:embed="rId63"/>
            <a:stretch/>
          </p:blipFill>
          <p:spPr>
            <a:xfrm>
              <a:off x="7583400" y="4548240"/>
              <a:ext cx="16160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8018640" y="5002200"/>
              <a:ext cx="6426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64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Анаграммы: Вопрос4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оугольник 4"/>
          <p:cNvSpPr/>
          <p:nvPr/>
        </p:nvSpPr>
        <p:spPr>
          <a:xfrm>
            <a:off x="2871720" y="2714760"/>
            <a:ext cx="303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ГИГИЕ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47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Анаграммы: Вопрос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56760" y="1071360"/>
            <a:ext cx="84121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ужно собрать слово, связанное со здоровь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оугольник 4"/>
          <p:cNvSpPr/>
          <p:nvPr/>
        </p:nvSpPr>
        <p:spPr>
          <a:xfrm>
            <a:off x="2865600" y="3071880"/>
            <a:ext cx="346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КАПРОГ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5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Анаграммы: Вопрос5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оугольник 4"/>
          <p:cNvSpPr/>
          <p:nvPr/>
        </p:nvSpPr>
        <p:spPr>
          <a:xfrm>
            <a:off x="2501280" y="2714760"/>
            <a:ext cx="346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ОГУЛ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58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Сочи 20 -14: Вопрос 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13840" y="1071360"/>
            <a:ext cx="84121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        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едальный зачёт Зимней Олимпиады 2014 в Со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63" name="AutoShape 65" descr=""/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Сочи 20- 14 Вопрос1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4"/>
          <p:cNvSpPr/>
          <p:nvPr/>
        </p:nvSpPr>
        <p:spPr>
          <a:xfrm>
            <a:off x="2503080" y="271476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68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0" name=""/>
          <p:cNvGraphicFramePr/>
          <p:nvPr/>
        </p:nvGraphicFramePr>
        <p:xfrm>
          <a:off x="285840" y="1397160"/>
          <a:ext cx="8215200" cy="2903400"/>
        </p:xfrm>
        <a:graphic>
          <a:graphicData uri="http://schemas.openxmlformats.org/drawingml/2006/table">
            <a:tbl>
              <a:tblPr/>
              <a:tblGrid>
                <a:gridCol w="1368360"/>
                <a:gridCol w="1284120"/>
                <a:gridCol w="1454400"/>
                <a:gridCol w="1369800"/>
                <a:gridCol w="1370160"/>
                <a:gridCol w="1368360"/>
              </a:tblGrid>
              <a:tr h="1080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cefcd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ана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cefcd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олот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3dc0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еб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dad5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он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9cc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cefcd6"/>
                    </a:solidFill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cefcd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cefcd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рве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2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cefcd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97b7f6"/>
                      </a:solidFill>
                    </a:lnL>
                    <a:lnR w="4320">
                      <a:solidFill>
                        <a:srgbClr val="97b7f6"/>
                      </a:solidFill>
                    </a:lnR>
                    <a:lnT w="4320">
                      <a:solidFill>
                        <a:srgbClr val="97b7f6"/>
                      </a:solidFill>
                    </a:lnT>
                    <a:lnB w="4320">
                      <a:solidFill>
                        <a:srgbClr val="97b7f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Сочи 20- 14: Вопрос 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000080" y="1142640"/>
            <a:ext cx="81439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    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алисма́ны зи́мних Олимпи́йских игр 2014 го́да  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74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Сочи 20-14: Вопрос2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Прямоугольник 4"/>
          <p:cNvSpPr/>
          <p:nvPr/>
        </p:nvSpPr>
        <p:spPr>
          <a:xfrm>
            <a:off x="2503080" y="271476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79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Прямоугольник 4"/>
          <p:cNvSpPr/>
          <p:nvPr/>
        </p:nvSpPr>
        <p:spPr>
          <a:xfrm>
            <a:off x="500040" y="1285920"/>
            <a:ext cx="7358040" cy="27046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 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  <a:hlinkClick r:id="rId3"/>
              </a:rPr>
              <a:t>олимпийской символики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  <a:hlinkClick r:id="rId4"/>
              </a:rPr>
              <a:t>зимних Олимпийских игр 2014 года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, которые проводились с 7 по 23 февраля 2014 года в городе 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  <a:hlinkClick r:id="rId5"/>
              </a:rPr>
              <a:t>Сочи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, 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  <a:hlinkClick r:id="rId6"/>
              </a:rPr>
              <a:t>Россия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. Согласно утверждённым итогам финального голосования 26 февраля 2011 года, выбрано три 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 Black"/>
                <a:hlinkClick r:id="rId7"/>
              </a:rPr>
              <a:t>талисмана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 Леопард, Белый Мишка и За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Сочи 20-14 Вопрос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071360" y="1142640"/>
            <a:ext cx="77151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 Black"/>
              </a:rPr>
              <a:t>Олимпийский чемпион в скелетоне?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      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85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Сочи 20 -14: Вопрос3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Прямоугольник 4"/>
          <p:cNvSpPr/>
          <p:nvPr/>
        </p:nvSpPr>
        <p:spPr>
          <a:xfrm>
            <a:off x="2504160" y="27147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90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Прямоугольник 4"/>
          <p:cNvSpPr/>
          <p:nvPr/>
        </p:nvSpPr>
        <p:spPr>
          <a:xfrm>
            <a:off x="785880" y="1857240"/>
            <a:ext cx="60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Александр Третьяков выиграл золото в скелет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Сочи 20- 14: Вопрос 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57160" y="1071360"/>
            <a:ext cx="77868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           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дальный зачет Паралимпийских игр Сочи 201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                 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5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96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ЗОЖ: Вопрос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785600"/>
            <a:ext cx="8412120" cy="20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яц, воспитанный в клетке, умирает при первом быстром беге. Может ли такое приключиться с человеко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5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Сочи 20-14: Вопрос 4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9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00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2" name=""/>
          <p:cNvGraphicFramePr/>
          <p:nvPr/>
        </p:nvGraphicFramePr>
        <p:xfrm>
          <a:off x="214200" y="1214280"/>
          <a:ext cx="7858080" cy="2652840"/>
        </p:xfrm>
        <a:graphic>
          <a:graphicData uri="http://schemas.openxmlformats.org/drawingml/2006/table">
            <a:tbl>
              <a:tblPr/>
              <a:tblGrid>
                <a:gridCol w="1932120"/>
                <a:gridCol w="1184400"/>
                <a:gridCol w="1185840"/>
                <a:gridCol w="1185840"/>
                <a:gridCol w="1155600"/>
                <a:gridCol w="1214280"/>
              </a:tblGrid>
              <a:tr h="1327320">
                <a:tc>
                  <a:txBody>
                    <a:bodyPr lIns="139680" rIns="139680" tIns="55800" bIns="55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Стр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9680" marR="1396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39680" rIns="139680" tIns="55800" bIns="55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9680" marR="1396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39680" rIns="139680" tIns="55800" bIns="55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9680" marR="1396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39680" rIns="139680" tIns="55800" bIns="55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9680" marR="1396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39680" rIns="139680" tIns="55800" bIns="55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9680" marR="1396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25520">
                <a:tc>
                  <a:txBody>
                    <a:bodyPr lIns="186120" rIns="139680" tIns="55800" bIns="55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11111"/>
                          </a:solidFill>
                          <a:latin typeface="Open Sans"/>
                        </a:rPr>
                        <a:t>1. Ро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6120" marR="1396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e0e0e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39680" rIns="139680" tIns="55800" bIns="55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11111"/>
                          </a:solidFill>
                          <a:latin typeface="Open Sans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9680" marR="1396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e0e0e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39680" rIns="139680" tIns="55800" bIns="55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11111"/>
                          </a:solidFill>
                          <a:latin typeface="Open Sans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9680" marR="1396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e0e0e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39680" rIns="139680" tIns="55800" bIns="55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11111"/>
                          </a:solidFill>
                          <a:latin typeface="Open Sans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9680" marR="1396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e0e0e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39680" rIns="139680" tIns="55800" bIns="55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11111"/>
                          </a:solidFill>
                          <a:latin typeface="Open Sans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9680" marR="1396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e0e0e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39680" rIns="139680" tIns="55800" bIns="55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9680" marR="1396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e0e0e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Сочи 20-14: Вопрос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13840" y="928440"/>
            <a:ext cx="84121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т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         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нес сборной России пятое золото Паралимпийских иг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5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06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Сочи 20-14: Вопрос5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Прямоугольник 4"/>
          <p:cNvSpPr/>
          <p:nvPr/>
        </p:nvSpPr>
        <p:spPr>
          <a:xfrm>
            <a:off x="2503080" y="271476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11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Прямоугольник 4"/>
          <p:cNvSpPr/>
          <p:nvPr/>
        </p:nvSpPr>
        <p:spPr>
          <a:xfrm>
            <a:off x="1071720" y="2071800"/>
            <a:ext cx="692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ыжник Роман Петуш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Ребусы: Вопрос 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Прямоугольник 5"/>
          <p:cNvSpPr/>
          <p:nvPr/>
        </p:nvSpPr>
        <p:spPr>
          <a:xfrm>
            <a:off x="500040" y="10717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т продукт содержит большое количество витамина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rcRect l="21325" t="0" r="20040" b="0"/>
          <a:stretch/>
        </p:blipFill>
        <p:spPr>
          <a:xfrm>
            <a:off x="1214280" y="2286000"/>
            <a:ext cx="6512040" cy="2760840"/>
          </a:xfrm>
          <a:prstGeom prst="rect">
            <a:avLst/>
          </a:prstGeom>
          <a:ln w="0">
            <a:noFill/>
          </a:ln>
        </p:spPr>
      </p:pic>
      <p:grpSp>
        <p:nvGrpSpPr>
          <p:cNvPr id="317" name="AutoShape 65"/>
          <p:cNvGrpSpPr/>
          <p:nvPr/>
        </p:nvGrpSpPr>
        <p:grpSpPr>
          <a:xfrm>
            <a:off x="5224320" y="4608360"/>
            <a:ext cx="3975120" cy="2109960"/>
            <a:chOff x="5224320" y="4608360"/>
            <a:chExt cx="3975120" cy="2109960"/>
          </a:xfrm>
        </p:grpSpPr>
        <p:pic>
          <p:nvPicPr>
            <p:cNvPr id="318" name="AutoShape 65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5224320" y="4608360"/>
              <a:ext cx="397512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245280" y="5234040"/>
              <a:ext cx="165564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Ребусы: Вопрос1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Прямоугольник 4"/>
          <p:cNvSpPr/>
          <p:nvPr/>
        </p:nvSpPr>
        <p:spPr>
          <a:xfrm>
            <a:off x="3008160" y="2714760"/>
            <a:ext cx="234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имон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23" name="AutoShape 65" descr=""/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Ребусы: Вопрос 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Прямоугольник 5"/>
          <p:cNvSpPr/>
          <p:nvPr/>
        </p:nvSpPr>
        <p:spPr>
          <a:xfrm>
            <a:off x="500040" y="1071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ойчивость организма к заболева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1004760" y="2324160"/>
            <a:ext cx="7134480" cy="2209680"/>
          </a:xfrm>
          <a:prstGeom prst="rect">
            <a:avLst/>
          </a:prstGeom>
          <a:ln w="0">
            <a:noFill/>
          </a:ln>
        </p:spPr>
      </p:pic>
      <p:grpSp>
        <p:nvGrpSpPr>
          <p:cNvPr id="328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29" name="AutoShape 65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Ребусы: Вопрос2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Прямоугольник 4"/>
          <p:cNvSpPr/>
          <p:nvPr/>
        </p:nvSpPr>
        <p:spPr>
          <a:xfrm>
            <a:off x="3013200" y="2714760"/>
            <a:ext cx="387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ммунитет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34" name="AutoShape 65" descr=""/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Ребусы: Вопрос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Прямоугольник 5"/>
          <p:cNvSpPr/>
          <p:nvPr/>
        </p:nvSpPr>
        <p:spPr>
          <a:xfrm>
            <a:off x="500040" y="1071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з этого невозможно полноценно ж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428760" y="2324160"/>
            <a:ext cx="8286480" cy="2209680"/>
          </a:xfrm>
          <a:prstGeom prst="rect">
            <a:avLst/>
          </a:prstGeom>
          <a:ln w="0">
            <a:noFill/>
          </a:ln>
        </p:spPr>
      </p:pic>
      <p:grpSp>
        <p:nvGrpSpPr>
          <p:cNvPr id="339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40" name="AutoShape 65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Ребусы: Вопрос3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Прямоугольник 4"/>
          <p:cNvSpPr/>
          <p:nvPr/>
        </p:nvSpPr>
        <p:spPr>
          <a:xfrm>
            <a:off x="3013560" y="2714760"/>
            <a:ext cx="321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45" name="AutoShape 65" descr=""/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Ребусы: Вопрос 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Прямоугольник 5"/>
          <p:cNvSpPr/>
          <p:nvPr/>
        </p:nvSpPr>
        <p:spPr>
          <a:xfrm>
            <a:off x="500040" y="10717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щества, которые способствуют укреплению здоро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428760" y="2324160"/>
            <a:ext cx="8286480" cy="2209680"/>
          </a:xfrm>
          <a:prstGeom prst="rect">
            <a:avLst/>
          </a:prstGeom>
          <a:ln w="0">
            <a:noFill/>
          </a:ln>
        </p:spPr>
      </p:pic>
      <p:grpSp>
        <p:nvGrpSpPr>
          <p:cNvPr id="350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51" name="AutoShape 65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87716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езусловно, если нетренированный человек будет участвовать в соревнованиях по бег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ЗОЖ: Вопрос1. Отв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6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Ребусы: Вопрос4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Прямоугольник 4"/>
          <p:cNvSpPr/>
          <p:nvPr/>
        </p:nvSpPr>
        <p:spPr>
          <a:xfrm>
            <a:off x="3018240" y="2714760"/>
            <a:ext cx="351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итамин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56" name="AutoShape 65" descr=""/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Ребусы: Вопрос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Прямоугольник 5"/>
          <p:cNvSpPr/>
          <p:nvPr/>
        </p:nvSpPr>
        <p:spPr>
          <a:xfrm>
            <a:off x="500040" y="1071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необходимо организму после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428760" y="2324160"/>
            <a:ext cx="8286480" cy="2209680"/>
          </a:xfrm>
          <a:prstGeom prst="rect">
            <a:avLst/>
          </a:prstGeom>
          <a:ln w="0">
            <a:noFill/>
          </a:ln>
        </p:spPr>
      </p:pic>
      <p:grpSp>
        <p:nvGrpSpPr>
          <p:cNvPr id="361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62" name="AutoShape 65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Ребусы: Вопрос5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Прямоугольник 4"/>
          <p:cNvSpPr/>
          <p:nvPr/>
        </p:nvSpPr>
        <p:spPr>
          <a:xfrm>
            <a:off x="3011400" y="271476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тдых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67" name="AutoShape 65" descr=""/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ЗОЖ: Вопрос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85480" y="1071360"/>
            <a:ext cx="841212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семье два сына. Один из них каждое утро умывается холодной водой, другой – теплой. Кто из них реже болеет простудными заболеваниями? Почем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6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87716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Холодная вода – средство закаливания, поэтому реже простужается первый мальчи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ЗОЖ: Вопрос2. Отв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7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ЗОЖ: Вопрос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785600"/>
            <a:ext cx="8412120" cy="20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чему, поиграв с животными, необходимо вымыть руки, даже не дожидаясь ед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7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87716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 шерсти животного могут находиться яйца глистов и множество микробо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ЗОЖ: Вопрос3. Отв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8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ЗОЖ: Вопрос 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785600"/>
            <a:ext cx="8412120" cy="20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чему нельзя самостоятельно голодать ради красивой фигур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8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20:49:54Z</dcterms:created>
  <dc:creator>student</dc:creator>
  <dc:description/>
  <dc:language>en-US</dc:language>
  <cp:lastModifiedBy>denis</cp:lastModifiedBy>
  <dcterms:modified xsi:type="dcterms:W3CDTF">2014-04-22T17:21:43Z</dcterms:modified>
  <cp:revision>64</cp:revision>
  <dc:subject/>
  <dc:title>Слайд 1</dc:title>
</cp:coreProperties>
</file>