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9.jpeg" ContentType="image/jpeg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00850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004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6360" cy="44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dt" idx="7"/>
          </p:nvPr>
        </p:nvSpPr>
        <p:spPr>
          <a:xfrm>
            <a:off x="3852360" y="0"/>
            <a:ext cx="29466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43560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52360" y="9435600"/>
            <a:ext cx="29466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2B85C-5B56-44B8-8B03-F014C6B2C6D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3852360" y="9435600"/>
            <a:ext cx="29466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ABEAA-DC3A-4E8C-8FA4-EEB870F1C9E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943560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852360" y="0"/>
            <a:ext cx="29466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0760" y="4717800"/>
            <a:ext cx="543852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3852360" y="9435600"/>
            <a:ext cx="29466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6F64E-B661-45EE-87F4-38B0889310A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943560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852360" y="0"/>
            <a:ext cx="29466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6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636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3852360" y="9435600"/>
            <a:ext cx="29466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91F1E-C987-4F5D-9535-32DD1DF31D1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943560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852360" y="0"/>
            <a:ext cx="29466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6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79320" y="4717800"/>
            <a:ext cx="544032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3852360" y="9435600"/>
            <a:ext cx="29466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BFD00-F97D-43FA-99A3-721F0B98EA9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943560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852360" y="0"/>
            <a:ext cx="29466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6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9320" y="4717800"/>
            <a:ext cx="544032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3852360" y="9435600"/>
            <a:ext cx="29466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D9208-66A9-4E08-A9C6-474A5EEF7E1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943560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852360" y="0"/>
            <a:ext cx="29466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6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79320" y="4717800"/>
            <a:ext cx="544032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3852360" y="9435600"/>
            <a:ext cx="29466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C19DC-AB7A-45A5-A39D-7569D06D281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943560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852360" y="0"/>
            <a:ext cx="29466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6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79320" y="4717800"/>
            <a:ext cx="544032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36F5-8E60-4884-B647-032974C1E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D0B9-6DAC-4667-A516-853278DC9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09A7-0F42-4461-A8AB-86543CC10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4A6D-3491-4AC3-BE3E-3B45395F2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EDD9B-1121-45E3-87C5-149E33525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28A0C-B6A5-4B49-8870-B77FFD07A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97052-E192-4FEF-9034-D66B2901F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4CFDE-F301-48AC-B319-268D4303E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826A6-3C8F-4A7E-9479-E23029E2D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AEC92-6C16-4752-AE18-F8069946D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70207-20D7-4DDC-862A-20F88FAA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C831-06F7-4800-A27E-C505E1B28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4C943-E186-4493-99BB-C35D4065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76E0E-5AB2-4B8D-8CCB-CAE7F30A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18A41-DE25-411D-8C21-E285B577B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E739A-4731-49FC-9FD7-DEE7F8ADA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3B4F9-BE5E-49DB-AB2E-65ED3996F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3D14-E27F-40D6-82A3-4BA1708C5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FE6D-9EE4-4541-BFFD-736BBC430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296C-1A25-4A6D-819E-50C1B363E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06D5-813D-4D67-97EB-1189FB58F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09B6-8A95-4ED6-9ABD-B4508938D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05F1-2286-4649-9E88-C785A33A5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57F2-888E-483F-A999-10A74428B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E5C47-774E-4335-B4CD-2BD8FBFFACC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CCC4F-8AAC-4B13-9D98-E3EFE4C577B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Arial"/>
              </a:rPr>
              <a:t>Что такое ВИЧ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497800" cy="46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ирус иммунодефицита человека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рушая иммунную систему человека, ВИЧ способствует развитию у него других инфекционных заболеваний, так как иммунная система теряет способность защищать организм от болезней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еловек, инфицированный ВИЧ, со временем становится более восприимчивым даже к таким болезням, которые для здоровых людей не представляют никакой опасности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еловек, заразившийся ВИЧ, называют ВИЧ-инфицированный, ВИЧ-позитивный или ВИЧ-серопозитивный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520120" cy="142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Стадии ВИЧ-инфекци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40360" y="1628640"/>
            <a:ext cx="1373040" cy="36828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Зараж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2852640"/>
            <a:ext cx="3095640" cy="368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тадия острой инфекц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11280" y="2565360"/>
            <a:ext cx="1944720" cy="916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иремия и диссеминация вирус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8640" y="4076640"/>
            <a:ext cx="3131280" cy="368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оявление антител к ВИЧ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77080" y="2492280"/>
            <a:ext cx="1871640" cy="1191240"/>
          </a:xfrm>
          <a:prstGeom prst="rect">
            <a:avLst/>
          </a:prstGeom>
          <a:solidFill>
            <a:srgbClr val="00ffcc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тупление лимфоцитов и крови в лимф.орган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64680" y="4724280"/>
            <a:ext cx="2239560" cy="368280"/>
          </a:xfrm>
          <a:prstGeom prst="rect">
            <a:avLst/>
          </a:prstGeom>
          <a:solidFill>
            <a:srgbClr val="00ff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нижение вирем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659640" y="4724280"/>
            <a:ext cx="1800000" cy="119124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Накопление ВИЧ в лимфоидных органа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08360" y="5373720"/>
            <a:ext cx="2232000" cy="642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Бессимптомная стад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859280" y="234936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59280" y="3213000"/>
            <a:ext cx="0" cy="863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788000" y="4508640"/>
            <a:ext cx="0" cy="7920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1835280" y="2060640"/>
            <a:ext cx="2735280" cy="431640"/>
          </a:xfrm>
          <a:prstGeom prst="line">
            <a:avLst/>
          </a:prstGeom>
          <a:ln w="93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556000" y="3141720"/>
            <a:ext cx="647640" cy="0"/>
          </a:xfrm>
          <a:prstGeom prst="line">
            <a:avLst/>
          </a:prstGeom>
          <a:ln w="936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6443640" y="3141720"/>
            <a:ext cx="433440" cy="0"/>
          </a:xfrm>
          <a:prstGeom prst="line">
            <a:avLst/>
          </a:prstGeom>
          <a:ln w="936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268000" y="4292640"/>
            <a:ext cx="1079640" cy="431640"/>
          </a:xfrm>
          <a:prstGeom prst="line">
            <a:avLst/>
          </a:prstGeom>
          <a:ln w="93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443640" y="4221000"/>
            <a:ext cx="1297080" cy="503280"/>
          </a:xfrm>
          <a:prstGeom prst="line">
            <a:avLst/>
          </a:prstGeom>
          <a:ln w="93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411280" y="5157720"/>
            <a:ext cx="1224000" cy="503280"/>
          </a:xfrm>
          <a:prstGeom prst="line">
            <a:avLst/>
          </a:prstGeom>
          <a:ln w="936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6011640" y="5661000"/>
            <a:ext cx="64764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508720" y="2060640"/>
            <a:ext cx="2376360" cy="360360"/>
          </a:xfrm>
          <a:prstGeom prst="line">
            <a:avLst/>
          </a:prstGeom>
          <a:ln w="93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06480" y="2349360"/>
            <a:ext cx="764280" cy="368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3-6 н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77760" y="3573360"/>
            <a:ext cx="764280" cy="368280"/>
          </a:xfrm>
          <a:prstGeom prst="rect">
            <a:avLst/>
          </a:prstGeom>
          <a:solidFill>
            <a:srgbClr val="00ff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2-8 н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06480" y="4797360"/>
            <a:ext cx="764280" cy="368280"/>
          </a:xfrm>
          <a:prstGeom prst="rect">
            <a:avLst/>
          </a:prstGeom>
          <a:solidFill>
            <a:srgbClr val="00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1-2 н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724280" y="6019920"/>
            <a:ext cx="0" cy="3045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108240" y="6315120"/>
            <a:ext cx="3673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429000" y="6324480"/>
            <a:ext cx="423864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Стадия клинических проявлени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2742840" y="6553080"/>
            <a:ext cx="6094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" y="6019920"/>
            <a:ext cx="2232000" cy="642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Терминальная стад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224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ac7"/>
                </a:solidFill>
                <a:latin typeface="Times New Roman"/>
                <a:ea typeface="Tahoma"/>
              </a:rPr>
              <a:t>       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ahoma"/>
              </a:rPr>
              <a:t>Особенности ВИЧ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79280" y="1844280"/>
            <a:ext cx="87249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00"/>
                </a:solidFill>
                <a:latin typeface="Arial"/>
                <a:ea typeface="Tahoma"/>
              </a:rPr>
              <a:t>Высокая избирательность – поражает только 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Tahoma"/>
              </a:rPr>
              <a:t>CD4</a:t>
            </a:r>
            <a:r>
              <a:rPr b="1" lang="ru-RU" sz="2600" spc="-1" strike="noStrike">
                <a:solidFill>
                  <a:srgbClr val="ffff00"/>
                </a:solidFill>
                <a:latin typeface="Arial"/>
                <a:ea typeface="Tahoma"/>
              </a:rPr>
              <a:t>-клетки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00"/>
                </a:solidFill>
                <a:latin typeface="Arial"/>
                <a:ea typeface="Tahoma"/>
              </a:rPr>
              <a:t>Очень склонен к мутациям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ffff00"/>
                </a:solidFill>
                <a:uFillTx/>
                <a:latin typeface="Arial"/>
                <a:ea typeface="Tahoma"/>
              </a:rPr>
              <a:t>Каждый</a:t>
            </a:r>
            <a:r>
              <a:rPr b="1" lang="ru-RU" sz="2600" spc="-1" strike="noStrike">
                <a:solidFill>
                  <a:srgbClr val="ffff00"/>
                </a:solidFill>
                <a:latin typeface="Arial"/>
                <a:ea typeface="Tahoma"/>
              </a:rPr>
              <a:t> новый вирус отличается от исходного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00"/>
                </a:solidFill>
                <a:latin typeface="Arial"/>
                <a:ea typeface="Tahoma"/>
              </a:rPr>
              <a:t>Вирус ускользает от контроля со стороны организма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00"/>
                </a:solidFill>
                <a:latin typeface="Arial"/>
                <a:ea typeface="Tahoma"/>
              </a:rPr>
              <a:t>Способность к сохранению без размножения (т.н. латенция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00"/>
                </a:solidFill>
                <a:latin typeface="Arial"/>
                <a:ea typeface="Tahoma"/>
              </a:rPr>
              <a:t>Хранится в клетках иммунологической памяти на протяжении всей жизни человека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ac7"/>
                </a:solidFill>
                <a:latin typeface="Times New Roman"/>
                <a:ea typeface="Tahoma"/>
              </a:rPr>
              <a:t>                  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ahoma"/>
              </a:rPr>
              <a:t>Свойства вируса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867564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89520" indent="-355680">
              <a:spcBef>
                <a:spcPts val="6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Tahoma"/>
              </a:rPr>
              <a:t>Во внешней среде неустойчив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71400" indent="-2534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Tahoma"/>
              </a:rPr>
              <a:t>Не выдерживает высушивания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71400" indent="-2534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Tahoma"/>
              </a:rPr>
              <a:t>Погибает при температуре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+70 +80 через 10 минут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Tahoma"/>
              </a:rPr>
              <a:t>, погибает во всех известных дезинфектантах и детергентах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71400" indent="-2534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Tahoma"/>
              </a:rPr>
              <a:t>Заразен умеренно (меньше, чем вирусы гепатитов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89520" indent="-355680">
              <a:spcBef>
                <a:spcPts val="6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Tahoma"/>
              </a:rPr>
              <a:t>В плазме живет не более 6 часов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71400" indent="-2534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Tahoma"/>
              </a:rPr>
              <a:t>Срок жизни в лимфоцитах значительно дольше (равен длительности жизни клетки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52680" y="1100160"/>
            <a:ext cx="7340400" cy="61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ПУТИ ПЕРЕДАЧИ</a:t>
            </a:r>
            <a:br>
              <a:rPr sz="4000"/>
            </a:br>
            <a:endParaRPr b="0" lang="en-US" sz="5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20680" y="196488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ловой (гомо- и гетеросексуальный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арентеральный (шприцевой, инструментальный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ертикальный (трансплацентарный, интранатальный, с молоком матери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рансфузионный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рансплантационнный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ерминативный (через сперматозоиды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bcbcb"/>
                </a:solidFill>
                <a:latin typeface="Arial"/>
              </a:rPr>
              <a:t>Как передается ВИЧ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-36360" y="771480"/>
            <a:ext cx="9180360" cy="61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94920" y="1911240"/>
            <a:ext cx="8785080" cy="518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5960" indent="-345960">
              <a:lnSpc>
                <a:spcPct val="90000"/>
              </a:lnSpc>
              <a:spcBef>
                <a:spcPts val="524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Воздушно-капельным путем (при кашле или чихании)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524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Через укусы насекомых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524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Через прикосновения или объятия 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524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Через поцелуи 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524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При посещении плавательных бассейнов и других мест общественного купания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524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При посещении общественного туалета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524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При рукопожатиях 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524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При контактах с ВИЧ-инфицированным на работе, в школе или дома 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524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При пользовании общим телефоном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524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Через питьевую воду и еду, а также при приготовлении пищи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524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При совместном использовании чашек, стаканов, тарелок и иную столовую посуду и предметы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1649160" y="714240"/>
            <a:ext cx="6667560" cy="84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Нельзя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заразиться ВИЧ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-36360" y="777960"/>
            <a:ext cx="9198000" cy="60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bcbcb"/>
                </a:solidFill>
                <a:latin typeface="Arial"/>
              </a:rPr>
              <a:t>Что такое СПИД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280360" cy="597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Arial"/>
              </a:rPr>
              <a:t>Синдром приобретенного иммунодефицита – терминальная стадия ВИЧ-инфекции, необратимая декмопенсация. Заболевание неуклонно прогрессирует даже на фоне адекватной противовирусной терапии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Arial"/>
              </a:rPr>
              <a:t>Это сочетание болезней, вызванных недостаточной работой иммунной системы из-за поражения её вирусом иммунодефицита человека (ВИЧ)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Arial"/>
              </a:rPr>
              <a:t>Почему от СПИДа умирают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ИЧ разрушает иммунитет человека и организм становится «легкой добычей» для других инфекций, а также для развития опухолей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685800" y="2050920"/>
            <a:ext cx="7772400" cy="401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ccff33"/>
                </a:solidFill>
                <a:latin typeface="Arial"/>
              </a:rPr>
              <a:t>Классификация ВИЧ-инфекции</a:t>
            </a:r>
            <a:endParaRPr b="1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ff33"/>
                </a:solidFill>
                <a:latin typeface="Arial"/>
              </a:rPr>
              <a:t>         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ff33"/>
                </a:solidFill>
                <a:latin typeface="Arial"/>
              </a:rPr>
              <a:t>( РНМЦ ПБ СПИД ,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ff33"/>
                </a:solidFill>
                <a:latin typeface="Arial"/>
              </a:rPr>
              <a:t>В.В.Покровский и О.Г.Юрин, 2001г.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6360" y="763560"/>
            <a:ext cx="907272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79280" y="726120"/>
            <a:ext cx="896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1.Стадия инкубации</a:t>
            </a:r>
            <a:r>
              <a:rPr b="0" lang="ru-RU" sz="24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период от момента заражения до ответа организма на него. 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От 3 недель до 3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(6)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 месяцев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2. Стадия ранней ВИЧ-инфекции</a:t>
            </a:r>
            <a:r>
              <a:rPr b="0" lang="ru-RU" sz="24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первичный ответ организма на инфекцию в виде выработки антител, появления неспецифической клинической симптоматики, развития транзиторного иммунодефицита и проходящих вторичных заболеваний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~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 год). Эта стадия характеризуется активной репликацией ВИЧ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стадии ранней ВИЧ-инфекции различают</a:t>
            </a:r>
            <a:r>
              <a:rPr b="0" lang="ru-RU" sz="24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арианты течения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Бессимптомная сероконверси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Острая ВИЧ-инфекция без вторичных заболеваний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Острая ВИЧ-инфекция с вторичными заболеваниями;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(грибковые, вирусные вторичные инфекции – проявления регистрируются в течение 2-3 недель);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660680" y="1488960"/>
            <a:ext cx="382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380880" y="1268280"/>
          <a:ext cx="8763120" cy="5445000"/>
        </p:xfrm>
        <a:graphic>
          <a:graphicData uri="http://schemas.openxmlformats.org/drawingml/2006/table">
            <a:tbl>
              <a:tblPr/>
              <a:tblGrid>
                <a:gridCol w="4381560"/>
                <a:gridCol w="4381560"/>
              </a:tblGrid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имптом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явление %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ихорад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7c8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ып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7c80"/>
                    </a:solidFill>
                  </a:tcPr>
                </a:tc>
              </a:tr>
              <a:tr h="53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Стомати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оль в сустава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7c80"/>
                    </a:solidFill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Фаринги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Потеря аппетит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7c80"/>
                    </a:solidFill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Потеря веса (&gt;2,5 кг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домога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7c80"/>
                    </a:solidFill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оль в мышца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7c80"/>
                    </a:solidFill>
                  </a:tcPr>
                </a:tc>
              </a:tr>
            </a:tbl>
          </a:graphicData>
        </a:graphic>
      </p:graphicFrame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748720" cy="14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Симптомы острого периода ВИЧ-инфекции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179280" y="1268280"/>
            <a:ext cx="8748720" cy="61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3. Субклиническая стад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–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латентный период, когда компенсаторные возможности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акроорганизма способны поддерживать уровень иммунитета, достаточный для защиты от оппортунистических заболеваний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ВИЧ-инфицированный  человек может чувствовать себя здоровым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Проявления – увеличенные лимфоузлы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Длительность этой стадии – от 2 до 20 и более лет. В среднем 6 – 7 лет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4. Стадия вторичных заболеваний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4А,4Б,4В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– период обратимой  декомпенсации, когда на фоне угнетения иммунитета развиваются вторичные заболевания, но возможны ремиссии (как спонтанные, так и терапевтические) и возможно даже возвращение в латентное состояние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Arial"/>
              </a:rPr>
              <a:t>Истощается популяция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CD4</a:t>
            </a:r>
            <a:r>
              <a:rPr b="1" lang="ru-RU" sz="3200" spc="-1" strike="noStrike">
                <a:solidFill>
                  <a:srgbClr val="ffff66"/>
                </a:solidFill>
                <a:latin typeface="Arial"/>
              </a:rPr>
              <a:t>-клеток за счет продолжающегося размножения в организме ВИЧ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Arial"/>
              </a:rPr>
              <a:t>Продолжительность – 3 -10 лет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Фаза 4А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обычно начинает развиваться через 3-5 лет от момента заражения. Для нее характерно потеря массы тела менее 10%; развитие бактериальных, грибковых и вирусных поражений слизистых и кожных покровов: поверхностная локализованная кожно-слизистая форма рецидивирующего простого герпеса, кандидоз слизистых оболочек дерматомикозы, себорея и другие; рецидивирующий опоясывающий лишай; повторные  воспалительные заболевания верхних дыхательных путей (фарингиты, синуситы, отиты, трахеобронхиты и другие). В этой фазе периоды обострения заболеваний могут чередоваться с периодами ремиссии , но имеют довольно добро-качественное течение и купируются обычными терапевтическими средствами.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216000" y="449280"/>
            <a:ext cx="8928000" cy="640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00"/>
                </a:solidFill>
                <a:latin typeface="Arial"/>
              </a:rPr>
              <a:t>Фаза 4Б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вивается обычно через 5-7 лет от момента заражения и характеризуется: необъяснимой диареей или лихорадкой более 1 месяца; волосатой лейкоплакией языка; развитием туберкулеза легких; повторными или стойкими вирусными, бактериальными, грибковыми, протозойными  поражениями внутренних органов; кожными  поражениями, которые носят более глубокий характер и склонны к затяжному течению; повторным или диссеминированным  опоясывающим лишаем; локазованной саркомой Капоши.   Потеря веса  составляет более 10% от исходного. В данной фазе периоды обострения заболеваний  чередуются с периодами  ремиссии, однако изменения становятся более глубокими, не реагируют на стандартные методы лечения, приобретают упорный, затяжной характер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Фаза 4 В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развивается через 7-10 лет. Характеризуется развитием тяжелых, угрожающих жизни вторичных заболеваний, их генерализованным   характером ( генерализованные бактериальные, вирусные, грибковые, протозойные и паразитарные заболевания); поражением ЦНС  различной этиологии; кандидозом пищевода, бронхов, легких; развитием внелегочного туберкулеза; атипичными микобактериозами; пневмоцистной пневмонией; кахексией, диссеминированной саркомой Капоши. 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В этой фазе периоды обострения могут чередоваться с периодами ремиссии заболевания.   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0066cc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В каждой из них выделяют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- фазу прогрессирования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( спонтанное; после ранее проводимой противовирусной  терапии; на фоне противовирусной терапии);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200" spc="-1" strike="noStrike">
                <a:solidFill>
                  <a:srgbClr val="ffff00"/>
                </a:solidFill>
                <a:latin typeface="Arial"/>
              </a:rPr>
              <a:t>- 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фазу ремиссии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( спонтанная; после ранее проводимой противовирусной терапии;  на фоне противовирусной терапии).                      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Однако, без учета уровня вирусной нагрузки и количества С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4 клеток весьма сложно и даже невозможно выделить фазу ремиссии.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5. Терминальная стад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– заболевание неуклонно прогрессирует даже на фоне адекватной противовирусной терапии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34520" y="188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bcbcb"/>
                </a:solidFill>
                <a:latin typeface="Arial"/>
              </a:rPr>
              <a:t>Как узнать произошло ли заражение?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50920" y="1980720"/>
            <a:ext cx="86421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абораторная диагностика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вый уровень диагностики - обнаружение антител к ВИЧ – ИФА – </a:t>
            </a: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иммуноферментный анализ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ывает ложно-положительный результат в 1% случаев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. Второй уровень диагностики - </a:t>
            </a: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реакция иммуноблоттинг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 один из методов определения антител к ВИЧ. Более чувствительный чем ИФА, но намного дороже. После положительного ИФА, положительный ИБ – точность диагноза 99,9%. Диагноз ВИЧ ставиться только после ИБ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сли ИБ «-» после «+» ИФА, то ИФА был ложным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Б бывает не только «-» или «+», но и неопределенным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определенный результат иммуноблота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) если в крови мало антител (заражение произошло недавно) и имуноблот станет положительным позже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) Неопребеленный имуноблот при отсутствии ВИЧ может быть при гепатите, некоторых хронических заболеваниях обменного характера или при беременности. В этом случае имуноблот станет отрицательным, либо будет обнаружена причина неопределенного результата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34520" y="188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bcbcb"/>
                </a:solidFill>
                <a:latin typeface="Arial"/>
              </a:rPr>
              <a:t>Когда можно считать тест на ВИЧ достоверным?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50920" y="1980720"/>
            <a:ext cx="86421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Период окна» - временной интервал, в течение которого в организме ВИЧ-инфицированного не обнаруживаются антитела. Обследование в это время может дать отрицательный результат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Чтобы быть уверенным в отрицательном результате теста, необходимо повторить исследование крови в ИФА через 3 и 6 месяцев после ситуации, в результате которой могло произойти инфицирование ВИЧ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34520" y="188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bcbcb"/>
                </a:solidFill>
                <a:latin typeface="Arial"/>
              </a:rPr>
              <a:t>Как долго нужно ждать результата?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0920" y="1980720"/>
            <a:ext cx="86421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ст ИФА можно сделать в течение этого же дня, но в большинстве лабораторий этот срок составляет от 1-2 дней до 2 недель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учше уточнить этот вопрос до сдачи анализа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Arial"/>
              </a:rPr>
              <a:t>Армия иммунитета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1280" y="817560"/>
            <a:ext cx="9072720" cy="60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34520" y="188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bcbcb"/>
                </a:solidFill>
                <a:latin typeface="Arial"/>
              </a:rPr>
              <a:t>Тест, который определяет наличие ВИЧ быстрее других.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50920" y="1980720"/>
            <a:ext cx="86421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ст полимеразной цепной реакции (ПЦР) – определяет генетический материал самого вируса. Имеет высокую достоверность через 10 дней после возможного заражения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ногда его делают люди, которым тяжело ждать 3 месяца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других случаях его назначает врач, например, детям, рожденным от ВИЧ-положительных матерей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аже после ПЦР необходимо подтверждающее тестирование методом ИФА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93440" y="4852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bcbcb"/>
                </a:solidFill>
                <a:latin typeface="Arial"/>
              </a:rPr>
              <a:t>Где можно сделать тест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50920" y="1980720"/>
            <a:ext cx="86421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ст ИФА можно сделать в обычной поликлинике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акцию имуноблоттинга делают в центрах по профилактике и борьбе со СПИДом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стирование бывает конфиденциальным и анонимным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некоторых кабинетах существует до – и послетестовое консультирование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юди, решившие узнать свой ВИЧ-статус, часто нуждаются в психологической поддержке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76360" y="259920"/>
            <a:ext cx="87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bcbcb"/>
                </a:solidFill>
                <a:latin typeface="Arial"/>
              </a:rPr>
              <a:t>Стоит ли успокоиться, если результат теста отрицательный?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134200" cy="447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аточно просто регулярно сдавать анализ: если поведение остается рискованным, то через какое-то время результат теста может оказаться положительным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лучение положительного результата – хороший повод узнать как можно больше о профилактике ВИЧ и принять решение снизить риск заражения для себя и своих близких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-108000" y="774720"/>
            <a:ext cx="9269640" cy="61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bcbcb"/>
                </a:solidFill>
                <a:latin typeface="Arial"/>
              </a:rPr>
              <a:t>Когда начинать лечение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8964720" cy="532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Рано или поздно большинству из тех, у кого выявлена ВИЧ-инфекция, потребуется лечение. У разных людей это происходит в разное время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ъясняется это тем, что ВИЧ-инфекция у разных людей прогрессирует с различной скоростью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мерно одна треть людей, живущих с ВИЧ, остается здоровыми в течение 10 лет после инфицирования, даже не получая лечения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коло 60% людей, живущих с ВИЧ, лечение требуется через 4-5 лет после инфицирования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 5% людей могут заболеть значительно быстрее (в течение 2 – 3 лет) и будут нуждаться в лечении намного раньше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 10% живут 15-20 лет без необходимости начинать лечение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bcbcb"/>
                </a:solidFill>
                <a:latin typeface="Arial"/>
              </a:rPr>
              <a:t>Когда начинать лечение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3883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 правило, для выяснения необходимости начинать лечение, требуется осмотр врача и специальные анализы – на CD4 и, возможно, на вирусную нагрузку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 тех пор пока число CD4 выше 350, иммунная система еще хорошо работает.  Если уровень CD4 оказывается ниже 350, повышается риск развития инфекций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уровне СD4 ниже 200 повышается риск развития пневмоцистной пневмонии (ПЦП)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иск развития серьезных заболеваний еще больше увеличивается, если число CD4 падает ниже 100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ечение одного больного обходится в год от 10 до 12 тыс. долларов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-36360" y="903240"/>
            <a:ext cx="9198000" cy="59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595008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257040"/>
            <a:ext cx="9144000" cy="56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-36360" y="825480"/>
            <a:ext cx="9180360" cy="60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0" y="990720"/>
          <a:ext cx="9144000" cy="58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90720"/>
                    <a:ext cx="914400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Жизненный цикл вируса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523880" y="1371600"/>
            <a:ext cx="6096240" cy="53341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48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Присоединение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827892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bcbcb"/>
                </a:solidFill>
                <a:latin typeface="Arial"/>
              </a:rPr>
              <a:t>Поражение армии иммунитета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-88920" y="820800"/>
            <a:ext cx="9269280" cy="60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755640" y="1773360"/>
            <a:ext cx="13334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ражение ВИЧ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73880" y="276372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24360" y="4365720"/>
            <a:ext cx="11001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ровень вирусной нагрузки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84720" y="2924280"/>
            <a:ext cx="103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АТ к ВИЧ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093080" y="4581360"/>
            <a:ext cx="18000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D4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+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-лимфоцит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309440" y="5791320"/>
            <a:ext cx="53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tiemp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19280" y="6021360"/>
            <a:ext cx="1657440" cy="426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ериод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ероконверси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57360" y="3048120"/>
            <a:ext cx="0" cy="2844720"/>
          </a:xfrm>
          <a:prstGeom prst="line">
            <a:avLst/>
          </a:prstGeom>
          <a:ln w="12600">
            <a:solidFill>
              <a:srgbClr val="cbcbcb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1547640" y="5877000"/>
            <a:ext cx="5761080" cy="17280"/>
          </a:xfrm>
          <a:prstGeom prst="line">
            <a:avLst/>
          </a:prstGeom>
          <a:ln w="12600">
            <a:solidFill>
              <a:srgbClr val="cbcbc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63640" y="3357720"/>
            <a:ext cx="2376720" cy="2466720"/>
          </a:xfrm>
          <a:custGeom>
            <a:avLst/>
            <a:gdLst/>
            <a:ahLst/>
            <a:rect l="l" t="t" r="r" b="b"/>
            <a:pathLst>
              <a:path w="1497" h="1554">
                <a:moveTo>
                  <a:pt x="0" y="1554"/>
                </a:moveTo>
                <a:lnTo>
                  <a:pt x="518" y="0"/>
                </a:lnTo>
                <a:lnTo>
                  <a:pt x="748" y="1267"/>
                </a:lnTo>
                <a:lnTo>
                  <a:pt x="979" y="1036"/>
                </a:lnTo>
                <a:lnTo>
                  <a:pt x="1036" y="1267"/>
                </a:lnTo>
                <a:lnTo>
                  <a:pt x="1267" y="1151"/>
                </a:lnTo>
                <a:lnTo>
                  <a:pt x="1497" y="1267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140360" y="5140440"/>
            <a:ext cx="772920" cy="233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910040" y="5140440"/>
            <a:ext cx="731880" cy="1825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6300720" y="4141440"/>
            <a:ext cx="355680" cy="6080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6665760" y="3860280"/>
            <a:ext cx="354240" cy="2826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476360" y="2421000"/>
            <a:ext cx="216000" cy="555480"/>
          </a:xfrm>
          <a:custGeom>
            <a:avLst/>
            <a:gdLst/>
            <a:ahLst/>
            <a:rect l="l" t="t" r="r" b="b"/>
            <a:pathLst>
              <a:path w="79" h="78">
                <a:moveTo>
                  <a:pt x="0" y="0"/>
                </a:moveTo>
                <a:lnTo>
                  <a:pt x="41" y="78"/>
                </a:lnTo>
                <a:lnTo>
                  <a:pt x="79" y="0"/>
                </a:lnTo>
                <a:lnTo>
                  <a:pt x="0" y="0"/>
                </a:lnTo>
                <a:close/>
              </a:path>
            </a:pathLst>
          </a:custGeom>
          <a:solidFill>
            <a:srgbClr val="0066cc"/>
          </a:solidFill>
          <a:ln w="856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492360" y="5950080"/>
            <a:ext cx="3168720" cy="356760"/>
            <a:chOff x="3492360" y="5950080"/>
            <a:chExt cx="3168720" cy="356760"/>
          </a:xfrm>
        </p:grpSpPr>
        <p:sp>
          <p:nvSpPr>
            <p:cNvPr id="130" name=""/>
            <p:cNvSpPr/>
            <p:nvPr/>
          </p:nvSpPr>
          <p:spPr>
            <a:xfrm>
              <a:off x="3503160" y="6033240"/>
              <a:ext cx="3157920" cy="2134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00"/>
                  </a:solidFill>
                  <a:latin typeface="Arial"/>
                </a:rPr>
                <a:t>CHRONIC VIRAL RE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492360" y="5950080"/>
              <a:ext cx="589320" cy="356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1547640" y="3357720"/>
            <a:ext cx="5473800" cy="2309760"/>
          </a:xfrm>
          <a:custGeom>
            <a:avLst/>
            <a:gdLst/>
            <a:ahLst/>
            <a:rect l="l" t="t" r="r" b="b"/>
            <a:pathLst>
              <a:path w="3454" h="1267">
                <a:moveTo>
                  <a:pt x="0" y="0"/>
                </a:moveTo>
                <a:lnTo>
                  <a:pt x="11" y="37"/>
                </a:lnTo>
                <a:lnTo>
                  <a:pt x="251" y="37"/>
                </a:lnTo>
                <a:lnTo>
                  <a:pt x="324" y="48"/>
                </a:lnTo>
                <a:lnTo>
                  <a:pt x="347" y="60"/>
                </a:lnTo>
                <a:lnTo>
                  <a:pt x="358" y="60"/>
                </a:lnTo>
                <a:lnTo>
                  <a:pt x="863" y="633"/>
                </a:lnTo>
                <a:lnTo>
                  <a:pt x="1151" y="633"/>
                </a:lnTo>
                <a:lnTo>
                  <a:pt x="1381" y="461"/>
                </a:lnTo>
                <a:lnTo>
                  <a:pt x="1784" y="346"/>
                </a:lnTo>
                <a:lnTo>
                  <a:pt x="2130" y="346"/>
                </a:lnTo>
                <a:lnTo>
                  <a:pt x="2533" y="403"/>
                </a:lnTo>
                <a:lnTo>
                  <a:pt x="2878" y="633"/>
                </a:lnTo>
                <a:lnTo>
                  <a:pt x="3339" y="1094"/>
                </a:lnTo>
                <a:lnTo>
                  <a:pt x="3454" y="1267"/>
                </a:lnTo>
              </a:path>
            </a:pathLst>
          </a:custGeom>
          <a:noFill/>
          <a:ln w="57240">
            <a:solidFill>
              <a:srgbClr val="cbcbc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16360" y="3500280"/>
            <a:ext cx="2197080" cy="2376720"/>
          </a:xfrm>
          <a:custGeom>
            <a:avLst/>
            <a:gdLst/>
            <a:ahLst/>
            <a:rect l="l" t="t" r="r" b="b"/>
            <a:pathLst>
              <a:path w="1384" h="1497">
                <a:moveTo>
                  <a:pt x="1384" y="0"/>
                </a:moveTo>
                <a:lnTo>
                  <a:pt x="1313" y="2"/>
                </a:lnTo>
                <a:lnTo>
                  <a:pt x="1242" y="8"/>
                </a:lnTo>
                <a:lnTo>
                  <a:pt x="1173" y="18"/>
                </a:lnTo>
                <a:lnTo>
                  <a:pt x="1105" y="31"/>
                </a:lnTo>
                <a:lnTo>
                  <a:pt x="1038" y="48"/>
                </a:lnTo>
                <a:lnTo>
                  <a:pt x="973" y="68"/>
                </a:lnTo>
                <a:lnTo>
                  <a:pt x="908" y="91"/>
                </a:lnTo>
                <a:lnTo>
                  <a:pt x="844" y="117"/>
                </a:lnTo>
                <a:lnTo>
                  <a:pt x="785" y="148"/>
                </a:lnTo>
                <a:lnTo>
                  <a:pt x="723" y="181"/>
                </a:lnTo>
                <a:lnTo>
                  <a:pt x="666" y="217"/>
                </a:lnTo>
                <a:lnTo>
                  <a:pt x="610" y="256"/>
                </a:lnTo>
                <a:lnTo>
                  <a:pt x="556" y="298"/>
                </a:lnTo>
                <a:lnTo>
                  <a:pt x="503" y="342"/>
                </a:lnTo>
                <a:lnTo>
                  <a:pt x="453" y="390"/>
                </a:lnTo>
                <a:lnTo>
                  <a:pt x="405" y="438"/>
                </a:lnTo>
                <a:lnTo>
                  <a:pt x="359" y="490"/>
                </a:lnTo>
                <a:lnTo>
                  <a:pt x="317" y="545"/>
                </a:lnTo>
                <a:lnTo>
                  <a:pt x="274" y="601"/>
                </a:lnTo>
                <a:lnTo>
                  <a:pt x="236" y="661"/>
                </a:lnTo>
                <a:lnTo>
                  <a:pt x="199" y="720"/>
                </a:lnTo>
                <a:lnTo>
                  <a:pt x="167" y="783"/>
                </a:lnTo>
                <a:lnTo>
                  <a:pt x="136" y="849"/>
                </a:lnTo>
                <a:lnTo>
                  <a:pt x="109" y="914"/>
                </a:lnTo>
                <a:lnTo>
                  <a:pt x="84" y="983"/>
                </a:lnTo>
                <a:lnTo>
                  <a:pt x="61" y="1052"/>
                </a:lnTo>
                <a:lnTo>
                  <a:pt x="44" y="1123"/>
                </a:lnTo>
                <a:lnTo>
                  <a:pt x="29" y="1196"/>
                </a:lnTo>
                <a:lnTo>
                  <a:pt x="15" y="1269"/>
                </a:lnTo>
                <a:lnTo>
                  <a:pt x="8" y="1344"/>
                </a:lnTo>
                <a:lnTo>
                  <a:pt x="2" y="1421"/>
                </a:lnTo>
                <a:lnTo>
                  <a:pt x="0" y="1497"/>
                </a:ln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019840" y="3494160"/>
            <a:ext cx="2000160" cy="13032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659560" y="4749840"/>
            <a:ext cx="641160" cy="550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03280" y="333360"/>
            <a:ext cx="7518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ммунологические и вирусологические параметр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течении ВИЧ - инфекци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819840" y="6021360"/>
            <a:ext cx="1644840" cy="289080"/>
            <a:chOff x="6819840" y="6021360"/>
            <a:chExt cx="1644840" cy="289080"/>
          </a:xfrm>
        </p:grpSpPr>
        <p:sp>
          <p:nvSpPr>
            <p:cNvPr id="138" name=""/>
            <p:cNvSpPr/>
            <p:nvPr/>
          </p:nvSpPr>
          <p:spPr>
            <a:xfrm>
              <a:off x="6946200" y="6052680"/>
              <a:ext cx="1431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5 стадия - СПИД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819840" y="6021360"/>
              <a:ext cx="1644840" cy="289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 flipH="1" flipV="1">
            <a:off x="4355640" y="4005000"/>
            <a:ext cx="309564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4284720" y="3213000"/>
            <a:ext cx="1727280" cy="4320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03640" y="2997360"/>
            <a:ext cx="0" cy="280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87280" y="-27000"/>
            <a:ext cx="8532720" cy="52783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0" y="5229360"/>
            <a:ext cx="9144000" cy="17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23:03:36Z</dcterms:created>
  <dc:creator>user</dc:creator>
  <dc:description/>
  <dc:language>en-US</dc:language>
  <cp:lastModifiedBy>Ирина Габер</cp:lastModifiedBy>
  <dcterms:modified xsi:type="dcterms:W3CDTF">2012-10-26T02:00:49Z</dcterms:modified>
  <cp:revision>474</cp:revision>
  <dc:subject/>
  <dc:title>Обзор проекта</dc:title>
</cp:coreProperties>
</file>