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89E-6514-4ED0-84DF-6A3E3B8348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7CEF-B387-4669-ACF7-AC39D70389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38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80B-B278-4789-ABB1-5DA048D93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B355-049D-4EE5-BEE0-6221867CD7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354-0853-4175-B74E-62582658EA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0FF-B6A4-49A7-912A-0062410D7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52360" y="9435600"/>
            <a:ext cx="29466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3A6A-D676-400C-B20F-D72E73906E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403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2E8-1A93-41E9-A4E7-5B59C4B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B41-2224-475F-A74E-D3E94320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81B-4EB0-4340-BE0A-5F7A6F3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D79-64A6-4A12-B41C-C62CCC28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D1B-1498-4E93-B515-9FBB7255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C60-4E6A-42FC-8A68-77C0C89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D34D-4F78-4387-987C-A17BA0A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43A7-30E6-4D92-B40D-DB55EB7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C6C8-386A-4249-B287-0ECBBC0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670-F7A3-440A-A7C4-5639B912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0BA2-89B2-408D-A48B-6C5A0AD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87E-5DF0-4912-B3B8-B3578A9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288-1C2B-468D-95B0-7F72F76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0B5B-0587-42A7-8E43-86FD617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CFC5-25B5-452D-961E-0B6D169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038-206D-4AE7-836E-AE5DA3FC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FFF-0850-4404-9F5A-AB661311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9D5-FA6E-47D6-BEA0-B0E8D0C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C5A-50DF-4FFD-9044-1F4A0862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0E8-3C40-4AD0-AAA4-CA39EA8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667-5B60-408A-A68B-9C76160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467-D179-410B-A9B8-6E18D12D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26-C671-48D5-8CF1-1FD3C1A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273-E0B7-4065-B4D0-8313BAD7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396F-E2F5-40CB-B8B5-765AE334CD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EDD2-CB3F-4843-9B6A-D38FD3408C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Что такое ВИЧ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иммунодефицита человек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ушая иммунную систему человека, ВИЧ способствует развитию у него других инфекционных заболеваний, так как иммунная система теряет способность защищать организм от болезне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, инфицированный ВИЧ, со временем становится более восприимчивым даже к таким болезням, которые для здоровых людей не представляют никакой опас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, заразившийся ВИЧ, называют ВИЧ-инфицированный, ВИЧ-позитивный или ВИЧ-серопозитивны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20120" cy="14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и ВИЧ-инфекци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1628640"/>
            <a:ext cx="137304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ра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852640"/>
            <a:ext cx="30956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адия острой инфе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565360"/>
            <a:ext cx="1944720" cy="91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ремия и диссеминация виру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8640" y="4076640"/>
            <a:ext cx="313128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явление антител к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2492280"/>
            <a:ext cx="1871640" cy="1191240"/>
          </a:xfrm>
          <a:prstGeom prst="rect">
            <a:avLst/>
          </a:prstGeom>
          <a:solidFill>
            <a:srgbClr val="00ff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лимфоцитов и крови в лимф.орга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64680" y="4724280"/>
            <a:ext cx="223956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вирем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4724280"/>
            <a:ext cx="1800000" cy="119124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Накопление ВИЧ в лимфоидных орг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5373720"/>
            <a:ext cx="2232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ессимптомная стад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3213000"/>
            <a:ext cx="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4508640"/>
            <a:ext cx="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35280" y="2060640"/>
            <a:ext cx="2735280" cy="4316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3141720"/>
            <a:ext cx="647640" cy="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43640" y="3141720"/>
            <a:ext cx="433440" cy="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68000" y="4292640"/>
            <a:ext cx="1079640" cy="43164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221000"/>
            <a:ext cx="1297080" cy="50328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5157720"/>
            <a:ext cx="1224000" cy="50328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11640" y="5661000"/>
            <a:ext cx="647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060640"/>
            <a:ext cx="2376360" cy="360360"/>
          </a:xfrm>
          <a:prstGeom prst="line">
            <a:avLst/>
          </a:prstGeom>
          <a:ln w="9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06480" y="2349360"/>
            <a:ext cx="7642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3-6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7760" y="3573360"/>
            <a:ext cx="7642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8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6480" y="4797360"/>
            <a:ext cx="764280" cy="368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1-2 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08240" y="6315120"/>
            <a:ext cx="367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6324480"/>
            <a:ext cx="42386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дия клинических проявл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6553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019920"/>
            <a:ext cx="2232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рминальная стад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24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c7"/>
                </a:solidFill>
                <a:latin typeface="Times New Roman"/>
                <a:ea typeface="Tahoma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собенности ВИЧ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24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Высокая избирательность – поражает только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Tahoma"/>
              </a:rPr>
              <a:t>CD4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-клетки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Очень склонен к мутация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Каждый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 новый вирус отличается от исходного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Вирус ускользает от контроля со стороны организм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Способность к сохранению без размножения (т.н. латенция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  <a:ea typeface="Tahoma"/>
              </a:rPr>
              <a:t>Хранится в клетках иммунологической памяти на протяжении всей жизни человек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c7"/>
                </a:solidFill>
                <a:latin typeface="Times New Roman"/>
                <a:ea typeface="Tahoma"/>
              </a:rPr>
              <a:t>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ahoma"/>
              </a:rPr>
              <a:t>Свойства вируса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67564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Во внешней среде неустойчи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Не выдерживает высушивания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Погибает при температур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70 +80 через 10 минут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, погибает во всех известных дезинфектантах и детергентах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Заразен умеренно (меньше, чем вирусы гепатит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В плазме живет не более 6 часо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34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Срок жизни в лимфоцитах значительно дольше (равен длительности жизни клетки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52680" y="1100160"/>
            <a:ext cx="734040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УТИ ПЕРЕДАЧИ</a:t>
            </a:r>
            <a:br>
              <a:rPr sz="4000"/>
            </a:b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20680" y="19648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ой (гомо- и гетеросексуальный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ентеральный (шприцевой, инструментальный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тикальный (трансплацентарный, интранатальный, с молоком матери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фузионны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плантационнны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минативный (через сперматозоиды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ак передается ВИЧ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36360" y="771480"/>
            <a:ext cx="9180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4920" y="1911240"/>
            <a:ext cx="8785080" cy="518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оздушно-капельным путем (при кашле или чихании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укусы насекомых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рикосновения или объятия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оцелуи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сещении плавательных бассейнов и других мест общественного купания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сещении общественного туалета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рукопожатиях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контактах с ВИЧ-инфицированным на работе, в школе или дома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пользовании общим телефоном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Через питьевую воду и еду, а также при приготовлении пищи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и совместном использовании чашек, стаканов, тарелок и иную столовую посуду и предметы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49160" y="714240"/>
            <a:ext cx="66675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Нельзя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заразиться ВИЧ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6360" y="777960"/>
            <a:ext cx="9198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Что такое СПИД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индром приобретенного иммунодефицита – терминальная стадия ВИЧ-инфекции, необратимая декмопенсация. Заболевание неуклонно прогрессирует даже на фоне адекватной противовирусной терапии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Это сочетание болезней, вызванных недостаточной работой иммунной системы из-за поражения её вирусом иммунодефицита человека (ВИЧ)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Почему от СПИДа умирают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Ч разрушает иммунитет человека и организм становится «легкой добычей» для других инфекций, а также для развития опухоле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01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33"/>
                </a:solidFill>
                <a:latin typeface="Arial"/>
              </a:rPr>
              <a:t>Классификация ВИЧ-инфекции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33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33"/>
                </a:solidFill>
                <a:latin typeface="Arial"/>
              </a:rPr>
              <a:t>( РНМЦ ПБ СПИД ,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33"/>
                </a:solidFill>
                <a:latin typeface="Arial"/>
              </a:rPr>
              <a:t>В.В.Покровский и О.Г.Юрин, 2001г.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60" y="763560"/>
            <a:ext cx="9072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726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Стадия инкубации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риод от момента заражения до ответа организма на него.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т 3 недель до 3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(6)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месяце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 Стадия ранней ВИЧ-инфекции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ервичный ответ организма на инфекцию в виде выработки антител, появления неспецифической клинической симптоматики, развития транзиторного иммунодефицита и проходящих вторичных заболеван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год). Эта стадия характеризуется активной репликацией ВИ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адии ранней ВИЧ-инфекции различают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рианты теч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Бессимптомная сероконверс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страя ВИЧ-инфекция без вторичных заболе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страя ВИЧ-инфекция с вторичными заболеваниями;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(грибковые, вирусные вторичные инфекции – проявления регистрируются в течение 2-3 недель)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60680" y="148896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68280"/>
          <a:ext cx="8763120" cy="54450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пто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ение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хор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ып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омат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 в сустав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ринг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теря аппети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теря веса (&gt;2,5 к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домог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 в мыш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имптомы острого периода ВИЧ-инфекции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74872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 Субклиническая стад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латентный период, когда компенсаторные возможност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кроорганизма способны поддерживать уровень иммунитета, достаточный для защиты от оппортунистических заболеваний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ИЧ-инфицированный  человек может чувствовать себя здоровы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роявления – увеличенные лимфоузлы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лительность этой стадии – от 2 до 20 и более лет. В среднем 6 – 7 л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. Стадия вторичных заболевани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А,4Б,4В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период обратимой  декомпенсации, когда на фоне угнетения иммунитета развиваются вторичные заболевания, но возможны ремиссии (как спонтанные, так и терапевтические) и возможно даже возвращение в латентное состояни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Истощается популяция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D4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-клеток за счет продолжающегося размножения в организме ВИЧ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Продолжительность – 3 -10 лет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аза 4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ычно начинает развиваться через 3-5 лет от момента заражения. Для нее характерно потеря массы тела менее 10%; развитие бактериальных, грибковых и вирусных поражений слизистых и кожных покровов: поверхностная локализованная кожно-слизистая форма рецидивирующего простого герпеса, кандидоз слизистых оболочек дерматомикозы, себорея и другие; рецидивирующий опоясывающий лишай; повторные  воспалительные заболевания верхних дыхательных путей (фарингиты, синуситы, отиты, трахеобронхиты и другие). В этой фазе периоды обострения заболеваний могут чередоваться с периодами ремиссии , но имеют довольно добро-качественное течение и купируются обычными терапевтическими средствами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16000" y="449280"/>
            <a:ext cx="89280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Arial"/>
              </a:rPr>
              <a:t>Фаза 4Б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ется обычно через 5-7 лет от момента заражения и характеризуется: необъяснимой диареей или лихорадкой более 1 месяца; волосатой лейкоплакией языка; развитием туберкулеза легких; повторными или стойкими вирусными, бактериальными, грибковыми, протозойными  поражениями внутренних органов; кожными  поражениями, которые носят более глубокий характер и склонны к затяжному течению; повторным или диссеминированным  опоясывающим лишаем; локазованной саркомой Капоши.   Потеря веса  составляет более 10% от исходного. В данной фазе периоды обострения заболеваний  чередуются с периодами  ремиссии, однако изменения становятся более глубокими, не реагируют на стандартные методы лечения, приобретают упорный, затяжной характе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Фаза 4 В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вается через 7-10 лет. Характеризуется развитием тяжелых, угрожающих жизни вторичных заболеваний, их генерализованным   характером ( генерализованные бактериальные, вирусные, грибковые, протозойные и паразитарные заболевания); поражением ЦНС  различной этиологии; кандидозом пищевода, бронхов, легких; развитием внелегочного туберкулеза; атипичными микобактериозами; пневмоцистной пневмонией; кахексией, диссеминированной саркомой Капоши.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 этой фазе периоды обострения могут чередоваться с периодами ремиссии заболевания. 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каждой из них выделяют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- фазу прогрессирования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( спонтанное; после ранее проводимой противовирусной  терапии; на фоне противовирусной терапии)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</a:rPr>
              <a:t>-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фазу ремисси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 спонтанная; после ранее проводимой противовирусной терапии;  на фоне противовирусной терапии).                    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, без учета уровня вирусной нагрузки и количества С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4 клеток весьма сложно и даже невозможно выделить фазу ремиссии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. Терминальная стад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заболевание неуклонно прогрессирует даже на фоне адекватной противовирусной терапи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ак узнать произошло ли заражение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бораторная диагностик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уровень диагностики - обнаружение антител к ВИЧ – ИФА –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иммуноферментный анали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вает ложно-положительный результат в 1% случае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Второй уровень диагностики -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реакция иммуноблоттинг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один из методов определения антител к ВИЧ. Более чувствительный чем ИФА, но намного дороже. После положительного ИФА, положительный ИБ – точность диагноза 99,9%. Диагноз ВИЧ ставиться только после ИБ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ИБ «-» после «+» ИФА, то ИФА был ложны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 бывает не только «-» или «+», но и неопределенны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пределенный результат иммуноблот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если в крови мало антител (заражение произошло недавно) и имуноблот станет положительным позж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) Неопребеленный имуноблот при отсутствии ВИЧ может быть при гепатите, некоторых хронических заболеваниях обменного характера или при беременности. В этом случае имуноблот станет отрицательным, либо будет обнаружена причина неопределенного результат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огда можно считать тест на ВИЧ достоверным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иод окна» - временной интервал, в течение которого в организме ВИЧ-инфицированного не обнаруживаются антитела. Обследование в это время может дать отрицательный результат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быть уверенным в отрицательном результате теста, необходимо повторить исследование крови в ИФА через 3 и 6 месяцев после ситуации, в результате которой могло произойти инфицирование ВИ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Как долго нужно ждать результата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 ИФА можно сделать в течение этого же дня, но в большинстве лабораторий этот срок составляет от 1-2 дней до 2 недел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учше уточнить этот вопрос до сдачи анализ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Arial"/>
              </a:rPr>
              <a:t>Армия иммуните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280" y="817560"/>
            <a:ext cx="90727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520" y="188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Тест, который определяет наличие ВИЧ быстрее других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 полимеразной цепной реакции (ПЦР) – определяет генетический материал самого вируса. Имеет высокую достоверность через 10 дней после возможного зараж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огда его делают люди, которым тяжело ждать 3 месяц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ругих случаях его назначает врач, например, детям, рожденным от ВИЧ-положительных матере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же после ПЦР необходимо подтверждающее тестирование методом ИФ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93440" y="48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Где можно сделать тест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 ИФА можно сделать в обычной поликлиник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ю имуноблоттинга делают в центрах по профилактике и борьбе со СПИДо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ирование бывает конфиденциальным и анонимным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некоторых кабинетах существует до – и послетестовое консультировани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ди, решившие узнать свой ВИЧ-статус, часто нуждаются в психологической поддержк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636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cbcb"/>
                </a:solidFill>
                <a:latin typeface="Arial"/>
              </a:rPr>
              <a:t>Стоит ли успокоиться, если результат теста отрицательный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аточно просто регулярно сдавать анализ: если поведение остается рискованным, то через какое-то время результат теста может оказаться положительным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учение положительного результата – хороший повод узнать как можно больше о профилактике ВИЧ и принять решение снизить риск заражения для себя и своих близки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08000" y="774720"/>
            <a:ext cx="92696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огда начинать лечение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но или поздно большинству из тех, у кого выявлена ВИЧ-инфекция, потребуется лечение. У разных людей это происходит в разное время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сняется это тем, что ВИЧ-инфекция у разных людей прогрессирует с различной скоростью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но одна треть людей, живущих с ВИЧ, остается здоровыми в течение 10 лет после инфицирования, даже не получая лечения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оло 60% людей, живущих с ВИЧ, лечение требуется через 4-5 лет после инфицир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5% людей могут заболеть значительно быстрее (в течение 2 – 3 лет) и будут нуждаться в лечении намного раньше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10% живут 15-20 лет без необходимости начинать лечени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Arial"/>
              </a:rPr>
              <a:t>Когда начинать лечение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388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авило, для выяснения необходимости начинать лечение, требуется осмотр врача и специальные анализы – на CD4 и, возможно, на вирусную нагрузк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тех пор пока число CD4 выше 350, иммунная система еще хорошо работает.  Если уровень CD4 оказывается ниже 350, повышается риск развития инфекци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уровне СD4 ниже 200 повышается риск развития пневмоцистной пневмонии (ПЦП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к развития серьезных заболеваний еще больше увеличивается, если число CD4 падает ниже 10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чение одного больного обходится в год от 10 до 12 тыс. долларов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6360" y="903240"/>
            <a:ext cx="9198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59500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6360" y="825480"/>
            <a:ext cx="9180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изненный цикл виру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533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соедине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82789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Arial"/>
              </a:rPr>
              <a:t>Поражение армии иммунитет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88920" y="820800"/>
            <a:ext cx="92692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1773360"/>
            <a:ext cx="133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3880" y="27637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4365720"/>
            <a:ext cx="1100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ень вирусной нагрузки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92428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Т к ВИ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4581360"/>
            <a:ext cx="1800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4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-лимфоц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9440" y="579132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021360"/>
            <a:ext cx="1657440" cy="42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роконверс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048120"/>
            <a:ext cx="0" cy="2844720"/>
          </a:xfrm>
          <a:prstGeom prst="line">
            <a:avLst/>
          </a:prstGeom>
          <a:ln w="12600">
            <a:solidFill>
              <a:srgbClr val="cbcbc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547640" y="5877000"/>
            <a:ext cx="5761080" cy="17280"/>
          </a:xfrm>
          <a:prstGeom prst="line">
            <a:avLst/>
          </a:prstGeom>
          <a:ln w="1260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357720"/>
            <a:ext cx="2376720" cy="2466720"/>
          </a:xfrm>
          <a:custGeom>
            <a:avLst/>
            <a:gdLst/>
            <a:ahLst/>
            <a:rect l="l" t="t" r="r" b="b"/>
            <a:pathLst>
              <a:path w="1497" h="1554">
                <a:moveTo>
                  <a:pt x="0" y="1554"/>
                </a:moveTo>
                <a:lnTo>
                  <a:pt x="518" y="0"/>
                </a:lnTo>
                <a:lnTo>
                  <a:pt x="748" y="1267"/>
                </a:lnTo>
                <a:lnTo>
                  <a:pt x="979" y="1036"/>
                </a:lnTo>
                <a:lnTo>
                  <a:pt x="1036" y="1267"/>
                </a:lnTo>
                <a:lnTo>
                  <a:pt x="1267" y="1151"/>
                </a:lnTo>
                <a:lnTo>
                  <a:pt x="1497" y="1267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140360" y="5140440"/>
            <a:ext cx="772920" cy="23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10040" y="5140440"/>
            <a:ext cx="731880" cy="182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300720" y="4141440"/>
            <a:ext cx="355680" cy="608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665760" y="3860280"/>
            <a:ext cx="354240" cy="28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421000"/>
            <a:ext cx="216000" cy="555480"/>
          </a:xfrm>
          <a:custGeom>
            <a:avLst/>
            <a:gdLst/>
            <a:ahLst/>
            <a:rect l="l" t="t" r="r" b="b"/>
            <a:pathLst>
              <a:path w="79" h="78">
                <a:moveTo>
                  <a:pt x="0" y="0"/>
                </a:moveTo>
                <a:lnTo>
                  <a:pt x="41" y="78"/>
                </a:lnTo>
                <a:lnTo>
                  <a:pt x="7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6cc"/>
          </a:solidFill>
          <a:ln w="85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92360" y="5950080"/>
            <a:ext cx="3168720" cy="356760"/>
            <a:chOff x="3492360" y="5950080"/>
            <a:chExt cx="3168720" cy="356760"/>
          </a:xfrm>
        </p:grpSpPr>
        <p:sp>
          <p:nvSpPr>
            <p:cNvPr id="130" name=""/>
            <p:cNvSpPr/>
            <p:nvPr/>
          </p:nvSpPr>
          <p:spPr>
            <a:xfrm>
              <a:off x="3503160" y="6033240"/>
              <a:ext cx="3157920" cy="213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00"/>
                  </a:solidFill>
                  <a:latin typeface="Arial"/>
                </a:rPr>
                <a:t>CHRONIC VIRAL RE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5950080"/>
              <a:ext cx="589320" cy="35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47640" y="3357720"/>
            <a:ext cx="5473800" cy="2309760"/>
          </a:xfrm>
          <a:custGeom>
            <a:avLst/>
            <a:gdLst/>
            <a:ahLst/>
            <a:rect l="l" t="t" r="r" b="b"/>
            <a:pathLst>
              <a:path w="3454" h="1267">
                <a:moveTo>
                  <a:pt x="0" y="0"/>
                </a:moveTo>
                <a:lnTo>
                  <a:pt x="11" y="37"/>
                </a:lnTo>
                <a:lnTo>
                  <a:pt x="251" y="37"/>
                </a:lnTo>
                <a:lnTo>
                  <a:pt x="324" y="48"/>
                </a:lnTo>
                <a:lnTo>
                  <a:pt x="347" y="60"/>
                </a:lnTo>
                <a:lnTo>
                  <a:pt x="358" y="60"/>
                </a:lnTo>
                <a:lnTo>
                  <a:pt x="863" y="633"/>
                </a:lnTo>
                <a:lnTo>
                  <a:pt x="1151" y="633"/>
                </a:lnTo>
                <a:lnTo>
                  <a:pt x="1381" y="461"/>
                </a:lnTo>
                <a:lnTo>
                  <a:pt x="1784" y="346"/>
                </a:lnTo>
                <a:lnTo>
                  <a:pt x="2130" y="346"/>
                </a:lnTo>
                <a:lnTo>
                  <a:pt x="2533" y="403"/>
                </a:lnTo>
                <a:lnTo>
                  <a:pt x="2878" y="633"/>
                </a:lnTo>
                <a:lnTo>
                  <a:pt x="3339" y="1094"/>
                </a:lnTo>
                <a:lnTo>
                  <a:pt x="3454" y="1267"/>
                </a:lnTo>
              </a:path>
            </a:pathLst>
          </a:custGeom>
          <a:noFill/>
          <a:ln w="5724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500280"/>
            <a:ext cx="2197080" cy="2376720"/>
          </a:xfrm>
          <a:custGeom>
            <a:avLst/>
            <a:gdLst/>
            <a:ahLst/>
            <a:rect l="l" t="t" r="r" b="b"/>
            <a:pathLst>
              <a:path w="1384" h="1497">
                <a:moveTo>
                  <a:pt x="1384" y="0"/>
                </a:moveTo>
                <a:lnTo>
                  <a:pt x="1313" y="2"/>
                </a:lnTo>
                <a:lnTo>
                  <a:pt x="1242" y="8"/>
                </a:lnTo>
                <a:lnTo>
                  <a:pt x="1173" y="18"/>
                </a:lnTo>
                <a:lnTo>
                  <a:pt x="1105" y="31"/>
                </a:lnTo>
                <a:lnTo>
                  <a:pt x="1038" y="48"/>
                </a:lnTo>
                <a:lnTo>
                  <a:pt x="973" y="68"/>
                </a:lnTo>
                <a:lnTo>
                  <a:pt x="908" y="91"/>
                </a:lnTo>
                <a:lnTo>
                  <a:pt x="844" y="117"/>
                </a:lnTo>
                <a:lnTo>
                  <a:pt x="785" y="148"/>
                </a:lnTo>
                <a:lnTo>
                  <a:pt x="723" y="181"/>
                </a:lnTo>
                <a:lnTo>
                  <a:pt x="666" y="217"/>
                </a:lnTo>
                <a:lnTo>
                  <a:pt x="610" y="256"/>
                </a:lnTo>
                <a:lnTo>
                  <a:pt x="556" y="298"/>
                </a:lnTo>
                <a:lnTo>
                  <a:pt x="503" y="342"/>
                </a:lnTo>
                <a:lnTo>
                  <a:pt x="453" y="390"/>
                </a:lnTo>
                <a:lnTo>
                  <a:pt x="405" y="438"/>
                </a:lnTo>
                <a:lnTo>
                  <a:pt x="359" y="490"/>
                </a:lnTo>
                <a:lnTo>
                  <a:pt x="317" y="545"/>
                </a:lnTo>
                <a:lnTo>
                  <a:pt x="274" y="601"/>
                </a:lnTo>
                <a:lnTo>
                  <a:pt x="236" y="661"/>
                </a:lnTo>
                <a:lnTo>
                  <a:pt x="199" y="720"/>
                </a:lnTo>
                <a:lnTo>
                  <a:pt x="167" y="783"/>
                </a:lnTo>
                <a:lnTo>
                  <a:pt x="136" y="849"/>
                </a:lnTo>
                <a:lnTo>
                  <a:pt x="109" y="914"/>
                </a:lnTo>
                <a:lnTo>
                  <a:pt x="84" y="983"/>
                </a:lnTo>
                <a:lnTo>
                  <a:pt x="61" y="1052"/>
                </a:lnTo>
                <a:lnTo>
                  <a:pt x="44" y="1123"/>
                </a:lnTo>
                <a:lnTo>
                  <a:pt x="29" y="1196"/>
                </a:lnTo>
                <a:lnTo>
                  <a:pt x="15" y="1269"/>
                </a:lnTo>
                <a:lnTo>
                  <a:pt x="8" y="1344"/>
                </a:lnTo>
                <a:lnTo>
                  <a:pt x="2" y="1421"/>
                </a:lnTo>
                <a:lnTo>
                  <a:pt x="0" y="1497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19840" y="3494160"/>
            <a:ext cx="2000160" cy="130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659560" y="4749840"/>
            <a:ext cx="641160" cy="550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33360"/>
            <a:ext cx="751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мунологические и вирусологические парамет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ечении ВИЧ - инфе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19840" y="6021360"/>
            <a:ext cx="1644840" cy="289080"/>
            <a:chOff x="6819840" y="6021360"/>
            <a:chExt cx="1644840" cy="289080"/>
          </a:xfrm>
        </p:grpSpPr>
        <p:sp>
          <p:nvSpPr>
            <p:cNvPr id="138" name=""/>
            <p:cNvSpPr/>
            <p:nvPr/>
          </p:nvSpPr>
          <p:spPr>
            <a:xfrm>
              <a:off x="6946200" y="6052680"/>
              <a:ext cx="143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5 стадия - СПИД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19840" y="6021360"/>
              <a:ext cx="1644840" cy="289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 flipV="1">
            <a:off x="4355640" y="4005000"/>
            <a:ext cx="30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284720" y="3213000"/>
            <a:ext cx="1727280" cy="43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99736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7280" y="-27000"/>
            <a:ext cx="8532720" cy="5278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3:03:36Z</dcterms:created>
  <dc:creator>user</dc:creator>
  <dc:description/>
  <dc:language>en-US</dc:language>
  <cp:lastModifiedBy>Ирина Габер</cp:lastModifiedBy>
  <dcterms:modified xsi:type="dcterms:W3CDTF">2012-10-26T02:00:49Z</dcterms:modified>
  <cp:revision>474</cp:revision>
  <dc:subject/>
  <dc:title>Обзор проекта</dc:title>
</cp:coreProperties>
</file>