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1407-F534-4DF5-897C-A446C42E2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A548-CA1E-4EAD-934B-7E3408BE1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8524CF1-A1A5-4608-B772-5A09FABBC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D884B31-5B03-4887-8427-B5FC17202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1075B2C-9640-4879-85E0-A72D94A54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0B3D37E-27CF-448E-A187-E29A21E2A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91C7E0B-A1E7-4FD9-BB45-B830BC00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FF820F2-138F-4351-BDFD-60DA9EEF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EE70D5F-1961-44A6-B24A-FD5E2AF87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2A1E50C-D816-4F8E-B8A1-A9C6A8ED5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168D28-C955-4CD1-8FF9-2F2010F60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592209-1912-44C7-95C7-9239F6255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EB87-514A-4D9B-96F3-047D5EE4E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1CD03D-49B8-4C80-B993-221C7B2EA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DDFC31-A1A3-4B15-A499-74C2F6440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EE7080-5B00-49C2-A0CF-EF3F03FC4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B94CF8-16FF-4B78-981E-166721F4E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8E7BD4-F29D-49ED-8B77-3AC9BF937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EF4782-C5C2-45EC-8EF5-439D42EAC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8CF381-14D7-4536-81AE-6715C036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6E295D-010A-4A02-BF2A-B466F850D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4CFFDD-9A63-4E0E-A3B2-C231C7ABB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4A916F-34F0-4318-9808-F2897C73F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2060-137C-4EAB-BBAD-667243D5B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E04990-1412-49F1-9CF3-EE2D67275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99099-2290-474D-9169-5A29BCC4C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F2949-0627-4E9E-926F-B94832F07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DB081-8243-4FB1-9492-399914624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359EE-7C1E-48D9-86D9-4A3AAE934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84EC4-7411-44E8-A246-4645039C1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2D658-3701-4939-9C95-FE28A262A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CCE80-095C-4D28-91CE-3BCDB79B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B2BC-7B9F-4B89-9220-515CCF3A6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F5CC3-822A-4A1C-91FE-66563170B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34900-C116-4748-8202-9C7E84FA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CF726-E5CE-4273-9FE9-346D2C8E8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20405-3C9E-47AA-B930-47C05E0F8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54438-3F18-44CB-8521-47D9116F2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1F60D2-83F1-46C7-B67F-6713E9E77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05C14F-5C7E-4A88-8958-9E5D066AE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A1662D-AF36-40E9-BF0F-E8A386806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34F421-F5AC-47A2-9D56-661B84D81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0687CA-5B25-4151-B886-C7E382761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9F82-E8B7-4604-B81F-83BADD508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59BF48-45CF-44F5-9059-1A243975E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047262-F422-453A-A344-E3B655915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C6D2B1-4DC6-468E-AA19-07BCC5E09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FB0FAE-E333-4CAE-A266-5424ECBF0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C577C4-2DB1-44BD-A81C-3781E9CFF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B5027D-1A02-4455-8EA2-85B576A3E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645146-B950-46D2-8596-8D3D7A3AB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F6B2E-BFA3-4A22-B2F6-3D46CF6BC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9F203-D489-43C9-84DB-BFBC228A8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9051C-9DDF-4E3A-8A0B-AF9978577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8ACD-79EF-427E-83E9-F90803DF0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E97A1-9F25-4E62-BEE6-05685A84A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50842-2A98-4070-AE30-0D32C6FBE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91EB4-C4A6-4607-AA53-EA5543F57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25460-97FD-4003-80D5-338CBF249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B6ED5-6DD6-48D0-8CE7-5D18EB62A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9C52D-81BF-483C-B46F-A1D23946C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F6277-0BB6-41EF-BCC0-9DD759AA5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54CFA-8ACC-40F4-9331-3A1BCC6ED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0CED8-1CAC-4E8E-B236-4C8CB6973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6846B-08D8-4592-BC85-62ABD3294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FA90-3CA5-4780-A3B9-31B6E108A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4962F8-9AB0-42F9-819F-0B940FEF0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002A25-EC2E-4257-BD4B-FC3A31A76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D2333-FB1B-4EA6-880E-27128963A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977A23-078C-4EE0-B682-63989E0D6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7AE00E-9CF6-4F97-A222-5E271F984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9AA8C-D87E-4E79-B7D0-5A2DFF48D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E95683-732C-4BC6-9896-98E49C309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E0F269-CB5B-47EE-9596-5F0893A1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123DD-685E-4DEE-B08E-69B70CDD3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A9F21-3413-4FC5-A70B-2D7D1D2B3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F3F1-48FF-448F-B443-E5731791C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802922-B920-4953-AE85-5F317D718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B8257-1C70-41B5-BFE0-8560DD5F1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A98845-852A-481C-AC1A-49A8191F3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4FDF15-7749-48ED-A221-8ABCD7ED4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E73DED-1757-41AC-9DD6-1513677E9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04DFE7-3FBE-4FDE-B2F5-1815A9328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7BF100-6EA4-4126-9F92-D7168CFDC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B4566-60CD-477E-BDAC-7E2BAC8FA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684142-CA75-4AC2-82EB-9087F2F8F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A681E2-3EC2-42CF-88D4-408CDA487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7F7A-ABAA-4ECE-AD71-1E3F5C8C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3911D7-5E1A-4B94-B72A-C7769464E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953746-757C-4641-8E6E-701FBA37B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C9F717-B655-49A5-BF0D-AD39B4100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226528-DA00-4CEB-B308-58238B729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C7CC1B-88BD-40DD-A848-25084DBE2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F5A8CD-1BB8-4318-AAC7-49559170E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70E707-4075-4AE3-8474-36C0BB001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1416FE-8019-46B8-8903-4849194BB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CBD9F1-62A9-4FAC-9E2F-B108EEF90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DFF0A3-4293-4007-A62E-C671EB74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31FE-4D54-4034-89D2-C08E30A4F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F73926-D272-4C16-A4BD-263B21EFA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441931-345A-4FC9-A303-0B80AC61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F40804-EB4C-4CF8-90A1-13129B077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6D9B93-8ECF-408E-9319-B27D6347C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4F845C-7A04-40E6-9359-C8CAA24C3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6F0ADC-D012-4903-82D6-C2CAEDC2B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2C154A-A769-4BD3-9EB8-CA8A362E7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24DC1A-8885-4415-A227-9DFD90642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887DD1-6E0F-4181-BF02-B8B7F4E7A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48F9D3-DD41-49D6-ADDE-8A802E575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9A17-2476-4747-8C6A-E339485C3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29A7E5-9EA1-44C1-A7D1-00172FDE2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05A6E6-3ADE-4097-8442-6316B8AB8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E0F25D-940A-4EC6-85F1-2DE640D9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C5F52E-5D2E-4321-8827-A1640221B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736E5A-F84C-436E-A96A-8719A7ED8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F4DF7E-3B5A-4F15-9E80-1B7889838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E2E476-578B-4B78-8F25-97B30E96B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A3E576-269F-4736-AE18-77AD12221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CE87827-0347-4360-B4D2-6B7B95DDA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2F7BF11-A4DA-42BA-AAE0-84A21C7A6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59CF1-FD76-4E0E-AE6B-085C44C5646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9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0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dt" idx="2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ftr" idx="2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BBEC9-C0B6-4539-BCA2-B1255D456DE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6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6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9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7C2BB-D53B-4711-B457-28C8F7148CF8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AFEAB-2A5B-4256-BC3F-87ABA4C8D4D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4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4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7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9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9E2AD-67F3-449C-BD90-6372B15E3EB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30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8" name="PlaceHolder 1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7008E-9496-498F-8D47-2C9FC085C2A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80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4941F-A6D9-4F09-8764-98683A24D20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340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3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344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7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8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369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4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4D658-47BC-4D06-A8F2-AF2BDC3D131E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18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19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4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dt" idx="22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ftr" idx="23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47A6E-1264-43AE-A0A0-A1E65B8B884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ftr" idx="2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CAEBE-785A-47BE-8189-3DC4C1A61BD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My favorite food is porridge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9" name="Picture 4" descr="P1070949"/>
          <p:cNvPicPr/>
          <p:nvPr/>
        </p:nvPicPr>
        <p:blipFill>
          <a:blip r:embed="rId1"/>
          <a:stretch/>
        </p:blipFill>
        <p:spPr>
          <a:xfrm>
            <a:off x="1219320" y="2155680"/>
            <a:ext cx="6858000" cy="432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o coo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ut water and porridge oat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 a po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62" name="Picture 14" descr="P1070951"/>
          <p:cNvPicPr/>
          <p:nvPr/>
        </p:nvPicPr>
        <p:blipFill>
          <a:blip r:embed="rId1"/>
          <a:stretch/>
        </p:blipFill>
        <p:spPr>
          <a:xfrm>
            <a:off x="3886200" y="1790640"/>
            <a:ext cx="480060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eat and stir for 5 minutes.</a:t>
            </a:r>
            <a:br>
              <a:rPr sz="4400"/>
            </a:b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65" name="Picture 10" descr="P1070950"/>
          <p:cNvPicPr/>
          <p:nvPr/>
        </p:nvPicPr>
        <p:blipFill>
          <a:blip r:embed="rId1"/>
          <a:stretch/>
        </p:blipFill>
        <p:spPr>
          <a:xfrm>
            <a:off x="457200" y="1752480"/>
            <a:ext cx="3962520" cy="36324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dd some milk and a little salt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4571640"/>
            <a:ext cx="8229600" cy="19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8" name="Picture 7" descr="P1070954"/>
          <p:cNvPicPr/>
          <p:nvPr/>
        </p:nvPicPr>
        <p:blipFill>
          <a:blip r:embed="rId1"/>
          <a:stretch/>
        </p:blipFill>
        <p:spPr>
          <a:xfrm>
            <a:off x="1143000" y="1676520"/>
            <a:ext cx="6629400" cy="4267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98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98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98" fill="hold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Eat it with sugar or honey.</a:t>
            </a:r>
            <a:br>
              <a:rPr sz="3600"/>
            </a:b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MMM….Yummy!</a:t>
            </a: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5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1" name="Picture 7" descr="P1070957"/>
          <p:cNvPicPr/>
          <p:nvPr/>
        </p:nvPicPr>
        <p:blipFill>
          <a:blip r:embed="rId1"/>
          <a:stretch/>
        </p:blipFill>
        <p:spPr>
          <a:xfrm>
            <a:off x="457200" y="1828800"/>
            <a:ext cx="4040280" cy="3603600"/>
          </a:xfrm>
          <a:prstGeom prst="rect">
            <a:avLst/>
          </a:prstGeom>
          <a:ln w="0">
            <a:noFill/>
          </a:ln>
        </p:spPr>
      </p:pic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боту выполнила учащаяся 4 класса Юклутова Кс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уководитель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порожская Юлия Анатолье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9T06:49:32Z</dcterms:created>
  <dc:creator>Саша</dc:creator>
  <dc:description/>
  <dc:language>en-US</dc:language>
  <cp:lastModifiedBy>123</cp:lastModifiedBy>
  <dcterms:modified xsi:type="dcterms:W3CDTF">2017-02-08T10:08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