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423-32ED-4F11-92CA-F6E17C67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DE3-5D53-4836-9004-1AA76C1B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015105-4B01-4DB0-B92A-B169D00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96CF2E-B303-475C-9F42-6B422238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94756D-E671-4471-8894-E83198B0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71122B-E8AA-4577-A405-92E41F91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94967B-34F4-4D18-BB47-35A4AD35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EDE7B5-65BF-498E-ADCC-EDA8C147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40EE25-CB5C-42CC-B183-3D945551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660B06-9B8B-484F-94BD-0774F1EC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7AD842-0B47-401F-831F-F0678729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01C15-A13C-4FB5-9F58-2C8DC474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B44-6224-4B94-9681-3837B5AF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631B0-51D0-4288-B8F4-D1AF95D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D095F-F5E9-4398-B227-4EB5213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EE075-01E0-4320-AC88-8413E0AE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119A8-9558-416D-9D0C-F3B4CC79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E3431-E582-4B67-9361-B3413B85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FEC4D-85DC-42CC-BCEE-F5C89E9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2A3FC-B2C3-4EEE-BB40-38EC7D3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2FD40-5EC5-4912-99A2-5F2C2B01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1CEDE-81E9-44A0-ACD8-00A9C9D8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E9182-4F72-4D8F-81DF-02A9EF30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9CC-8FAD-4898-BD66-9A725B5A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A040C-6362-49BF-8CB9-433FADCD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61F7-8A84-426F-9FB1-AE6AC981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C85A-3917-4E0E-96BB-7388634C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7910-F00C-4AC5-9259-9046BEA5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6760-602B-44C4-89C9-EBBFACA1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DCFF-1955-495A-8B10-C9FF707A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581D-17B3-4E48-B6FD-C7711409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A3E0-7083-4FE1-8920-D680E904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A23-B604-486E-A250-8FFF4BC8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EC81-A43E-4979-B545-DAC3E985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BB36-4907-4592-B647-4F703DBA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C104-01C2-4B08-8273-612D0FF8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AFF0-2147-426C-9583-4B4D2BA6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F8D7-15F9-4577-A3A3-BC0522E7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89F67-6A56-4A6B-B8BE-E3A94DDB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46D58-BC29-42F0-81F4-2D1D41D4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D5E3B-B91E-4B2C-9AE1-17694558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76E50-6BC7-43F3-AEFC-A5C49176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832D8-B1E5-4572-B0C0-886468F4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10A-BC40-417E-B2EC-99ADE607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643F6-6620-4151-98FF-0A982095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9ADAA-D407-43F4-9301-CC2BE49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C7873-1829-4AC8-8424-EE46FD0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7C834-A29E-482A-B5A6-D4367A25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61CA4-21FD-4547-9D39-9224886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DAE87-AC35-4ECD-846B-99E0E71C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08E0B-758C-4A55-822B-5EC241C6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3CD7-01AD-4495-B590-0421316B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BBE73-8662-4611-B0DC-1E996DE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3BBD-CFC3-4C7A-88D5-48651134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F4C-522A-4FBA-90BA-C3F1C473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65A3-D073-49B3-B9B9-8E8A2B0C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F5AF-CB7C-4237-BC43-CB426859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AA0E-9425-4432-AD4C-73811820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4848B-8C41-414B-A35C-164E3718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EC2F-F458-4598-A819-E8714E2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9A6F-78A3-418E-A7C6-F649BCD6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A705-7A47-414B-BF7A-47011AC9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0EDA-4E72-4DCD-B876-4D87D056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C9F3-65AD-436D-AF5D-D7E16881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C34F-950F-4497-9871-7E7144B8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AA8-A821-49EE-B1C6-B192C2AF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73808-3256-4B9E-9865-51FCB0F8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F85F5-AD12-4B49-8279-30D26B8D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565C-361C-4487-817E-512080D6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61780-6605-4852-9716-D2C12819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FD67-5165-4D63-92A8-1D7E0C79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AFA33-9A19-4C3F-BEDC-1A54B16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895F-56B2-43DF-B01F-B3E83CA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D812-D971-4D32-96D9-A89806E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8F6A-6BA1-430F-B4A1-D26DE66B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DF5D-2555-41CE-80E9-A216EE89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CF1-D967-49BC-B72E-0DDFD1D5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C8263-5767-467D-9249-117AA71B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25767-FEB3-47A5-B43F-9AB0EA1C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1AAA1-560A-4728-A588-3ECA24F0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18431-142F-475B-9F69-20FE034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EA33B-285B-4BDC-959E-E2612FB8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A979-C24A-4701-A26E-91E1E2E1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F7942-D54D-4FDB-8D31-6727ABF0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87A9-70D4-4C61-9104-273DDCF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1372B-66F8-4D08-9B68-8FC8D21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938E-E2C4-4451-8E6F-9269F0F7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556-C22B-47A5-B61B-108ADDA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0996D-5D03-41C6-B28E-71CC9AE2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5FB1C-5D32-4AD7-8184-DE38CE18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B1452-D4C0-4A07-9A5D-8D060092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1E977-AF02-4DBC-A096-00805A5D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88FB5-8F05-4602-9209-B601E561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67C2-DAB0-4BE3-BD8B-9D345040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F658C-6D8D-4F1D-B759-6A04CD67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7DCB0-8418-43C1-90F0-4A57F490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27D33-B856-4ABF-A070-BC022829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A243D-E8D4-4EEC-B271-A2C4C79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A41-B766-4FDF-8170-86037EA0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00B41-25BD-4AFA-A82A-2C21D757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17CBB-C910-441F-9100-3E1F23B6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F9D1F-A1FE-456E-B1E0-5CE78C16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3EB4E-6CFD-4559-874F-EA2C44C6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C39B0-8ABF-4E89-8F20-395B01B5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1B080-352B-4326-996F-A470B495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9779D-B532-431C-A2D6-E735E254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B56AA-83E8-4F84-AAF5-846BA72A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E9FC-7119-451B-91C8-18F403DF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C8E09-2EEA-4644-A16B-96D18A98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2CE-3F42-4BEF-A174-6410621E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3B236-48F0-4DEE-A4A5-1602FB19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E5406-8136-40D1-8C7C-569203FA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86C14-FA24-4146-BBB9-60DFF83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DD324-617E-4558-97C5-C74ADB9B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0390B-D4E1-4F99-B928-AF08A6A1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D7551-4204-416E-9BF3-6C4376EB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8FAD-0E8A-414B-8DCA-CFD37B4F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99FB0B-7B05-4651-97B4-9430AD3F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22A90E-9920-4012-8279-0189892D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4B172-D1BB-4A1D-B4A5-A17B07F0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1A0D-3B4B-4779-A861-B4D06C6591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C756-F05C-49BC-A05D-94BCF46419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16B9-0497-4871-8F62-F8F69CB6F7B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FDC-A21D-477A-89BF-A9CECF0525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1606-232B-45EB-8EB7-05C9660F0E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30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4D43-C25F-4C69-A744-B1B39D3108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F87F-0283-460D-AD8E-499AB14DEC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6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1CF8-4AA7-412F-B1B9-9D91896693B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360C-35A1-458F-A15B-79B5116F3B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3C2E-40B7-423E-9567-AD2AE77C8F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My favorite food is porridg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Picture 4" descr="P1070949"/>
          <p:cNvPicPr/>
          <p:nvPr/>
        </p:nvPicPr>
        <p:blipFill>
          <a:blip r:embed="rId1"/>
          <a:stretch/>
        </p:blipFill>
        <p:spPr>
          <a:xfrm>
            <a:off x="1219320" y="2155680"/>
            <a:ext cx="685800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c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t water and porridge oa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a po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Picture 14" descr="P1070951"/>
          <p:cNvPicPr/>
          <p:nvPr/>
        </p:nvPicPr>
        <p:blipFill>
          <a:blip r:embed="rId1"/>
          <a:stretch/>
        </p:blipFill>
        <p:spPr>
          <a:xfrm>
            <a:off x="3886200" y="1790640"/>
            <a:ext cx="4800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t and stir for 5 minutes.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5" name="Picture 10" descr="P1070950"/>
          <p:cNvPicPr/>
          <p:nvPr/>
        </p:nvPicPr>
        <p:blipFill>
          <a:blip r:embed="rId1"/>
          <a:stretch/>
        </p:blipFill>
        <p:spPr>
          <a:xfrm>
            <a:off x="457200" y="1752480"/>
            <a:ext cx="3962520" cy="363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d some milk and a little sal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Picture 7" descr="P1070954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Eat it with sugar or honey.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MMM….Yummy!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7" descr="P1070957"/>
          <p:cNvPicPr/>
          <p:nvPr/>
        </p:nvPicPr>
        <p:blipFill>
          <a:blip r:embed="rId1"/>
          <a:stretch/>
        </p:blipFill>
        <p:spPr>
          <a:xfrm>
            <a:off x="457200" y="1828800"/>
            <a:ext cx="4040280" cy="36036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у выполнила учащаяся 4 класса Юклутова Кс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рожская Юлия Анато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06:49:32Z</dcterms:created>
  <dc:creator>Саша</dc:creator>
  <dc:description/>
  <dc:language>en-US</dc:language>
  <cp:lastModifiedBy>123</cp:lastModifiedBy>
  <dcterms:modified xsi:type="dcterms:W3CDTF">2017-02-08T10:08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