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252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50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96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252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50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640" y="274680"/>
            <a:ext cx="7921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252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050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996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252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050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71640" y="274680"/>
            <a:ext cx="7921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0252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5040" y="160020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996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0252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5040" y="4097880"/>
            <a:ext cx="25736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640" y="274680"/>
            <a:ext cx="7921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5720" y="409788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5720" y="1600200"/>
            <a:ext cx="3900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9640" y="4097880"/>
            <a:ext cx="7993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ДЕТСКИЕ\Развитие ребенка\RazvitieSlide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308360" y="63928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adder ITC"/>
              </a:rPr>
              <a:t>ProPowerPoint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ДЕТСКИЕ\Развитие ребенка\RazvitieSlide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7308360" y="63928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adder ITC"/>
                <a:ea typeface="Arial"/>
              </a:rPr>
              <a:t>ProPowerPoint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K:\ProPowerPoint\Шаблоны\ДЕТСКИЕ\Развитие ребенка\RazvitieSlide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7308360" y="63928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adder ITC"/>
              </a:rPr>
              <a:t>ProPowerPoint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K:\ProPowerPoint\Шаблоны\ДЕТСКИЕ\Развитие ребенка\RazvitieMaster.jpg"/>
          <p:cNvPicPr/>
          <p:nvPr/>
        </p:nvPicPr>
        <p:blipFill>
          <a:blip r:embed="rId3"/>
          <a:stretch/>
        </p:blipFill>
        <p:spPr>
          <a:xfrm>
            <a:off x="-33480" y="-15840"/>
            <a:ext cx="9177480" cy="687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9640" y="160020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39640" y="126828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«Игровая деятельность в младшей группе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00000" y="4149720"/>
            <a:ext cx="7632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 ребенка есть страсть к игре и ее надо удовлетворять. Надо не только дать ему время поиграть, но и пропитать этой игрой всю его жизнь. Каков ребенок в игре, таков во многом он будет в работе, когда вырастет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Georgia"/>
              </a:rPr>
              <a:t>Макаренко Антон Семё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Georgia"/>
              </a:rPr>
              <a:t>Конкурс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Georgia"/>
              </a:rPr>
              <a:t>Придумайте забавную историю про игрушку, которую можно показать ребен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8066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Georgia"/>
              </a:rPr>
              <a:t>Продемонстрируйте сказку </a:t>
            </a:r>
            <a:r>
              <a:rPr b="0" lang="en-US" sz="4000" spc="-1" strike="noStrike">
                <a:solidFill>
                  <a:srgbClr val="c0504d"/>
                </a:solidFill>
                <a:latin typeface="Georgia"/>
              </a:rPr>
              <a:t>«</a:t>
            </a:r>
            <a:r>
              <a:rPr b="0" lang="ru-RU" sz="4000" spc="-1" strike="noStrike">
                <a:solidFill>
                  <a:srgbClr val="c0504d"/>
                </a:solidFill>
                <a:latin typeface="Georgia"/>
              </a:rPr>
              <a:t>Теремок</a:t>
            </a:r>
            <a:r>
              <a:rPr b="0" lang="en-US" sz="4000" spc="-1" strike="noStrike">
                <a:solidFill>
                  <a:srgbClr val="c0504d"/>
                </a:solidFill>
                <a:latin typeface="Georgia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79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rush Script MT"/>
              </a:rPr>
              <a:t>Игры с правил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311120" y="172872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Дидактические иг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ры с предметами и игруш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весные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стольно- печатные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зыкально- дидактические иг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виж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16000" y="1773360"/>
            <a:ext cx="541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DSC_0123"/>
          <p:cNvPicPr/>
          <p:nvPr/>
        </p:nvPicPr>
        <p:blipFill>
          <a:blip r:embed="rId1"/>
          <a:stretch/>
        </p:blipFill>
        <p:spPr>
          <a:xfrm>
            <a:off x="900000" y="1268280"/>
            <a:ext cx="410544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Речевые игры с картин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&amp;Ncy;&amp;acy;&amp;scy;&amp;tcy;&amp;ocy;&amp;lcy;&amp;softcy;&amp;ncy;&amp;acy;&amp;yacy; &amp;dcy;&amp;icy;&amp;dcy;&amp;acy;&amp;kcy;&amp;tcy;&amp;icy;&amp;chcy;&amp;iecy;&amp;scy;&amp;kcy;&amp;acy;&amp;yacy; &amp;icy;&amp;gcy;&amp;rcy;&amp;acy; &amp;pcy;&amp;ocy; &amp;rcy;&amp;acy;&amp;zcy;&amp;vcy;&amp;icy;&amp;tcy;&amp;icy;&amp;yucy; &amp;rcy;&amp;iecy;&amp;chcy;&amp;icy; &amp;dcy;&amp;lcy;&amp;yacy; &amp;dcy;&amp;iecy;&amp;tcy;&amp;iecy;&amp;jcy; 2–3 &amp;lcy;&amp;iecy;&amp;tcy; &amp;scy;&amp;kcy;&amp;acy;&amp;zcy;&amp;kcy;&amp;icy; «&amp;Rcy;&amp;iecy;&amp;pcy;&amp;kcy;&amp;acy;» &amp;icy; «&amp;Kcy;&amp;ocy;&amp;lcy;&amp;ocy;&amp;bcy;&amp;ocy;&amp;kcy;»"/>
          <p:cNvPicPr/>
          <p:nvPr/>
        </p:nvPicPr>
        <p:blipFill>
          <a:blip r:embed="rId2"/>
          <a:stretch/>
        </p:blipFill>
        <p:spPr>
          <a:xfrm>
            <a:off x="900000" y="787320"/>
            <a:ext cx="5112000" cy="28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detsad-407203-1454519270"/>
          <p:cNvPicPr/>
          <p:nvPr/>
        </p:nvPicPr>
        <p:blipFill>
          <a:blip r:embed="rId3"/>
          <a:stretch/>
        </p:blipFill>
        <p:spPr>
          <a:xfrm>
            <a:off x="3708360" y="3656160"/>
            <a:ext cx="54356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850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Пальчиковые иг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9" descr="h_1454430659_2202601_86a46ff560"/>
          <p:cNvPicPr/>
          <p:nvPr/>
        </p:nvPicPr>
        <p:blipFill>
          <a:blip r:embed="rId2"/>
          <a:stretch/>
        </p:blipFill>
        <p:spPr>
          <a:xfrm>
            <a:off x="826920" y="981000"/>
            <a:ext cx="806616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2"/>
          <p:cNvPicPr/>
          <p:nvPr/>
        </p:nvPicPr>
        <p:blipFill>
          <a:blip r:embed="rId2"/>
          <a:stretch/>
        </p:blipFill>
        <p:spPr>
          <a:xfrm>
            <a:off x="833400" y="115920"/>
            <a:ext cx="8310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eorgia"/>
              </a:rPr>
              <a:t>Подвижные игр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99640" y="1628640"/>
            <a:ext cx="79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Ролевые игр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DSC_0139"/>
          <p:cNvPicPr/>
          <p:nvPr/>
        </p:nvPicPr>
        <p:blipFill>
          <a:blip r:embed="rId2"/>
          <a:stretch/>
        </p:blipFill>
        <p:spPr>
          <a:xfrm>
            <a:off x="900000" y="692280"/>
            <a:ext cx="2470320" cy="439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140360" y="907920"/>
            <a:ext cx="4679640" cy="263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500720" y="3933720"/>
            <a:ext cx="43192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K:\ProPowerPoint\Шаблоны\ДЕТСКИЕ\Развитие ребенка\RazvitiePrint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Georgia"/>
              </a:rPr>
              <a:t>«Практические задания</a:t>
            </a:r>
            <a:r>
              <a:rPr b="1" lang="en-US" sz="6000" spc="-1" strike="noStrike">
                <a:solidFill>
                  <a:srgbClr val="800080"/>
                </a:solidFill>
                <a:latin typeface="Georgia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07:58:20Z</dcterms:created>
  <dc:creator>Admin</dc:creator>
  <dc:description/>
  <dc:language>en-US</dc:language>
  <cp:lastModifiedBy>Admin</cp:lastModifiedBy>
  <dcterms:modified xsi:type="dcterms:W3CDTF">2017-02-08T12:19:10Z</dcterms:modified>
  <cp:revision>10</cp:revision>
  <dc:subject/>
  <dc:title>«Игровая деятельность в младшей группе» </dc:title>
</cp:coreProperties>
</file>