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073-9984-4957-BA8B-31E43AA4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94D-830B-408E-9AFD-EA3A19B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DDA-53FA-40DA-93CB-11CFD57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077-ED01-4009-9E68-E1E06B72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FA0-1D22-4BF7-BD27-BFF8400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A79-7E14-47A0-9131-15B7E20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BE6-E6B0-48A4-B95F-24F69DA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7CD-D085-44DD-8347-B149620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2C1-C3E9-4726-A8EE-56465F1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39B-D77F-4D66-A219-580A561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6E8-B530-4393-8D44-E8CA7D69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598-902F-411F-BDAA-9870411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3C1-74F8-477A-9369-6180C9145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0" y="142920"/>
            <a:ext cx="9144000" cy="657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1448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19240" y="1225440"/>
            <a:ext cx="8785080" cy="26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viki\AppData\Local\Microsoft\Windows\Temporary Internet Files\Content.IE5\QYIAUPJ1\MCj04376360000[1].png"/>
          <p:cNvPicPr/>
          <p:nvPr/>
        </p:nvPicPr>
        <p:blipFill>
          <a:blip r:embed="rId2"/>
          <a:stretch/>
        </p:blipFill>
        <p:spPr>
          <a:xfrm>
            <a:off x="3429000" y="40719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viki\AppData\Local\Microsoft\Windows\Temporary Internet Files\Content.IE5\YN4VUU4O\MCj04376550000[1].wmf"/>
          <p:cNvPicPr/>
          <p:nvPr/>
        </p:nvPicPr>
        <p:blipFill>
          <a:blip r:embed="rId3"/>
          <a:stretch/>
        </p:blipFill>
        <p:spPr>
          <a:xfrm>
            <a:off x="357120" y="28584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viki\AppData\Local\Microsoft\Windows\Temporary Internet Files\Content.IE5\YHBMSOS7\MCj04376590000[1].wmf"/>
          <p:cNvPicPr/>
          <p:nvPr/>
        </p:nvPicPr>
        <p:blipFill>
          <a:blip r:embed="rId4"/>
          <a:stretch/>
        </p:blipFill>
        <p:spPr>
          <a:xfrm flipH="1" rot="706800">
            <a:off x="7475400" y="388800"/>
            <a:ext cx="1144800" cy="127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85840" y="321480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(Фиалка, кливия, рео, сансевьера, хамедорея,   бегония тигровая, зефирантес, аспарагус, фикус, герань, нефролепис, примула, бальзамин, хлорофитум, камнеломка, колеус, драцена, адиантум, спатифилиум, аспидистр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85840" y="2428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5840" y="3773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85840" y="1285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7120" y="5345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16"/>
          <p:cNvGrpSpPr/>
          <p:nvPr/>
        </p:nvGrpSpPr>
        <p:grpSpPr>
          <a:xfrm>
            <a:off x="2928960" y="1000080"/>
            <a:ext cx="714240" cy="714600"/>
            <a:chOff x="2928960" y="1000080"/>
            <a:chExt cx="714240" cy="714600"/>
          </a:xfrm>
        </p:grpSpPr>
        <p:sp>
          <p:nvSpPr>
            <p:cNvPr id="54" name="Овал 8"/>
            <p:cNvSpPr/>
            <p:nvPr/>
          </p:nvSpPr>
          <p:spPr>
            <a:xfrm>
              <a:off x="292896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Овал 9"/>
            <p:cNvSpPr/>
            <p:nvPr/>
          </p:nvSpPr>
          <p:spPr>
            <a:xfrm>
              <a:off x="31431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Овал 10"/>
            <p:cNvSpPr/>
            <p:nvPr/>
          </p:nvSpPr>
          <p:spPr>
            <a:xfrm>
              <a:off x="33573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Дуга 11"/>
            <p:cNvSpPr/>
            <p:nvPr/>
          </p:nvSpPr>
          <p:spPr>
            <a:xfrm rot="7134600">
              <a:off x="3137760" y="118260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Группа 17"/>
          <p:cNvGrpSpPr/>
          <p:nvPr/>
        </p:nvGrpSpPr>
        <p:grpSpPr>
          <a:xfrm>
            <a:off x="4714920" y="1000080"/>
            <a:ext cx="714240" cy="857160"/>
            <a:chOff x="4714920" y="1000080"/>
            <a:chExt cx="714240" cy="857160"/>
          </a:xfrm>
        </p:grpSpPr>
        <p:sp>
          <p:nvSpPr>
            <p:cNvPr id="59" name="Овал 12"/>
            <p:cNvSpPr/>
            <p:nvPr/>
          </p:nvSpPr>
          <p:spPr>
            <a:xfrm>
              <a:off x="471492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Овал 13"/>
            <p:cNvSpPr/>
            <p:nvPr/>
          </p:nvSpPr>
          <p:spPr>
            <a:xfrm>
              <a:off x="49291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Овал 14"/>
            <p:cNvSpPr/>
            <p:nvPr/>
          </p:nvSpPr>
          <p:spPr>
            <a:xfrm>
              <a:off x="51433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Дуга 15"/>
            <p:cNvSpPr/>
            <p:nvPr/>
          </p:nvSpPr>
          <p:spPr>
            <a:xfrm rot="18406200">
              <a:off x="4991760" y="1463040"/>
              <a:ext cx="280800" cy="352440"/>
            </a:xfrm>
            <a:custGeom>
              <a:avLst/>
              <a:gdLst/>
              <a:ahLst/>
              <a:rect l="l" t="t" r="r" b="b"/>
              <a:pathLst>
                <a:path stroke="0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  <a:lnTo>
                    <a:pt x="140506" y="176214"/>
                  </a:lnTo>
                  <a:cubicBezTo>
                    <a:pt x="140506" y="117476"/>
                    <a:pt x="140505" y="58738"/>
                    <a:pt x="140505" y="0"/>
                  </a:cubicBezTo>
                  <a:close/>
                </a:path>
                <a:path fill="none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Прямая соединительная линия 19"/>
          <p:cNvSpPr/>
          <p:nvPr/>
        </p:nvSpPr>
        <p:spPr>
          <a:xfrm>
            <a:off x="285840" y="2071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285840" y="328464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1"/>
          <p:cNvSpPr/>
          <p:nvPr/>
        </p:nvSpPr>
        <p:spPr>
          <a:xfrm>
            <a:off x="285840" y="4713120"/>
            <a:ext cx="8715240" cy="180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2"/>
          <p:cNvSpPr/>
          <p:nvPr/>
        </p:nvSpPr>
        <p:spPr>
          <a:xfrm>
            <a:off x="285840" y="6427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3"/>
          <p:cNvSpPr/>
          <p:nvPr/>
        </p:nvSpPr>
        <p:spPr>
          <a:xfrm>
            <a:off x="285840" y="78588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>
            <a:off x="2858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7"/>
          <p:cNvSpPr/>
          <p:nvPr/>
        </p:nvSpPr>
        <p:spPr>
          <a:xfrm>
            <a:off x="250020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8"/>
          <p:cNvSpPr/>
          <p:nvPr/>
        </p:nvSpPr>
        <p:spPr>
          <a:xfrm>
            <a:off x="41432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9"/>
          <p:cNvSpPr/>
          <p:nvPr/>
        </p:nvSpPr>
        <p:spPr>
          <a:xfrm flipH="1">
            <a:off x="57859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7358040" y="785880"/>
            <a:ext cx="144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1"/>
          <p:cNvSpPr/>
          <p:nvPr/>
        </p:nvSpPr>
        <p:spPr>
          <a:xfrm flipH="1">
            <a:off x="90007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2643120" y="17859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435780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4"/>
          <p:cNvSpPr/>
          <p:nvPr/>
        </p:nvSpPr>
        <p:spPr>
          <a:xfrm>
            <a:off x="2500200" y="294804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5"/>
          <p:cNvSpPr/>
          <p:nvPr/>
        </p:nvSpPr>
        <p:spPr>
          <a:xfrm>
            <a:off x="4214880" y="2786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6"/>
          <p:cNvSpPr/>
          <p:nvPr/>
        </p:nvSpPr>
        <p:spPr>
          <a:xfrm>
            <a:off x="2500200" y="5670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5"/>
          <p:cNvSpPr/>
          <p:nvPr/>
        </p:nvSpPr>
        <p:spPr>
          <a:xfrm>
            <a:off x="4143240" y="5643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571500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728676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2550960" y="43768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4140360" y="4365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6000840" y="4357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7715160" y="43578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Пятно 1 40"/>
          <p:cNvGrpSpPr/>
          <p:nvPr/>
        </p:nvGrpSpPr>
        <p:grpSpPr>
          <a:xfrm>
            <a:off x="2730600" y="3328920"/>
            <a:ext cx="1255680" cy="1182600"/>
            <a:chOff x="2730600" y="3328920"/>
            <a:chExt cx="1255680" cy="1182600"/>
          </a:xfrm>
        </p:grpSpPr>
        <p:pic>
          <p:nvPicPr>
            <p:cNvPr id="87" name="Пятно 1 40" descr=""/>
            <p:cNvPicPr/>
            <p:nvPr/>
          </p:nvPicPr>
          <p:blipFill>
            <a:blip r:embed="rId1"/>
            <a:stretch/>
          </p:blipFill>
          <p:spPr>
            <a:xfrm>
              <a:off x="2730600" y="3328920"/>
              <a:ext cx="12556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0480" y="367200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Овал 41"/>
          <p:cNvSpPr/>
          <p:nvPr/>
        </p:nvSpPr>
        <p:spPr>
          <a:xfrm>
            <a:off x="457200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6215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Овал 43"/>
          <p:cNvGrpSpPr/>
          <p:nvPr/>
        </p:nvGrpSpPr>
        <p:grpSpPr>
          <a:xfrm>
            <a:off x="7802640" y="3468600"/>
            <a:ext cx="896760" cy="895320"/>
            <a:chOff x="7802640" y="3468600"/>
            <a:chExt cx="896760" cy="895320"/>
          </a:xfrm>
        </p:grpSpPr>
        <p:pic>
          <p:nvPicPr>
            <p:cNvPr id="92" name="Овал 43" descr=""/>
            <p:cNvPicPr/>
            <p:nvPr/>
          </p:nvPicPr>
          <p:blipFill>
            <a:blip r:embed="rId2"/>
            <a:stretch/>
          </p:blipFill>
          <p:spPr>
            <a:xfrm>
              <a:off x="7802640" y="3468600"/>
              <a:ext cx="896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74000" y="361476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78"/>
          <p:cNvGrpSpPr/>
          <p:nvPr/>
        </p:nvGrpSpPr>
        <p:grpSpPr>
          <a:xfrm>
            <a:off x="2621160" y="4925520"/>
            <a:ext cx="1307520" cy="718200"/>
            <a:chOff x="2621160" y="4925520"/>
            <a:chExt cx="1307520" cy="718200"/>
          </a:xfrm>
        </p:grpSpPr>
        <p:sp>
          <p:nvSpPr>
            <p:cNvPr id="95" name="Трапеция 46"/>
            <p:cNvSpPr/>
            <p:nvPr/>
          </p:nvSpPr>
          <p:spPr>
            <a:xfrm rot="18300000">
              <a:off x="2787840" y="4914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lnTo>
                    <a:pt x="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44"/>
            <p:cNvSpPr/>
            <p:nvPr/>
          </p:nvSpPr>
          <p:spPr>
            <a:xfrm>
              <a:off x="307188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Месяц 45"/>
            <p:cNvSpPr/>
            <p:nvPr/>
          </p:nvSpPr>
          <p:spPr>
            <a:xfrm rot="10800000">
              <a:off x="371448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55"/>
          <p:cNvGrpSpPr/>
          <p:nvPr/>
        </p:nvGrpSpPr>
        <p:grpSpPr>
          <a:xfrm>
            <a:off x="5857920" y="4925520"/>
            <a:ext cx="1307520" cy="718200"/>
            <a:chOff x="5857920" y="4925520"/>
            <a:chExt cx="1307520" cy="718200"/>
          </a:xfrm>
        </p:grpSpPr>
        <p:sp>
          <p:nvSpPr>
            <p:cNvPr id="99" name="Трапеция 50"/>
            <p:cNvSpPr/>
            <p:nvPr/>
          </p:nvSpPr>
          <p:spPr>
            <a:xfrm rot="18300000">
              <a:off x="6024600" y="4914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lnTo>
                    <a:pt x="0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51"/>
            <p:cNvSpPr/>
            <p:nvPr/>
          </p:nvSpPr>
          <p:spPr>
            <a:xfrm>
              <a:off x="630864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Месяц 52"/>
            <p:cNvSpPr/>
            <p:nvPr/>
          </p:nvSpPr>
          <p:spPr>
            <a:xfrm rot="10800000">
              <a:off x="695124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56"/>
          <p:cNvGrpSpPr/>
          <p:nvPr/>
        </p:nvGrpSpPr>
        <p:grpSpPr>
          <a:xfrm>
            <a:off x="4214880" y="4928400"/>
            <a:ext cx="1285560" cy="718200"/>
            <a:chOff x="4214880" y="4928400"/>
            <a:chExt cx="1285560" cy="718200"/>
          </a:xfrm>
        </p:grpSpPr>
        <p:sp>
          <p:nvSpPr>
            <p:cNvPr id="103" name="Трапеция 47"/>
            <p:cNvSpPr/>
            <p:nvPr/>
          </p:nvSpPr>
          <p:spPr>
            <a:xfrm rot="18300000">
              <a:off x="4381560" y="491724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48"/>
            <p:cNvSpPr/>
            <p:nvPr/>
          </p:nvSpPr>
          <p:spPr>
            <a:xfrm>
              <a:off x="4643280" y="50036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Месяц 49"/>
            <p:cNvSpPr/>
            <p:nvPr/>
          </p:nvSpPr>
          <p:spPr>
            <a:xfrm rot="10800000">
              <a:off x="5286240" y="50036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53"/>
            <p:cNvSpPr/>
            <p:nvPr/>
          </p:nvSpPr>
          <p:spPr>
            <a:xfrm>
              <a:off x="4643280" y="535752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3"/>
          <p:cNvGrpSpPr/>
          <p:nvPr/>
        </p:nvGrpSpPr>
        <p:grpSpPr>
          <a:xfrm>
            <a:off x="7786800" y="4903920"/>
            <a:ext cx="701640" cy="761760"/>
            <a:chOff x="7786800" y="4903920"/>
            <a:chExt cx="701640" cy="761760"/>
          </a:xfrm>
        </p:grpSpPr>
        <p:grpSp>
          <p:nvGrpSpPr>
            <p:cNvPr id="108" name="Месяц 59"/>
            <p:cNvGrpSpPr/>
            <p:nvPr/>
          </p:nvGrpSpPr>
          <p:grpSpPr>
            <a:xfrm>
              <a:off x="7839360" y="4954320"/>
              <a:ext cx="390240" cy="303840"/>
              <a:chOff x="7839360" y="4954320"/>
              <a:chExt cx="390240" cy="303840"/>
            </a:xfrm>
          </p:grpSpPr>
          <p:pic>
            <p:nvPicPr>
              <p:cNvPr id="109" name="Месяц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9360" y="4954320"/>
                <a:ext cx="39024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17451000">
                <a:off x="8042040" y="4977720"/>
                <a:ext cx="4644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Месяц 58"/>
            <p:cNvGrpSpPr/>
            <p:nvPr/>
          </p:nvGrpSpPr>
          <p:grpSpPr>
            <a:xfrm>
              <a:off x="8058960" y="4903920"/>
              <a:ext cx="384120" cy="303840"/>
              <a:chOff x="8058960" y="4903920"/>
              <a:chExt cx="384120" cy="303840"/>
            </a:xfrm>
          </p:grpSpPr>
          <p:pic>
            <p:nvPicPr>
              <p:cNvPr id="112" name="Месяц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8960" y="4903920"/>
                <a:ext cx="38412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4148400">
                <a:off x="8199360" y="4931640"/>
                <a:ext cx="4644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Трапеция 57"/>
            <p:cNvSpPr/>
            <p:nvPr/>
          </p:nvSpPr>
          <p:spPr>
            <a:xfrm rot="10800000">
              <a:off x="7786800" y="5117760"/>
              <a:ext cx="642960" cy="424800"/>
            </a:xfrm>
            <a:custGeom>
              <a:avLst/>
              <a:gdLst/>
              <a:ahLst/>
              <a:rect l="l" t="t" r="r" b="b"/>
              <a:pathLst>
                <a:path w="642937" h="460278">
                  <a:moveTo>
                    <a:pt x="0" y="460278"/>
                  </a:moveTo>
                  <a:lnTo>
                    <a:pt x="115070" y="0"/>
                  </a:lnTo>
                  <a:lnTo>
                    <a:pt x="527868" y="0"/>
                  </a:lnTo>
                  <a:lnTo>
                    <a:pt x="642937" y="460278"/>
                  </a:lnTo>
                  <a:lnTo>
                    <a:pt x="0" y="460278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Трапеция 54"/>
            <p:cNvSpPr/>
            <p:nvPr/>
          </p:nvSpPr>
          <p:spPr>
            <a:xfrm rot="10800000">
              <a:off x="7792920" y="5447520"/>
              <a:ext cx="695520" cy="218160"/>
            </a:xfrm>
            <a:custGeom>
              <a:avLst/>
              <a:gdLst/>
              <a:ahLst/>
              <a:rect l="l" t="t" r="r" b="b"/>
              <a:pathLst>
                <a:path w="695325" h="236488">
                  <a:moveTo>
                    <a:pt x="0" y="236488"/>
                  </a:moveTo>
                  <a:lnTo>
                    <a:pt x="59122" y="0"/>
                  </a:lnTo>
                  <a:lnTo>
                    <a:pt x="636203" y="0"/>
                  </a:lnTo>
                  <a:lnTo>
                    <a:pt x="695325" y="236488"/>
                  </a:lnTo>
                  <a:lnTo>
                    <a:pt x="0" y="236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6"/>
          <p:cNvGrpSpPr/>
          <p:nvPr/>
        </p:nvGrpSpPr>
        <p:grpSpPr>
          <a:xfrm>
            <a:off x="3071880" y="2214720"/>
            <a:ext cx="642960" cy="714240"/>
            <a:chOff x="3071880" y="2214720"/>
            <a:chExt cx="642960" cy="714240"/>
          </a:xfrm>
        </p:grpSpPr>
        <p:sp>
          <p:nvSpPr>
            <p:cNvPr id="117" name="Прямоугольник 60"/>
            <p:cNvSpPr/>
            <p:nvPr/>
          </p:nvSpPr>
          <p:spPr>
            <a:xfrm>
              <a:off x="3071880" y="22147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62"/>
            <p:cNvSpPr/>
            <p:nvPr/>
          </p:nvSpPr>
          <p:spPr>
            <a:xfrm flipH="1">
              <a:off x="3284640" y="25718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64"/>
            <p:cNvSpPr/>
            <p:nvPr/>
          </p:nvSpPr>
          <p:spPr>
            <a:xfrm>
              <a:off x="3214800" y="27860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65"/>
            <p:cNvSpPr/>
            <p:nvPr/>
          </p:nvSpPr>
          <p:spPr>
            <a:xfrm>
              <a:off x="3071880" y="22384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80"/>
          <p:cNvGrpSpPr/>
          <p:nvPr/>
        </p:nvGrpSpPr>
        <p:grpSpPr>
          <a:xfrm>
            <a:off x="4581000" y="2214360"/>
            <a:ext cx="767160" cy="571680"/>
            <a:chOff x="4581000" y="2214360"/>
            <a:chExt cx="767160" cy="571680"/>
          </a:xfrm>
        </p:grpSpPr>
        <p:sp>
          <p:nvSpPr>
            <p:cNvPr id="122" name="Блок-схема: ручное управление 66"/>
            <p:cNvSpPr/>
            <p:nvPr/>
          </p:nvSpPr>
          <p:spPr>
            <a:xfrm rot="5211600">
              <a:off x="4626720" y="2327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sp>
            <p:nvSpPr>
              <p:cNvPr id="124" name="Прямая соединительная линия 68"/>
              <p:cNvSpPr/>
              <p:nvPr/>
            </p:nvSpPr>
            <p:spPr>
              <a:xfrm flipV="1">
                <a:off x="5000400" y="2214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Прямая соединительная линия 70"/>
              <p:cNvSpPr/>
              <p:nvPr/>
            </p:nvSpPr>
            <p:spPr>
              <a:xfrm flipV="1">
                <a:off x="5000400" y="2443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Прямая соединительная линия 72"/>
              <p:cNvSpPr/>
              <p:nvPr/>
            </p:nvSpPr>
            <p:spPr>
              <a:xfrm>
                <a:off x="5000400" y="2573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Прямая соединительная линия 74"/>
              <p:cNvSpPr/>
              <p:nvPr/>
            </p:nvSpPr>
            <p:spPr>
              <a:xfrm>
                <a:off x="5152680" y="2516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Прямая соединительная линия 75"/>
              <p:cNvSpPr/>
              <p:nvPr/>
            </p:nvSpPr>
            <p:spPr>
              <a:xfrm flipV="1">
                <a:off x="5152680" y="2271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Прямая соединительная линия 77"/>
              <p:cNvSpPr/>
              <p:nvPr/>
            </p:nvSpPr>
            <p:spPr>
              <a:xfrm>
                <a:off x="5000400" y="2671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ая соединительная линия 79"/>
              <p:cNvSpPr/>
              <p:nvPr/>
            </p:nvSpPr>
            <p:spPr>
              <a:xfrm>
                <a:off x="5152680" y="2671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21"/>
          <p:cNvSpPr/>
          <p:nvPr/>
        </p:nvSpPr>
        <p:spPr>
          <a:xfrm>
            <a:off x="285840" y="250020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716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71280" y="3887640"/>
            <a:ext cx="4786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14200" y="1085760"/>
            <a:ext cx="8786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16"/>
          <p:cNvGrpSpPr/>
          <p:nvPr/>
        </p:nvGrpSpPr>
        <p:grpSpPr>
          <a:xfrm>
            <a:off x="428760" y="2643120"/>
            <a:ext cx="714240" cy="714600"/>
            <a:chOff x="428760" y="2643120"/>
            <a:chExt cx="714240" cy="714600"/>
          </a:xfrm>
        </p:grpSpPr>
        <p:sp>
          <p:nvSpPr>
            <p:cNvPr id="137" name="Овал 6"/>
            <p:cNvSpPr/>
            <p:nvPr/>
          </p:nvSpPr>
          <p:spPr>
            <a:xfrm>
              <a:off x="42876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7"/>
            <p:cNvSpPr/>
            <p:nvPr/>
          </p:nvSpPr>
          <p:spPr>
            <a:xfrm>
              <a:off x="6429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8"/>
            <p:cNvSpPr/>
            <p:nvPr/>
          </p:nvSpPr>
          <p:spPr>
            <a:xfrm>
              <a:off x="8571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Дуга 9"/>
            <p:cNvSpPr/>
            <p:nvPr/>
          </p:nvSpPr>
          <p:spPr>
            <a:xfrm rot="7134600">
              <a:off x="63756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Овал 10"/>
          <p:cNvSpPr/>
          <p:nvPr/>
        </p:nvSpPr>
        <p:spPr>
          <a:xfrm>
            <a:off x="3286080" y="2643120"/>
            <a:ext cx="714600" cy="71460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1"/>
          <p:cNvGrpSpPr/>
          <p:nvPr/>
        </p:nvGrpSpPr>
        <p:grpSpPr>
          <a:xfrm>
            <a:off x="2285640" y="2643120"/>
            <a:ext cx="714240" cy="714600"/>
            <a:chOff x="2285640" y="2643120"/>
            <a:chExt cx="714240" cy="714600"/>
          </a:xfrm>
        </p:grpSpPr>
        <p:grpSp>
          <p:nvGrpSpPr>
            <p:cNvPr id="143" name="Месяц 12"/>
            <p:cNvGrpSpPr/>
            <p:nvPr/>
          </p:nvGrpSpPr>
          <p:grpSpPr>
            <a:xfrm>
              <a:off x="2346840" y="2687760"/>
              <a:ext cx="390240" cy="296280"/>
              <a:chOff x="2346840" y="2687760"/>
              <a:chExt cx="390240" cy="296280"/>
            </a:xfrm>
          </p:grpSpPr>
          <p:pic>
            <p:nvPicPr>
              <p:cNvPr id="144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6840" y="2687760"/>
                <a:ext cx="390240" cy="2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 rot="17451000">
                <a:off x="2547000" y="2710800"/>
                <a:ext cx="4320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Месяц 13"/>
            <p:cNvGrpSpPr/>
            <p:nvPr/>
          </p:nvGrpSpPr>
          <p:grpSpPr>
            <a:xfrm>
              <a:off x="2560320" y="2643120"/>
              <a:ext cx="396360" cy="296280"/>
              <a:chOff x="2560320" y="2643120"/>
              <a:chExt cx="396360" cy="296280"/>
            </a:xfrm>
          </p:grpSpPr>
          <p:pic>
            <p:nvPicPr>
              <p:cNvPr id="147" name="Меся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0320" y="2643120"/>
                <a:ext cx="396360" cy="2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 rot="4148400">
                <a:off x="2708280" y="2667240"/>
                <a:ext cx="4320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Трапеция 14"/>
            <p:cNvSpPr/>
            <p:nvPr/>
          </p:nvSpPr>
          <p:spPr>
            <a:xfrm rot="10800000">
              <a:off x="2285640" y="2846520"/>
              <a:ext cx="654120" cy="396000"/>
            </a:xfrm>
            <a:custGeom>
              <a:avLst/>
              <a:gdLst/>
              <a:ahLst/>
              <a:rect l="l" t="t" r="r" b="b"/>
              <a:pathLst>
                <a:path w="642422" h="460489">
                  <a:moveTo>
                    <a:pt x="0" y="460489"/>
                  </a:moveTo>
                  <a:lnTo>
                    <a:pt x="115122" y="0"/>
                  </a:lnTo>
                  <a:lnTo>
                    <a:pt x="527300" y="0"/>
                  </a:lnTo>
                  <a:lnTo>
                    <a:pt x="642422" y="460489"/>
                  </a:lnTo>
                  <a:lnTo>
                    <a:pt x="0" y="460489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Трапеция 15"/>
            <p:cNvSpPr/>
            <p:nvPr/>
          </p:nvSpPr>
          <p:spPr>
            <a:xfrm rot="10800000">
              <a:off x="2291760" y="3153960"/>
              <a:ext cx="708120" cy="203760"/>
            </a:xfrm>
            <a:custGeom>
              <a:avLst/>
              <a:gdLst/>
              <a:ahLst/>
              <a:rect l="l" t="t" r="r" b="b"/>
              <a:pathLst>
                <a:path w="695438" h="237017">
                  <a:moveTo>
                    <a:pt x="0" y="237017"/>
                  </a:moveTo>
                  <a:lnTo>
                    <a:pt x="59254" y="0"/>
                  </a:lnTo>
                  <a:lnTo>
                    <a:pt x="636184" y="0"/>
                  </a:lnTo>
                  <a:lnTo>
                    <a:pt x="695438" y="237017"/>
                  </a:lnTo>
                  <a:lnTo>
                    <a:pt x="0" y="2370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6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152" name="Прямоугольник 17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18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Овал 19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28"/>
          <p:cNvSpPr/>
          <p:nvPr/>
        </p:nvSpPr>
        <p:spPr>
          <a:xfrm>
            <a:off x="8317080" y="6381720"/>
            <a:ext cx="826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КЛИ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IMG_0055"/>
          <p:cNvPicPr/>
          <p:nvPr/>
        </p:nvPicPr>
        <p:blipFill>
          <a:blip r:embed="rId1"/>
          <a:stretch/>
        </p:blipFill>
        <p:spPr>
          <a:xfrm>
            <a:off x="4986360" y="3292560"/>
            <a:ext cx="4078440" cy="34988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142920" y="42861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ливия оранжевая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травянистое многолетнее растение. Не имеет стебля - листья собраны в прикорневую розетку. Листья ремневидной формы, темно-зеленого цвета до 60 см длиной. Выбрасывает соцветие из 10-12 цветков на конце высокого цветоноса ранней ве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214200" y="765000"/>
            <a:ext cx="8929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 рассеянный. От прямых солнечных лучей растение притен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сенне-летний пери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°C, с октября температуру снижают до 12-14°C, когда растение начинает выпускать цветонос, температуру повышают до 18-20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мягкой отстоянной водой. Во время покоя растение не поливают или поливают только в том случае, если растение начало сбрасыва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"/>
          <p:cNvSpPr/>
          <p:nvPr/>
        </p:nvSpPr>
        <p:spPr>
          <a:xfrm>
            <a:off x="214200" y="322092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Группа 16"/>
          <p:cNvGrpSpPr/>
          <p:nvPr/>
        </p:nvGrpSpPr>
        <p:grpSpPr>
          <a:xfrm>
            <a:off x="357120" y="3363840"/>
            <a:ext cx="714600" cy="714600"/>
            <a:chOff x="357120" y="3363840"/>
            <a:chExt cx="714600" cy="714600"/>
          </a:xfrm>
        </p:grpSpPr>
        <p:sp>
          <p:nvSpPr>
            <p:cNvPr id="163" name="Овал 8"/>
            <p:cNvSpPr/>
            <p:nvPr/>
          </p:nvSpPr>
          <p:spPr>
            <a:xfrm>
              <a:off x="357120" y="336384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Овал 9"/>
            <p:cNvSpPr/>
            <p:nvPr/>
          </p:nvSpPr>
          <p:spPr>
            <a:xfrm>
              <a:off x="571320" y="357804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Овал 10"/>
            <p:cNvSpPr/>
            <p:nvPr/>
          </p:nvSpPr>
          <p:spPr>
            <a:xfrm>
              <a:off x="785880" y="357804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Дуга 11"/>
            <p:cNvSpPr/>
            <p:nvPr/>
          </p:nvSpPr>
          <p:spPr>
            <a:xfrm rot="7134600">
              <a:off x="566280" y="354636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0" y="0"/>
                  </a:lnTo>
                  <a:cubicBezTo>
                    <a:pt x="216855" y="0"/>
                    <a:pt x="279402" y="78893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0" y="0"/>
                  </a:lnTo>
                  <a:cubicBezTo>
                    <a:pt x="216855" y="0"/>
                    <a:pt x="279402" y="78893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12"/>
          <p:cNvSpPr/>
          <p:nvPr/>
        </p:nvSpPr>
        <p:spPr>
          <a:xfrm>
            <a:off x="3714840" y="329256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Группа 56"/>
          <p:cNvGrpSpPr/>
          <p:nvPr/>
        </p:nvGrpSpPr>
        <p:grpSpPr>
          <a:xfrm>
            <a:off x="2190960" y="3360240"/>
            <a:ext cx="1285200" cy="718200"/>
            <a:chOff x="2190960" y="3360240"/>
            <a:chExt cx="1285200" cy="718200"/>
          </a:xfrm>
        </p:grpSpPr>
        <p:sp>
          <p:nvSpPr>
            <p:cNvPr id="169" name="Трапеция 14"/>
            <p:cNvSpPr/>
            <p:nvPr/>
          </p:nvSpPr>
          <p:spPr>
            <a:xfrm rot="18300000">
              <a:off x="2357640" y="334908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оугольник 15"/>
            <p:cNvSpPr/>
            <p:nvPr/>
          </p:nvSpPr>
          <p:spPr>
            <a:xfrm>
              <a:off x="2619360" y="343548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Месяц 16"/>
            <p:cNvSpPr/>
            <p:nvPr/>
          </p:nvSpPr>
          <p:spPr>
            <a:xfrm rot="10800000">
              <a:off x="3261960" y="343548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17"/>
            <p:cNvSpPr/>
            <p:nvPr/>
          </p:nvSpPr>
          <p:spPr>
            <a:xfrm>
              <a:off x="2619360" y="378936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18"/>
          <p:cNvGrpSpPr/>
          <p:nvPr/>
        </p:nvGrpSpPr>
        <p:grpSpPr>
          <a:xfrm>
            <a:off x="1428840" y="3363840"/>
            <a:ext cx="642960" cy="714600"/>
            <a:chOff x="1428840" y="3363840"/>
            <a:chExt cx="642960" cy="714600"/>
          </a:xfrm>
        </p:grpSpPr>
        <p:sp>
          <p:nvSpPr>
            <p:cNvPr id="174" name="Прямоугольник 19"/>
            <p:cNvSpPr/>
            <p:nvPr/>
          </p:nvSpPr>
          <p:spPr>
            <a:xfrm>
              <a:off x="1428840" y="336384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0"/>
            <p:cNvSpPr/>
            <p:nvPr/>
          </p:nvSpPr>
          <p:spPr>
            <a:xfrm flipH="1">
              <a:off x="1641600" y="372096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Овал 21"/>
            <p:cNvSpPr/>
            <p:nvPr/>
          </p:nvSpPr>
          <p:spPr>
            <a:xfrm>
              <a:off x="1571760" y="393552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5"/>
            <p:cNvSpPr/>
            <p:nvPr/>
          </p:nvSpPr>
          <p:spPr>
            <a:xfrm>
              <a:off x="1428840" y="338760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85840" y="928800"/>
            <a:ext cx="85723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21.jpg"/>
          <p:cNvPicPr/>
          <p:nvPr/>
        </p:nvPicPr>
        <p:blipFill>
          <a:blip r:embed="rId1"/>
          <a:stretch/>
        </p:blipFill>
        <p:spPr>
          <a:xfrm>
            <a:off x="5907240" y="3054240"/>
            <a:ext cx="3114360" cy="37116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142920" y="350028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5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184" name="Овал 7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8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9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Дуга 10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Овал 11"/>
          <p:cNvSpPr/>
          <p:nvPr/>
        </p:nvSpPr>
        <p:spPr>
          <a:xfrm>
            <a:off x="3286080" y="257184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56"/>
          <p:cNvGrpSpPr/>
          <p:nvPr/>
        </p:nvGrpSpPr>
        <p:grpSpPr>
          <a:xfrm>
            <a:off x="1833480" y="2639520"/>
            <a:ext cx="1285560" cy="718200"/>
            <a:chOff x="1833480" y="2639520"/>
            <a:chExt cx="1285560" cy="718200"/>
          </a:xfrm>
        </p:grpSpPr>
        <p:sp>
          <p:nvSpPr>
            <p:cNvPr id="190" name="Трапеция 13"/>
            <p:cNvSpPr/>
            <p:nvPr/>
          </p:nvSpPr>
          <p:spPr>
            <a:xfrm rot="18300000">
              <a:off x="2000160" y="2628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оугольник 14"/>
            <p:cNvSpPr/>
            <p:nvPr/>
          </p:nvSpPr>
          <p:spPr>
            <a:xfrm>
              <a:off x="226188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Месяц 15"/>
            <p:cNvSpPr/>
            <p:nvPr/>
          </p:nvSpPr>
          <p:spPr>
            <a:xfrm rot="10800000">
              <a:off x="290484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оугольник 16"/>
            <p:cNvSpPr/>
            <p:nvPr/>
          </p:nvSpPr>
          <p:spPr>
            <a:xfrm>
              <a:off x="226188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17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195" name="Прямоугольник 18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9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Овал 20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ЗЕФИРАН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57120" y="928800"/>
            <a:ext cx="85010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В период покоя растение лучше держать в прохладном месте, при 10-12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 время роста регулярный. В период покоя полив сокращ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4" descr="84114.zefirantes.jpg"/>
          <p:cNvPicPr/>
          <p:nvPr/>
        </p:nvPicPr>
        <p:blipFill>
          <a:blip r:embed="rId1"/>
          <a:stretch/>
        </p:blipFill>
        <p:spPr>
          <a:xfrm>
            <a:off x="6058080" y="2838600"/>
            <a:ext cx="2800080" cy="3733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02" name="Прямоугольник 5"/>
          <p:cNvSpPr/>
          <p:nvPr/>
        </p:nvSpPr>
        <p:spPr>
          <a:xfrm>
            <a:off x="330120" y="3643200"/>
            <a:ext cx="46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ие травянистые растения. Луковица яйцевидно-округлая, яйцевидная, небольшая, 2—3,5 см в диаметре, с короткой или удлиненной шейкой. Листья линейные или ремневидные, травянистые. Цветки крокусовидные, частично звездчатовидные, по одному на тонких побегах, белые, красноватые, розовые, желтые, двухцветные. Цветет весной, летом,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205" name="Овал 8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Овал 9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Овал 10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Дуга 11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12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10" name="Прямоугольник 13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4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Овал 15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ятно 1 17"/>
          <p:cNvGrpSpPr/>
          <p:nvPr/>
        </p:nvGrpSpPr>
        <p:grpSpPr>
          <a:xfrm>
            <a:off x="1944720" y="2541600"/>
            <a:ext cx="1036440" cy="1036800"/>
            <a:chOff x="1944720" y="2541600"/>
            <a:chExt cx="1036440" cy="1036800"/>
          </a:xfrm>
        </p:grpSpPr>
        <p:pic>
          <p:nvPicPr>
            <p:cNvPr id="215" name="Пятно 1 17" descr=""/>
            <p:cNvPicPr/>
            <p:nvPr/>
          </p:nvPicPr>
          <p:blipFill>
            <a:blip r:embed="rId2"/>
            <a:stretch/>
          </p:blipFill>
          <p:spPr>
            <a:xfrm>
              <a:off x="1944720" y="2541600"/>
              <a:ext cx="10364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198520" y="2843280"/>
              <a:ext cx="519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56"/>
          <p:cNvGrpSpPr/>
          <p:nvPr/>
        </p:nvGrpSpPr>
        <p:grpSpPr>
          <a:xfrm>
            <a:off x="2833920" y="2639520"/>
            <a:ext cx="1285200" cy="718200"/>
            <a:chOff x="2833920" y="2639520"/>
            <a:chExt cx="1285200" cy="718200"/>
          </a:xfrm>
        </p:grpSpPr>
        <p:sp>
          <p:nvSpPr>
            <p:cNvPr id="218" name="Трапеция 19"/>
            <p:cNvSpPr/>
            <p:nvPr/>
          </p:nvSpPr>
          <p:spPr>
            <a:xfrm rot="18300000">
              <a:off x="3000600" y="2628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20"/>
            <p:cNvSpPr/>
            <p:nvPr/>
          </p:nvSpPr>
          <p:spPr>
            <a:xfrm>
              <a:off x="326232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Месяц 21"/>
            <p:cNvSpPr/>
            <p:nvPr/>
          </p:nvSpPr>
          <p:spPr>
            <a:xfrm rot="10800000">
              <a:off x="390492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22"/>
            <p:cNvSpPr/>
            <p:nvPr/>
          </p:nvSpPr>
          <p:spPr>
            <a:xfrm>
              <a:off x="326232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3" descr="13800.jpg"/>
          <p:cNvPicPr/>
          <p:nvPr/>
        </p:nvPicPr>
        <p:blipFill>
          <a:blip r:embed="rId1"/>
          <a:stretch/>
        </p:blipFill>
        <p:spPr>
          <a:xfrm>
            <a:off x="6551640" y="2786040"/>
            <a:ext cx="2235240" cy="4081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ДРАЦЕНА ПАЛ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71280" y="866880"/>
            <a:ext cx="9001440" cy="179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ет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ветлое место, полутень, не переносит прямых солнечных лучей. Для хорошего роста и развития нужен интенсивный свет. Хорошо растет драцена при искуствее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еренная, не ниже 15°С, большинство драцен предпочитают прохладную перезимовку при температуре 10-12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в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том обильный, зимой умеренный. Не переносит застоя воды в горшке или пересушки земляного кома. Драцены подходят для выращивания на гидропон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рацены устойчивы к сухому воздуху, регуляр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ыскива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5"/>
          <p:cNvSpPr/>
          <p:nvPr/>
        </p:nvSpPr>
        <p:spPr>
          <a:xfrm>
            <a:off x="142920" y="3000240"/>
            <a:ext cx="4357800" cy="100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56"/>
          <p:cNvGrpSpPr/>
          <p:nvPr/>
        </p:nvGrpSpPr>
        <p:grpSpPr>
          <a:xfrm>
            <a:off x="2119320" y="3139560"/>
            <a:ext cx="1285560" cy="718200"/>
            <a:chOff x="2119320" y="3139560"/>
            <a:chExt cx="1285560" cy="718200"/>
          </a:xfrm>
        </p:grpSpPr>
        <p:sp>
          <p:nvSpPr>
            <p:cNvPr id="227" name="Трапеция 22"/>
            <p:cNvSpPr/>
            <p:nvPr/>
          </p:nvSpPr>
          <p:spPr>
            <a:xfrm rot="18300000">
              <a:off x="2286000" y="312840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оугольник 8"/>
            <p:cNvSpPr/>
            <p:nvPr/>
          </p:nvSpPr>
          <p:spPr>
            <a:xfrm>
              <a:off x="2547720" y="321480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Месяц 9"/>
            <p:cNvSpPr/>
            <p:nvPr/>
          </p:nvSpPr>
          <p:spPr>
            <a:xfrm rot="10800000">
              <a:off x="3190680" y="321480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0"/>
            <p:cNvSpPr/>
            <p:nvPr/>
          </p:nvSpPr>
          <p:spPr>
            <a:xfrm>
              <a:off x="2547720" y="356868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Овал 11"/>
          <p:cNvSpPr/>
          <p:nvPr/>
        </p:nvSpPr>
        <p:spPr>
          <a:xfrm>
            <a:off x="3571920" y="30718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Группа 17"/>
          <p:cNvGrpSpPr/>
          <p:nvPr/>
        </p:nvGrpSpPr>
        <p:grpSpPr>
          <a:xfrm>
            <a:off x="285840" y="3143160"/>
            <a:ext cx="714240" cy="857160"/>
            <a:chOff x="285840" y="3143160"/>
            <a:chExt cx="714240" cy="857160"/>
          </a:xfrm>
        </p:grpSpPr>
        <p:sp>
          <p:nvSpPr>
            <p:cNvPr id="233" name="Овал 13"/>
            <p:cNvSpPr/>
            <p:nvPr/>
          </p:nvSpPr>
          <p:spPr>
            <a:xfrm>
              <a:off x="285840" y="314316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Овал 14"/>
            <p:cNvSpPr/>
            <p:nvPr/>
          </p:nvSpPr>
          <p:spPr>
            <a:xfrm>
              <a:off x="500040" y="3357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Овал 15"/>
            <p:cNvSpPr/>
            <p:nvPr/>
          </p:nvSpPr>
          <p:spPr>
            <a:xfrm>
              <a:off x="714240" y="3357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Дуга 16"/>
            <p:cNvSpPr/>
            <p:nvPr/>
          </p:nvSpPr>
          <p:spPr>
            <a:xfrm rot="18406200">
              <a:off x="562680" y="3606120"/>
              <a:ext cx="280800" cy="352440"/>
            </a:xfrm>
            <a:custGeom>
              <a:avLst/>
              <a:gdLst/>
              <a:ahLst/>
              <a:rect l="l" t="t" r="r" b="b"/>
              <a:pathLst>
                <a:path stroke="0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  <a:lnTo>
                    <a:pt x="140506" y="176214"/>
                  </a:lnTo>
                  <a:cubicBezTo>
                    <a:pt x="140506" y="117476"/>
                    <a:pt x="140505" y="58738"/>
                    <a:pt x="140505" y="0"/>
                  </a:cubicBezTo>
                  <a:close/>
                </a:path>
                <a:path fill="none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76"/>
          <p:cNvGrpSpPr/>
          <p:nvPr/>
        </p:nvGrpSpPr>
        <p:grpSpPr>
          <a:xfrm>
            <a:off x="1357200" y="3143160"/>
            <a:ext cx="642960" cy="714600"/>
            <a:chOff x="1357200" y="3143160"/>
            <a:chExt cx="642960" cy="714600"/>
          </a:xfrm>
        </p:grpSpPr>
        <p:sp>
          <p:nvSpPr>
            <p:cNvPr id="238" name="Прямоугольник 18"/>
            <p:cNvSpPr/>
            <p:nvPr/>
          </p:nvSpPr>
          <p:spPr>
            <a:xfrm>
              <a:off x="1357200" y="314316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9"/>
            <p:cNvSpPr/>
            <p:nvPr/>
          </p:nvSpPr>
          <p:spPr>
            <a:xfrm flipH="1">
              <a:off x="1569960" y="35006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20"/>
            <p:cNvSpPr/>
            <p:nvPr/>
          </p:nvSpPr>
          <p:spPr>
            <a:xfrm>
              <a:off x="1500120" y="371484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65"/>
            <p:cNvSpPr/>
            <p:nvPr/>
          </p:nvSpPr>
          <p:spPr>
            <a:xfrm>
              <a:off x="1357200" y="316692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22"/>
          <p:cNvSpPr/>
          <p:nvPr/>
        </p:nvSpPr>
        <p:spPr>
          <a:xfrm>
            <a:off x="142920" y="4214880"/>
            <a:ext cx="55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многолетнее растение, вырастающее до 3 м в высоту, с толстым одревесневающим стеблем, который обычно мало ветвиться и сильно оголяется. Листья длиной до 50 см, шириной около 1-2 см, глянцевые, узколанцетной формы. Окраска листьев преимущественно зеленая, но в зависимости от сорта может иметь желтые или красные пол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5920" y="-734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ТИФИЛИ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Рисунок 3" descr="1197659412_pic_spati_chopin_close.jpg"/>
          <p:cNvPicPr/>
          <p:nvPr/>
        </p:nvPicPr>
        <p:blipFill>
          <a:blip r:embed="rId1"/>
          <a:stretch/>
        </p:blipFill>
        <p:spPr>
          <a:xfrm>
            <a:off x="6357960" y="3141720"/>
            <a:ext cx="2786040" cy="37162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4"/>
          <p:cNvSpPr/>
          <p:nvPr/>
        </p:nvSpPr>
        <p:spPr>
          <a:xfrm>
            <a:off x="142920" y="314316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Группа 16"/>
          <p:cNvGrpSpPr/>
          <p:nvPr/>
        </p:nvGrpSpPr>
        <p:grpSpPr>
          <a:xfrm>
            <a:off x="214200" y="3286080"/>
            <a:ext cx="714600" cy="714600"/>
            <a:chOff x="214200" y="3286080"/>
            <a:chExt cx="714600" cy="714600"/>
          </a:xfrm>
        </p:grpSpPr>
        <p:sp>
          <p:nvSpPr>
            <p:cNvPr id="247" name="Овал 6"/>
            <p:cNvSpPr/>
            <p:nvPr/>
          </p:nvSpPr>
          <p:spPr>
            <a:xfrm>
              <a:off x="214200" y="328608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Овал 7"/>
            <p:cNvSpPr/>
            <p:nvPr/>
          </p:nvSpPr>
          <p:spPr>
            <a:xfrm>
              <a:off x="428400" y="3500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8"/>
            <p:cNvSpPr/>
            <p:nvPr/>
          </p:nvSpPr>
          <p:spPr>
            <a:xfrm>
              <a:off x="642960" y="3500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Дуга 9"/>
            <p:cNvSpPr/>
            <p:nvPr/>
          </p:nvSpPr>
          <p:spPr>
            <a:xfrm rot="7134600">
              <a:off x="423360" y="346860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Группа 55"/>
          <p:cNvGrpSpPr/>
          <p:nvPr/>
        </p:nvGrpSpPr>
        <p:grpSpPr>
          <a:xfrm>
            <a:off x="1905120" y="3282480"/>
            <a:ext cx="1307520" cy="718200"/>
            <a:chOff x="1905120" y="3282480"/>
            <a:chExt cx="1307520" cy="718200"/>
          </a:xfrm>
        </p:grpSpPr>
        <p:sp>
          <p:nvSpPr>
            <p:cNvPr id="252" name="Трапеция 11"/>
            <p:cNvSpPr/>
            <p:nvPr/>
          </p:nvSpPr>
          <p:spPr>
            <a:xfrm rot="18300000">
              <a:off x="2071800" y="327132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lnTo>
                    <a:pt x="0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оугольник 12"/>
            <p:cNvSpPr/>
            <p:nvPr/>
          </p:nvSpPr>
          <p:spPr>
            <a:xfrm>
              <a:off x="2355840" y="335772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Месяц 13"/>
            <p:cNvSpPr/>
            <p:nvPr/>
          </p:nvSpPr>
          <p:spPr>
            <a:xfrm rot="10800000">
              <a:off x="299844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80"/>
          <p:cNvGrpSpPr/>
          <p:nvPr/>
        </p:nvGrpSpPr>
        <p:grpSpPr>
          <a:xfrm>
            <a:off x="1064880" y="3357360"/>
            <a:ext cx="767160" cy="571680"/>
            <a:chOff x="1064880" y="3357360"/>
            <a:chExt cx="767160" cy="571680"/>
          </a:xfrm>
        </p:grpSpPr>
        <p:sp>
          <p:nvSpPr>
            <p:cNvPr id="256" name="Блок-схема: ручное управление 15"/>
            <p:cNvSpPr/>
            <p:nvPr/>
          </p:nvSpPr>
          <p:spPr>
            <a:xfrm rot="5211600">
              <a:off x="1110600" y="3470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Группа 83"/>
            <p:cNvGrpSpPr/>
            <p:nvPr/>
          </p:nvGrpSpPr>
          <p:grpSpPr>
            <a:xfrm>
              <a:off x="1484280" y="3357360"/>
              <a:ext cx="347760" cy="571680"/>
              <a:chOff x="1484280" y="3357360"/>
              <a:chExt cx="347760" cy="571680"/>
            </a:xfrm>
          </p:grpSpPr>
          <p:sp>
            <p:nvSpPr>
              <p:cNvPr id="258" name="Прямая соединительная линия 17"/>
              <p:cNvSpPr/>
              <p:nvPr/>
            </p:nvSpPr>
            <p:spPr>
              <a:xfrm flipV="1">
                <a:off x="1484280" y="3357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Прямая соединительная линия 18"/>
              <p:cNvSpPr/>
              <p:nvPr/>
            </p:nvSpPr>
            <p:spPr>
              <a:xfrm flipV="1">
                <a:off x="1484280" y="3586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рямая соединительная линия 19"/>
              <p:cNvSpPr/>
              <p:nvPr/>
            </p:nvSpPr>
            <p:spPr>
              <a:xfrm>
                <a:off x="1484280" y="3716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Прямая соединительная линия 20"/>
              <p:cNvSpPr/>
              <p:nvPr/>
            </p:nvSpPr>
            <p:spPr>
              <a:xfrm>
                <a:off x="1636560" y="3659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Прямая соединительная линия 21"/>
              <p:cNvSpPr/>
              <p:nvPr/>
            </p:nvSpPr>
            <p:spPr>
              <a:xfrm flipV="1">
                <a:off x="1636560" y="3414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рямая соединительная линия 22"/>
              <p:cNvSpPr/>
              <p:nvPr/>
            </p:nvSpPr>
            <p:spPr>
              <a:xfrm>
                <a:off x="1484280" y="3814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Прямая соединительная линия 23"/>
              <p:cNvSpPr/>
              <p:nvPr/>
            </p:nvSpPr>
            <p:spPr>
              <a:xfrm>
                <a:off x="1636560" y="3814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Овал 24"/>
          <p:cNvSpPr/>
          <p:nvPr/>
        </p:nvSpPr>
        <p:spPr>
          <a:xfrm>
            <a:off x="3571920" y="321480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71280" y="866880"/>
            <a:ext cx="900144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ет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Летом притенение от прямых солнечных лучей, т.е. светлое место, легкая полутень. Зимой обязательно хорошее освещ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о развивается только в тепле, не ниже 18°C, оптимальная температура 22-23°C. Не переносит сквозня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бильный с весны до осени, зимой более умеренный, но почва никогда не должна полностью пересыхать. Спатифиллюм плохо переносит застой воды в корн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лажность воздух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юбит очень влажный воздух, требуется регулярное опрыскивание и обмывание листьев. Перед опрыскиванием нужно прикрыть цветки и бут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71280" y="42861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дина Южная Америка, Восточная Азия, Полинезия. Если этому травянистому растению подобрать подходящее место, то он может цвести практически весь год. Кроме того, цвести спатифиллюм начинает в довольно раннем возрасте - уже через 6 -7 месяцев. Цветки держаться довольно долго - больше месяца. Поэтому, цветки спатифиллюма используют и на срезку для букетов. Крупные экземпляры выращивают в кад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zero</cp:lastModifiedBy>
  <dcterms:modified xsi:type="dcterms:W3CDTF">2015-04-21T11:47:38Z</dcterms:modified>
  <cp:revision>154</cp:revision>
  <dc:subject/>
  <dc:title>«Солнышко» 6 группа</dc:title>
</cp:coreProperties>
</file>