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17C-B992-4449-A63B-A3144D24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F4D-4D89-4C0A-BF60-A57760B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B5E-79C2-4021-8026-11343598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826-BCFD-4A64-9A01-C3D7DD0C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C3E9-23B7-4023-95DA-45C6C59F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D807-0CA9-4D7A-8314-B42C54A6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A392-1717-408C-A28F-000BF4A0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01C7-8047-46DA-820E-921B322D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3D13-6CE4-4298-BC26-65AD58B9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EA1E-1C21-45ED-B640-10EF08DC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DE8F-8C33-4674-A017-9F2B0200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E8E-7253-4CC0-8073-5125E3B0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9C2A-B874-44C1-A2C9-04AC60D4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042A-6758-4904-A602-AE597C71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3D7C-4BD5-4172-BF94-1EA4699E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BF7E-A97E-4F7B-A194-A5386988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7FC5-3C6D-4897-AA1B-A31F025D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EC8-6A7F-46E9-9D4B-5D4192C1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300-7F83-44DE-BCA7-392A156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BD2-1F6F-4941-AE15-994E2CE4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C0B-94EF-4EE0-9113-C61D5B8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D72-7771-409B-AF62-D3F3C68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34A-CC89-4B97-84C4-0B6D560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3DD-DFEB-4C38-BE8B-21AC4663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75FE-BC3B-4A05-ABC8-AB1EBDC47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A79B-2F08-4AEF-B0E4-41F21C0E6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C:\Users\Администратор\Desktop\ycxry524368498.jpg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МОЛОДЦЫ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14" descr="C:\Users\Администратор\Desktop\Phqm5DbY3S8.jpg"/>
          <p:cNvPicPr/>
          <p:nvPr/>
        </p:nvPicPr>
        <p:blipFill>
          <a:blip r:embed="rId1"/>
          <a:stretch/>
        </p:blipFill>
        <p:spPr>
          <a:xfrm>
            <a:off x="2651040" y="1905120"/>
            <a:ext cx="4380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Сама пестрая ,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Ест зеленое,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Дает белое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7610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«М- е- е»- ребяток кто зовет?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Бородою кто трясет?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У кого витые рожки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И как  ягодки глаза?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Это к деткам по дорожке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Приближается …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Я маленькая, белая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Пушистая, несмелая,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Шерсть даю соей хозяйке</a:t>
            </a: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На шарфы и на фуфайк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5" descr="7"/>
          <p:cNvPicPr/>
          <p:nvPr/>
        </p:nvPicPr>
        <p:blipFill>
          <a:blip r:embed="rId1"/>
          <a:stretch/>
        </p:blipFill>
        <p:spPr>
          <a:xfrm>
            <a:off x="1901880" y="1905120"/>
            <a:ext cx="5878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9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424836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3" descr=""/>
          <p:cNvPicPr/>
          <p:nvPr/>
        </p:nvPicPr>
        <p:blipFill>
          <a:blip r:embed="rId2"/>
          <a:stretch/>
        </p:blipFill>
        <p:spPr>
          <a:xfrm>
            <a:off x="755640" y="0"/>
            <a:ext cx="5256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4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КОРОВЫ - ТЕЛЁ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8" descr="C:\Users\Администратор\Desktop\14459_1.jpg"/>
          <p:cNvPicPr/>
          <p:nvPr/>
        </p:nvPicPr>
        <p:blipFill>
          <a:blip r:embed="rId1"/>
          <a:stretch/>
        </p:blipFill>
        <p:spPr>
          <a:xfrm>
            <a:off x="539640" y="1484280"/>
            <a:ext cx="6066000" cy="405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Users\Администратор\Desktop\12608811-Newborn-calf-Stock-Photo-calf-cow-holstein.jpg"/>
          <p:cNvPicPr/>
          <p:nvPr/>
        </p:nvPicPr>
        <p:blipFill>
          <a:blip r:embed="rId2"/>
          <a:stretch/>
        </p:blipFill>
        <p:spPr>
          <a:xfrm>
            <a:off x="4859280" y="3879720"/>
            <a:ext cx="40784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КОЗЫ - КОЗЛЁ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C:\Users\Администратор\Desktop\8961_fit512.jpg"/>
          <p:cNvPicPr/>
          <p:nvPr/>
        </p:nvPicPr>
        <p:blipFill>
          <a:blip r:embed="rId1"/>
          <a:stretch/>
        </p:blipFill>
        <p:spPr>
          <a:xfrm>
            <a:off x="614520" y="1268280"/>
            <a:ext cx="4876560" cy="487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:\Users\Администратор\Desktop\o-nerazumnom-kozljonke_1.jpg"/>
          <p:cNvPicPr/>
          <p:nvPr/>
        </p:nvPicPr>
        <p:blipFill>
          <a:blip r:embed="rId2"/>
          <a:stretch/>
        </p:blipFill>
        <p:spPr>
          <a:xfrm>
            <a:off x="4427640" y="3595680"/>
            <a:ext cx="449424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СВИНЬИ - ПРОСЁ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600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950760" y="1700280"/>
            <a:ext cx="44132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ОВЦЫ - ЯГНЁ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C:\Users\Администратор\Desktop\Sheep.jpg"/>
          <p:cNvPicPr/>
          <p:nvPr/>
        </p:nvPicPr>
        <p:blipFill>
          <a:blip r:embed="rId1"/>
          <a:stretch/>
        </p:blipFill>
        <p:spPr>
          <a:xfrm>
            <a:off x="250920" y="1268280"/>
            <a:ext cx="6203880" cy="397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Администратор\Desktop\dd683a96228f4a869cceab1a012c5d98.jpg"/>
          <p:cNvPicPr/>
          <p:nvPr/>
        </p:nvPicPr>
        <p:blipFill>
          <a:blip r:embed="rId2"/>
          <a:stretch/>
        </p:blipFill>
        <p:spPr>
          <a:xfrm>
            <a:off x="4716360" y="3573360"/>
            <a:ext cx="41846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4T08:34:22Z</dcterms:created>
  <dc:creator>User</dc:creator>
  <dc:description/>
  <dc:language>en-US</dc:language>
  <cp:lastModifiedBy>User</cp:lastModifiedBy>
  <dcterms:modified xsi:type="dcterms:W3CDTF">2017-02-08T18:59:59Z</dcterms:modified>
  <cp:revision>35</cp:revision>
  <dc:subject/>
  <dc:title>ДОМАШНИЕ  ЖИВОТНЫЕ</dc:title>
</cp:coreProperties>
</file>