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AB8-6646-4F86-920D-62957AA4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88C-8CA0-41B2-8A36-C5EB436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530-9F23-46F4-BC7E-D35F9782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3B5-E910-4464-A839-D8E0A3B2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C9E-C165-4251-84D1-286530B8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06D-1BCA-496A-9B39-C9EBB02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9B14-14E5-40D9-A50C-A977A20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446B-A89B-40C0-A514-99386572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4C0-D3E4-4C00-87AC-E91B248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ECFB-6707-4D05-AC37-5E98D66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070F-F7B4-49AB-B5BD-A2ABF08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850-AD9A-4838-AAA3-9EEE491B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7F13-A46C-49AF-A822-511BD9C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0C7B-672D-4CAA-A468-FDA7F8C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A3ED-1770-4967-94E4-28BD7542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76F-447C-4293-A5CA-2947D87F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78BC-9B8F-40D4-8B5D-9B2E2B73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395-454B-4935-99BF-26746E8D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C74-889A-4264-B51F-F0B2734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D27-D669-446E-BC89-777CF28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A95-8353-4EAB-AD0E-F2E64DC6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406-941A-427C-BE01-902FB86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D5F-D5D0-4923-8AE6-0290263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404-69B7-4D7A-87B8-96D77AF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CE5-3944-4913-9F3E-0238D711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9E5D-FF4F-499D-8593-002EAE86D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Администратор\Desktop\ycxry524368498.jpg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14" descr="C:\Users\Администратор\Desktop\Phqm5DbY3S8.jpg"/>
          <p:cNvPicPr/>
          <p:nvPr/>
        </p:nvPicPr>
        <p:blipFill>
          <a:blip r:embed="rId1"/>
          <a:stretch/>
        </p:blipFill>
        <p:spPr>
          <a:xfrm>
            <a:off x="2651040" y="1905120"/>
            <a:ext cx="4380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ама пестрая ,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Ест зеленое,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Дает бело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761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«М- е- е»- ребяток кто зовет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Бородою кто трясет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У кого витые рожки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И как  ягодки глаза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Это к деткам по дорожке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Приближается …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Я маленькая, белая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Пушистая, несмелая,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ерсть даю соей хозяйке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На шарфы и на фуфай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5" descr="7"/>
          <p:cNvPicPr/>
          <p:nvPr/>
        </p:nvPicPr>
        <p:blipFill>
          <a:blip r:embed="rId1"/>
          <a:stretch/>
        </p:blipFill>
        <p:spPr>
          <a:xfrm>
            <a:off x="1901880" y="1905120"/>
            <a:ext cx="5878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9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424836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3" descr=""/>
          <p:cNvPicPr/>
          <p:nvPr/>
        </p:nvPicPr>
        <p:blipFill>
          <a:blip r:embed="rId2"/>
          <a:stretch/>
        </p:blipFill>
        <p:spPr>
          <a:xfrm>
            <a:off x="755640" y="0"/>
            <a:ext cx="5256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4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КОРОВЫ - ТЕЛ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8" descr="C:\Users\Администратор\Desktop\14459_1.jpg"/>
          <p:cNvPicPr/>
          <p:nvPr/>
        </p:nvPicPr>
        <p:blipFill>
          <a:blip r:embed="rId1"/>
          <a:stretch/>
        </p:blipFill>
        <p:spPr>
          <a:xfrm>
            <a:off x="539640" y="1484280"/>
            <a:ext cx="6066000" cy="405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Администратор\Desktop\12608811-Newborn-calf-Stock-Photo-calf-cow-holstein.jpg"/>
          <p:cNvPicPr/>
          <p:nvPr/>
        </p:nvPicPr>
        <p:blipFill>
          <a:blip r:embed="rId2"/>
          <a:stretch/>
        </p:blipFill>
        <p:spPr>
          <a:xfrm>
            <a:off x="4859280" y="3879720"/>
            <a:ext cx="4078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КОЗЫ - КОЗЛ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C:\Users\Администратор\Desktop\8961_fit512.jpg"/>
          <p:cNvPicPr/>
          <p:nvPr/>
        </p:nvPicPr>
        <p:blipFill>
          <a:blip r:embed="rId1"/>
          <a:stretch/>
        </p:blipFill>
        <p:spPr>
          <a:xfrm>
            <a:off x="614520" y="126828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Администратор\Desktop\o-nerazumnom-kozljonke_1.jpg"/>
          <p:cNvPicPr/>
          <p:nvPr/>
        </p:nvPicPr>
        <p:blipFill>
          <a:blip r:embed="rId2"/>
          <a:stretch/>
        </p:blipFill>
        <p:spPr>
          <a:xfrm>
            <a:off x="4427640" y="3595680"/>
            <a:ext cx="44942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СВИНЬИ - ПРОС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600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950760" y="1700280"/>
            <a:ext cx="44132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ОВЦЫ - ЯГН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C:\Users\Администратор\Desktop\Sheep.jpg"/>
          <p:cNvPicPr/>
          <p:nvPr/>
        </p:nvPicPr>
        <p:blipFill>
          <a:blip r:embed="rId1"/>
          <a:stretch/>
        </p:blipFill>
        <p:spPr>
          <a:xfrm>
            <a:off x="250920" y="1268280"/>
            <a:ext cx="6203880" cy="397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Администратор\Desktop\dd683a96228f4a869cceab1a012c5d98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84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8:34:22Z</dcterms:created>
  <dc:creator>User</dc:creator>
  <dc:description/>
  <dc:language>en-US</dc:language>
  <cp:lastModifiedBy>User</cp:lastModifiedBy>
  <dcterms:modified xsi:type="dcterms:W3CDTF">2017-02-08T18:59:59Z</dcterms:modified>
  <cp:revision>35</cp:revision>
  <dc:subject/>
  <dc:title>ДОМАШНИЕ  ЖИВОТНЫЕ</dc:title>
</cp:coreProperties>
</file>