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F75E-A338-45EA-A489-B1B3E21B7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EC7F-4E95-4CA0-9471-ABF694B9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C893-988A-4265-A51E-61403688C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F4B0-93E7-4A0B-9B53-954B41A3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B69D-DAE0-4553-B069-831D25B3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D004-7461-4AD6-A855-C5E55890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DEB4-C33C-445D-BF14-48AFD07E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5704-1FB8-4E6D-A97C-497EA5AD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4860-8DAF-44C0-BB5F-793D6770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C758-142D-489C-AC51-D168CE82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4276-4087-4C12-A64C-F2E454F0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E5BB-C428-45BD-AD80-2B39F1F7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BF1C-B330-4A9F-883F-91F3A4C0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AAAA-B3CE-465D-B15A-766EDF1F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95D9-AB39-41CA-A3B9-F3CCA67F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F17B-C263-4839-8F87-E8EBFDD99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E74A-7C50-47B3-ACF6-C2AC146C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A9C4-BCDC-4358-B46A-F2BD65FE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5C2F-F41F-462E-B28B-79EA0010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C67F-1161-4A0D-8526-5222EFC4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9727-C31C-4559-B690-4963ED91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7EB7-887A-4562-8576-EC2819D1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50CA-CA25-4B36-A13E-39007C1F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C4F6-A942-40D9-8929-D9254D69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5D0F-339C-4C83-B38A-D8F2984A4F2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F1AB-4DFB-462B-AE9A-33305180F60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99640" y="1267560"/>
            <a:ext cx="7341840" cy="103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Знакомство с задачей</a:t>
            </a:r>
            <a:br>
              <a:rPr sz="36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УМК «Школа России»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920" y="2997360"/>
            <a:ext cx="716112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Работу выполнила: Зайцева Н.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Учитель начальных класс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ПСОШ им. Н.А. Образцов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Логическая задач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99640" y="2349000"/>
            <a:ext cx="7559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 день рождения к Винни-Пуху Кролик пришел позже, чем Пятачок, а Ослик – раньше, чем Пятачок. Кто пришел к Винни-Пуху первым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" name="Picture 4" descr="picture"/>
          <p:cNvPicPr/>
          <p:nvPr/>
        </p:nvPicPr>
        <p:blipFill>
          <a:blip r:embed="rId1"/>
          <a:stretch/>
        </p:blipFill>
        <p:spPr>
          <a:xfrm>
            <a:off x="1258920" y="3573360"/>
            <a:ext cx="6842160" cy="2592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0" y="3068640"/>
            <a:ext cx="4013280" cy="17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WordArt 9"/>
          <p:cNvSpPr txBox="1"/>
          <p:nvPr/>
        </p:nvSpPr>
        <p:spPr>
          <a:xfrm>
            <a:off x="2843280" y="1484280"/>
            <a:ext cx="3816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19080">
                <a:solidFill>
                  <a:srgbClr val="99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10"/>
          <p:cNvSpPr txBox="1"/>
          <p:nvPr/>
        </p:nvSpPr>
        <p:spPr>
          <a:xfrm>
            <a:off x="4788000" y="3284640"/>
            <a:ext cx="388764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!</a:t>
            </a:r>
            <a:endParaRPr b="0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7" name="Picture 11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16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адачи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Цели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ознакомление с задачей, решение задач, развитие общелогических умени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оставные части задачи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Услови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Вопро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Решени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твет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ч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 Коли было 5 конфет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 конфеты он съе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колько конфет осталось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5-3=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 конфе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4427640" y="2852640"/>
            <a:ext cx="1368360" cy="71640"/>
          </a:xfrm>
          <a:prstGeom prst="rightArrow">
            <a:avLst>
              <a:gd name="adj1" fmla="val 50000"/>
              <a:gd name="adj2" fmla="val 477513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796000" y="2637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Услов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4788000" y="3860640"/>
            <a:ext cx="1152360" cy="73080"/>
          </a:xfrm>
          <a:prstGeom prst="rightArrow">
            <a:avLst>
              <a:gd name="adj1" fmla="val 50000"/>
              <a:gd name="adj2" fmla="val 394212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6084720" y="3716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Вопро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1835280" y="4724280"/>
            <a:ext cx="4249440" cy="73080"/>
          </a:xfrm>
          <a:prstGeom prst="rightArrow">
            <a:avLst>
              <a:gd name="adj1" fmla="val 50000"/>
              <a:gd name="adj2" fmla="val 1453695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6282360" y="452916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Реше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AutoShape 19"/>
          <p:cNvSpPr/>
          <p:nvPr/>
        </p:nvSpPr>
        <p:spPr>
          <a:xfrm>
            <a:off x="2627280" y="5589720"/>
            <a:ext cx="3673440" cy="71280"/>
          </a:xfrm>
          <a:prstGeom prst="rightArrow">
            <a:avLst>
              <a:gd name="adj1" fmla="val 50000"/>
              <a:gd name="adj2" fmla="val 1288384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6374160" y="537372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оставь задач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ля вырезал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Tree"/>
          <p:cNvSpPr/>
          <p:nvPr/>
        </p:nvSpPr>
        <p:spPr>
          <a:xfrm>
            <a:off x="3635280" y="2421000"/>
            <a:ext cx="865440" cy="720720"/>
          </a:xfrm>
          <a:custGeom>
            <a:avLst/>
            <a:gdLst>
              <a:gd name="textAreaLeft" fmla="*/ 30240 w 865440"/>
              <a:gd name="textAreaRight" fmla="*/ 844200 w 865440"/>
              <a:gd name="textAreaTop" fmla="*/ 749520 h 720720"/>
              <a:gd name="textAreaBottom" fmla="*/ 9439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Tree"/>
          <p:cNvSpPr/>
          <p:nvPr/>
        </p:nvSpPr>
        <p:spPr>
          <a:xfrm>
            <a:off x="4356000" y="2421000"/>
            <a:ext cx="865440" cy="720720"/>
          </a:xfrm>
          <a:custGeom>
            <a:avLst/>
            <a:gdLst>
              <a:gd name="textAreaLeft" fmla="*/ 30240 w 865440"/>
              <a:gd name="textAreaRight" fmla="*/ 844200 w 865440"/>
              <a:gd name="textAreaTop" fmla="*/ 749520 h 720720"/>
              <a:gd name="textAreaBottom" fmla="*/ 9439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ree"/>
          <p:cNvSpPr/>
          <p:nvPr/>
        </p:nvSpPr>
        <p:spPr>
          <a:xfrm>
            <a:off x="5219640" y="2421000"/>
            <a:ext cx="865080" cy="720720"/>
          </a:xfrm>
          <a:custGeom>
            <a:avLst/>
            <a:gdLst>
              <a:gd name="textAreaLeft" fmla="*/ 30240 w 865080"/>
              <a:gd name="textAreaRight" fmla="*/ 843840 w 865080"/>
              <a:gd name="textAreaTop" fmla="*/ 749520 h 720720"/>
              <a:gd name="textAreaBottom" fmla="*/ 9439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ree"/>
          <p:cNvSpPr/>
          <p:nvPr/>
        </p:nvSpPr>
        <p:spPr>
          <a:xfrm>
            <a:off x="6084720" y="2421000"/>
            <a:ext cx="865440" cy="720720"/>
          </a:xfrm>
          <a:custGeom>
            <a:avLst/>
            <a:gdLst>
              <a:gd name="textAreaLeft" fmla="*/ 30240 w 865440"/>
              <a:gd name="textAreaRight" fmla="*/ 844200 w 865440"/>
              <a:gd name="textAreaTop" fmla="*/ 749520 h 720720"/>
              <a:gd name="textAreaBottom" fmla="*/ 9439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ree"/>
          <p:cNvSpPr/>
          <p:nvPr/>
        </p:nvSpPr>
        <p:spPr>
          <a:xfrm>
            <a:off x="7020000" y="2421000"/>
            <a:ext cx="865080" cy="720720"/>
          </a:xfrm>
          <a:custGeom>
            <a:avLst/>
            <a:gdLst>
              <a:gd name="textAreaLeft" fmla="*/ 30240 w 865080"/>
              <a:gd name="textAreaRight" fmla="*/ 843840 w 865080"/>
              <a:gd name="textAreaTop" fmla="*/ 749520 h 720720"/>
              <a:gd name="textAreaBottom" fmla="*/ 9439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826920" y="3376440"/>
            <a:ext cx="27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тя вырезал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Tree"/>
          <p:cNvSpPr/>
          <p:nvPr/>
        </p:nvSpPr>
        <p:spPr>
          <a:xfrm>
            <a:off x="3780000" y="3429000"/>
            <a:ext cx="865080" cy="720720"/>
          </a:xfrm>
          <a:custGeom>
            <a:avLst/>
            <a:gdLst>
              <a:gd name="textAreaLeft" fmla="*/ 30240 w 865080"/>
              <a:gd name="textAreaRight" fmla="*/ 843840 w 865080"/>
              <a:gd name="textAreaTop" fmla="*/ 749520 h 720720"/>
              <a:gd name="textAreaBottom" fmla="*/ 9439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ree"/>
          <p:cNvSpPr/>
          <p:nvPr/>
        </p:nvSpPr>
        <p:spPr>
          <a:xfrm>
            <a:off x="4716360" y="3429000"/>
            <a:ext cx="865440" cy="720720"/>
          </a:xfrm>
          <a:custGeom>
            <a:avLst/>
            <a:gdLst>
              <a:gd name="textAreaLeft" fmla="*/ 30240 w 865440"/>
              <a:gd name="textAreaRight" fmla="*/ 844200 w 865440"/>
              <a:gd name="textAreaTop" fmla="*/ 749520 h 720720"/>
              <a:gd name="textAreaBottom" fmla="*/ 9439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ree"/>
          <p:cNvSpPr/>
          <p:nvPr/>
        </p:nvSpPr>
        <p:spPr>
          <a:xfrm>
            <a:off x="5651640" y="3429000"/>
            <a:ext cx="865080" cy="720720"/>
          </a:xfrm>
          <a:custGeom>
            <a:avLst/>
            <a:gdLst>
              <a:gd name="textAreaLeft" fmla="*/ 30240 w 865080"/>
              <a:gd name="textAreaRight" fmla="*/ 843840 w 865080"/>
              <a:gd name="textAreaTop" fmla="*/ 749520 h 720720"/>
              <a:gd name="textAreaBottom" fmla="*/ 9439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883440" y="4405320"/>
            <a:ext cx="35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колько всего… …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ши задач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6758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 стоянке стояло 5 легковых машин и 2 автобуса. Сколько всего машин стояло на стоянке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6" descr="j0183328"/>
          <p:cNvPicPr/>
          <p:nvPr/>
        </p:nvPicPr>
        <p:blipFill>
          <a:blip r:embed="rId1"/>
          <a:stretch/>
        </p:blipFill>
        <p:spPr>
          <a:xfrm>
            <a:off x="1258920" y="5084640"/>
            <a:ext cx="1778040" cy="1425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j0183328"/>
          <p:cNvPicPr/>
          <p:nvPr/>
        </p:nvPicPr>
        <p:blipFill>
          <a:blip r:embed="rId2"/>
          <a:stretch/>
        </p:blipFill>
        <p:spPr>
          <a:xfrm>
            <a:off x="3419640" y="5084640"/>
            <a:ext cx="1777680" cy="1413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j0212957"/>
          <p:cNvPicPr/>
          <p:nvPr/>
        </p:nvPicPr>
        <p:blipFill>
          <a:blip r:embed="rId3"/>
          <a:stretch/>
        </p:blipFill>
        <p:spPr>
          <a:xfrm>
            <a:off x="1258920" y="3645000"/>
            <a:ext cx="1368360" cy="863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j0212957"/>
          <p:cNvPicPr/>
          <p:nvPr/>
        </p:nvPicPr>
        <p:blipFill>
          <a:blip r:embed="rId4"/>
          <a:stretch/>
        </p:blipFill>
        <p:spPr>
          <a:xfrm>
            <a:off x="2843280" y="3716280"/>
            <a:ext cx="1297080" cy="792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j0212957"/>
          <p:cNvPicPr/>
          <p:nvPr/>
        </p:nvPicPr>
        <p:blipFill>
          <a:blip r:embed="rId5"/>
          <a:stretch/>
        </p:blipFill>
        <p:spPr>
          <a:xfrm>
            <a:off x="4284720" y="3716280"/>
            <a:ext cx="1439640" cy="792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j0212957"/>
          <p:cNvPicPr/>
          <p:nvPr/>
        </p:nvPicPr>
        <p:blipFill>
          <a:blip r:embed="rId6"/>
          <a:stretch/>
        </p:blipFill>
        <p:spPr>
          <a:xfrm>
            <a:off x="5796000" y="3716280"/>
            <a:ext cx="1297080" cy="792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j0212957"/>
          <p:cNvPicPr/>
          <p:nvPr/>
        </p:nvPicPr>
        <p:blipFill>
          <a:blip r:embed="rId7"/>
          <a:stretch/>
        </p:blipFill>
        <p:spPr>
          <a:xfrm>
            <a:off x="7164360" y="3716280"/>
            <a:ext cx="1366920" cy="7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оставь задачу по схеме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3203640" y="3284640"/>
            <a:ext cx="718920" cy="576000"/>
          </a:xfrm>
          <a:prstGeom prst="flowChartProcess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2124000" y="3284640"/>
            <a:ext cx="719280" cy="576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4140360" y="3284640"/>
            <a:ext cx="718920" cy="576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5148360" y="3284640"/>
            <a:ext cx="718920" cy="576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6084720" y="3284640"/>
            <a:ext cx="719280" cy="576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7020000" y="3284640"/>
            <a:ext cx="718920" cy="576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6948360" y="3141720"/>
            <a:ext cx="1008360" cy="93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>
            <a:off x="5940360" y="3141720"/>
            <a:ext cx="1008000" cy="93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5003640" y="3141720"/>
            <a:ext cx="1008360" cy="93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оставь задачу по краткой записи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У Коли – 5 оре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У Маши – 3 орех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6516720" y="2852640"/>
            <a:ext cx="504720" cy="1656000"/>
          </a:xfrm>
          <a:custGeom>
            <a:avLst/>
            <a:gdLst>
              <a:gd name="textAreaLeft" fmla="*/ 0 w 504720"/>
              <a:gd name="textAreaRight" fmla="*/ 182160 w 50472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7093080" y="3357720"/>
            <a:ext cx="43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Логическая задач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26920" y="2276280"/>
            <a:ext cx="74901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ак зовут каждого мальчика – рыболова, если  удочка у Саши длиннее, чем у Димы, но короче, чем у То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9" name="Picture 5" descr="picture"/>
          <p:cNvPicPr/>
          <p:nvPr/>
        </p:nvPicPr>
        <p:blipFill>
          <a:blip r:embed="rId1"/>
          <a:stretch/>
        </p:blipFill>
        <p:spPr>
          <a:xfrm>
            <a:off x="1187280" y="3429000"/>
            <a:ext cx="6985080" cy="3240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3:09:15Z</dcterms:created>
  <dc:creator>Comp</dc:creator>
  <dc:description/>
  <dc:language>en-US</dc:language>
  <cp:lastModifiedBy>Оксана</cp:lastModifiedBy>
  <dcterms:modified xsi:type="dcterms:W3CDTF">2017-02-08T14:06:51Z</dcterms:modified>
  <cp:revision>3</cp:revision>
  <dc:subject/>
  <dc:title>Математика 1 класс</dc:title>
</cp:coreProperties>
</file>