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9D1-9ADD-4B77-A5D6-07F82CF2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33D-EFF0-4CD2-879A-4C47E60E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271-9169-4479-B233-86CBC575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E3B-4F18-41F6-8B68-2E6A77EC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A246-4597-45B9-975B-A2C92016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193-DB8D-4638-9981-915E3AA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CE5-8890-444A-99AE-DB8FB50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FA47-4EE3-4974-999B-4DBC5E0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BBD-69E3-43FC-980A-83BB223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E80-F416-460D-926A-399C6FA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18AD-D53C-4C59-83CE-1527625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8D9-1D84-40B9-BE7C-0BBD391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9547-CE49-4144-A557-F1EE734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858-93C2-4919-AE73-5BABA61A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8782-A164-4E58-BA60-0A07DAAD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CFE0-0D6E-4F0D-A098-D58ED7FC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FC9D-A0F6-4861-B455-37E1F4C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DB1-3763-4195-83D5-653AEA4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F4D-A028-4D09-979C-B829BB8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D86-95B4-476B-AE47-10129AD8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258-DC99-4F17-8C95-CCC807CA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9F6-299C-447B-A329-1DDB3E5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AAF-E995-4F29-A58B-348693A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12B-547E-42BD-A483-11249A3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138-150E-4343-8F79-B890E9102B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CAE-E3D5-43D9-ADAC-EB277F96C0E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99640" y="126756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накомство с задачей</a:t>
            </a:r>
            <a:br>
              <a:rPr sz="36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МК «Школа России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Работу выполнила: Зайцева Н.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читель начальных класс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СОШ им. Н.А. Образцо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гическая 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2349000"/>
            <a:ext cx="7559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день рождения к Винни-Пуху Кролик пришел позже, чем Пятачок, а Ослик – раньше, чем Пятачок. Кто пришел к Винни-Пуху первы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picture"/>
          <p:cNvPicPr/>
          <p:nvPr/>
        </p:nvPicPr>
        <p:blipFill>
          <a:blip r:embed="rId1"/>
          <a:stretch/>
        </p:blipFill>
        <p:spPr>
          <a:xfrm>
            <a:off x="1258920" y="3573360"/>
            <a:ext cx="6842160" cy="259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0" y="3068640"/>
            <a:ext cx="40132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2843280" y="148428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4788000" y="3284640"/>
            <a:ext cx="38876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знакомление с задачей, решение задач, развитие общелогических ум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ные части задач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Услов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Коли было 5 конфет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конфеты он съ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олько конфет оста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-3=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конф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4427640" y="2852640"/>
            <a:ext cx="1368360" cy="71640"/>
          </a:xfrm>
          <a:prstGeom prst="rightArrow">
            <a:avLst>
              <a:gd name="adj1" fmla="val 50000"/>
              <a:gd name="adj2" fmla="val 47751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96000" y="2637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4788000" y="3860640"/>
            <a:ext cx="1152360" cy="73080"/>
          </a:xfrm>
          <a:prstGeom prst="rightArrow">
            <a:avLst>
              <a:gd name="adj1" fmla="val 50000"/>
              <a:gd name="adj2" fmla="val 39421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084720" y="3716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Вопро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835280" y="4724280"/>
            <a:ext cx="4249440" cy="73080"/>
          </a:xfrm>
          <a:prstGeom prst="rightArrow">
            <a:avLst>
              <a:gd name="adj1" fmla="val 50000"/>
              <a:gd name="adj2" fmla="val 145369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282360" y="45291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627280" y="5589720"/>
            <a:ext cx="3673440" cy="71280"/>
          </a:xfrm>
          <a:prstGeom prst="rightArrow">
            <a:avLst>
              <a:gd name="adj1" fmla="val 50000"/>
              <a:gd name="adj2" fmla="val 128838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6374160" y="5373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ь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ля вырез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ree"/>
          <p:cNvSpPr/>
          <p:nvPr/>
        </p:nvSpPr>
        <p:spPr>
          <a:xfrm>
            <a:off x="363528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ree"/>
          <p:cNvSpPr/>
          <p:nvPr/>
        </p:nvSpPr>
        <p:spPr>
          <a:xfrm>
            <a:off x="435600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ree"/>
          <p:cNvSpPr/>
          <p:nvPr/>
        </p:nvSpPr>
        <p:spPr>
          <a:xfrm>
            <a:off x="5219640" y="2421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ree"/>
          <p:cNvSpPr/>
          <p:nvPr/>
        </p:nvSpPr>
        <p:spPr>
          <a:xfrm>
            <a:off x="6084720" y="2421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ree"/>
          <p:cNvSpPr/>
          <p:nvPr/>
        </p:nvSpPr>
        <p:spPr>
          <a:xfrm>
            <a:off x="7020000" y="2421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26920" y="337644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тя выреза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ree"/>
          <p:cNvSpPr/>
          <p:nvPr/>
        </p:nvSpPr>
        <p:spPr>
          <a:xfrm>
            <a:off x="3780000" y="3429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ree"/>
          <p:cNvSpPr/>
          <p:nvPr/>
        </p:nvSpPr>
        <p:spPr>
          <a:xfrm>
            <a:off x="4716360" y="3429000"/>
            <a:ext cx="865440" cy="720720"/>
          </a:xfrm>
          <a:custGeom>
            <a:avLst/>
            <a:gdLst>
              <a:gd name="textAreaLeft" fmla="*/ 30240 w 865440"/>
              <a:gd name="textAreaRight" fmla="*/ 844200 w 86544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ree"/>
          <p:cNvSpPr/>
          <p:nvPr/>
        </p:nvSpPr>
        <p:spPr>
          <a:xfrm>
            <a:off x="5651640" y="3429000"/>
            <a:ext cx="865080" cy="720720"/>
          </a:xfrm>
          <a:custGeom>
            <a:avLst/>
            <a:gdLst>
              <a:gd name="textAreaLeft" fmla="*/ 30240 w 865080"/>
              <a:gd name="textAreaRight" fmla="*/ 843840 w 865080"/>
              <a:gd name="textAreaTop" fmla="*/ 749520 h 720720"/>
              <a:gd name="textAreaBottom" fmla="*/ 9439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883440" y="440532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лько всего… 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стоянке стояло 5 легковых машин и 2 автобуса. Сколько всего машин стояло на стоянк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6" descr="j0183328"/>
          <p:cNvPicPr/>
          <p:nvPr/>
        </p:nvPicPr>
        <p:blipFill>
          <a:blip r:embed="rId1"/>
          <a:stretch/>
        </p:blipFill>
        <p:spPr>
          <a:xfrm>
            <a:off x="1258920" y="5084640"/>
            <a:ext cx="1778040" cy="142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183328"/>
          <p:cNvPicPr/>
          <p:nvPr/>
        </p:nvPicPr>
        <p:blipFill>
          <a:blip r:embed="rId2"/>
          <a:stretch/>
        </p:blipFill>
        <p:spPr>
          <a:xfrm>
            <a:off x="3419640" y="5084640"/>
            <a:ext cx="1777680" cy="141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2957"/>
          <p:cNvPicPr/>
          <p:nvPr/>
        </p:nvPicPr>
        <p:blipFill>
          <a:blip r:embed="rId3"/>
          <a:stretch/>
        </p:blipFill>
        <p:spPr>
          <a:xfrm>
            <a:off x="1258920" y="364500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0212957"/>
          <p:cNvPicPr/>
          <p:nvPr/>
        </p:nvPicPr>
        <p:blipFill>
          <a:blip r:embed="rId4"/>
          <a:stretch/>
        </p:blipFill>
        <p:spPr>
          <a:xfrm>
            <a:off x="2843280" y="371628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j0212957"/>
          <p:cNvPicPr/>
          <p:nvPr/>
        </p:nvPicPr>
        <p:blipFill>
          <a:blip r:embed="rId5"/>
          <a:stretch/>
        </p:blipFill>
        <p:spPr>
          <a:xfrm>
            <a:off x="4284720" y="3716280"/>
            <a:ext cx="143964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j0212957"/>
          <p:cNvPicPr/>
          <p:nvPr/>
        </p:nvPicPr>
        <p:blipFill>
          <a:blip r:embed="rId6"/>
          <a:stretch/>
        </p:blipFill>
        <p:spPr>
          <a:xfrm>
            <a:off x="5796000" y="371628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j0212957"/>
          <p:cNvPicPr/>
          <p:nvPr/>
        </p:nvPicPr>
        <p:blipFill>
          <a:blip r:embed="rId7"/>
          <a:stretch/>
        </p:blipFill>
        <p:spPr>
          <a:xfrm>
            <a:off x="7164360" y="3716280"/>
            <a:ext cx="136692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ставь задачу по схе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203640" y="3284640"/>
            <a:ext cx="718920" cy="57600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124000" y="328464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14036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14836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084720" y="328464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020000" y="3284640"/>
            <a:ext cx="71892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6948360" y="3141720"/>
            <a:ext cx="1008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5940360" y="3141720"/>
            <a:ext cx="100800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03640" y="3141720"/>
            <a:ext cx="100836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ь задачу по краткой запис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 Коли – 5 оре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 Маши – 3 орех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6516720" y="2852640"/>
            <a:ext cx="504720" cy="1656000"/>
          </a:xfrm>
          <a:custGeom>
            <a:avLst/>
            <a:gdLst>
              <a:gd name="textAreaLeft" fmla="*/ 0 w 504720"/>
              <a:gd name="textAreaRight" fmla="*/ 182160 w 50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093080" y="3357720"/>
            <a:ext cx="43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гическая 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490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зовут каждого мальчика – рыболова, если  удочка у Саши длиннее, чем у Димы, но короче, чем у То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5" descr="picture"/>
          <p:cNvPicPr/>
          <p:nvPr/>
        </p:nvPicPr>
        <p:blipFill>
          <a:blip r:embed="rId1"/>
          <a:stretch/>
        </p:blipFill>
        <p:spPr>
          <a:xfrm>
            <a:off x="1187280" y="3429000"/>
            <a:ext cx="6985080" cy="3240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3:09:15Z</dcterms:created>
  <dc:creator>Comp</dc:creator>
  <dc:description/>
  <dc:language>en-US</dc:language>
  <cp:lastModifiedBy>Оксана</cp:lastModifiedBy>
  <dcterms:modified xsi:type="dcterms:W3CDTF">2017-02-08T14:06:51Z</dcterms:modified>
  <cp:revision>3</cp:revision>
  <dc:subject/>
  <dc:title>Математика 1 класс</dc:title>
</cp:coreProperties>
</file>