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CE7-8C43-4C5F-A956-C376DB57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56D-4EFD-4B2F-BAA4-53890E8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41E-4E68-4ABA-963E-6E0ECDF5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DFD-41C7-4B10-8A90-CF96A3AF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94C-D613-4754-A63A-B7973CB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CD0-DC01-445B-A242-EC4E6EFD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236-943D-44D0-8E83-655ED26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1ED-C4CF-46F4-AE05-1D1A4CC2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904-DC9C-4793-8451-59DB21FF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FDF-8A82-46BB-9282-F3F2971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3F4-CE36-4BAA-B09C-AF9CDDF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356-95D8-4D57-989B-6ABE5479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CCD1-7E3F-4570-BE32-188A6AA24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ТАНЦИЯ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«СЕМЕЙ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1428840"/>
            <a:ext cx="6415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omic Sans MS"/>
              </a:rPr>
              <a:t>РОДИТЕЛИ – САМЫЕ  БЛИЗКИЕ  ЛЮ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0" descr="daisy.png"/>
          <p:cNvPicPr/>
          <p:nvPr/>
        </p:nvPicPr>
        <p:blipFill>
          <a:blip r:embed="rId1"/>
          <a:srcRect l="0" t="0" r="0" b="3701"/>
          <a:stretch/>
        </p:blipFill>
        <p:spPr>
          <a:xfrm>
            <a:off x="5786280" y="1928880"/>
            <a:ext cx="2986200" cy="46213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45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" descr="ladybug.png"/>
          <p:cNvPicPr/>
          <p:nvPr/>
        </p:nvPicPr>
        <p:blipFill>
          <a:blip r:embed="rId2"/>
          <a:stretch/>
        </p:blipFill>
        <p:spPr>
          <a:xfrm>
            <a:off x="7715160" y="32860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stem_leaf_2.png"/>
          <p:cNvPicPr/>
          <p:nvPr/>
        </p:nvPicPr>
        <p:blipFill>
          <a:blip r:embed="rId3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aisy_1.png"/>
          <p:cNvPicPr/>
          <p:nvPr/>
        </p:nvPicPr>
        <p:blipFill>
          <a:blip r:embed="rId4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51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" descr="ladybug.png"/>
          <p:cNvPicPr/>
          <p:nvPr/>
        </p:nvPicPr>
        <p:blipFill>
          <a:blip r:embed="rId5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obschaya.gif"/>
          <p:cNvPicPr/>
          <p:nvPr/>
        </p:nvPicPr>
        <p:blipFill>
          <a:blip r:embed="rId6"/>
          <a:stretch/>
        </p:blipFill>
        <p:spPr>
          <a:xfrm>
            <a:off x="1928880" y="2714760"/>
            <a:ext cx="38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Я  ХОЧУ  ПОБЛАГОДАРИТ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3" descr="&quot;Вятка-на-Сети&quot; - информационный портал, г. Киров - Вятка-На-Сети - первый информационный портал города Кирова - новости, афиша,"/>
          <p:cNvPicPr/>
          <p:nvPr/>
        </p:nvPicPr>
        <p:blipFill>
          <a:blip r:embed="rId1"/>
          <a:stretch/>
        </p:blipFill>
        <p:spPr>
          <a:xfrm>
            <a:off x="2771640" y="1844640"/>
            <a:ext cx="2840040" cy="302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0" descr="daisy.png"/>
          <p:cNvPicPr/>
          <p:nvPr/>
        </p:nvPicPr>
        <p:blipFill>
          <a:blip r:embed="rId2"/>
          <a:srcRect l="0" t="0" r="0" b="3701"/>
          <a:stretch/>
        </p:blipFill>
        <p:spPr>
          <a:xfrm>
            <a:off x="6386400" y="3000240"/>
            <a:ext cx="2386080" cy="36925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2"/>
          <p:cNvGrpSpPr/>
          <p:nvPr/>
        </p:nvGrpSpPr>
        <p:grpSpPr>
          <a:xfrm>
            <a:off x="7143840" y="3786120"/>
            <a:ext cx="747720" cy="840960"/>
            <a:chOff x="7143840" y="3786120"/>
            <a:chExt cx="747720" cy="840960"/>
          </a:xfrm>
        </p:grpSpPr>
        <p:sp>
          <p:nvSpPr>
            <p:cNvPr id="142" name="Oval 3"/>
            <p:cNvSpPr/>
            <p:nvPr/>
          </p:nvSpPr>
          <p:spPr>
            <a:xfrm>
              <a:off x="7143840" y="378612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"/>
            <p:cNvSpPr/>
            <p:nvPr/>
          </p:nvSpPr>
          <p:spPr>
            <a:xfrm>
              <a:off x="7191360" y="397692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" descr="ladybug.png"/>
          <p:cNvPicPr/>
          <p:nvPr/>
        </p:nvPicPr>
        <p:blipFill>
          <a:blip r:embed="rId3"/>
          <a:stretch/>
        </p:blipFill>
        <p:spPr>
          <a:xfrm rot="9757200">
            <a:off x="931680" y="180504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ladybug.png"/>
          <p:cNvPicPr/>
          <p:nvPr/>
        </p:nvPicPr>
        <p:blipFill>
          <a:blip r:embed="rId4"/>
          <a:stretch/>
        </p:blipFill>
        <p:spPr>
          <a:xfrm>
            <a:off x="7858080" y="2357280"/>
            <a:ext cx="1015920" cy="9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49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мья – группа  живущих  вместе  родственников ( муж, жена, родители,де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Поздравления Записи в рубрике Поздравления ВСЕМ МАМАМ! : Liv…"/>
          <p:cNvPicPr/>
          <p:nvPr/>
        </p:nvPicPr>
        <p:blipFill>
          <a:blip r:embed="rId1"/>
          <a:stretch/>
        </p:blipFill>
        <p:spPr>
          <a:xfrm>
            <a:off x="1971720" y="2071800"/>
            <a:ext cx="5014800" cy="405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0" descr="daisy.png"/>
          <p:cNvPicPr/>
          <p:nvPr/>
        </p:nvPicPr>
        <p:blipFill>
          <a:blip r:embed="rId2"/>
          <a:srcRect l="0" t="0" r="0" b="3701"/>
          <a:stretch/>
        </p:blipFill>
        <p:spPr>
          <a:xfrm>
            <a:off x="7072200" y="2428920"/>
            <a:ext cx="2071800" cy="42638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"/>
          <p:cNvGrpSpPr/>
          <p:nvPr/>
        </p:nvGrpSpPr>
        <p:grpSpPr>
          <a:xfrm>
            <a:off x="7715160" y="3500280"/>
            <a:ext cx="642960" cy="571680"/>
            <a:chOff x="7715160" y="3500280"/>
            <a:chExt cx="642960" cy="571680"/>
          </a:xfrm>
        </p:grpSpPr>
        <p:sp>
          <p:nvSpPr>
            <p:cNvPr id="59" name="Oval 3"/>
            <p:cNvSpPr/>
            <p:nvPr/>
          </p:nvSpPr>
          <p:spPr>
            <a:xfrm>
              <a:off x="7715160" y="3500280"/>
              <a:ext cx="642960" cy="57168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4"/>
            <p:cNvSpPr/>
            <p:nvPr/>
          </p:nvSpPr>
          <p:spPr>
            <a:xfrm>
              <a:off x="7756200" y="3537000"/>
              <a:ext cx="560520" cy="49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" descr="ladybug.png"/>
          <p:cNvPicPr/>
          <p:nvPr/>
        </p:nvPicPr>
        <p:blipFill>
          <a:blip r:embed="rId3"/>
          <a:stretch/>
        </p:blipFill>
        <p:spPr>
          <a:xfrm>
            <a:off x="7286760" y="5643720"/>
            <a:ext cx="1015920" cy="94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ladybug.png"/>
          <p:cNvPicPr/>
          <p:nvPr/>
        </p:nvPicPr>
        <p:blipFill>
          <a:blip r:embed="rId4"/>
          <a:stretch/>
        </p:blipFill>
        <p:spPr>
          <a:xfrm rot="9757200">
            <a:off x="430920" y="2305080"/>
            <a:ext cx="698760" cy="60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66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ружная  семья –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бщие  события, праздники, семейные  тради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Архив материалов - Персональный сайт"/>
          <p:cNvPicPr/>
          <p:nvPr/>
        </p:nvPicPr>
        <p:blipFill>
          <a:blip r:embed="rId1"/>
          <a:stretch/>
        </p:blipFill>
        <p:spPr>
          <a:xfrm>
            <a:off x="457200" y="2214720"/>
            <a:ext cx="3971880" cy="37861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задание в детский сад"/>
          <p:cNvPicPr/>
          <p:nvPr/>
        </p:nvPicPr>
        <p:blipFill>
          <a:blip r:embed="rId2"/>
          <a:stretch/>
        </p:blipFill>
        <p:spPr>
          <a:xfrm>
            <a:off x="4857840" y="2214720"/>
            <a:ext cx="3786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Руслан\Рабочий стол\открытый урок Христианская семья\картинки\086-087-11-02-pic\pic.png"/>
          <p:cNvPicPr/>
          <p:nvPr/>
        </p:nvPicPr>
        <p:blipFill>
          <a:blip r:embed="rId1"/>
          <a:stretch/>
        </p:blipFill>
        <p:spPr>
          <a:xfrm>
            <a:off x="5148360" y="765000"/>
            <a:ext cx="2455920" cy="2428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651640" y="189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Вен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pic.png"/>
          <p:cNvPicPr/>
          <p:nvPr/>
        </p:nvPicPr>
        <p:blipFill>
          <a:blip r:embed="rId2"/>
          <a:stretch/>
        </p:blipFill>
        <p:spPr>
          <a:xfrm>
            <a:off x="826920" y="1125360"/>
            <a:ext cx="2864160" cy="43704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 flipV="1" rot="10800000">
            <a:off x="250920" y="558936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Венчание в храме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МЕЙНЫЙ  АЛЬБ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0" descr="daisy.png"/>
          <p:cNvPicPr/>
          <p:nvPr/>
        </p:nvPicPr>
        <p:blipFill>
          <a:blip r:embed="rId1"/>
          <a:srcRect l="0" t="0" r="0" b="3701"/>
          <a:stretch/>
        </p:blipFill>
        <p:spPr>
          <a:xfrm>
            <a:off x="6048360" y="2071800"/>
            <a:ext cx="27241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2"/>
          <p:cNvGrpSpPr/>
          <p:nvPr/>
        </p:nvGrpSpPr>
        <p:grpSpPr>
          <a:xfrm>
            <a:off x="6929280" y="3214800"/>
            <a:ext cx="747720" cy="745920"/>
            <a:chOff x="6929280" y="3214800"/>
            <a:chExt cx="747720" cy="745920"/>
          </a:xfrm>
        </p:grpSpPr>
        <p:sp>
          <p:nvSpPr>
            <p:cNvPr id="78" name="Oval 3"/>
            <p:cNvSpPr/>
            <p:nvPr/>
          </p:nvSpPr>
          <p:spPr>
            <a:xfrm>
              <a:off x="692928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"/>
            <p:cNvSpPr/>
            <p:nvPr/>
          </p:nvSpPr>
          <p:spPr>
            <a:xfrm>
              <a:off x="697680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" descr="ladybug.png"/>
          <p:cNvPicPr/>
          <p:nvPr/>
        </p:nvPicPr>
        <p:blipFill>
          <a:blip r:embed="rId2"/>
          <a:stretch/>
        </p:blipFill>
        <p:spPr>
          <a:xfrm>
            <a:off x="7786800" y="4000680"/>
            <a:ext cx="1015920" cy="94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stem_leaf_2.png"/>
          <p:cNvPicPr/>
          <p:nvPr/>
        </p:nvPicPr>
        <p:blipFill>
          <a:blip r:embed="rId3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aisy_1.png"/>
          <p:cNvPicPr/>
          <p:nvPr/>
        </p:nvPicPr>
        <p:blipFill>
          <a:blip r:embed="rId4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84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Содержимое 13" descr="Детские фотографии знаменитостей СПЛЕТНИК"/>
          <p:cNvPicPr/>
          <p:nvPr/>
        </p:nvPicPr>
        <p:blipFill>
          <a:blip r:embed="rId5"/>
          <a:stretch/>
        </p:blipFill>
        <p:spPr>
          <a:xfrm>
            <a:off x="1857240" y="1643040"/>
            <a:ext cx="4500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10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ТИХ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О  СЕМ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6858000" y="3214800"/>
            <a:ext cx="747720" cy="745920"/>
            <a:chOff x="6858000" y="3214800"/>
            <a:chExt cx="747720" cy="745920"/>
          </a:xfrm>
        </p:grpSpPr>
        <p:sp>
          <p:nvSpPr>
            <p:cNvPr id="89" name="Oval 3"/>
            <p:cNvSpPr/>
            <p:nvPr/>
          </p:nvSpPr>
          <p:spPr>
            <a:xfrm>
              <a:off x="6858000" y="321480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>
              <a:off x="6905520" y="326268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Детям о семье В сборник вошли стихи и рассказы классических и современных писателей для детей о семье. И все, что дети получают"/>
          <p:cNvPicPr/>
          <p:nvPr/>
        </p:nvPicPr>
        <p:blipFill>
          <a:blip r:embed="rId1"/>
          <a:stretch/>
        </p:blipFill>
        <p:spPr>
          <a:xfrm>
            <a:off x="5437080" y="2133720"/>
            <a:ext cx="3140280" cy="416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35280" y="2060280"/>
            <a:ext cx="3097080" cy="40654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RUSSIA.RU - Блоги - Кирилл Головин"/>
          <p:cNvPicPr/>
          <p:nvPr/>
        </p:nvPicPr>
        <p:blipFill>
          <a:blip r:embed="rId3"/>
          <a:stretch/>
        </p:blipFill>
        <p:spPr>
          <a:xfrm>
            <a:off x="611280" y="2060640"/>
            <a:ext cx="4032000" cy="40939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1"/>
          <p:cNvSpPr/>
          <p:nvPr/>
        </p:nvSpPr>
        <p:spPr>
          <a:xfrm>
            <a:off x="468360" y="76500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НАРОДНЫЕ  ПОСЛОВИЦЫ 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           О 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СНЯ  О  СЕМ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0" descr="daisy.png"/>
          <p:cNvPicPr/>
          <p:nvPr/>
        </p:nvPicPr>
        <p:blipFill>
          <a:blip r:embed="rId2"/>
          <a:stretch/>
        </p:blipFill>
        <p:spPr>
          <a:xfrm>
            <a:off x="6756480" y="3500280"/>
            <a:ext cx="2016000" cy="31212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285840" y="1643040"/>
            <a:ext cx="8572320" cy="4214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БУДЕТ  ДЕНЬ СЧАСТЛИВЫЙ  И  ЧУДЕСНЫЙ  САМ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РЯДОМ  БУДУТ  ПАПА  И  М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БУДУ  Я  ВЕСЁЛОЙ, БУДУ  ОЧЕНЬ РА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БУДУТ  РЯДОМ  СЕСТРЁНКА  С  БР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А  ЕЩЁ  Я  БУДУ  БЕСКОНЕЧНО РА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РЯДОМ  ДЕДУШКА  И  БАБУШКА 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НУ  А  БОЛЬШЕ  ВСЕХ  БУДУ  РАДА 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СЛИ  БУДЕТ  РЯДОМ  ВСЯ  СЕМ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ВСЯ  МОЯ 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000080" y="50007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7429680" y="4143240"/>
            <a:ext cx="747360" cy="746280"/>
            <a:chOff x="7429680" y="4143240"/>
            <a:chExt cx="747360" cy="746280"/>
          </a:xfrm>
        </p:grpSpPr>
        <p:sp>
          <p:nvSpPr>
            <p:cNvPr id="101" name="Oval 3"/>
            <p:cNvSpPr/>
            <p:nvPr/>
          </p:nvSpPr>
          <p:spPr>
            <a:xfrm>
              <a:off x="7429680" y="4143240"/>
              <a:ext cx="747360" cy="74628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"/>
            <p:cNvSpPr/>
            <p:nvPr/>
          </p:nvSpPr>
          <p:spPr>
            <a:xfrm>
              <a:off x="7477200" y="4191120"/>
              <a:ext cx="651240" cy="650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" descr="ladybug.png"/>
          <p:cNvPicPr/>
          <p:nvPr/>
        </p:nvPicPr>
        <p:blipFill>
          <a:blip r:embed="rId3"/>
          <a:stretch/>
        </p:blipFill>
        <p:spPr>
          <a:xfrm>
            <a:off x="8215200" y="3843360"/>
            <a:ext cx="801720" cy="74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ladybug.png"/>
          <p:cNvPicPr/>
          <p:nvPr/>
        </p:nvPicPr>
        <p:blipFill>
          <a:blip r:embed="rId4"/>
          <a:stretch/>
        </p:blipFill>
        <p:spPr>
          <a:xfrm rot="9757200">
            <a:off x="207720" y="35100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08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НСЦЕНИРОВКА  «ТРИ  МАМ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Одесским родителям на заметку: Куда пойти с ребенком на выходных - Рамблер-Новости"/>
          <p:cNvPicPr/>
          <p:nvPr/>
        </p:nvPicPr>
        <p:blipFill>
          <a:blip r:embed="rId1"/>
          <a:stretch/>
        </p:blipFill>
        <p:spPr>
          <a:xfrm>
            <a:off x="1428840" y="1785960"/>
            <a:ext cx="5715000" cy="3029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0" descr="daisy.png"/>
          <p:cNvPicPr/>
          <p:nvPr/>
        </p:nvPicPr>
        <p:blipFill>
          <a:blip r:embed="rId2"/>
          <a:srcRect l="0" t="0" r="0" b="3701"/>
          <a:stretch/>
        </p:blipFill>
        <p:spPr>
          <a:xfrm>
            <a:off x="6386400" y="3000240"/>
            <a:ext cx="2386080" cy="36925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"/>
          <p:cNvGrpSpPr/>
          <p:nvPr/>
        </p:nvGrpSpPr>
        <p:grpSpPr>
          <a:xfrm>
            <a:off x="7215120" y="3929040"/>
            <a:ext cx="747720" cy="840960"/>
            <a:chOff x="7215120" y="3929040"/>
            <a:chExt cx="747720" cy="840960"/>
          </a:xfrm>
        </p:grpSpPr>
        <p:sp>
          <p:nvSpPr>
            <p:cNvPr id="114" name="Oval 3"/>
            <p:cNvSpPr/>
            <p:nvPr/>
          </p:nvSpPr>
          <p:spPr>
            <a:xfrm>
              <a:off x="7215120" y="3929040"/>
              <a:ext cx="747720" cy="74592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"/>
            <p:cNvSpPr/>
            <p:nvPr/>
          </p:nvSpPr>
          <p:spPr>
            <a:xfrm>
              <a:off x="7262640" y="4119840"/>
              <a:ext cx="651600" cy="650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1" descr="ladybug.png"/>
          <p:cNvPicPr/>
          <p:nvPr/>
        </p:nvPicPr>
        <p:blipFill>
          <a:blip r:embed="rId3"/>
          <a:stretch/>
        </p:blipFill>
        <p:spPr>
          <a:xfrm>
            <a:off x="5857920" y="6000840"/>
            <a:ext cx="801720" cy="7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ladybug.png"/>
          <p:cNvPicPr/>
          <p:nvPr/>
        </p:nvPicPr>
        <p:blipFill>
          <a:blip r:embed="rId4"/>
          <a:stretch/>
        </p:blipFill>
        <p:spPr>
          <a:xfrm rot="9757200">
            <a:off x="217080" y="273384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tem_leaf_2.png"/>
          <p:cNvPicPr/>
          <p:nvPr/>
        </p:nvPicPr>
        <p:blipFill>
          <a:blip r:embed="rId5"/>
          <a:stretch/>
        </p:blipFill>
        <p:spPr>
          <a:xfrm>
            <a:off x="208080" y="3780000"/>
            <a:ext cx="1438200" cy="2869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aisy_1.png"/>
          <p:cNvPicPr/>
          <p:nvPr/>
        </p:nvPicPr>
        <p:blipFill>
          <a:blip r:embed="rId6"/>
          <a:stretch/>
        </p:blipFill>
        <p:spPr>
          <a:xfrm>
            <a:off x="214200" y="3929040"/>
            <a:ext cx="1613160" cy="269388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21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вои родители-самые  близкие  тебе  люди. Люби  и  береги  их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stem_leaf.png"/>
          <p:cNvPicPr/>
          <p:nvPr/>
        </p:nvPicPr>
        <p:blipFill>
          <a:blip r:embed="rId2"/>
          <a:stretch/>
        </p:blipFill>
        <p:spPr>
          <a:xfrm>
            <a:off x="5992920" y="2066760"/>
            <a:ext cx="2425680" cy="456588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4000680" y="1571760"/>
            <a:ext cx="2571480" cy="45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omic Sans MS"/>
              </a:rPr>
              <a:t>« Почитай  отца  твоего  и мать  твою, и  будет  тебе  хорошо, и долго  будешь жить  на  земле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дзаголовок 2"/>
          <p:cNvSpPr/>
          <p:nvPr/>
        </p:nvSpPr>
        <p:spPr>
          <a:xfrm>
            <a:off x="1371600" y="3886200"/>
            <a:ext cx="455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ladybug.png"/>
          <p:cNvPicPr/>
          <p:nvPr/>
        </p:nvPicPr>
        <p:blipFill>
          <a:blip r:embed="rId3"/>
          <a:stretch/>
        </p:blipFill>
        <p:spPr>
          <a:xfrm>
            <a:off x="7858080" y="2357280"/>
            <a:ext cx="1015920" cy="9478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6"/>
          <p:cNvGrpSpPr/>
          <p:nvPr/>
        </p:nvGrpSpPr>
        <p:grpSpPr>
          <a:xfrm>
            <a:off x="928800" y="4500720"/>
            <a:ext cx="457200" cy="457200"/>
            <a:chOff x="928800" y="4500720"/>
            <a:chExt cx="457200" cy="457200"/>
          </a:xfrm>
        </p:grpSpPr>
        <p:sp>
          <p:nvSpPr>
            <p:cNvPr id="130" name="Oval 7"/>
            <p:cNvSpPr/>
            <p:nvPr/>
          </p:nvSpPr>
          <p:spPr>
            <a:xfrm>
              <a:off x="928800" y="4500720"/>
              <a:ext cx="457200" cy="45720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977760" y="4549680"/>
              <a:ext cx="358920" cy="358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" descr="ladybug.png"/>
          <p:cNvPicPr/>
          <p:nvPr/>
        </p:nvPicPr>
        <p:blipFill>
          <a:blip r:embed="rId4"/>
          <a:stretch/>
        </p:blipFill>
        <p:spPr>
          <a:xfrm rot="9757200">
            <a:off x="217080" y="304920"/>
            <a:ext cx="698400" cy="606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The Blog from the Core - Sunday, December 28, 2008"/>
          <p:cNvPicPr/>
          <p:nvPr/>
        </p:nvPicPr>
        <p:blipFill>
          <a:blip r:embed="rId5"/>
          <a:stretch/>
        </p:blipFill>
        <p:spPr>
          <a:xfrm>
            <a:off x="611280" y="1773360"/>
            <a:ext cx="2776320" cy="4163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0" descr="daisy.png"/>
          <p:cNvPicPr/>
          <p:nvPr/>
        </p:nvPicPr>
        <p:blipFill>
          <a:blip r:embed="rId6"/>
          <a:stretch/>
        </p:blipFill>
        <p:spPr>
          <a:xfrm>
            <a:off x="6496200" y="3165480"/>
            <a:ext cx="2247840" cy="34783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2"/>
          <p:cNvGrpSpPr/>
          <p:nvPr/>
        </p:nvGrpSpPr>
        <p:grpSpPr>
          <a:xfrm>
            <a:off x="7215120" y="3929040"/>
            <a:ext cx="676440" cy="785520"/>
            <a:chOff x="7215120" y="3929040"/>
            <a:chExt cx="676440" cy="785520"/>
          </a:xfrm>
        </p:grpSpPr>
        <p:sp>
          <p:nvSpPr>
            <p:cNvPr id="136" name="Oval 3"/>
            <p:cNvSpPr/>
            <p:nvPr/>
          </p:nvSpPr>
          <p:spPr>
            <a:xfrm>
              <a:off x="7215120" y="3929040"/>
              <a:ext cx="676440" cy="696960"/>
            </a:xfrm>
            <a:prstGeom prst="ellipse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7257960" y="4107240"/>
              <a:ext cx="589680" cy="607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8:19:44Z</dcterms:created>
  <dc:creator>Admin</dc:creator>
  <dc:description/>
  <dc:language>en-US</dc:language>
  <cp:lastModifiedBy>Андрей</cp:lastModifiedBy>
  <dcterms:modified xsi:type="dcterms:W3CDTF">2017-02-08T19:35:38Z</dcterms:modified>
  <cp:revision>44</cp:revision>
  <dc:subject/>
  <dc:title>Проект «Моя семья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101909990</vt:lpwstr>
  </property>
</Properties>
</file>