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F33-5585-4A69-A1D2-36DBB7E4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DC5-15FA-4E5B-9777-C1BB9683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535-410E-45E6-9AC6-5F3C5102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1E6-7324-4DFF-9AAA-09B72861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E23-0583-48F7-89CA-37A972E8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C671-C42B-4FE7-9353-8DF3EA73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CF4B-0AC0-4E17-9682-AD03ED00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770-660F-41EB-8B3F-44EC1F5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B011-62B1-4222-A960-139DEDD0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4E4C-3D7A-4B89-A525-74F56237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D59B-DC0D-427F-801F-390CF5C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F29-3079-48B8-B8CB-A066018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85BA-4AFF-4793-B6C6-F417101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656-191E-44CE-8E2D-F48B5A3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C5A0-EB29-4C3F-B974-45C929E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8120-5637-4FA3-8712-DD53C1A8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A12-074C-494A-A04E-09F895A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F3E-6C12-43BC-9EE2-BB433131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00F-A355-42BF-9269-512CC07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90-03B2-4918-8C3D-04FC0630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EC3-551B-4FC4-8459-A783A84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29C-1294-4131-8A56-BB6C04F3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AE8-A1C8-4309-BFC8-49B6C7B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E5C-2675-40A1-8F86-BBDAC46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DC9-1413-4071-947D-FA2264BBBC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21E-3BE9-44FE-9307-FF9955211C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774396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elcome to our town Novomichurins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Содержимое 5" descr="1.jpg"/>
          <p:cNvPicPr/>
          <p:nvPr/>
        </p:nvPicPr>
        <p:blipFill>
          <a:blip r:embed="rId1"/>
          <a:stretch/>
        </p:blipFill>
        <p:spPr>
          <a:xfrm>
            <a:off x="1071720" y="2428920"/>
            <a:ext cx="692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pelkin Max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ozyorov Arsen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ntoon bri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wn has a bridge across the Pronya riv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founded in 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it looks at the present time. It helps people to go on their dach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pontoon bridge"/>
          <p:cNvPicPr/>
          <p:nvPr/>
        </p:nvPicPr>
        <p:blipFill>
          <a:blip r:embed="rId1"/>
          <a:stretch/>
        </p:blipFill>
        <p:spPr>
          <a:xfrm>
            <a:off x="5292720" y="41497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мостge"/>
          <p:cNvPicPr/>
          <p:nvPr/>
        </p:nvPicPr>
        <p:blipFill>
          <a:blip r:embed="rId2"/>
          <a:stretch/>
        </p:blipFill>
        <p:spPr>
          <a:xfrm>
            <a:off x="5292720" y="1484280"/>
            <a:ext cx="295128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14440" y="713880"/>
            <a:ext cx="535788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dalus"/>
                <a:ea typeface="Andalus"/>
              </a:rPr>
              <a:t>Novomichurinsk was named after Ivan Vladimirovich  Michurin  who was born in the village near our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3" descr="Michurin_1936.jpg"/>
          <p:cNvPicPr/>
          <p:nvPr/>
        </p:nvPicPr>
        <p:blipFill>
          <a:blip r:embed="rId1"/>
          <a:stretch/>
        </p:blipFill>
        <p:spPr>
          <a:xfrm>
            <a:off x="-6480" y="2041560"/>
            <a:ext cx="33721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 of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post of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 office in 2003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7"/>
          <p:cNvPicPr/>
          <p:nvPr/>
        </p:nvPicPr>
        <p:blipFill>
          <a:blip r:embed="rId1"/>
          <a:stretch/>
        </p:blipFill>
        <p:spPr>
          <a:xfrm>
            <a:off x="5148360" y="4292640"/>
            <a:ext cx="328284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почта"/>
          <p:cNvPicPr/>
          <p:nvPr/>
        </p:nvPicPr>
        <p:blipFill>
          <a:blip r:embed="rId2"/>
          <a:stretch/>
        </p:blipFill>
        <p:spPr>
          <a:xfrm>
            <a:off x="5148360" y="1484280"/>
            <a:ext cx="338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afe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dnichok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It was the first dining room in Novomichurinsk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8" descr="родничокge"/>
          <p:cNvPicPr/>
          <p:nvPr/>
        </p:nvPicPr>
        <p:blipFill>
          <a:blip r:embed="rId1"/>
          <a:stretch/>
        </p:blipFill>
        <p:spPr>
          <a:xfrm>
            <a:off x="0" y="2500200"/>
            <a:ext cx="4429080" cy="384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родe"/>
          <p:cNvPicPr/>
          <p:nvPr/>
        </p:nvPicPr>
        <p:blipFill>
          <a:blip r:embed="rId2"/>
          <a:stretch/>
        </p:blipFill>
        <p:spPr>
          <a:xfrm>
            <a:off x="4572000" y="25002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year we go on the parad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photos of the parade on the 9-th of May in 1975 and 2012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7" descr="марш"/>
          <p:cNvPicPr/>
          <p:nvPr/>
        </p:nvPicPr>
        <p:blipFill>
          <a:blip r:embed="rId1"/>
          <a:stretch/>
        </p:blipFill>
        <p:spPr>
          <a:xfrm>
            <a:off x="0" y="2357280"/>
            <a:ext cx="4506840" cy="3735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парадage"/>
          <p:cNvPicPr/>
          <p:nvPr/>
        </p:nvPicPr>
        <p:blipFill>
          <a:blip r:embed="rId2"/>
          <a:stretch/>
        </p:blipFill>
        <p:spPr>
          <a:xfrm>
            <a:off x="4500720" y="2357280"/>
            <a:ext cx="4643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shops and supermarkets in our tow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one of the shops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yuz - 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t was  formed from the shop “The children`s world”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7" descr="соge"/>
          <p:cNvPicPr/>
          <p:nvPr/>
        </p:nvPicPr>
        <p:blipFill>
          <a:blip r:embed="rId1"/>
          <a:stretch/>
        </p:blipFill>
        <p:spPr>
          <a:xfrm>
            <a:off x="4572000" y="2500200"/>
            <a:ext cx="4572000" cy="3643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союз р д"/>
          <p:cNvPicPr/>
          <p:nvPr/>
        </p:nvPicPr>
        <p:blipFill>
          <a:blip r:embed="rId2"/>
          <a:stretch/>
        </p:blipFill>
        <p:spPr>
          <a:xfrm>
            <a:off x="0" y="25718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ts scho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truction of the sports school in 19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school at the prese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спорт школаe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спорт ш"/>
          <p:cNvPicPr/>
          <p:nvPr/>
        </p:nvPicPr>
        <p:blipFill>
          <a:blip r:embed="rId2"/>
          <a:stretch/>
        </p:blipFill>
        <p:spPr>
          <a:xfrm>
            <a:off x="4643280" y="3860640"/>
            <a:ext cx="4032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de of the city – Ryazanskaya G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ndalus"/>
                <a:ea typeface="Andalus"/>
              </a:rPr>
              <a:t>Ryazanskaya  Gres is a power station in Novomichurinsk,. It is one of the largest  power stations  in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DSC_2574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5:36Z</dcterms:created>
  <dc:creator>Элекс</dc:creator>
  <dc:description/>
  <dc:language>en-US</dc:language>
  <cp:lastModifiedBy>Admin</cp:lastModifiedBy>
  <dcterms:modified xsi:type="dcterms:W3CDTF">2013-03-21T15:42:33Z</dcterms:modified>
  <cp:revision>11</cp:revision>
  <dc:subject/>
  <dc:title>Мой город, мой Новомичуринск</dc:title>
</cp:coreProperties>
</file>