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0D2-6B18-4F71-9080-3072B021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44C-9608-4C6B-BBFB-31B422D9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AD49-91B4-46FE-B41B-BF771538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5B69-59F1-46E0-A649-B51F90BC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16C6-70CA-426A-A5CF-AF42A940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016D-9599-4629-890B-260AC833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5315-6240-46AC-B788-CFA60FE0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118C-20D1-45F3-9EE1-226302F7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CCCB-2CF9-4F5C-9168-FA2F7625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41D3-6B6F-44BA-8931-F1DFAD7E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CE40-98E5-45BA-9CC3-C00FE59F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C01D-63A1-4E3F-B0F1-00F0569E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F297-0B20-440C-9FC1-98703472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996D-21D4-4241-975F-B83E87E5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AEA1-3820-4F32-801C-2A8C168D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1B6C-56CE-402C-9581-44C147B9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E22B-A6F1-4D0D-9002-7A7FDD0E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A14-2F24-416A-A758-F20313AD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8AD3-443D-4FAD-8274-1B360AD8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5187-DC1F-4B8E-947E-2F6DB3BA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F1C2-400C-4A71-9685-1C7B3483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6874-5AD9-47E5-B0F4-10EEC01D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4FB-1620-4B2E-9624-16C00EA0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ECE-F6FB-4B9E-A496-8E1A85D8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05D7-EED5-4982-A658-F621B80437C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DBA6-4F21-4C0F-874E-66D058B26EE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3880" y="928800"/>
            <a:ext cx="7743960" cy="13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Welcome to our town Novomichurinsk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Содержимое 5" descr="1.jpg"/>
          <p:cNvPicPr/>
          <p:nvPr/>
        </p:nvPicPr>
        <p:blipFill>
          <a:blip r:embed="rId1"/>
          <a:stretch/>
        </p:blipFill>
        <p:spPr>
          <a:xfrm>
            <a:off x="1071720" y="2428920"/>
            <a:ext cx="6929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uth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epelkin Max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ozyorov Arseni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ntoon brid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own has a bridge across the Pronya riv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founded in 19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it looks at the present time. It helps people to go on their dach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pontoon bridge"/>
          <p:cNvPicPr/>
          <p:nvPr/>
        </p:nvPicPr>
        <p:blipFill>
          <a:blip r:embed="rId1"/>
          <a:stretch/>
        </p:blipFill>
        <p:spPr>
          <a:xfrm>
            <a:off x="5292720" y="414972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мостge"/>
          <p:cNvPicPr/>
          <p:nvPr/>
        </p:nvPicPr>
        <p:blipFill>
          <a:blip r:embed="rId2"/>
          <a:stretch/>
        </p:blipFill>
        <p:spPr>
          <a:xfrm>
            <a:off x="5292720" y="1484280"/>
            <a:ext cx="295128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14440" y="713880"/>
            <a:ext cx="5357880" cy="335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dalus"/>
                <a:ea typeface="Andalus"/>
              </a:rPr>
              <a:t>Novomichurinsk was named after Ivan Vladimirovich  Michurin  who was born in the village near our t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3" descr="Michurin_1936.jpg"/>
          <p:cNvPicPr/>
          <p:nvPr/>
        </p:nvPicPr>
        <p:blipFill>
          <a:blip r:embed="rId1"/>
          <a:stretch/>
        </p:blipFill>
        <p:spPr>
          <a:xfrm>
            <a:off x="-6480" y="2041560"/>
            <a:ext cx="337212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st offi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post off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 office in 2003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7"/>
          <p:cNvPicPr/>
          <p:nvPr/>
        </p:nvPicPr>
        <p:blipFill>
          <a:blip r:embed="rId1"/>
          <a:stretch/>
        </p:blipFill>
        <p:spPr>
          <a:xfrm>
            <a:off x="5148360" y="4292640"/>
            <a:ext cx="3282840" cy="218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почта"/>
          <p:cNvPicPr/>
          <p:nvPr/>
        </p:nvPicPr>
        <p:blipFill>
          <a:blip r:embed="rId2"/>
          <a:stretch/>
        </p:blipFill>
        <p:spPr>
          <a:xfrm>
            <a:off x="5148360" y="1484280"/>
            <a:ext cx="3384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57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afe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dnichok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It was the first dining room in Novomichurinsk.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8" descr="родничокge"/>
          <p:cNvPicPr/>
          <p:nvPr/>
        </p:nvPicPr>
        <p:blipFill>
          <a:blip r:embed="rId1"/>
          <a:stretch/>
        </p:blipFill>
        <p:spPr>
          <a:xfrm>
            <a:off x="0" y="2500200"/>
            <a:ext cx="4429080" cy="3849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родe"/>
          <p:cNvPicPr/>
          <p:nvPr/>
        </p:nvPicPr>
        <p:blipFill>
          <a:blip r:embed="rId2"/>
          <a:stretch/>
        </p:blipFill>
        <p:spPr>
          <a:xfrm>
            <a:off x="4572000" y="2500200"/>
            <a:ext cx="457200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year we go on the parad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photos of the parade on the 9-th of May in 1975 and 2012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4" name="Picture 7" descr="марш"/>
          <p:cNvPicPr/>
          <p:nvPr/>
        </p:nvPicPr>
        <p:blipFill>
          <a:blip r:embed="rId1"/>
          <a:stretch/>
        </p:blipFill>
        <p:spPr>
          <a:xfrm>
            <a:off x="0" y="2357280"/>
            <a:ext cx="4506840" cy="3735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парадage"/>
          <p:cNvPicPr/>
          <p:nvPr/>
        </p:nvPicPr>
        <p:blipFill>
          <a:blip r:embed="rId2"/>
          <a:stretch/>
        </p:blipFill>
        <p:spPr>
          <a:xfrm>
            <a:off x="4500720" y="2357280"/>
            <a:ext cx="464328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shops and supermarkets in our tow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one of the shops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yuz - R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t was  formed from the shop “The children`s world”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7" descr="соge"/>
          <p:cNvPicPr/>
          <p:nvPr/>
        </p:nvPicPr>
        <p:blipFill>
          <a:blip r:embed="rId1"/>
          <a:stretch/>
        </p:blipFill>
        <p:spPr>
          <a:xfrm>
            <a:off x="4572000" y="2500200"/>
            <a:ext cx="4572000" cy="3643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союз р д"/>
          <p:cNvPicPr/>
          <p:nvPr/>
        </p:nvPicPr>
        <p:blipFill>
          <a:blip r:embed="rId2"/>
          <a:stretch/>
        </p:blipFill>
        <p:spPr>
          <a:xfrm>
            <a:off x="0" y="2571840"/>
            <a:ext cx="4572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orts schoo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truction of the sports school in 197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rts school at the prese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8" descr="спорт школаe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223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спорт ш"/>
          <p:cNvPicPr/>
          <p:nvPr/>
        </p:nvPicPr>
        <p:blipFill>
          <a:blip r:embed="rId2"/>
          <a:stretch/>
        </p:blipFill>
        <p:spPr>
          <a:xfrm>
            <a:off x="4643280" y="3860640"/>
            <a:ext cx="403236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ide of the city – Ryazanskaya GR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ndalus"/>
                <a:ea typeface="Andal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ndalus"/>
                <a:ea typeface="Andalus"/>
              </a:rPr>
              <a:t>Ryazanskaya  Gres is a power station in Novomichurinsk,. It is one of the largest  power stations  in Rus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7" descr="DSC_2574"/>
          <p:cNvPicPr/>
          <p:nvPr/>
        </p:nvPicPr>
        <p:blipFill>
          <a:blip r:embed="rId1"/>
          <a:stretch/>
        </p:blipFill>
        <p:spPr>
          <a:xfrm>
            <a:off x="4500720" y="1628640"/>
            <a:ext cx="4643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9:05:36Z</dcterms:created>
  <dc:creator>Элекс</dc:creator>
  <dc:description/>
  <dc:language>en-US</dc:language>
  <cp:lastModifiedBy>Admin</cp:lastModifiedBy>
  <dcterms:modified xsi:type="dcterms:W3CDTF">2013-03-21T15:42:33Z</dcterms:modified>
  <cp:revision>11</cp:revision>
  <dc:subject/>
  <dc:title>Мой город, мой Новомичуринск</dc:title>
</cp:coreProperties>
</file>