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491-D4EC-4B86-8396-48435B3C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309-6FEC-401E-AFEC-DEAE0C36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ACA-5F3A-43BE-A335-A25502C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834-03E8-45B6-A2C4-9F7CC381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9602-6B04-4253-9FD7-698A9D8C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4D4E-CAAD-4B16-92BF-31584D65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615-D35C-4841-8D91-E5D0F57B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6221-EED4-4114-966F-75638BF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8CC5-F10A-47E3-A686-2D2ECC2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1CA1-26E1-448A-8469-5E1A04F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0D3E-F3AC-49F0-955D-CF3D1D12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B01-8733-4A3F-999D-5B174C1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21FE-A97D-4853-9D59-76E21478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95F-8A35-43AF-BA82-C972BDA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6D94-D9A5-41B2-88FD-412DBC7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B17-DC5C-4BFD-9BB9-2E5151ED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CF44-3DFE-4172-BC10-BBF825D5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164-206A-42BB-88D5-7E974DE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FED-C560-41A8-93DC-5AC0A2F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62C-7CBC-4C10-84CB-758DA546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FD8-B0B1-4C7E-9D8C-071B6EB2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574-42D3-47FD-B7CE-6D2894E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45D-6F5A-407F-8A76-53D78D5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52B-4F6A-44AC-84C8-71E09DF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8680"/>
            <a:ext cx="8413920" cy="1255680"/>
            <a:chOff x="365040" y="328680"/>
            <a:chExt cx="8413920" cy="125568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8680"/>
              <a:ext cx="8413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601E-7A2A-4832-A497-9AA146CB2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55440" y="-55440"/>
            <a:ext cx="9259920" cy="7046640"/>
            <a:chOff x="-55440" y="-55440"/>
            <a:chExt cx="9259920" cy="704664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55440" y="-55440"/>
              <a:ext cx="925992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8680"/>
            <a:ext cx="8413920" cy="1255680"/>
            <a:chOff x="365040" y="328680"/>
            <a:chExt cx="8413920" cy="125568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8680"/>
              <a:ext cx="8413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55440" y="-55440"/>
            <a:ext cx="9259920" cy="7046640"/>
            <a:chOff x="-55440" y="-55440"/>
            <a:chExt cx="9259920" cy="704664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55440" y="-55440"/>
              <a:ext cx="925992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8840" y="3902040"/>
            <a:ext cx="5424480" cy="1962360"/>
            <a:chOff x="1158840" y="3902040"/>
            <a:chExt cx="542448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8840" y="3902040"/>
              <a:ext cx="542448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804960" y="749160"/>
            <a:ext cx="7461000" cy="3048120"/>
            <a:chOff x="804960" y="749160"/>
            <a:chExt cx="7461000" cy="30481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804960" y="749160"/>
              <a:ext cx="74610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5E3-B50F-42D7-92B4-5F1BDECCE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71680" y="356760"/>
            <a:ext cx="80071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ытно- экспериментальная деятельность  как средство   развития познавательного интереса у детей старшего  дошкольного возраст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3200" spc="-1" strike="noStrike">
                <a:solidFill>
                  <a:srgbClr val="00cc00"/>
                </a:solidFill>
                <a:latin typeface="Arno Pro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no Pro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хина Татьян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 Бисерово Афанасьев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нина\Desktop\IMG_4909.JPG"/>
          <p:cNvPicPr/>
          <p:nvPr/>
        </p:nvPicPr>
        <p:blipFill>
          <a:blip r:embed="rId1"/>
          <a:stretch/>
        </p:blipFill>
        <p:spPr>
          <a:xfrm>
            <a:off x="642960" y="3786120"/>
            <a:ext cx="37447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33200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методике А. И. Савенк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E:\фото эксперимент\Изображение 004.jpg"/>
          <p:cNvPicPr/>
          <p:nvPr/>
        </p:nvPicPr>
        <p:blipFill>
          <a:blip r:embed="rId1"/>
          <a:stretch/>
        </p:blipFill>
        <p:spPr>
          <a:xfrm>
            <a:off x="684360" y="1628640"/>
            <a:ext cx="2950920" cy="490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фото эксперимент\Изображение 003.jpg"/>
          <p:cNvPicPr/>
          <p:nvPr/>
        </p:nvPicPr>
        <p:blipFill>
          <a:blip r:embed="rId2"/>
          <a:srcRect l="-735" t="-12148" r="745" b="45944"/>
          <a:stretch/>
        </p:blipFill>
        <p:spPr>
          <a:xfrm>
            <a:off x="4500720" y="2535120"/>
            <a:ext cx="3617640" cy="2557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4994640" y="14810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тографическое пись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60240" y="61596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77920" y="155880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глядная аги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ки поделок из природ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диционные праздники: «Капустные посиделки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катерины Санн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187280" y="404640"/>
            <a:ext cx="68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93800" y="2193840"/>
          <a:ext cx="7810560" cy="3971880"/>
        </p:xfrm>
        <a:graphic>
          <a:graphicData uri="http://schemas.openxmlformats.org/drawingml/2006/table">
            <a:tbl>
              <a:tblPr/>
              <a:tblGrid>
                <a:gridCol w="2392200"/>
                <a:gridCol w="1474920"/>
                <a:gridCol w="1325520"/>
                <a:gridCol w="1400040"/>
                <a:gridCol w="1217880"/>
              </a:tblGrid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 урове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осв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ый мониторин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5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928880" y="642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285920" y="378612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адрес, и интернет -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</a:t>
            </a:r>
            <a:br>
              <a:rPr sz="24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 ориентир на этапе завершения 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  - активный, способный решать интеллектуальные задачи, способный управлять своим поведением, овладевший средствами общения и способами взаимодействия со взрослыми, склонен наблюдать, экспериментироват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468360" y="47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                                           на начальн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3" descr=""/>
          <p:cNvPicPr/>
          <p:nvPr/>
        </p:nvPicPr>
        <p:blipFill>
          <a:blip r:embed="rId1"/>
          <a:stretch/>
        </p:blipFill>
        <p:spPr>
          <a:xfrm>
            <a:off x="1511280" y="1835280"/>
            <a:ext cx="6121440" cy="427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-15840"/>
            <a:ext cx="82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ого интереса детей путем вовлечения их в экспериментальную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условия для развития познавательного              интерес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высить уровень развития любознательности в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вершенствовать умения определять, анализировать структуру, свойства, призна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заимодействия веществ, материалов,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16000" y="549360"/>
            <a:ext cx="66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аправления опытно- эксперимент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014720" y="1730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особенности сезонов, многообразие живых организмов, приспособление к окружающей сред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"/>
          <p:cNvSpPr/>
          <p:nvPr/>
        </p:nvSpPr>
        <p:spPr>
          <a:xfrm>
            <a:off x="631800" y="1628640"/>
            <a:ext cx="2521080" cy="145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029120" y="3648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, вода, почва, свет, цвет, тепло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701640" y="3417840"/>
            <a:ext cx="2521080" cy="1330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4014720" y="4645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е организма; рукотворный мир: материалы и их свойства, преобразование предметов и явлен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01640" y="5013360"/>
            <a:ext cx="2521080" cy="120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258920" y="476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Критерии при выборе темы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480960" y="1700280"/>
            <a:ext cx="5099040" cy="144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747720" y="170028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интересна ребенку, должна увлекать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528480" y="3284640"/>
            <a:ext cx="505152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выполнима, решение ее должно принести реальную пользу участникам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479520" y="5013360"/>
            <a:ext cx="5100480" cy="144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оригинальной, в ней необходим элемент неожиданности, необы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03280" y="620640"/>
            <a:ext cx="64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труктура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14360" y="1989000"/>
            <a:ext cx="8496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(что нужно сделать для решения пробле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(поиск возможных путей реш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гипотез( сбор данных, реализация в действи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вы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268360" y="768240"/>
            <a:ext cx="4572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визна, необычность объек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йна, сюрпр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вательный мотив (почему та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туация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068720" y="4762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786040" y="692280"/>
            <a:ext cx="24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68360" y="1413000"/>
            <a:ext cx="797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ние особой предметно- развивающей среды, обеспечивающей эмоционально-комфортные услов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нательности и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анной на осознанном включении детей в исследовательск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обеспечивает преемственные связи между дошкольным учреждением и начальными классами общеобразовательной 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Учительская</cp:lastModifiedBy>
  <dcterms:modified xsi:type="dcterms:W3CDTF">2017-02-08T06:12:37Z</dcterms:modified>
  <cp:revision>44</cp:revision>
  <dc:subject/>
  <dc:title>Слайд 1</dc:title>
</cp:coreProperties>
</file>