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48C9B-8171-45B2-A632-256003D55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8DE26-6123-4D0E-88D2-E0F16B3AE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BB7C7-BFAC-47C4-B59B-AB74BC853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4A295-FE96-43C2-887C-A112396A0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78ADE-22B0-4A61-AC60-FB4E9B203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FFD38-FCBB-417C-B137-648485F1E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0EAA8-B8D8-4BA9-9934-C1F5C1B3D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45753-1DAC-4C81-88E9-A5DBA641C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76969-8205-4CCD-979A-6B8147236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929FF-FB8A-402A-96D5-56C176728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EFCC4-334C-47A0-AF99-935860535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C7CEB-65AD-424D-872D-4D3FACED7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2E65B-DB2E-43B6-96DD-BB52034E3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07389-46E1-4F42-9CE7-6FA733960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AE076-0975-410C-BD78-E30150100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FC287-5645-4B7B-88E9-4382CEC4E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07EC2-59D7-4F0A-BEDF-90822BBAD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40F7A-7103-462E-99D4-6B8A2459F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27DC8-65B5-429D-941C-79D721622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41C41-6411-46CE-ABB9-C5C5D1782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0249C-DCFE-4E30-BB5D-80DFF72E5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CE2F5-E772-4749-B310-8B13CC6EC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0FD49-30D5-4F85-9747-5C052236D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1EDA9-310E-437E-96F8-AF7FBF782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7"/>
          <p:cNvGrpSpPr/>
          <p:nvPr/>
        </p:nvGrpSpPr>
        <p:grpSpPr>
          <a:xfrm>
            <a:off x="365040" y="328680"/>
            <a:ext cx="8413920" cy="1255680"/>
            <a:chOff x="365040" y="328680"/>
            <a:chExt cx="8413920" cy="1255680"/>
          </a:xfrm>
        </p:grpSpPr>
        <p:pic>
          <p:nvPicPr>
            <p:cNvPr id="1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365040" y="328680"/>
              <a:ext cx="8413920" cy="125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428760" y="357120"/>
              <a:ext cx="828648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6173C-A5FD-4CC9-9D83-CA1C18064A1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Прямоугольник 6"/>
          <p:cNvGrpSpPr/>
          <p:nvPr/>
        </p:nvGrpSpPr>
        <p:grpSpPr>
          <a:xfrm>
            <a:off x="-55440" y="-55440"/>
            <a:ext cx="9259920" cy="7046640"/>
            <a:chOff x="-55440" y="-55440"/>
            <a:chExt cx="9259920" cy="7046640"/>
          </a:xfrm>
        </p:grpSpPr>
        <p:pic>
          <p:nvPicPr>
            <p:cNvPr id="9" name="Прямоугольник 6" descr=""/>
            <p:cNvPicPr/>
            <p:nvPr/>
          </p:nvPicPr>
          <p:blipFill>
            <a:blip r:embed="rId4"/>
            <a:stretch/>
          </p:blipFill>
          <p:spPr>
            <a:xfrm>
              <a:off x="-55440" y="-55440"/>
              <a:ext cx="9259920" cy="704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214200" y="214200"/>
              <a:ext cx="8715600" cy="650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Прямоугольник 7"/>
          <p:cNvGrpSpPr/>
          <p:nvPr/>
        </p:nvGrpSpPr>
        <p:grpSpPr>
          <a:xfrm>
            <a:off x="365040" y="328680"/>
            <a:ext cx="8413920" cy="1255680"/>
            <a:chOff x="365040" y="328680"/>
            <a:chExt cx="8413920" cy="1255680"/>
          </a:xfrm>
        </p:grpSpPr>
        <p:pic>
          <p:nvPicPr>
            <p:cNvPr id="48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365040" y="328680"/>
              <a:ext cx="8413920" cy="125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428760" y="357120"/>
              <a:ext cx="828648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Прямоугольник 6"/>
          <p:cNvGrpSpPr/>
          <p:nvPr/>
        </p:nvGrpSpPr>
        <p:grpSpPr>
          <a:xfrm>
            <a:off x="-55440" y="-55440"/>
            <a:ext cx="9259920" cy="7046640"/>
            <a:chOff x="-55440" y="-55440"/>
            <a:chExt cx="9259920" cy="7046640"/>
          </a:xfrm>
        </p:grpSpPr>
        <p:pic>
          <p:nvPicPr>
            <p:cNvPr id="51" name="Прямоугольник 6" descr=""/>
            <p:cNvPicPr/>
            <p:nvPr/>
          </p:nvPicPr>
          <p:blipFill>
            <a:blip r:embed="rId4"/>
            <a:stretch/>
          </p:blipFill>
          <p:spPr>
            <a:xfrm>
              <a:off x="-55440" y="-55440"/>
              <a:ext cx="9259920" cy="704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214200" y="214200"/>
              <a:ext cx="8715600" cy="650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3" name="Рисунок 8" descr="wallpaper_19.jpg"/>
          <p:cNvPicPr/>
          <p:nvPr/>
        </p:nvPicPr>
        <p:blipFill>
          <a:blip r:embed="rId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4" name="Скругленная прямоугольная выноска 9"/>
          <p:cNvGrpSpPr/>
          <p:nvPr/>
        </p:nvGrpSpPr>
        <p:grpSpPr>
          <a:xfrm>
            <a:off x="1158840" y="3902040"/>
            <a:ext cx="5424480" cy="1962360"/>
            <a:chOff x="1158840" y="3902040"/>
            <a:chExt cx="5424480" cy="1962360"/>
          </a:xfrm>
        </p:grpSpPr>
        <p:pic>
          <p:nvPicPr>
            <p:cNvPr id="55" name="Скругленная прямоугольная выноска 9" descr=""/>
            <p:cNvPicPr/>
            <p:nvPr/>
          </p:nvPicPr>
          <p:blipFill>
            <a:blip r:embed="rId6"/>
            <a:stretch/>
          </p:blipFill>
          <p:spPr>
            <a:xfrm>
              <a:off x="1158840" y="3902040"/>
              <a:ext cx="5424480" cy="196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1305000" y="4019400"/>
              <a:ext cx="46767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Выноска-облако 10"/>
          <p:cNvGrpSpPr/>
          <p:nvPr/>
        </p:nvGrpSpPr>
        <p:grpSpPr>
          <a:xfrm>
            <a:off x="804960" y="749160"/>
            <a:ext cx="7461000" cy="3048120"/>
            <a:chOff x="804960" y="749160"/>
            <a:chExt cx="7461000" cy="3048120"/>
          </a:xfrm>
        </p:grpSpPr>
        <p:pic>
          <p:nvPicPr>
            <p:cNvPr id="58" name="Выноска-облако 10" descr=""/>
            <p:cNvPicPr/>
            <p:nvPr/>
          </p:nvPicPr>
          <p:blipFill>
            <a:blip r:embed="rId7"/>
            <a:stretch/>
          </p:blipFill>
          <p:spPr>
            <a:xfrm>
              <a:off x="804960" y="749160"/>
              <a:ext cx="7461000" cy="304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1922400" y="1212840"/>
              <a:ext cx="4713480" cy="153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Прямоугольник 11"/>
          <p:cNvSpPr/>
          <p:nvPr/>
        </p:nvSpPr>
        <p:spPr>
          <a:xfrm>
            <a:off x="71280" y="71280"/>
            <a:ext cx="9001440" cy="6715440"/>
          </a:xfrm>
          <a:prstGeom prst="rect">
            <a:avLst/>
          </a:prstGeom>
          <a:noFill/>
          <a:ln w="57240">
            <a:solidFill>
              <a:srgbClr val="00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B5000-3C9D-425E-A98E-84D4CF2CA7A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571680" y="356760"/>
            <a:ext cx="8007120" cy="34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Опытно- экспериментальная деятельность  как средство   развития познавательного интереса у детей старшего  дошкольного возраста»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cc00"/>
                </a:solidFill>
                <a:latin typeface="Times New Roman"/>
                <a:ea typeface="Times New Roman"/>
              </a:rPr>
              <a:t>                                         </a:t>
            </a:r>
            <a:r>
              <a:rPr b="1" lang="ru-RU" sz="3200" spc="-1" strike="noStrike">
                <a:solidFill>
                  <a:srgbClr val="00cc00"/>
                </a:solidFill>
                <a:latin typeface="Arno Pro"/>
              </a:rPr>
              <a:t> </a:t>
            </a:r>
            <a:r>
              <a:rPr b="1" lang="ru-RU" sz="2800" spc="-1" strike="noStrike">
                <a:solidFill>
                  <a:srgbClr val="00cc00"/>
                </a:solidFill>
                <a:latin typeface="Arno Pro"/>
              </a:rPr>
              <a:t>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no Pro"/>
              </a:rPr>
              <a:t>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тель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пихина Татьяна Николаевн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БОУ СОШ с. Бисерово Афанасьевского район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5" descr="C:\Users\нина\Desktop\IMG_4909.JPG"/>
          <p:cNvPicPr/>
          <p:nvPr/>
        </p:nvPicPr>
        <p:blipFill>
          <a:blip r:embed="rId1"/>
          <a:stretch/>
        </p:blipFill>
        <p:spPr>
          <a:xfrm>
            <a:off x="642960" y="3786120"/>
            <a:ext cx="3744720" cy="266400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оугольник 1"/>
          <p:cNvSpPr/>
          <p:nvPr/>
        </p:nvSpPr>
        <p:spPr>
          <a:xfrm>
            <a:off x="1332000" y="404640"/>
            <a:ext cx="685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следовательская деятельность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о методике А. И. Савенков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2" descr="E:\фото эксперимент\Изображение 004.jpg"/>
          <p:cNvPicPr/>
          <p:nvPr/>
        </p:nvPicPr>
        <p:blipFill>
          <a:blip r:embed="rId1"/>
          <a:stretch/>
        </p:blipFill>
        <p:spPr>
          <a:xfrm>
            <a:off x="684360" y="1628640"/>
            <a:ext cx="2950920" cy="49086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3" descr="E:\фото эксперимент\Изображение 003.jpg"/>
          <p:cNvPicPr/>
          <p:nvPr/>
        </p:nvPicPr>
        <p:blipFill>
          <a:blip r:embed="rId2"/>
          <a:srcRect l="-735" t="-12148" r="745" b="45944"/>
          <a:stretch/>
        </p:blipFill>
        <p:spPr>
          <a:xfrm>
            <a:off x="4500720" y="2535120"/>
            <a:ext cx="3617640" cy="2557440"/>
          </a:xfrm>
          <a:prstGeom prst="rect">
            <a:avLst/>
          </a:prstGeom>
          <a:ln w="0">
            <a:noFill/>
          </a:ln>
        </p:spPr>
      </p:pic>
      <p:sp>
        <p:nvSpPr>
          <p:cNvPr id="130" name="TextBox 2"/>
          <p:cNvSpPr/>
          <p:nvPr/>
        </p:nvSpPr>
        <p:spPr>
          <a:xfrm>
            <a:off x="4994640" y="1481040"/>
            <a:ext cx="278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ктографическое письм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Box 1"/>
          <p:cNvSpPr/>
          <p:nvPr/>
        </p:nvSpPr>
        <p:spPr>
          <a:xfrm>
            <a:off x="1560240" y="615960"/>
            <a:ext cx="577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аимодействие с родителя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2"/>
          <p:cNvSpPr/>
          <p:nvPr/>
        </p:nvSpPr>
        <p:spPr>
          <a:xfrm>
            <a:off x="277920" y="1558800"/>
            <a:ext cx="61927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дивидуальные бесе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Консульт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одительские собр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аглядная агита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ыставки поделок из природного материа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Традиционные праздники: «Капустные посиделки»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Екатерины Санницы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1"/>
          <p:cNvSpPr/>
          <p:nvPr/>
        </p:nvSpPr>
        <p:spPr>
          <a:xfrm>
            <a:off x="1187280" y="404640"/>
            <a:ext cx="684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ультатив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793800" y="2193840"/>
          <a:ext cx="7810560" cy="3971880"/>
        </p:xfrm>
        <a:graphic>
          <a:graphicData uri="http://schemas.openxmlformats.org/drawingml/2006/table">
            <a:tbl>
              <a:tblPr/>
              <a:tblGrid>
                <a:gridCol w="2392200"/>
                <a:gridCol w="1474920"/>
                <a:gridCol w="1325520"/>
                <a:gridCol w="1400040"/>
                <a:gridCol w="1217880"/>
              </a:tblGrid>
              <a:tr h="7509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ро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ысокий урове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редний уровен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изкий уровен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ачество осво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074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воначальный мониторин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нтябрь 2013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73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межуточный мониторинг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й 2014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073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оговый мониторин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й 2015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p:transition spd="slow">
    <p:blinds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Box 1"/>
          <p:cNvSpPr/>
          <p:nvPr/>
        </p:nvSpPr>
        <p:spPr>
          <a:xfrm>
            <a:off x="1928880" y="64296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ерспектив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1"/>
          <p:cNvSpPr/>
          <p:nvPr/>
        </p:nvSpPr>
        <p:spPr>
          <a:xfrm>
            <a:off x="1285920" y="3786120"/>
            <a:ext cx="70009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ой адрес, и интернет -ресур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120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ДЕРАЛЬНЫЙ ГОСУДАРСТВЕННЫЙ ОБРАЗОВАТЕЛЬНЫЙ СТАНДАРТ ДОШКОЛЬНОГО ОБРАЗОВАНИЯ</a:t>
            </a:r>
            <a:br>
              <a:rPr sz="2400"/>
            </a:br>
            <a:br>
              <a:rPr sz="3200"/>
            </a:b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2400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евой  ориентир на этапе завершения  дошкольного образова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юбознательно  - активный, способный решать интеллектуальные задачи, способный управлять своим поведением, овладевший средствами общения и способами взаимодействия со взрослыми, склонен наблюдать, экспериментировать…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2"/>
          <p:cNvSpPr/>
          <p:nvPr/>
        </p:nvSpPr>
        <p:spPr>
          <a:xfrm>
            <a:off x="468360" y="476280"/>
            <a:ext cx="828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ультаты диагностики                                           на начальном этап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Схема 3" descr=""/>
          <p:cNvPicPr/>
          <p:nvPr/>
        </p:nvPicPr>
        <p:blipFill>
          <a:blip r:embed="rId1"/>
          <a:stretch/>
        </p:blipFill>
        <p:spPr>
          <a:xfrm>
            <a:off x="1511280" y="1835280"/>
            <a:ext cx="6121440" cy="427356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Прямоугольник 1"/>
          <p:cNvSpPr/>
          <p:nvPr/>
        </p:nvSpPr>
        <p:spPr>
          <a:xfrm>
            <a:off x="500040" y="-15840"/>
            <a:ext cx="821520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познавательного интереса детей путем вовлечения их в экспериментальную деятельност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Создать условия для развития познавательного              интереса дет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Повысить уровень развития любознательности в исследовательской деятель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Совершенствовать умения определять, анализировать структуру, свойства, признаки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енности взаимодействия веществ, материалов, предме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Прямоугольник 1"/>
          <p:cNvSpPr/>
          <p:nvPr/>
        </p:nvSpPr>
        <p:spPr>
          <a:xfrm>
            <a:off x="1116000" y="549360"/>
            <a:ext cx="667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Направления опытно- экспериментальной деятель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2"/>
          <p:cNvSpPr/>
          <p:nvPr/>
        </p:nvSpPr>
        <p:spPr>
          <a:xfrm>
            <a:off x="4014720" y="1730520"/>
            <a:ext cx="45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арактерные особенности сезонов, многообразие живых организмов, приспособление к окружающей среде и д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Овал 3"/>
          <p:cNvSpPr/>
          <p:nvPr/>
        </p:nvSpPr>
        <p:spPr>
          <a:xfrm>
            <a:off x="631800" y="1628640"/>
            <a:ext cx="2521080" cy="14544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Живая прир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рямоугольник 6"/>
          <p:cNvSpPr/>
          <p:nvPr/>
        </p:nvSpPr>
        <p:spPr>
          <a:xfrm>
            <a:off x="4029120" y="364824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дух, вода, почва, свет, цвет, теплота и д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Овал 7"/>
          <p:cNvSpPr/>
          <p:nvPr/>
        </p:nvSpPr>
        <p:spPr>
          <a:xfrm>
            <a:off x="701640" y="3417840"/>
            <a:ext cx="2521080" cy="13302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живая прир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9"/>
          <p:cNvSpPr/>
          <p:nvPr/>
        </p:nvSpPr>
        <p:spPr>
          <a:xfrm>
            <a:off x="4014720" y="4645080"/>
            <a:ext cx="45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ункционирование организма; рукотворный мир: материалы и их свойства, преобразование предметов и явлений и д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Овал 10"/>
          <p:cNvSpPr/>
          <p:nvPr/>
        </p:nvSpPr>
        <p:spPr>
          <a:xfrm>
            <a:off x="701640" y="5013360"/>
            <a:ext cx="2521080" cy="12016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елове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Прямоугольник 1"/>
          <p:cNvSpPr/>
          <p:nvPr/>
        </p:nvSpPr>
        <p:spPr>
          <a:xfrm>
            <a:off x="1258920" y="476280"/>
            <a:ext cx="667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Критерии при выборе темы экспериментир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Скругленный прямоугольник 3"/>
          <p:cNvSpPr/>
          <p:nvPr/>
        </p:nvSpPr>
        <p:spPr>
          <a:xfrm>
            <a:off x="480960" y="1700280"/>
            <a:ext cx="5099040" cy="14414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4"/>
          <p:cNvSpPr/>
          <p:nvPr/>
        </p:nvSpPr>
        <p:spPr>
          <a:xfrm>
            <a:off x="747720" y="1700280"/>
            <a:ext cx="3860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а должна быть интересна ребенку, должна увлекать е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Скругленный прямоугольник 6"/>
          <p:cNvSpPr/>
          <p:nvPr/>
        </p:nvSpPr>
        <p:spPr>
          <a:xfrm>
            <a:off x="528480" y="3284640"/>
            <a:ext cx="5051520" cy="1584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а должна быть выполнима, решение ее должно принести реальную пользу участникам исслед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Скругленный прямоугольник 7"/>
          <p:cNvSpPr/>
          <p:nvPr/>
        </p:nvSpPr>
        <p:spPr>
          <a:xfrm>
            <a:off x="479520" y="5013360"/>
            <a:ext cx="5100480" cy="1440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а должна быть оригинальной, в ней необходим элемент неожиданности, необыч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Прямоугольник 1"/>
          <p:cNvSpPr/>
          <p:nvPr/>
        </p:nvSpPr>
        <p:spPr>
          <a:xfrm>
            <a:off x="1403280" y="620640"/>
            <a:ext cx="646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Структура экспериментир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Прямоугольник 3"/>
          <p:cNvSpPr/>
          <p:nvPr/>
        </p:nvSpPr>
        <p:spPr>
          <a:xfrm>
            <a:off x="414360" y="1989000"/>
            <a:ext cx="8496360" cy="46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ановка пробле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еполагание (что нужно сделать для решения проблемы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движение гипотезы(поиск возможных путей решения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рка гипотез( сбор данных, реализация в действиях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из результа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улировка вывод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Прямоугольник 1"/>
          <p:cNvSpPr/>
          <p:nvPr/>
        </p:nvSpPr>
        <p:spPr>
          <a:xfrm>
            <a:off x="2268360" y="768240"/>
            <a:ext cx="4572000" cy="44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еш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новизна, необычность объекта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тайна, сюрприз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мотив помощ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ознавательный мотив (почему так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итуация выбо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Прямоугольник 2"/>
          <p:cNvSpPr/>
          <p:nvPr/>
        </p:nvSpPr>
        <p:spPr>
          <a:xfrm>
            <a:off x="4068720" y="476280"/>
            <a:ext cx="193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имул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Прямоугольник 1"/>
          <p:cNvSpPr/>
          <p:nvPr/>
        </p:nvSpPr>
        <p:spPr>
          <a:xfrm>
            <a:off x="2786040" y="692280"/>
            <a:ext cx="2478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цип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Прямоугольник 2"/>
          <p:cNvSpPr/>
          <p:nvPr/>
        </p:nvSpPr>
        <p:spPr>
          <a:xfrm>
            <a:off x="468360" y="1413000"/>
            <a:ext cx="79740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цип психологической комфортност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создание особой предметно- развивающей среды, обеспечивающей эмоционально-комфортные условия образовательного процес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цип сознательности и активност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основанной на осознанном включении детей в исследовательскую деятель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цип непрерывности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обеспечивает преемственные связи между дошкольным учреждением и начальными классами общеобразовательной школ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9T17:45:17Z</dcterms:created>
  <dc:creator>Corowina</dc:creator>
  <dc:description/>
  <dc:language>en-US</dc:language>
  <cp:lastModifiedBy>Учительская</cp:lastModifiedBy>
  <dcterms:modified xsi:type="dcterms:W3CDTF">2017-02-08T06:12:37Z</dcterms:modified>
  <cp:revision>44</cp:revision>
  <dc:subject/>
  <dc:title>Слайд 1</dc:title>
</cp:coreProperties>
</file>