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6E2-763D-4380-9B3D-6C5AEC61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CAF-78DA-45EC-BE29-8897564B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077-DBBD-4353-B853-BEAFDEB6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56E-23EA-4319-81A1-43EE0D23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23A-F9E8-4E56-B071-168C9515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5AB-FB74-4D2A-9408-DF9DFFE8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641-0AF0-4335-9550-E62E962D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AF2-3A67-4F40-B025-8EDE4317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2B5-68D2-4A55-9A44-E74149FF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C43-3A54-4437-B22D-CB847E9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032-45DE-4BE0-AA6E-E618F32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2DE-4A59-47F4-BD92-67094826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8BE0-9A3C-49FA-8150-9E36DFA61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58760" y="158760"/>
            <a:ext cx="8747280" cy="6534000"/>
            <a:chOff x="158760" y="158760"/>
            <a:chExt cx="8747280" cy="653400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58760" y="158760"/>
              <a:ext cx="8747280" cy="653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8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15" descr="0_ae3a1_368ba424_S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7572240" y="214200"/>
            <a:ext cx="1190880" cy="116856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6" descr="0_ae404_ee547a6e_S.png"/>
          <p:cNvPicPr/>
          <p:nvPr/>
        </p:nvPicPr>
        <p:blipFill>
          <a:blip r:embed="rId4"/>
          <a:stretch/>
        </p:blipFill>
        <p:spPr>
          <a:xfrm>
            <a:off x="500040" y="6215040"/>
            <a:ext cx="3897360" cy="6429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7" descr="0_ae404_ee547a6e_S.png"/>
          <p:cNvPicPr/>
          <p:nvPr/>
        </p:nvPicPr>
        <p:blipFill>
          <a:blip r:embed="rId5"/>
          <a:stretch/>
        </p:blipFill>
        <p:spPr>
          <a:xfrm>
            <a:off x="0" y="2960640"/>
            <a:ext cx="642960" cy="389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820872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Творческий проект</a:t>
            </a: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«Победный май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56000" y="4797000"/>
            <a:ext cx="446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амиева                                                               Альмира Миргасим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 высшей кв.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260280"/>
            <a:ext cx="73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ский сад компенсированного вида №8 «Зор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ода Набережные Челны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ые за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000" y="1484280"/>
            <a:ext cx="43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ни сражались за Родину!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здник Побед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9 Мая – День Побед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й дедушка – ветеран ВОВ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бедный май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Никто не забыт, ничто не забыто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ина – мать зовет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ликие битв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и войн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зыка войн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пол-Европы прошагали, пол-Земли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грады за подвиг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F:\2045585-1.jpg"/>
          <p:cNvPicPr/>
          <p:nvPr/>
        </p:nvPicPr>
        <p:blipFill>
          <a:blip r:embed="rId1"/>
          <a:stretch/>
        </p:blipFill>
        <p:spPr>
          <a:xfrm>
            <a:off x="5076720" y="1413000"/>
            <a:ext cx="1978200" cy="266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F:\Гульш\IMG_20160411_085952.jpg"/>
          <p:cNvPicPr/>
          <p:nvPr/>
        </p:nvPicPr>
        <p:blipFill>
          <a:blip r:embed="rId2"/>
          <a:stretch/>
        </p:blipFill>
        <p:spPr>
          <a:xfrm rot="427800">
            <a:off x="6659280" y="3335400"/>
            <a:ext cx="21254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F:\raskraski-dlya-malchikov-21.gif"/>
          <p:cNvPicPr/>
          <p:nvPr/>
        </p:nvPicPr>
        <p:blipFill>
          <a:blip r:embed="rId1"/>
          <a:stretch/>
        </p:blipFill>
        <p:spPr>
          <a:xfrm rot="653400">
            <a:off x="4626000" y="5090760"/>
            <a:ext cx="2354400" cy="1558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 занятиях и в повседневной жизни по художественному творче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«Салют на Красной площади» (гуашь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йна глазами детей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ой дедушка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краски для мальчиков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- открытка «Фронтовое письмо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 «Самолёт», «Кораблик для пап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енирная поделка «Голубь мира в День Победы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аппликация газета-плакат к празднику 9 м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стенгазеты «9 Мая – День Победы!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стенгазеты «Мой папа самый лучший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 «Война глазами дете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F:\27441328.jpg"/>
          <p:cNvPicPr/>
          <p:nvPr/>
        </p:nvPicPr>
        <p:blipFill>
          <a:blip r:embed="rId2"/>
          <a:stretch/>
        </p:blipFill>
        <p:spPr>
          <a:xfrm>
            <a:off x="6300720" y="14130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F:\i.jpg"/>
          <p:cNvPicPr/>
          <p:nvPr/>
        </p:nvPicPr>
        <p:blipFill>
          <a:blip r:embed="rId3"/>
          <a:stretch/>
        </p:blipFill>
        <p:spPr>
          <a:xfrm>
            <a:off x="2124000" y="4365720"/>
            <a:ext cx="2641680" cy="1757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F:\image.jpg"/>
          <p:cNvPicPr/>
          <p:nvPr/>
        </p:nvPicPr>
        <p:blipFill>
          <a:blip r:embed="rId4"/>
          <a:stretch/>
        </p:blipFill>
        <p:spPr>
          <a:xfrm>
            <a:off x="6443640" y="3573360"/>
            <a:ext cx="2571840" cy="182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F:\raskraski-dlya-malchikov-4.gif"/>
          <p:cNvPicPr/>
          <p:nvPr/>
        </p:nvPicPr>
        <p:blipFill>
          <a:blip r:embed="rId5"/>
          <a:stretch/>
        </p:blipFill>
        <p:spPr>
          <a:xfrm rot="21173400">
            <a:off x="87480" y="5157720"/>
            <a:ext cx="2403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85821728.jpg"/>
          <p:cNvPicPr/>
          <p:nvPr/>
        </p:nvPicPr>
        <p:blipFill>
          <a:blip r:embed="rId1"/>
          <a:stretch/>
        </p:blipFill>
        <p:spPr>
          <a:xfrm>
            <a:off x="6012000" y="907920"/>
            <a:ext cx="2016000" cy="1944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611280" y="1437120"/>
            <a:ext cx="532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нформации, материала о Великой Отечественной Войне (песни, стихи, плакаты, показ настоящих награ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родителей с детьми о родных участниках в ВОВ, если е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й поход родителей с детьми на парад 9 м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выставки посвященной «Дню Победы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конкурс « Мой пап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к Мемориалу «Вечный огонь» и др. достопримечательностям г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краеведческий муз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равление ветер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F:\Гульш\IMG_20160411_090055.jpg"/>
          <p:cNvPicPr/>
          <p:nvPr/>
        </p:nvPicPr>
        <p:blipFill>
          <a:blip r:embed="rId2"/>
          <a:stretch/>
        </p:blipFill>
        <p:spPr>
          <a:xfrm rot="391200">
            <a:off x="7384680" y="2431800"/>
            <a:ext cx="1617840" cy="259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:\Гульш\IMG_20160411_091021.jpg"/>
          <p:cNvPicPr/>
          <p:nvPr/>
        </p:nvPicPr>
        <p:blipFill>
          <a:blip r:embed="rId3"/>
          <a:stretch/>
        </p:blipFill>
        <p:spPr>
          <a:xfrm rot="21205800">
            <a:off x="5703480" y="4476240"/>
            <a:ext cx="186048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4920" y="105264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то не забыт – ничто не забыт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F:\svjaz-pokolej.jpeg"/>
          <p:cNvPicPr/>
          <p:nvPr/>
        </p:nvPicPr>
        <p:blipFill>
          <a:blip r:embed="rId1"/>
          <a:stretch/>
        </p:blipFill>
        <p:spPr>
          <a:xfrm rot="21169800">
            <a:off x="277560" y="200808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vov-pic4_zoom-1000x1000-74780.jpg"/>
          <p:cNvPicPr/>
          <p:nvPr/>
        </p:nvPicPr>
        <p:blipFill>
          <a:blip r:embed="rId2"/>
          <a:stretch/>
        </p:blipFill>
        <p:spPr>
          <a:xfrm rot="372600">
            <a:off x="4722480" y="1977840"/>
            <a:ext cx="3949560" cy="30096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2143440" y="5589720"/>
            <a:ext cx="46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 т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воспитание ребенка – это основа формирования будущего гражданина. Чтобы достигнуть определенного результата, необходимо использовать нетрадиционные методы воздействия на ребенка, на его эмоциональную и нравственную сферы. Причем такие методы, которые бы гармонично и естественно наполняли его мировоззрение нравственным содержанием, раскрывали бы новые, ранее неизвестные или непонятные ребёнку стороны окружающей действительности и являлись бы доступным для вос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чувство не возникает само по себе – его надо воспитывать в ребён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с каждым днем утрачивается связь поколений, очень мало осталось в живых фронтовиков, героев войны. Детям нужно рассказать о Великой отечественной войне, о защитниках родины - ветеранах, о том как протекала жизнь в военное время,  военном оружии, о форме одежды военных, о победе. Отсюда, возникает проблема: как помочь подрастающему поколению сформировать у них чувство долга, чувство уважения к славным защитникам нашей Родины, чувство гордости за свой великий народ, благодарности за то, что он подарил нам счастливую жиз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активного положительного отношения к славным защитникам нашей Род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любви к Род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духовного мира детей через обращение к героическому прошлому нашей ст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запас слов, обозначающих названия предметов, действий, признаков,  прослушивание песен, стихов о Род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ть желанием подражать воинам, быть такими же мужественными, смелыми, отважными, храбр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с литературными произведениями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хи, рассказы о войне, мире, побе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F:\00000011416b.jpg"/>
          <p:cNvPicPr/>
          <p:nvPr/>
        </p:nvPicPr>
        <p:blipFill>
          <a:blip r:embed="rId1"/>
          <a:stretch/>
        </p:blipFill>
        <p:spPr>
          <a:xfrm>
            <a:off x="6732720" y="1560600"/>
            <a:ext cx="2160360" cy="298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149387.jpg"/>
          <p:cNvPicPr/>
          <p:nvPr/>
        </p:nvPicPr>
        <p:blipFill>
          <a:blip r:embed="rId2"/>
          <a:stretch/>
        </p:blipFill>
        <p:spPr>
          <a:xfrm>
            <a:off x="250920" y="3860640"/>
            <a:ext cx="1944720" cy="286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alexeev-sturm.jpg"/>
          <p:cNvPicPr/>
          <p:nvPr/>
        </p:nvPicPr>
        <p:blipFill>
          <a:blip r:embed="rId3"/>
          <a:stretch/>
        </p:blipFill>
        <p:spPr>
          <a:xfrm>
            <a:off x="1042920" y="1628640"/>
            <a:ext cx="2014560" cy="267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F:\VbVO_Alekseev_Berlin-620x967.jpg"/>
          <p:cNvPicPr/>
          <p:nvPr/>
        </p:nvPicPr>
        <p:blipFill>
          <a:blip r:embed="rId4"/>
          <a:stretch/>
        </p:blipFill>
        <p:spPr>
          <a:xfrm>
            <a:off x="5724360" y="3789360"/>
            <a:ext cx="1872000" cy="2919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F:\1650-329x500.jpg"/>
          <p:cNvPicPr/>
          <p:nvPr/>
        </p:nvPicPr>
        <p:blipFill>
          <a:blip r:embed="rId5"/>
          <a:stretch/>
        </p:blipFill>
        <p:spPr>
          <a:xfrm>
            <a:off x="4140360" y="1484280"/>
            <a:ext cx="1871640" cy="284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F:\vezhlivie_ludi_o_geroizme.jpg"/>
          <p:cNvPicPr/>
          <p:nvPr/>
        </p:nvPicPr>
        <p:blipFill>
          <a:blip r:embed="rId6"/>
          <a:stretch/>
        </p:blipFill>
        <p:spPr>
          <a:xfrm>
            <a:off x="2556000" y="3860640"/>
            <a:ext cx="23716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шание музыкальных произ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ая песня композитора Давида Тухманова и поэта Владимира Харитонова «День Побед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муглянка» / А.Нови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тюша» /М.Блантер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ященная война» /А.Александр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рш защитников Москвы» /А.Сур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F:\56a481bc28ab4.jpg"/>
          <p:cNvPicPr/>
          <p:nvPr/>
        </p:nvPicPr>
        <p:blipFill>
          <a:blip r:embed="rId1"/>
          <a:stretch/>
        </p:blipFill>
        <p:spPr>
          <a:xfrm rot="271800">
            <a:off x="5414760" y="2184480"/>
            <a:ext cx="3238200" cy="3238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F:\minus_pesni_voennih_let.jpg"/>
          <p:cNvPicPr/>
          <p:nvPr/>
        </p:nvPicPr>
        <p:blipFill>
          <a:blip r:embed="rId2"/>
          <a:stretch/>
        </p:blipFill>
        <p:spPr>
          <a:xfrm rot="21231600">
            <a:off x="2991960" y="3581280"/>
            <a:ext cx="3024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F:\83751154.jpg"/>
          <p:cNvPicPr/>
          <p:nvPr/>
        </p:nvPicPr>
        <p:blipFill>
          <a:blip r:embed="rId1"/>
          <a:stretch/>
        </p:blipFill>
        <p:spPr>
          <a:xfrm rot="21372600">
            <a:off x="899640" y="4483080"/>
            <a:ext cx="3035520" cy="227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:\mXVPmXer_VY.jpg"/>
          <p:cNvPicPr/>
          <p:nvPr/>
        </p:nvPicPr>
        <p:blipFill>
          <a:blip r:embed="rId2"/>
          <a:stretch/>
        </p:blipFill>
        <p:spPr>
          <a:xfrm rot="157200">
            <a:off x="5130360" y="4191120"/>
            <a:ext cx="1873440" cy="2463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атривание плакатов военных лет, фотографий, иллюстраций, през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F:\slide_1.jpg"/>
          <p:cNvPicPr/>
          <p:nvPr/>
        </p:nvPicPr>
        <p:blipFill>
          <a:blip r:embed="rId3"/>
          <a:stretch/>
        </p:blipFill>
        <p:spPr>
          <a:xfrm>
            <a:off x="3276720" y="1413000"/>
            <a:ext cx="2303280" cy="298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4(66).jpg"/>
          <p:cNvPicPr/>
          <p:nvPr/>
        </p:nvPicPr>
        <p:blipFill>
          <a:blip r:embed="rId4"/>
          <a:stretch/>
        </p:blipFill>
        <p:spPr>
          <a:xfrm rot="21163200">
            <a:off x="495000" y="1458720"/>
            <a:ext cx="2036880" cy="28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F:\Victory_19_507f5ee6b7a49.jpg"/>
          <p:cNvPicPr/>
          <p:nvPr/>
        </p:nvPicPr>
        <p:blipFill>
          <a:blip r:embed="rId5"/>
          <a:stretch/>
        </p:blipFill>
        <p:spPr>
          <a:xfrm rot="364800">
            <a:off x="6516360" y="1460520"/>
            <a:ext cx="19429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 мультфильмов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вященных детям вой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споминание» /В. Данилов, 1986 го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датская лампа» /Е. Агранович, 1984 го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датская сказка» /А.  Грачева, по сказке К.Паустовского, 1983го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лют» /И. Гурвич, 1975 г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F:\vospominanie-large-1.jpg"/>
          <p:cNvPicPr/>
          <p:nvPr/>
        </p:nvPicPr>
        <p:blipFill>
          <a:blip r:embed="rId1"/>
          <a:stretch/>
        </p:blipFill>
        <p:spPr>
          <a:xfrm rot="273600">
            <a:off x="5570280" y="2776320"/>
            <a:ext cx="3403440" cy="2241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:\518101324.jpg"/>
          <p:cNvPicPr/>
          <p:nvPr/>
        </p:nvPicPr>
        <p:blipFill>
          <a:blip r:embed="rId2"/>
          <a:stretch/>
        </p:blipFill>
        <p:spPr>
          <a:xfrm rot="21340200">
            <a:off x="79200" y="2908440"/>
            <a:ext cx="3462480" cy="2241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:\ce0c351fb59736c69368a223a6d7e388.jpg"/>
          <p:cNvPicPr/>
          <p:nvPr/>
        </p:nvPicPr>
        <p:blipFill>
          <a:blip r:embed="rId3"/>
          <a:stretch/>
        </p:blipFill>
        <p:spPr>
          <a:xfrm>
            <a:off x="2411280" y="4365720"/>
            <a:ext cx="37594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дидактических иг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гадай и назови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знай и назови боевую технику ВОВ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считай и отсчитай медали в пределах пяти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называется военный…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знай и назови  боевую технику ВОВ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лишнее» ( карточки с рисунками военной тематики, выстроенные в логические ряды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дин — много» (Образец: Танкист — танкисты — танкистов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читай» (Образец: Один солдат — два солдата — ….пять солдат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й праздник?» (Образец: Старший брат служит сейчас в армии, в десантных войсках. Он (кто?) ...(десантник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й, моя, мое, мои» (Речевой материал: пистолет, форма, самолеты, оружие, фуражка и т.д.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му что нужно?» ( Закончить фразу «Пограничнику нужна ... (собака)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 сюжетно – ролевых и подвижных иг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олёты и пилот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нкисты»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нять якорь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граничники и нарушители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оевые команды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риентировка на мест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боевом посту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– военные разведчики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едсанчасть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/и «Самолёт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/и «Барабанщики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/и «Разведчи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/и «Перебеж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si852261.jpg"/>
          <p:cNvPicPr/>
          <p:nvPr/>
        </p:nvPicPr>
        <p:blipFill>
          <a:blip r:embed="rId1"/>
          <a:stretch/>
        </p:blipFill>
        <p:spPr>
          <a:xfrm rot="490200">
            <a:off x="5705280" y="1591920"/>
            <a:ext cx="266040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F:\100_2897.jpg"/>
          <p:cNvPicPr/>
          <p:nvPr/>
        </p:nvPicPr>
        <p:blipFill>
          <a:blip r:embed="rId2"/>
          <a:stretch/>
        </p:blipFill>
        <p:spPr>
          <a:xfrm rot="582600">
            <a:off x="6473880" y="4084200"/>
            <a:ext cx="1985760" cy="2233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:\e8db8f108d77e1cc6986daeedfc9bbab.jpg.jpg"/>
          <p:cNvPicPr/>
          <p:nvPr/>
        </p:nvPicPr>
        <p:blipFill>
          <a:blip r:embed="rId3"/>
          <a:stretch/>
        </p:blipFill>
        <p:spPr>
          <a:xfrm rot="20934000">
            <a:off x="4123800" y="3244680"/>
            <a:ext cx="1874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3:26:04Z</dcterms:created>
  <dc:creator>Lenovo</dc:creator>
  <dc:description/>
  <dc:language>en-US</dc:language>
  <cp:lastModifiedBy>Пользователь Windows</cp:lastModifiedBy>
  <dcterms:modified xsi:type="dcterms:W3CDTF">2017-02-08T15:17:16Z</dcterms:modified>
  <cp:revision>36</cp:revision>
  <dc:subject/>
  <dc:title>Слайд 1</dc:title>
</cp:coreProperties>
</file>