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30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054F-B538-4133-B13A-F201A4EE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214C-715C-4413-85E1-C472E599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868-D113-4237-B24F-725B21CE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81A-D29C-48EF-B96A-45641BAF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167-A1BC-4EE3-9963-3798E268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D02-CCAC-415E-A83A-277FF98B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5E2-2D7D-48A5-95EF-29C1EA83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C5F-95AC-492B-9A0E-68AA61AF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458-438A-4E63-BDAF-7CFB44C7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6DFA-01D1-4E26-92EA-752E3DA5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2EE-8A1C-4C54-8318-EBDE3823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B2E-2CCC-4F08-AEA4-9D837B5E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71E8-9282-4EA8-A746-16AA578A2F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Скругленный прямоугольник 6"/>
          <p:cNvGrpSpPr/>
          <p:nvPr/>
        </p:nvGrpSpPr>
        <p:grpSpPr>
          <a:xfrm>
            <a:off x="158760" y="158760"/>
            <a:ext cx="8747280" cy="6534000"/>
            <a:chOff x="158760" y="158760"/>
            <a:chExt cx="8747280" cy="6534000"/>
          </a:xfrm>
        </p:grpSpPr>
        <p:pic>
          <p:nvPicPr>
            <p:cNvPr id="6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58760" y="158760"/>
              <a:ext cx="8747280" cy="653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Text Box 8"/>
            <p:cNvSpPr/>
            <p:nvPr/>
          </p:nvSpPr>
          <p:spPr>
            <a:xfrm>
              <a:off x="528480" y="528480"/>
              <a:ext cx="8015400" cy="58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Рисунок 15" descr="0_ae3a1_368ba424_S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7572240" y="214200"/>
            <a:ext cx="1190880" cy="116856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6" descr="0_ae404_ee547a6e_S.png"/>
          <p:cNvPicPr/>
          <p:nvPr/>
        </p:nvPicPr>
        <p:blipFill>
          <a:blip r:embed="rId4"/>
          <a:stretch/>
        </p:blipFill>
        <p:spPr>
          <a:xfrm>
            <a:off x="500040" y="6215040"/>
            <a:ext cx="3897360" cy="64296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7" descr="0_ae404_ee547a6e_S.png"/>
          <p:cNvPicPr/>
          <p:nvPr/>
        </p:nvPicPr>
        <p:blipFill>
          <a:blip r:embed="rId5"/>
          <a:stretch/>
        </p:blipFill>
        <p:spPr>
          <a:xfrm>
            <a:off x="0" y="2960640"/>
            <a:ext cx="642960" cy="389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820872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Творческий проект</a:t>
            </a:r>
            <a:br>
              <a:rPr sz="8000"/>
            </a:b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«Победный май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56000" y="4797000"/>
            <a:ext cx="446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амиева                                                               Альмира Миргасимовн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  высшей кв. катего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260280"/>
            <a:ext cx="73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етский сад компенсированного вида №8 «Зорен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рода Набережные Челны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вательные зан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4000" y="1484280"/>
            <a:ext cx="433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ни сражались за Родину!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здник Победы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9 Мая – День Победы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й дедушка – ветеран ВОВ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бедный май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Никто не забыт, ничто не забыто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дина – мать зовет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ликие битв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и войн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узыка войн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пол-Европы прошагали, пол-Земли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грады за подвиг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F:\2045585-1.jpg"/>
          <p:cNvPicPr/>
          <p:nvPr/>
        </p:nvPicPr>
        <p:blipFill>
          <a:blip r:embed="rId1"/>
          <a:stretch/>
        </p:blipFill>
        <p:spPr>
          <a:xfrm>
            <a:off x="5076720" y="1413000"/>
            <a:ext cx="1978200" cy="266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F:\Гульш\IMG_20160411_085952.jpg"/>
          <p:cNvPicPr/>
          <p:nvPr/>
        </p:nvPicPr>
        <p:blipFill>
          <a:blip r:embed="rId2"/>
          <a:stretch/>
        </p:blipFill>
        <p:spPr>
          <a:xfrm rot="427800">
            <a:off x="6659280" y="3335400"/>
            <a:ext cx="212544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F:\raskraski-dlya-malchikov-21.gif"/>
          <p:cNvPicPr/>
          <p:nvPr/>
        </p:nvPicPr>
        <p:blipFill>
          <a:blip r:embed="rId1"/>
          <a:stretch/>
        </p:blipFill>
        <p:spPr>
          <a:xfrm rot="653400">
            <a:off x="4626000" y="5090760"/>
            <a:ext cx="2354400" cy="1558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 занятиях и в повседневной жизни по художественному творчест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«Салют на Красной площади» (гуашь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йна глазами детей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Мой дедушка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краски для мальчиков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ликация - открытка «Фронтовое письмо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ами «Самолёт», «Кораблик для папы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енирная поделка «Голубь мира в День Победы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ая аппликация газета-плакат к празднику 9 ма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стенгазеты «9 Мая – День Победы!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стенгазеты «Мой папа самый лучший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рисунков «Война глазами детей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F:\27441328.jpg"/>
          <p:cNvPicPr/>
          <p:nvPr/>
        </p:nvPicPr>
        <p:blipFill>
          <a:blip r:embed="rId2"/>
          <a:stretch/>
        </p:blipFill>
        <p:spPr>
          <a:xfrm>
            <a:off x="6300720" y="1413000"/>
            <a:ext cx="2424240" cy="181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F:\i.jpg"/>
          <p:cNvPicPr/>
          <p:nvPr/>
        </p:nvPicPr>
        <p:blipFill>
          <a:blip r:embed="rId3"/>
          <a:stretch/>
        </p:blipFill>
        <p:spPr>
          <a:xfrm>
            <a:off x="2124000" y="4365720"/>
            <a:ext cx="2641680" cy="1757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F:\image.jpg"/>
          <p:cNvPicPr/>
          <p:nvPr/>
        </p:nvPicPr>
        <p:blipFill>
          <a:blip r:embed="rId4"/>
          <a:stretch/>
        </p:blipFill>
        <p:spPr>
          <a:xfrm>
            <a:off x="6443640" y="3573360"/>
            <a:ext cx="2571840" cy="1820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F:\raskraski-dlya-malchikov-4.gif"/>
          <p:cNvPicPr/>
          <p:nvPr/>
        </p:nvPicPr>
        <p:blipFill>
          <a:blip r:embed="rId5"/>
          <a:stretch/>
        </p:blipFill>
        <p:spPr>
          <a:xfrm rot="21173400">
            <a:off x="87480" y="5157720"/>
            <a:ext cx="24033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ль р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F:\85821728.jpg"/>
          <p:cNvPicPr/>
          <p:nvPr/>
        </p:nvPicPr>
        <p:blipFill>
          <a:blip r:embed="rId1"/>
          <a:stretch/>
        </p:blipFill>
        <p:spPr>
          <a:xfrm>
            <a:off x="6012000" y="907920"/>
            <a:ext cx="2016000" cy="1944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611280" y="1437120"/>
            <a:ext cx="532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нформации, материала о Великой Отечественной Войне (песни, стихи, плакаты, показ настоящих наград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 родителей с детьми о родных участниках в ВОВ, если е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ый поход родителей с детьми на парад 9 м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выставки посвященной «Дню Победы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конкурс « Мой пап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к Мемориалу «Вечный огонь» и др. достопримечательностям гор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в краеведческий муз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равление ветер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F:\Гульш\IMG_20160411_090055.jpg"/>
          <p:cNvPicPr/>
          <p:nvPr/>
        </p:nvPicPr>
        <p:blipFill>
          <a:blip r:embed="rId2"/>
          <a:stretch/>
        </p:blipFill>
        <p:spPr>
          <a:xfrm rot="391200">
            <a:off x="7384680" y="2431800"/>
            <a:ext cx="1617840" cy="2590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F:\Гульш\IMG_20160411_091021.jpg"/>
          <p:cNvPicPr/>
          <p:nvPr/>
        </p:nvPicPr>
        <p:blipFill>
          <a:blip r:embed="rId3"/>
          <a:stretch/>
        </p:blipFill>
        <p:spPr>
          <a:xfrm rot="21205800">
            <a:off x="5703480" y="4476240"/>
            <a:ext cx="1860480" cy="22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4920" y="105264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то не забыт – ничто не забыт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" descr="F:\svjaz-pokolej.jpeg"/>
          <p:cNvPicPr/>
          <p:nvPr/>
        </p:nvPicPr>
        <p:blipFill>
          <a:blip r:embed="rId1"/>
          <a:stretch/>
        </p:blipFill>
        <p:spPr>
          <a:xfrm rot="21169800">
            <a:off x="277560" y="2008080"/>
            <a:ext cx="3959280" cy="297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F:\vov-pic4_zoom-1000x1000-74780.jpg"/>
          <p:cNvPicPr/>
          <p:nvPr/>
        </p:nvPicPr>
        <p:blipFill>
          <a:blip r:embed="rId2"/>
          <a:stretch/>
        </p:blipFill>
        <p:spPr>
          <a:xfrm rot="372600">
            <a:off x="4722480" y="1977840"/>
            <a:ext cx="3949560" cy="30096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2143440" y="5589720"/>
            <a:ext cx="46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уальность тем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отическое воспитание ребенка – это основа формирования будущего гражданина. Чтобы достигнуть определенного результата, необходимо использовать нетрадиционные методы воздействия на ребенка, на его эмоциональную и нравственную сферы. Причем такие методы, которые бы гармонично и естественно наполняли его мировоззрение нравственным содержанием, раскрывали бы новые, ранее неизвестные или непонятные ребёнку стороны окружающей действительности и являлись бы доступным для вос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отическое чувство не возникает само по себе – его надо воспитывать в ребёнк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, с каждым днем утрачивается связь поколений, очень мало осталось в живых фронтовиков, героев войны. Детям нужно рассказать о Великой отечественной войне, о защитниках родины - ветеранах, о том как протекала жизнь в военное время,  военном оружии, о форме одежды военных, о победе. Отсюда, возникает проблема: как помочь подрастающему поколению сформировать у них чувство долга, чувство уважения к славным защитникам нашей Родины, чувство гордости за свой великий народ, благодарности за то, что он подарил нам счастливую жизн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ошкольников активного положительного отношения к славным защитникам нашей Род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любви к Роди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духовного мира детей через обращение к героическому прошлому нашей стра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ять запас слов, обозначающих названия предметов, действий, признаков,  прослушивание песен, стихов о Роди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вать желанием подражать воинам, быть такими же мужественными, смелыми, отважными, храбр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комство с литературными произведениями: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ихи, рассказы о войне, мире, побед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F:\00000011416b.jpg"/>
          <p:cNvPicPr/>
          <p:nvPr/>
        </p:nvPicPr>
        <p:blipFill>
          <a:blip r:embed="rId1"/>
          <a:stretch/>
        </p:blipFill>
        <p:spPr>
          <a:xfrm>
            <a:off x="6732720" y="1560600"/>
            <a:ext cx="2160360" cy="2981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F:\149387.jpg"/>
          <p:cNvPicPr/>
          <p:nvPr/>
        </p:nvPicPr>
        <p:blipFill>
          <a:blip r:embed="rId2"/>
          <a:stretch/>
        </p:blipFill>
        <p:spPr>
          <a:xfrm>
            <a:off x="250920" y="3860640"/>
            <a:ext cx="1944720" cy="286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alexeev-sturm.jpg"/>
          <p:cNvPicPr/>
          <p:nvPr/>
        </p:nvPicPr>
        <p:blipFill>
          <a:blip r:embed="rId3"/>
          <a:stretch/>
        </p:blipFill>
        <p:spPr>
          <a:xfrm>
            <a:off x="1042920" y="1628640"/>
            <a:ext cx="2014560" cy="2673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F:\VbVO_Alekseev_Berlin-620x967.jpg"/>
          <p:cNvPicPr/>
          <p:nvPr/>
        </p:nvPicPr>
        <p:blipFill>
          <a:blip r:embed="rId4"/>
          <a:stretch/>
        </p:blipFill>
        <p:spPr>
          <a:xfrm>
            <a:off x="5724360" y="3789360"/>
            <a:ext cx="1872000" cy="2919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F:\1650-329x500.jpg"/>
          <p:cNvPicPr/>
          <p:nvPr/>
        </p:nvPicPr>
        <p:blipFill>
          <a:blip r:embed="rId5"/>
          <a:stretch/>
        </p:blipFill>
        <p:spPr>
          <a:xfrm>
            <a:off x="4140360" y="1484280"/>
            <a:ext cx="1871640" cy="284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F:\vezhlivie_ludi_o_geroizme.jpg"/>
          <p:cNvPicPr/>
          <p:nvPr/>
        </p:nvPicPr>
        <p:blipFill>
          <a:blip r:embed="rId6"/>
          <a:stretch/>
        </p:blipFill>
        <p:spPr>
          <a:xfrm>
            <a:off x="2556000" y="3860640"/>
            <a:ext cx="23716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ушание музыкальных произвед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ская песня композитора Давида Тухманова и поэта Владимира Харитонова «День Победы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муглянка» / А.Новико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тюша» /М.Блантер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ященная война» /А.Александро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рш защитников Москвы» /А.Сур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F:\56a481bc28ab4.jpg"/>
          <p:cNvPicPr/>
          <p:nvPr/>
        </p:nvPicPr>
        <p:blipFill>
          <a:blip r:embed="rId1"/>
          <a:stretch/>
        </p:blipFill>
        <p:spPr>
          <a:xfrm rot="271800">
            <a:off x="5414760" y="2184480"/>
            <a:ext cx="3238200" cy="3238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F:\minus_pesni_voennih_let.jpg"/>
          <p:cNvPicPr/>
          <p:nvPr/>
        </p:nvPicPr>
        <p:blipFill>
          <a:blip r:embed="rId2"/>
          <a:stretch/>
        </p:blipFill>
        <p:spPr>
          <a:xfrm rot="21231600">
            <a:off x="2991960" y="3581280"/>
            <a:ext cx="302436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F:\83751154.jpg"/>
          <p:cNvPicPr/>
          <p:nvPr/>
        </p:nvPicPr>
        <p:blipFill>
          <a:blip r:embed="rId1"/>
          <a:stretch/>
        </p:blipFill>
        <p:spPr>
          <a:xfrm rot="21372600">
            <a:off x="899640" y="4483080"/>
            <a:ext cx="3035520" cy="227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F:\mXVPmXer_VY.jpg"/>
          <p:cNvPicPr/>
          <p:nvPr/>
        </p:nvPicPr>
        <p:blipFill>
          <a:blip r:embed="rId2"/>
          <a:stretch/>
        </p:blipFill>
        <p:spPr>
          <a:xfrm rot="157200">
            <a:off x="5130360" y="4191120"/>
            <a:ext cx="1873440" cy="2463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матривание плакатов военных лет, фотографий, иллюстраций, презент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F:\slide_1.jpg"/>
          <p:cNvPicPr/>
          <p:nvPr/>
        </p:nvPicPr>
        <p:blipFill>
          <a:blip r:embed="rId3"/>
          <a:stretch/>
        </p:blipFill>
        <p:spPr>
          <a:xfrm>
            <a:off x="3276720" y="1413000"/>
            <a:ext cx="2303280" cy="298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F:\4(66).jpg"/>
          <p:cNvPicPr/>
          <p:nvPr/>
        </p:nvPicPr>
        <p:blipFill>
          <a:blip r:embed="rId4"/>
          <a:stretch/>
        </p:blipFill>
        <p:spPr>
          <a:xfrm rot="21163200">
            <a:off x="495000" y="1458720"/>
            <a:ext cx="2036880" cy="284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F:\Victory_19_507f5ee6b7a49.jpg"/>
          <p:cNvPicPr/>
          <p:nvPr/>
        </p:nvPicPr>
        <p:blipFill>
          <a:blip r:embed="rId5"/>
          <a:stretch/>
        </p:blipFill>
        <p:spPr>
          <a:xfrm rot="364800">
            <a:off x="6516360" y="1460520"/>
            <a:ext cx="19429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мотр мультфильмов,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вященных детям вой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споминание» /В. Данилов, 1986 го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лдатская лампа» /Е. Агранович, 1984 го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лдатская сказка» /А.  Грачева, по сказке К.Паустовского, 1983год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лют» /И. Гурвич, 1975 го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F:\vospominanie-large-1.jpg"/>
          <p:cNvPicPr/>
          <p:nvPr/>
        </p:nvPicPr>
        <p:blipFill>
          <a:blip r:embed="rId1"/>
          <a:stretch/>
        </p:blipFill>
        <p:spPr>
          <a:xfrm rot="273600">
            <a:off x="5570280" y="2776320"/>
            <a:ext cx="3403440" cy="2241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F:\518101324.jpg"/>
          <p:cNvPicPr/>
          <p:nvPr/>
        </p:nvPicPr>
        <p:blipFill>
          <a:blip r:embed="rId2"/>
          <a:stretch/>
        </p:blipFill>
        <p:spPr>
          <a:xfrm rot="21340200">
            <a:off x="79200" y="2908440"/>
            <a:ext cx="3462480" cy="2241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F:\ce0c351fb59736c69368a223a6d7e388.jpg"/>
          <p:cNvPicPr/>
          <p:nvPr/>
        </p:nvPicPr>
        <p:blipFill>
          <a:blip r:embed="rId3"/>
          <a:stretch/>
        </p:blipFill>
        <p:spPr>
          <a:xfrm>
            <a:off x="2411280" y="4365720"/>
            <a:ext cx="37594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дидактических иг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гадай и назови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знай и назови боевую технику ВОВ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дсчитай и отсчитай медали в пределах пяти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называется военный…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знай и назови  боевую технику ВОВ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лишнее» ( карточки с рисунками военной тематики, выстроенные в логические ряды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дин — много» (Образец: Танкист — танкисты — танкистов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считай» (Образец: Один солдат — два солдата — ….пять солдат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ой праздник?» (Образец: Старший брат служит сейчас в армии, в десантных войсках. Он (кто?) ...(десантник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й, моя, мое, мои» (Речевой материал: пистолет, форма, самолеты, оружие, фуражка и т.д.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му что нужно?» ( Закончить фразу «Пограничнику нужна ... (собака)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 сюжетно – ролевых и подвижных иг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молёты и пилоты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нкисты»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днять якорь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граничники и нарушители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оевые команды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риентировка на мест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 боевом посту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– военные разведчики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Медсанчасть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/и «Самолёты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/и «Барабанщики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/и «Разведчи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/и «Перебеж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F:\si852261.jpg"/>
          <p:cNvPicPr/>
          <p:nvPr/>
        </p:nvPicPr>
        <p:blipFill>
          <a:blip r:embed="rId1"/>
          <a:stretch/>
        </p:blipFill>
        <p:spPr>
          <a:xfrm rot="490200">
            <a:off x="5705280" y="1591920"/>
            <a:ext cx="2660400" cy="194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F:\100_2897.jpg"/>
          <p:cNvPicPr/>
          <p:nvPr/>
        </p:nvPicPr>
        <p:blipFill>
          <a:blip r:embed="rId2"/>
          <a:stretch/>
        </p:blipFill>
        <p:spPr>
          <a:xfrm rot="582600">
            <a:off x="6473880" y="4084200"/>
            <a:ext cx="1985760" cy="2233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:\e8db8f108d77e1cc6986daeedfc9bbab.jpg.jpg"/>
          <p:cNvPicPr/>
          <p:nvPr/>
        </p:nvPicPr>
        <p:blipFill>
          <a:blip r:embed="rId3"/>
          <a:stretch/>
        </p:blipFill>
        <p:spPr>
          <a:xfrm rot="20934000">
            <a:off x="4123800" y="3244680"/>
            <a:ext cx="187488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13:26:04Z</dcterms:created>
  <dc:creator>Lenovo</dc:creator>
  <dc:description/>
  <dc:language>en-US</dc:language>
  <cp:lastModifiedBy>Пользователь Windows</cp:lastModifiedBy>
  <dcterms:modified xsi:type="dcterms:W3CDTF">2017-02-08T15:17:16Z</dcterms:modified>
  <cp:revision>36</cp:revision>
  <dc:subject/>
  <dc:title>Слайд 1</dc:title>
</cp:coreProperties>
</file>