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3BC-A551-495A-B1C4-328382F2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134-6AE5-4D52-AC78-F744B736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C63-6388-467E-8B52-DE928AB1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BE0-EF4A-4AE7-832C-9EE3D8C4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15DC8-2D9C-4936-A71B-63207186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140BF-5D6F-499C-AB6B-E5E4BC13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D588D-7E89-4A2D-B8B3-19B42E73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DDB9F-19BD-40F2-9155-4F49A840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CFA6E-91FC-46D7-9FA5-BC32A7E7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CB04A-8356-455B-AD09-297B418E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42E7F-827F-405D-871F-182F7D84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C01-E4B0-42EB-89AD-DAABEDF0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42539-92F6-4F92-9128-AF8EB42E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A2933-68DB-477F-8193-3603149F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16895-0990-495F-8EA1-CFC269EC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694A9-CA30-4064-A451-6977D0BE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FEC53-C724-40AE-9FE0-BC5E033C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02B-5C55-4256-97B9-AEBB6D65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D91-C743-4204-94B9-85501374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370-9D58-4A0E-9008-B836B171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1FE-A81B-478B-9061-5E6662A9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A76-E18A-4EE2-96FA-2F18960A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64D-B98D-4CF9-8F33-9540BF5B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B19-80A2-486D-9963-4062B1B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0A33-0F4D-4B75-A83A-32A4AD373D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7B4C-470C-4FB3-858A-369FB4AB7E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Антаркти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Южный полюс.  Кругом снег, большие льдины и сильные ветры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тоянно люди там не живут, они приезжают туда работать: наблюдать за погодой, за животными, птицами. Благодаря этим смелым людям, учёным, мы знаем о животном мире Антарктиды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7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пал к нам прямо с научной станции в ящике с оборудованием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53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21:07:18Z</dcterms:created>
  <dc:creator>aser</dc:creator>
  <dc:description/>
  <dc:language>en-US</dc:language>
  <cp:lastModifiedBy>Acer</cp:lastModifiedBy>
  <dcterms:modified xsi:type="dcterms:W3CDTF">2017-01-24T17:26:1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