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7B6-1477-4C3F-8FFD-7656BE49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6F8-B806-418D-AF71-4A7A056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EC5-4DFE-4FA9-8BF2-B66D693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395-56AE-4585-8945-DA79C97E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7E8F-3845-4F73-B762-2C7B4082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6DFE3-EEB0-4403-A736-4EF0916B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7FA08-5606-4017-BF5C-0A3B258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6EC1-9A78-4CDA-B530-291D4FC8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AEAAE-DC53-4964-A02E-880F0889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DD6A-1C4C-4DAB-B62E-E212580C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327E9-6011-409C-A4C6-DEA207E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D6D-3A98-46B1-9376-5BAD4059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E21AF-776B-40C0-B766-8A55754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1FE31-7A83-4BB0-A666-CA23110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29F3E-47D5-4C58-A6C8-C188507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D72EC-7F71-4968-A620-ABBCB23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B8ADE-35CE-4FBA-9835-DC209E61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601-A282-44CF-84D0-E22100C0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F3A-D3EB-4D7E-9B1F-94E19D9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757-C10B-4279-986B-DF6D44E9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651-3D13-479A-B714-26FAA592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F37-11F8-4C19-BD24-33679C0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23C-202F-47D4-9383-F76B34F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DC2-B807-4E74-8E05-87EBD61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9D5-5D5D-4FCB-9E47-98CD20DF40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43A-6F2F-4849-87DA-50F3F94C04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Южный полюс.  Кругом снег, большие льдины и сильные ветр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 люди там не живут, они приезжают туда работать: наблюдать за погодой, за животными, птицами. Благодаря этим смелым людям, учёным, мы знаем о животном мире Антарктиды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пал к нам прямо с научной станции в ящике с оборудованием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21:07:18Z</dcterms:created>
  <dc:creator>aser</dc:creator>
  <dc:description/>
  <dc:language>en-US</dc:language>
  <cp:lastModifiedBy>Acer</cp:lastModifiedBy>
  <dcterms:modified xsi:type="dcterms:W3CDTF">2017-01-24T17:26:1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