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8.png" ContentType="image/png"/>
  <Override PartName="/ppt/media/image21.png" ContentType="image/png"/>
  <Override PartName="/ppt/media/image20.gif" ContentType="image/gif"/>
  <Override PartName="/ppt/media/image19.gif" ContentType="image/gif"/>
  <Override PartName="/ppt/media/image18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22.gif" ContentType="image/gif"/>
  <Override PartName="/ppt/media/image2.png" ContentType="image/png"/>
  <Override PartName="/ppt/media/image4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25D-460D-4852-8DD3-3BE57743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F24-6645-411D-B08C-8CA40442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A19-93F2-4B1C-900E-B2544FD6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CFB-E1A9-41FE-9D45-EA8206FC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805-0525-4D46-BA49-494D3CE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1F98-5075-4B57-9439-6D47C50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6567-6A5F-4289-A4B3-90A351C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290D-64D7-4E06-9889-7670E3FC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FD4-AA22-47D5-A222-57337009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EC4-18E6-4B5C-876F-10146CAC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7D04-80FA-4EA1-92B4-A18B141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16A-2F5C-4423-820D-E32F4BFD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39A8-0C4C-4181-BE16-AD261EB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CDF-E20D-40B3-B6B6-F78DB4B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E29-163D-4439-A645-9883E07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7B7E-B7D5-4816-911C-2C3C4EDF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EB2-42D6-40FC-9888-4911DEA0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84E-A17C-485C-8029-30AE9AF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CA3-D7B9-4CB0-B2F7-2FCB05F8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C6-CD30-4FBC-A0B5-7E8161F4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F99-FDCB-445C-98CE-D63967D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3BD-E918-4DE4-8914-8887241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573-6C47-43FD-B7B9-B328887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200-FEEC-458B-8878-7175F0B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839-61C8-45B0-A9B1-0C434E0A6E32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4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B3B-EB40-43E4-AF68-DFD6A13010B0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9.xml"/><Relationship Id="rId8" Type="http://schemas.openxmlformats.org/officeDocument/2006/relationships/image" Target="../media/image10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407628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Урок-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учитель математики </a:t>
            </a:r>
            <a:br>
              <a:rPr sz="1800"/>
            </a:br>
            <a:r>
              <a:rPr b="1" i="1" lang="ru-RU" sz="2400" spc="-1" strike="noStrike">
                <a:solidFill>
                  <a:srgbClr val="ae4828"/>
                </a:solidFill>
                <a:latin typeface="Arial"/>
              </a:rPr>
              <a:t>Джугель Татья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3059280" y="692280"/>
            <a:ext cx="547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e09142">
                      <a:alpha val="50000"/>
                    </a:srgbClr>
                  </a:outerShdw>
                </a:effectLst>
                <a:latin typeface="Arial"/>
              </a:rPr>
              <a:t>"Решение задач с помощью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e09142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e09142">
                      <a:alpha val="50000"/>
                    </a:srgbClr>
                  </a:outerShdw>
                </a:effectLst>
                <a:latin typeface="Arial"/>
              </a:rPr>
              <a:t>уравнений"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e0914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59280" y="4653000"/>
            <a:ext cx="4262400" cy="1871640"/>
            <a:chOff x="3059280" y="4653000"/>
            <a:chExt cx="4262400" cy="1871640"/>
          </a:xfrm>
        </p:grpSpPr>
        <p:sp>
          <p:nvSpPr>
            <p:cNvPr id="107" name="Rectangle 11" hidden="1"/>
            <p:cNvSpPr/>
            <p:nvPr/>
          </p:nvSpPr>
          <p:spPr>
            <a:xfrm>
              <a:off x="3059280" y="4653000"/>
              <a:ext cx="4249800" cy="18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>
              <a:off x="3398400" y="4653000"/>
              <a:ext cx="3571560" cy="1374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 flipV="1">
              <a:off x="3398400" y="5150160"/>
              <a:ext cx="3571560" cy="1374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0" name="Picture 14" descr="DD01630_"/>
            <p:cNvPicPr/>
            <p:nvPr/>
          </p:nvPicPr>
          <p:blipFill>
            <a:blip r:embed="rId5"/>
            <a:stretch/>
          </p:blipFill>
          <p:spPr>
            <a:xfrm>
              <a:off x="4853520" y="4980960"/>
              <a:ext cx="6609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3071880" y="5643720"/>
              <a:ext cx="42498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МБОУ Правдовская школа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12" name="Picture 18" descr="Снимок 071"/>
          <p:cNvPicPr/>
          <p:nvPr/>
        </p:nvPicPr>
        <p:blipFill>
          <a:blip r:embed="rId6"/>
          <a:stretch/>
        </p:blipFill>
        <p:spPr>
          <a:xfrm>
            <a:off x="1258920" y="4437000"/>
            <a:ext cx="16272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756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усть а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, с – стороны треугольник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 – на 9 см меньше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. меньше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105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708360" y="1413000"/>
            <a:ext cx="216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924360" y="1413000"/>
            <a:ext cx="0" cy="287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2987640" y="1700280"/>
            <a:ext cx="93672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3492360" y="2060640"/>
            <a:ext cx="266400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6156360" y="1341360"/>
            <a:ext cx="0" cy="719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867280" y="1341360"/>
            <a:ext cx="289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300720" y="1341360"/>
            <a:ext cx="71640" cy="93528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 rot="5400000">
            <a:off x="6372720" y="4723560"/>
            <a:ext cx="934920" cy="2521080"/>
          </a:xfrm>
          <a:prstGeom prst="upArrow">
            <a:avLst>
              <a:gd name="adj1" fmla="val 50000"/>
              <a:gd name="adj2" fmla="val 67414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зад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5" name="Picture 13" descr="arrow[2]"/>
          <p:cNvPicPr/>
          <p:nvPr/>
        </p:nvPicPr>
        <p:blipFill>
          <a:blip r:embed="rId1"/>
          <a:stretch/>
        </p:blipFill>
        <p:spPr>
          <a:xfrm>
            <a:off x="5148360" y="5589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4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10</a:t>
            </a:r>
            <a:endParaRPr b="1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756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усть а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, с – стороны треугольник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 – на 9 см меньше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. меньше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  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105 см     (х+9)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    2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H="1">
            <a:off x="3419280" y="2060640"/>
            <a:ext cx="266364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6083280" y="1341360"/>
            <a:ext cx="0" cy="719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5794200" y="1341360"/>
            <a:ext cx="289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6300720" y="1268280"/>
            <a:ext cx="71640" cy="93528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708360" y="1341360"/>
            <a:ext cx="216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3924360" y="1341360"/>
            <a:ext cx="0" cy="287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2987640" y="1628640"/>
            <a:ext cx="93672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187280" y="2565360"/>
            <a:ext cx="77724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усть х см – сторона а, тогда х+9 (см) – сторона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 2х (см) – сторона с. Зная, что периметр равен 105 см, составим уравн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 + (х+9)+2х = 105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+9= 105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= 105-9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=96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24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едовательно 24 см – сторона а, 24+9=33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– сторона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    24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∙2=48 (см)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– сторона с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твет: 24 см; 33 см; 48 с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 rot="5400000">
            <a:off x="7093440" y="5130000"/>
            <a:ext cx="934920" cy="2521080"/>
          </a:xfrm>
          <a:prstGeom prst="upArrow">
            <a:avLst>
              <a:gd name="adj1" fmla="val 50000"/>
              <a:gd name="adj2" fmla="val 67414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должим работу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WordArt 17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11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школе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чащихся. 10% из них – отличники. Сколько отличников в школ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10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0,1х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0,01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х+10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7067520" y="2863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187280" y="3213000"/>
            <a:ext cx="777240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 класс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учеников.       из них – мальчики. Сколько мальчиков в классе?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)      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б)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в)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г) 18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3995640" y="3357720"/>
                <a:ext cx="385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WordArt 9"/>
          <p:cNvSpPr txBox="1"/>
          <p:nvPr/>
        </p:nvSpPr>
        <p:spPr>
          <a:xfrm>
            <a:off x="2916360" y="981000"/>
            <a:ext cx="365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61ab">
                      <a:alpha val="50000"/>
                    </a:srgbClr>
                  </a:outerShdw>
                </a:effectLst>
                <a:latin typeface="Arial"/>
              </a:rPr>
              <a:t>Блицтурнир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61ab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263680" y="4869000"/>
                <a:ext cx="385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3849840" y="4869000"/>
                <a:ext cx="420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WordArt 14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2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6"/>
          <a:stretch/>
        </p:blipFill>
        <p:spPr>
          <a:xfrm>
            <a:off x="370836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"/>
          <p:cNvPicPr/>
          <p:nvPr/>
        </p:nvPicPr>
        <p:blipFill>
          <a:blip r:embed="rId7"/>
          <a:stretch/>
        </p:blipFill>
        <p:spPr>
          <a:xfrm>
            <a:off x="709308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"/>
          <p:cNvPicPr/>
          <p:nvPr/>
        </p:nvPicPr>
        <p:blipFill>
          <a:blip r:embed="rId8"/>
          <a:stretch/>
        </p:blipFill>
        <p:spPr>
          <a:xfrm>
            <a:off x="558000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9"/>
          <a:stretch/>
        </p:blipFill>
        <p:spPr>
          <a:xfrm>
            <a:off x="255600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"/>
          <p:cNvPicPr/>
          <p:nvPr/>
        </p:nvPicPr>
        <p:blipFill>
          <a:blip r:embed="rId10"/>
          <a:stretch/>
        </p:blipFill>
        <p:spPr>
          <a:xfrm>
            <a:off x="2268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11"/>
          <a:stretch/>
        </p:blipFill>
        <p:spPr>
          <a:xfrm>
            <a:off x="3924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12"/>
          <a:stretch/>
        </p:blipFill>
        <p:spPr>
          <a:xfrm>
            <a:off x="586728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13"/>
          <a:stretch/>
        </p:blipFill>
        <p:spPr>
          <a:xfrm>
            <a:off x="723600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920" y="620640"/>
            <a:ext cx="7130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У Кол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марок, а у Вани на 12 марок больше. Сколько марок у Вани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у-12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12у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12+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24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87280" y="2637000"/>
            <a:ext cx="7131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ля купила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открыток, а Наташа – в 3 раза больше. Сколько открыток у девочек вмест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3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х+3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х-3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4х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187280" y="4581360"/>
            <a:ext cx="71312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Ширина прямоугольник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см, а длина в 4 раза больше? Чему равен периметр прямоугольник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5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2(у+4)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10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2(2у+4)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3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58000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363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7020000" y="155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"/>
          <p:cNvPicPr/>
          <p:nvPr/>
        </p:nvPicPr>
        <p:blipFill>
          <a:blip r:embed="rId8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10"/>
          <a:stretch/>
        </p:blipFill>
        <p:spPr>
          <a:xfrm>
            <a:off x="3564000" y="350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"/>
          <p:cNvPicPr/>
          <p:nvPr/>
        </p:nvPicPr>
        <p:blipFill>
          <a:blip r:embed="rId11"/>
          <a:stretch/>
        </p:blipFill>
        <p:spPr>
          <a:xfrm>
            <a:off x="2124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12"/>
          <a:stretch/>
        </p:blipFill>
        <p:spPr>
          <a:xfrm>
            <a:off x="5435640" y="522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"/>
          <p:cNvPicPr/>
          <p:nvPr/>
        </p:nvPicPr>
        <p:blipFill>
          <a:blip r:embed="rId13"/>
          <a:stretch/>
        </p:blipFill>
        <p:spPr>
          <a:xfrm>
            <a:off x="2124000" y="522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14"/>
          <a:stretch/>
        </p:blipFill>
        <p:spPr>
          <a:xfrm>
            <a:off x="3780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"/>
          <p:cNvPicPr/>
          <p:nvPr/>
        </p:nvPicPr>
        <p:blipFill>
          <a:blip r:embed="rId15"/>
          <a:stretch/>
        </p:blipFill>
        <p:spPr>
          <a:xfrm>
            <a:off x="7164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6" descr="цыпа"/>
          <p:cNvPicPr/>
          <p:nvPr/>
        </p:nvPicPr>
        <p:blipFill>
          <a:blip r:embed="rId1"/>
          <a:stretch/>
        </p:blipFill>
        <p:spPr>
          <a:xfrm>
            <a:off x="5580000" y="4941720"/>
            <a:ext cx="933480" cy="790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Решить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27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) У хозяйки было 20 кур и цыплят. Кур было в 4 раза меньше, чем цыплят. Сколько цыплят было у хозяйки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4</a:t>
            </a:r>
            <a:endParaRPr b="1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4">
            <a:hlinkClick r:id="rId5" action="ppaction://hlinksldjump"/>
          </p:cNvPr>
          <p:cNvSpPr/>
          <p:nvPr/>
        </p:nvSpPr>
        <p:spPr>
          <a:xfrm>
            <a:off x="2916360" y="3213000"/>
            <a:ext cx="3024000" cy="368280"/>
          </a:xfrm>
          <a:prstGeom prst="rect">
            <a:avLst/>
          </a:prstGeom>
          <a:solidFill>
            <a:srgbClr val="e09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Проверь себя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26" descr=""/>
          <p:cNvPicPr/>
          <p:nvPr/>
        </p:nvPicPr>
        <p:blipFill>
          <a:blip r:embed="rId6"/>
          <a:stretch/>
        </p:blipFill>
        <p:spPr>
          <a:xfrm>
            <a:off x="3203640" y="278136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9"/>
          <p:cNvSpPr/>
          <p:nvPr/>
        </p:nvSpPr>
        <p:spPr>
          <a:xfrm>
            <a:off x="1763640" y="3645000"/>
            <a:ext cx="69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усть х кур было у хозяйки, тогда цыплят у нее было 4х. Зная, что у хозяйки вместе было 20 кур и цыплят, составим уравн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 + 4х = 20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5х=20;           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20:5;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4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едовательно, у хозяйки было 4 курицы и 4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∙4=16 цыплят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Ответ: 16 цыплят.</a:t>
            </a:r>
            <a:r>
              <a:rPr b="0" lang="ru-RU" sz="1800" spc="-1" strike="noStrike" u="sng">
                <a:solidFill>
                  <a:srgbClr val="ae4828"/>
                </a:solidFill>
                <a:uFillTx/>
                <a:latin typeface="Arial"/>
                <a:ea typeface="Arial"/>
                <a:hlinkClick r:id="rId7" action="ppaction://hlinksldjump"/>
              </a:rPr>
              <a:t>  Реши следующую задачу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37" descr="19[1]"/>
          <p:cNvPicPr/>
          <p:nvPr/>
        </p:nvPicPr>
        <p:blipFill>
          <a:blip r:embed="rId8"/>
          <a:stretch/>
        </p:blipFill>
        <p:spPr>
          <a:xfrm>
            <a:off x="2124000" y="83664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3" descr="цыпа"/>
          <p:cNvPicPr/>
          <p:nvPr/>
        </p:nvPicPr>
        <p:blipFill>
          <a:blip r:embed="rId9"/>
          <a:stretch/>
        </p:blipFill>
        <p:spPr>
          <a:xfrm>
            <a:off x="6084720" y="5229360"/>
            <a:ext cx="933480" cy="7905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44"/>
          <p:cNvSpPr txBox="1"/>
          <p:nvPr/>
        </p:nvSpPr>
        <p:spPr>
          <a:xfrm>
            <a:off x="4211640" y="5013360"/>
            <a:ext cx="433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96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Picture 45" descr="цыпа"/>
          <p:cNvPicPr/>
          <p:nvPr/>
        </p:nvPicPr>
        <p:blipFill>
          <a:blip r:embed="rId10"/>
          <a:stretch/>
        </p:blipFill>
        <p:spPr>
          <a:xfrm>
            <a:off x="5076720" y="52293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1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1"/>
          <p:cNvSpPr txBox="1"/>
          <p:nvPr/>
        </p:nvSpPr>
        <p:spPr>
          <a:xfrm>
            <a:off x="179280" y="981000"/>
            <a:ext cx="7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1884240" y="1562040"/>
          <a:ext cx="6477120" cy="506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84240" y="1562040"/>
                    <a:ext cx="64771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14"/>
          <p:cNvSpPr txBox="1"/>
          <p:nvPr/>
        </p:nvSpPr>
        <p:spPr>
          <a:xfrm>
            <a:off x="2195640" y="692280"/>
            <a:ext cx="57340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ae4828"/>
                </a:solidFill>
                <a:effectLst>
                  <a:outerShdw dist="107932" dir="18900000" blurRad="0" rotWithShape="0">
                    <a:srgbClr val="6a6954">
                      <a:alpha val="50000"/>
                    </a:srgbClr>
                  </a:outerShdw>
                </a:effectLst>
                <a:latin typeface="Times New Roman"/>
              </a:rPr>
              <a:t>Самостоятельно изучите решенные задачи</a:t>
            </a:r>
            <a:endParaRPr b="1" lang="en-US" sz="1000" spc="1" strike="noStrike">
              <a:ln w="0">
                <a:noFill/>
              </a:ln>
              <a:solidFill>
                <a:srgbClr val="ae4828"/>
              </a:solidFill>
              <a:effectLst>
                <a:outerShdw dist="107932" dir="18900000" blurRad="0" rotWithShape="0">
                  <a:srgbClr val="6a6954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1" name="Picture 16" descr="SCHOOLG"/>
          <p:cNvPicPr/>
          <p:nvPr/>
        </p:nvPicPr>
        <p:blipFill>
          <a:blip r:embed="rId6"/>
          <a:stretch/>
        </p:blipFill>
        <p:spPr>
          <a:xfrm>
            <a:off x="6012000" y="3645000"/>
            <a:ext cx="1838160" cy="2492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7"/>
          <p:cNvSpPr/>
          <p:nvPr/>
        </p:nvSpPr>
        <p:spPr>
          <a:xfrm>
            <a:off x="8028000" y="623736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4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i="1" lang="ru-RU" sz="1200" spc="-1" strike="noStrike">
                <a:solidFill>
                  <a:srgbClr val="333333"/>
                </a:solidFill>
                <a:latin typeface="Arial"/>
              </a:rPr>
              <a:t>Задача 2. Моторная лодка проходит расстояние между двумя пунктами А и В по течению реки за 2 ч, а против течения – за 3 ч. Какое время затратит бревно на путь от А до В?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Анализ задачи.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В задаче идет речь о двух объектах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лодка и бревно. Лодка имеет какую-то собственную скорость, а река, по которой плывет и лодка, и бревно, имеет определенную скорость течения. Именно поэтому лодка совершает путь между пунктами по течению реки за меньшее время (2ч), чем против течения (3ч). Но эти скорости в задаче не даны, так же как не известно расстояние между пунктами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Схематическая запись задачи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WordArt 29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6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1763640" y="2492280"/>
            <a:ext cx="287964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1763640" y="2133720"/>
            <a:ext cx="0" cy="718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Line 33"/>
          <p:cNvSpPr/>
          <p:nvPr/>
        </p:nvSpPr>
        <p:spPr>
          <a:xfrm>
            <a:off x="4716360" y="2133720"/>
            <a:ext cx="0" cy="718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34"/>
          <p:cNvSpPr/>
          <p:nvPr/>
        </p:nvSpPr>
        <p:spPr>
          <a:xfrm>
            <a:off x="1763640" y="2205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1763640" y="270828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Line 36"/>
          <p:cNvSpPr/>
          <p:nvPr/>
        </p:nvSpPr>
        <p:spPr>
          <a:xfrm flipH="1">
            <a:off x="4140360" y="270828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1763640" y="2852640"/>
            <a:ext cx="2952720" cy="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1692360" y="1916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Лодка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1692360" y="2492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Бревно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4067280" y="24922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Лодка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2987640" y="1989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2ч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Line 42"/>
          <p:cNvSpPr/>
          <p:nvPr/>
        </p:nvSpPr>
        <p:spPr>
          <a:xfrm>
            <a:off x="1763640" y="2276640"/>
            <a:ext cx="2952720" cy="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298764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3ч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4788000" y="2349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Text Box 45"/>
          <p:cNvSpPr/>
          <p:nvPr/>
        </p:nvSpPr>
        <p:spPr>
          <a:xfrm>
            <a:off x="133200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1619280" y="2997360"/>
            <a:ext cx="727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Поиск способа решения задачи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Нужно найти время, за которое бревно проплывет расстояние между пристанями А и В.Для того чтобы найти это время, надо знать расстояние АВ, но оно неизвестно, поэтому обозначим расстояние АВ буквой х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Rectangle 47"/>
          <p:cNvSpPr/>
          <p:nvPr/>
        </p:nvSpPr>
        <p:spPr>
          <a:xfrm>
            <a:off x="1692360" y="3645000"/>
            <a:ext cx="72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4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Осуществление решения задачи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3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5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6" name="Object 88"/>
          <p:cNvGraphicFramePr/>
          <p:nvPr/>
        </p:nvGraphicFramePr>
        <p:xfrm>
          <a:off x="1841400" y="3860640"/>
          <a:ext cx="3886200" cy="269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7" name="Object 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1400" y="3860640"/>
                    <a:ext cx="3886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92"/>
          <p:cNvSpPr/>
          <p:nvPr/>
        </p:nvSpPr>
        <p:spPr>
          <a:xfrm>
            <a:off x="1324800" y="6021360"/>
            <a:ext cx="777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5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Проверка решения задачи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Итак, мы нашли, что бревно проплывает путь от А до В за 12 ч.Для того,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Чтобы убедиться в правильности решения, достаточно проверить, будут ли равны собственные скорости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лодки, найденные двумя способами:                                                  Получаем верное равенство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0"/>
              <p:cNvSpPr txBox="1"/>
              <p:nvPr/>
            </p:nvSpPr>
            <p:spPr>
              <a:xfrm>
                <a:off x="8317080" y="6467400"/>
                <a:ext cx="228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9"/>
              <p:cNvSpPr txBox="1"/>
              <p:nvPr/>
            </p:nvSpPr>
            <p:spPr>
              <a:xfrm>
                <a:off x="8748720" y="6467400"/>
                <a:ext cx="228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Rectangle 101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102"/>
          <p:cNvSpPr/>
          <p:nvPr/>
        </p:nvSpPr>
        <p:spPr>
          <a:xfrm>
            <a:off x="8534520" y="658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103"/>
          <p:cNvSpPr/>
          <p:nvPr/>
        </p:nvSpPr>
        <p:spPr>
          <a:xfrm>
            <a:off x="1800" y="38271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Rectangle 10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5"/>
              <p:cNvSpPr txBox="1"/>
              <p:nvPr/>
            </p:nvSpPr>
            <p:spPr>
              <a:xfrm>
                <a:off x="4067280" y="6467400"/>
                <a:ext cx="2082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0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109" descr="TRAVELL"/>
          <p:cNvPicPr/>
          <p:nvPr/>
        </p:nvPicPr>
        <p:blipFill>
          <a:blip r:embed="rId6"/>
          <a:stretch/>
        </p:blipFill>
        <p:spPr>
          <a:xfrm>
            <a:off x="6156360" y="3645000"/>
            <a:ext cx="1800360" cy="22590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10"/>
          <p:cNvSpPr/>
          <p:nvPr/>
        </p:nvSpPr>
        <p:spPr>
          <a:xfrm>
            <a:off x="8101080" y="5300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WordArt 12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7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01" name="Object 19"/>
          <p:cNvGraphicFramePr/>
          <p:nvPr/>
        </p:nvGraphicFramePr>
        <p:xfrm>
          <a:off x="1287360" y="622440"/>
          <a:ext cx="7532640" cy="6248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2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7360" y="622440"/>
                    <a:ext cx="75326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24" descr="ARMY025"/>
          <p:cNvPicPr/>
          <p:nvPr/>
        </p:nvPicPr>
        <p:blipFill>
          <a:blip r:embed="rId6"/>
          <a:stretch/>
        </p:blipFill>
        <p:spPr>
          <a:xfrm>
            <a:off x="7451640" y="3429000"/>
            <a:ext cx="147492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ARMY120"/>
          <p:cNvPicPr/>
          <p:nvPr/>
        </p:nvPicPr>
        <p:blipFill>
          <a:blip r:embed="rId7"/>
          <a:stretch/>
        </p:blipFill>
        <p:spPr>
          <a:xfrm flipH="1">
            <a:off x="5867280" y="3213000"/>
            <a:ext cx="1694160" cy="17128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6"/>
          <p:cNvSpPr/>
          <p:nvPr/>
        </p:nvSpPr>
        <p:spPr>
          <a:xfrm>
            <a:off x="7451640" y="6093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187280" y="1700280"/>
            <a:ext cx="745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работу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8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46[1]"/>
          <p:cNvPicPr/>
          <p:nvPr/>
        </p:nvPicPr>
        <p:blipFill>
          <a:blip r:embed="rId4"/>
          <a:stretch/>
        </p:blipFill>
        <p:spPr>
          <a:xfrm>
            <a:off x="4572000" y="3860640"/>
            <a:ext cx="24354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58920" y="620280"/>
            <a:ext cx="7562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Одна сторона треугольника на 9 см меньше второй и в 2 раза меньше третьей. Найти стороны треугольника, если периметр равен 105 с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651640" y="3068640"/>
            <a:ext cx="1368360" cy="368280"/>
          </a:xfrm>
          <a:prstGeom prst="rect">
            <a:avLst/>
          </a:prstGeom>
          <a:solidFill>
            <a:srgbClr val="e09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WordArt 10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9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4"/>
          <a:stretch/>
        </p:blipFill>
        <p:spPr>
          <a:xfrm>
            <a:off x="7380360" y="2438280"/>
            <a:ext cx="3240" cy="3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09[1]"/>
          <p:cNvPicPr/>
          <p:nvPr/>
        </p:nvPicPr>
        <p:blipFill>
          <a:blip r:embed="rId5"/>
          <a:stretch/>
        </p:blipFill>
        <p:spPr>
          <a:xfrm>
            <a:off x="1619280" y="2935440"/>
            <a:ext cx="1152360" cy="6728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2843280" y="3068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сказк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5" name="Picture 16" descr="Подсказка"/>
          <p:cNvPicPr/>
          <p:nvPr/>
        </p:nvPicPr>
        <p:blipFill>
          <a:blip r:embed="rId6"/>
          <a:stretch/>
        </p:blipFill>
        <p:spPr>
          <a:xfrm>
            <a:off x="1619280" y="2924280"/>
            <a:ext cx="11350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0:26:54Z</dcterms:created>
  <dc:creator>Михатова Марина Николаевна</dc:creator>
  <dc:description/>
  <dc:language>en-US</dc:language>
  <cp:lastModifiedBy>Джугель </cp:lastModifiedBy>
  <dcterms:modified xsi:type="dcterms:W3CDTF">2017-02-05T13:46:27Z</dcterms:modified>
  <cp:revision>97</cp:revision>
  <dc:subject>Презентация</dc:subject>
  <dc:title>Решение задач с помощью уравнений и систем уравнений</dc:title>
</cp:coreProperties>
</file>