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384-21A3-42C9-9556-48B6946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C5E-154B-4C05-B80F-9378F646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B3C-BBD4-4817-82ED-EF6CDEB1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D9A-C27C-489D-B524-F51E240E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616F-BBEF-48E2-A06E-4EEBDAA1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B08B-8F16-495E-B6B5-7CB9826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7313-5C9E-4097-80EF-AE22055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9213-A7E9-426A-8906-7A81F25E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A6D1-CC76-4089-8E5F-95F87093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272-E24B-4FB5-B21E-2CEF4F78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27F-3DFC-4002-AA0E-5A44F036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5B3-1375-48EF-BA0F-AC1C195C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A44-52AD-43F9-B285-F822766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7F1B-16BF-4303-9258-024A158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5F17-621E-4476-BB6B-E8D63913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1216-4A1A-4286-BBF6-5BA86511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BF11-6D4E-4D95-8DA4-AF8CFCA9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19B-EA32-4CE5-A6C1-6F50EC30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446-3B6A-4AFA-AE55-15B42B4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FB0-4191-440E-9254-2E74228B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6EE-0DA2-4A12-8D7F-EC6F1114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2F1-A643-4F61-B741-F9132BEA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D8C-A592-45F9-A0EF-ADB5A736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CB1-A0DE-4874-BD87-3210FFDB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71E4-95DB-453C-8713-C7C3E37C1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0D8E-B880-40B7-AEFE-F23100B15D2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Разбор глагола по составу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морфемный разбор</a:t>
            </a: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Цель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: сформировать и закрепить у учащихся представление о порядке разбора глагола по состав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адач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развитие умения видеть в слове его ча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бъяснять условия выбора орфограмм; расширить запасы знаний учеников по предмету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рядок разбо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кончание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снова слов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Корен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ристав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Суффикс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440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апомни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В основу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е входят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суффиксы: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В основу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ходят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суффиксы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2060640"/>
            <a:ext cx="34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42960" y="1571760"/>
            <a:ext cx="2844720" cy="15714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0" y="4500720"/>
            <a:ext cx="3429000" cy="13572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5143680" y="1571760"/>
            <a:ext cx="2376360" cy="13572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Line 9"/>
          <p:cNvSpPr/>
          <p:nvPr/>
        </p:nvSpPr>
        <p:spPr>
          <a:xfrm flipH="1">
            <a:off x="2428560" y="1214280"/>
            <a:ext cx="1143000" cy="3574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2286000" y="4143240"/>
            <a:ext cx="1000080" cy="3574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4643280" y="1214280"/>
            <a:ext cx="1071720" cy="4287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71680" y="1643040"/>
            <a:ext cx="2928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.ф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ти   -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85880" y="4643280"/>
            <a:ext cx="221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зв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сь   -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5286240" y="1714680"/>
            <a:ext cx="22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ш.в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857680" y="2428920"/>
            <a:ext cx="342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чи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         говори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л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пой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п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Прямая соединительная линия 18"/>
          <p:cNvSpPr/>
          <p:nvPr/>
        </p:nvSpPr>
        <p:spPr>
          <a:xfrm>
            <a:off x="3786120" y="4143240"/>
            <a:ext cx="928800" cy="428760"/>
          </a:xfrm>
          <a:prstGeom prst="line">
            <a:avLst/>
          </a:prstGeom>
          <a:ln w="9360">
            <a:solidFill>
              <a:srgbClr val="00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Прямая соединительная линия 24"/>
          <p:cNvSpPr/>
          <p:nvPr/>
        </p:nvSpPr>
        <p:spPr>
          <a:xfrm>
            <a:off x="5643720" y="5000760"/>
            <a:ext cx="0" cy="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643200" y="4286160"/>
            <a:ext cx="5500800" cy="24289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4214880" y="4357800"/>
            <a:ext cx="4214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ш. или буд. время –глагольный суффик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а-, -о-, -и-, -е-, -у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Разбор глагола по составу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морфемный разбор</a:t>
            </a: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облема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 каком порядке нужно разбирать глагол по составу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лгоритм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Форма глагол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е входят в основ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Основ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Корень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Verdana"/>
              </a:rPr>
              <a:t>Приставка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10181c"/>
                </a:solidFill>
                <a:latin typeface="Verdana"/>
              </a:rPr>
              <a:t>суффикс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разец запис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Дум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ть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глаг., н.ф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дел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е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глаг., буд.вр., 1л., мн.ч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33cc"/>
                </a:solidFill>
                <a:latin typeface="Verdana"/>
              </a:rPr>
              <a:t>Рас</a:t>
            </a: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сказ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л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глаг., прош.вр., ж.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Прямая соединительная линия 6"/>
          <p:cNvSpPr/>
          <p:nvPr/>
        </p:nvSpPr>
        <p:spPr>
          <a:xfrm flipV="1">
            <a:off x="2642400" y="4857480"/>
            <a:ext cx="142920" cy="14292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Прямая соединительная линия 12"/>
          <p:cNvSpPr/>
          <p:nvPr/>
        </p:nvSpPr>
        <p:spPr>
          <a:xfrm>
            <a:off x="2857680" y="4857840"/>
            <a:ext cx="142560" cy="21420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Прямая соединительная линия 14"/>
          <p:cNvSpPr/>
          <p:nvPr/>
        </p:nvSpPr>
        <p:spPr>
          <a:xfrm flipH="1" flipV="1">
            <a:off x="2642760" y="4928760"/>
            <a:ext cx="428760" cy="7164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Прямая соединительная линия 18"/>
          <p:cNvSpPr/>
          <p:nvPr/>
        </p:nvSpPr>
        <p:spPr>
          <a:xfrm>
            <a:off x="2714760" y="4714920"/>
            <a:ext cx="357120" cy="28584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21:35Z</dcterms:created>
  <dc:creator>Viktor</dc:creator>
  <dc:description/>
  <dc:language>en-US</dc:language>
  <cp:lastModifiedBy>Viktor</cp:lastModifiedBy>
  <dcterms:modified xsi:type="dcterms:W3CDTF">2016-04-24T20:11:23Z</dcterms:modified>
  <cp:revision>42</cp:revision>
  <dc:subject/>
  <dc:title>Разбор глагола по составу (морфемный разбор)</dc:title>
</cp:coreProperties>
</file>