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B2D-872A-4AA9-AF4B-AB05DF2B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2AC-7B3C-4987-889C-3C6A7199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FD3-64CB-4F55-806F-E6EE9C95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39F-8C60-41F3-BEAE-9B0CCD66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35D0-F55D-4C08-ADF6-ED74531A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3B30-C3F3-42EA-8768-01B11189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5FDB-53A5-4243-A2E4-A26D5ACC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3BE3-3858-4037-966B-56F89700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DE9A-07FE-454B-9FB2-2BE695BA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98F9-1DAD-4829-9E2C-0CB23531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62F5-23E9-495D-85B9-1DC2810E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318-411D-49FC-BD05-F3ED1CFB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E861-E1FF-4423-90EE-5A93BD0D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F16A-9A5D-429E-AD5B-463140F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428F-139E-48ED-BA51-F742EF54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86E3-C959-4284-AE12-676EB6FE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A3BB-EFB5-4DB3-8108-3C8EE81E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BF2-8676-4FBB-B03B-4FBD3E02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05F-4B2C-4A83-9B83-A8BA6C86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55A-D7F7-470A-A4D3-ACF45F86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BF2-2B7F-4ECD-9107-184C75AA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32B-7DA4-43AE-9080-BD02A1B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039-4160-4904-A7B3-5FA847E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9DF-8295-42F4-9B07-98E715FF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C4C0-3AEA-47B5-AA4B-4188392191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1E93-E5DB-46CE-8FAF-34C1F3F803D2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Разбор глагола по составу</a:t>
            </a: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морфемный разбор</a:t>
            </a: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Цель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: сформировать и закрепить у учащихся представление о порядке разбора глагола по состав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Задачи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развитие умения видеть в слове его част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объяснять условия выбора орфограмм; расширить запасы знаний учеников по предмету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рядок разбо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Окончание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Основа слов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Корень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риставк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Суффикс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440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апомни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В основу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е входят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суффиксы: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В основу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ходят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суффиксы: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2060640"/>
            <a:ext cx="34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642960" y="1571760"/>
            <a:ext cx="2844720" cy="15714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0" y="4500720"/>
            <a:ext cx="3429000" cy="13572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5143680" y="1571760"/>
            <a:ext cx="2376360" cy="13572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Line 9"/>
          <p:cNvSpPr/>
          <p:nvPr/>
        </p:nvSpPr>
        <p:spPr>
          <a:xfrm flipH="1">
            <a:off x="2428560" y="1214280"/>
            <a:ext cx="1143000" cy="3574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2286000" y="4143240"/>
            <a:ext cx="1000080" cy="3574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4643280" y="1214280"/>
            <a:ext cx="1071720" cy="4287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71680" y="1643040"/>
            <a:ext cx="2928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.ф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ти   -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85880" y="4643280"/>
            <a:ext cx="221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звр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сь   -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5286240" y="1714680"/>
            <a:ext cx="223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ш.вр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2857680" y="2428920"/>
            <a:ext cx="342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чи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ть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         говори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л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пой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т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пе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ть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Прямая соединительная линия 18"/>
          <p:cNvSpPr/>
          <p:nvPr/>
        </p:nvSpPr>
        <p:spPr>
          <a:xfrm>
            <a:off x="3786120" y="4143240"/>
            <a:ext cx="928800" cy="428760"/>
          </a:xfrm>
          <a:prstGeom prst="line">
            <a:avLst/>
          </a:prstGeom>
          <a:ln w="9360">
            <a:solidFill>
              <a:srgbClr val="00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Прямая соединительная линия 24"/>
          <p:cNvSpPr/>
          <p:nvPr/>
        </p:nvSpPr>
        <p:spPr>
          <a:xfrm>
            <a:off x="5643720" y="5000760"/>
            <a:ext cx="0" cy="0"/>
          </a:xfrm>
          <a:prstGeom prst="line">
            <a:avLst/>
          </a:prstGeom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3643200" y="4286160"/>
            <a:ext cx="5500800" cy="24289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4214880" y="4357800"/>
            <a:ext cx="4214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ш. или буд. время –глагольный суффик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а-, -о-, -и-, -е-, -у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Разбор глагола по составу</a:t>
            </a: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морфемный разбор</a:t>
            </a: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облема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В каком порядке нужно разбирать глагол по составу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Алгоритм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Форма глагола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е входят в основу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Основа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Корень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Verdana"/>
              </a:rPr>
              <a:t>Приставка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10181c"/>
                </a:solidFill>
                <a:latin typeface="Verdana"/>
              </a:rPr>
              <a:t>суффикс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разец запис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Дум</a:t>
            </a: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ть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– глаг., н.ф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ff33cc"/>
                </a:solidFill>
                <a:latin typeface="Verdana"/>
              </a:rPr>
              <a:t>С</a:t>
            </a: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дел</a:t>
            </a: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е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– глаг., буд.вр., 1л., мн.ч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33cc"/>
                </a:solidFill>
                <a:latin typeface="Verdana"/>
              </a:rPr>
              <a:t>Рас</a:t>
            </a: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сказ</a:t>
            </a: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л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– глаг., прош.вр., ж.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Прямая соединительная линия 6"/>
          <p:cNvSpPr/>
          <p:nvPr/>
        </p:nvSpPr>
        <p:spPr>
          <a:xfrm flipV="1">
            <a:off x="2642400" y="4857480"/>
            <a:ext cx="142920" cy="142920"/>
          </a:xfrm>
          <a:prstGeom prst="line">
            <a:avLst/>
          </a:prstGeom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Прямая соединительная линия 12"/>
          <p:cNvSpPr/>
          <p:nvPr/>
        </p:nvSpPr>
        <p:spPr>
          <a:xfrm>
            <a:off x="2857680" y="4857840"/>
            <a:ext cx="142560" cy="214200"/>
          </a:xfrm>
          <a:prstGeom prst="line">
            <a:avLst/>
          </a:prstGeom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Прямая соединительная линия 14"/>
          <p:cNvSpPr/>
          <p:nvPr/>
        </p:nvSpPr>
        <p:spPr>
          <a:xfrm flipH="1" flipV="1">
            <a:off x="2642760" y="4928760"/>
            <a:ext cx="428760" cy="71640"/>
          </a:xfrm>
          <a:prstGeom prst="line">
            <a:avLst/>
          </a:prstGeom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Прямая соединительная линия 18"/>
          <p:cNvSpPr/>
          <p:nvPr/>
        </p:nvSpPr>
        <p:spPr>
          <a:xfrm>
            <a:off x="2714760" y="4714920"/>
            <a:ext cx="357120" cy="285840"/>
          </a:xfrm>
          <a:prstGeom prst="line">
            <a:avLst/>
          </a:prstGeom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7:21:35Z</dcterms:created>
  <dc:creator>Viktor</dc:creator>
  <dc:description/>
  <dc:language>en-US</dc:language>
  <cp:lastModifiedBy>Viktor</cp:lastModifiedBy>
  <dcterms:modified xsi:type="dcterms:W3CDTF">2016-04-24T20:11:23Z</dcterms:modified>
  <cp:revision>42</cp:revision>
  <dc:subject/>
  <dc:title>Разбор глагола по составу (морфемный разбор)</dc:title>
</cp:coreProperties>
</file>