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6C7-E0C5-467A-B1A7-D2A48429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7BD-2365-4BF5-ADC5-66690A53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E3A-561B-4D17-8001-40B5FEC4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817-B499-4AFC-B52E-8B08F83F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CC54-1C6A-4858-8568-E6F60C35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0704-20FF-415B-9593-FB1F7747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D5FA-86B3-4C7A-B415-8140AF00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DD0C-DC86-4811-8742-251EC993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DBAF-0D94-4B90-9C35-2B260236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0981-636F-4D11-A7F0-1E1AE10B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0D4-4BD9-43F0-A092-0715F10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53E-0E05-4259-B2DC-54EF1A4F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1F71-E75F-4C91-A5DA-D54104CD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E633-954C-4DF6-8CEE-EA3127E8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0267-E351-4A5E-8189-0EB73A07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F417-E632-47C8-B77C-B460947C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2A5E-7CB9-44DF-B346-CC0F49DF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753-4C4B-4182-88C6-00320063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494-81AC-4956-85EB-C41074D1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BF2-A0C1-4D80-B606-D4693663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479-7E8A-472A-BF3D-18A34803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E5F-F412-4F45-A761-9CF57CB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2D8-5852-4530-BB4B-F3C1A18B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BF8-018C-4DD7-92D9-0838777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440" cy="1140840"/>
                  <a:chOff x="7834320" y="842760"/>
                  <a:chExt cx="106344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7080" y="1603440"/>
                    <a:ext cx="47160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480"/>
                    <a:ext cx="425160" cy="24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760" y="456480"/>
                    <a:ext cx="339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400" y="905400"/>
                  <a:ext cx="1061280" cy="1142280"/>
                  <a:chOff x="6539400" y="905400"/>
                  <a:chExt cx="106128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920" y="1194120"/>
                    <a:ext cx="880200" cy="15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9200" y="1665720"/>
                    <a:ext cx="47160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753bcb"/>
                    </a:gs>
                    <a:gs pos="100000">
                      <a:srgbClr val="ff03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53bc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30600"/>
                  <a:ext cx="915120" cy="1247760"/>
                  <a:chOff x="6711120" y="930600"/>
                  <a:chExt cx="915120" cy="124776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4760" y="1259280"/>
                    <a:ext cx="8917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04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400" cy="1248120"/>
                  <a:chOff x="701496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600" y="1311120"/>
                    <a:ext cx="8254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520" y="1851480"/>
                    <a:ext cx="4374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320" cy="1217520"/>
                  <a:chOff x="7311960" y="1001160"/>
                  <a:chExt cx="364320" cy="12175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7320"/>
                    <a:ext cx="784440" cy="144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200" y="1877400"/>
                    <a:ext cx="421200" cy="225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960" cy="1262160"/>
                  <a:chOff x="7786800" y="956160"/>
                  <a:chExt cx="73296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840" y="1839960"/>
                    <a:ext cx="45468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240" y="1351800"/>
                    <a:ext cx="82188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64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240" y="1403640"/>
                    <a:ext cx="7423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280" y="1927800"/>
                    <a:ext cx="39744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03F6-C13B-454B-8395-27D04880E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520"/>
            <a:ext cx="6895800" cy="5451120"/>
            <a:chOff x="2011320" y="245520"/>
            <a:chExt cx="689580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7600"/>
              <a:ext cx="945720" cy="709920"/>
              <a:chOff x="3484080" y="95760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760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93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520"/>
              <a:ext cx="6895800" cy="5451120"/>
              <a:chOff x="2011320" y="245520"/>
              <a:chExt cx="689580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520"/>
                <a:ext cx="6891120" cy="5451120"/>
                <a:chOff x="201132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96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520"/>
                  <a:ext cx="6891120" cy="5451120"/>
                  <a:chOff x="201132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000" y="2320560"/>
                    <a:ext cx="2560680" cy="2741040"/>
                    <a:chOff x="5760000" y="2320560"/>
                    <a:chExt cx="2560680" cy="27410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520" y="3018600"/>
                      <a:ext cx="212904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3800"/>
                    <a:ext cx="3039840" cy="2531160"/>
                    <a:chOff x="5787720" y="2143800"/>
                    <a:chExt cx="3039840" cy="25311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6320"/>
                    <a:ext cx="3134520" cy="1608840"/>
                    <a:chOff x="5767920" y="1966320"/>
                    <a:chExt cx="313452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5560"/>
                      <a:ext cx="206748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6912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2240"/>
                    <a:ext cx="2658600" cy="443880"/>
                    <a:chOff x="5851440" y="1812240"/>
                    <a:chExt cx="265860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493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1760"/>
                    <a:ext cx="2363760" cy="784080"/>
                    <a:chOff x="5788440" y="1301760"/>
                    <a:chExt cx="236376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0320"/>
                      <a:ext cx="81648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4920" y="2472120"/>
                    <a:ext cx="2557080" cy="2739240"/>
                    <a:chOff x="2644920" y="2472120"/>
                    <a:chExt cx="2557080" cy="27392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960" y="3169080"/>
                      <a:ext cx="21254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0280" y="4291920"/>
                      <a:ext cx="114084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5200"/>
                    <a:ext cx="3039480" cy="2531520"/>
                    <a:chOff x="2084040" y="2365200"/>
                    <a:chExt cx="303948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920" y="2967840"/>
                      <a:ext cx="223416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3760"/>
                    <a:ext cx="3133800" cy="1609920"/>
                    <a:chOff x="2011320" y="218376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3000"/>
                      <a:ext cx="206784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8764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38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4440"/>
                    <a:ext cx="2323440" cy="1081800"/>
                    <a:chOff x="2887560" y="123444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38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8360"/>
                      <a:ext cx="81612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7280"/>
                    <a:ext cx="2170080" cy="1506600"/>
                    <a:chOff x="3161160" y="827280"/>
                    <a:chExt cx="217008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880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4520"/>
                    <a:ext cx="1987920" cy="1829160"/>
                    <a:chOff x="3436920" y="434520"/>
                    <a:chExt cx="1987920" cy="18291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640" y="664560"/>
                      <a:ext cx="8283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9120" y="322560"/>
                    <a:ext cx="1460880" cy="1898280"/>
                    <a:chOff x="4029120" y="322560"/>
                    <a:chExt cx="1460880" cy="18982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5840" y="1441800"/>
                      <a:ext cx="13600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4160" y="533520"/>
                      <a:ext cx="72936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7520"/>
                    <a:ext cx="2318760" cy="1112400"/>
                    <a:chOff x="5661720" y="947520"/>
                    <a:chExt cx="23187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576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840"/>
                    <a:ext cx="2202120" cy="1452600"/>
                    <a:chOff x="5529600" y="618840"/>
                    <a:chExt cx="220212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840" y="532440"/>
                    <a:ext cx="68004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60040" y="268560"/>
                    <a:ext cx="1189800" cy="1894680"/>
                    <a:chOff x="5360040" y="268560"/>
                    <a:chExt cx="1189800" cy="18946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840" y="1411560"/>
                      <a:ext cx="13071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4920"/>
                      <a:ext cx="70344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79440"/>
                    <a:ext cx="1890000" cy="1797840"/>
                    <a:chOff x="5350320" y="379440"/>
                    <a:chExt cx="1890000" cy="17978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79520"/>
                      <a:ext cx="142812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6360"/>
                      <a:ext cx="7675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4920"/>
                    <a:ext cx="1482480" cy="3004920"/>
                    <a:chOff x="3790440" y="2644920"/>
                    <a:chExt cx="1482480" cy="30049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800" y="3436560"/>
                      <a:ext cx="196884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480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6480" y="2692800"/>
                    <a:ext cx="875520" cy="2934360"/>
                    <a:chOff x="4506480" y="2692800"/>
                    <a:chExt cx="875520" cy="293436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2040" y="3481200"/>
                      <a:ext cx="1892520" cy="346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4640" y="4804920"/>
                      <a:ext cx="101340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89840"/>
                    <a:ext cx="1756800" cy="3032640"/>
                    <a:chOff x="5646600" y="2589840"/>
                    <a:chExt cx="17568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560" y="3392280"/>
                      <a:ext cx="203508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520"/>
                      <a:ext cx="10897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6800"/>
                <a:ext cx="6732720" cy="4527360"/>
                <a:chOff x="2174400" y="676800"/>
                <a:chExt cx="6732720" cy="45273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6800"/>
                  <a:ext cx="6732720" cy="4527360"/>
                  <a:chOff x="2174400" y="676800"/>
                  <a:chExt cx="6732720" cy="45273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0680"/>
                    <a:ext cx="3166560" cy="252828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7640"/>
                    <a:ext cx="2486880" cy="293652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8160"/>
                    <a:ext cx="1758240" cy="293760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6800"/>
                    <a:ext cx="228276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1640"/>
                    <a:ext cx="94068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03e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prstGeom prst="pie">
                    <a:avLst/>
                  </a:pr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3200"/>
                </a:xfrm>
                <a:prstGeom prst="pie">
                  <a:avLst/>
                </a:pr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40160"/>
              <a:ext cx="6411960" cy="4712040"/>
              <a:chOff x="2343960" y="740160"/>
              <a:chExt cx="6411960" cy="47120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6412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08560"/>
                <a:ext cx="2617200" cy="2843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5064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6688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79080"/>
                <a:ext cx="469800" cy="293616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6540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7660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7576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13520"/>
                <a:ext cx="1338480" cy="1880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2632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3704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38400"/>
                <a:ext cx="1872360" cy="131688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4016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8304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B1AD-D68C-4B04-834D-AD17D6ECD5B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610480" cy="16002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Bodoni MT Black"/>
              </a:rPr>
              <a:t>My great-grandfather - he is a           </a:t>
            </a:r>
            <a:br>
              <a:rPr sz="4000"/>
            </a:br>
            <a:r>
              <a:rPr b="0" lang="en-US" sz="4000" spc="-1" strike="noStrike">
                <a:solidFill>
                  <a:srgbClr val="c00000"/>
                </a:solidFill>
                <a:latin typeface="Bodoni MT Black"/>
              </a:rPr>
              <a:t>                    hero!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048120" y="5257800"/>
            <a:ext cx="5790960" cy="12952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odoni MT Black"/>
              </a:rPr>
              <a:t>Pupil</a:t>
            </a:r>
            <a:r>
              <a:rPr b="1" lang="ru-RU" sz="3200" spc="-1" strike="noStrike">
                <a:solidFill>
                  <a:srgbClr val="c00000"/>
                </a:solidFill>
                <a:latin typeface="Bodoni MT Black"/>
              </a:rPr>
              <a:t>:</a:t>
            </a:r>
            <a:r>
              <a:rPr b="1" lang="en-US" sz="3200" spc="-1" strike="noStrike">
                <a:solidFill>
                  <a:srgbClr val="c00000"/>
                </a:solidFill>
                <a:latin typeface="Bodoni MT Black"/>
              </a:rPr>
              <a:t> Juliana</a:t>
            </a:r>
            <a:r>
              <a:rPr b="1" lang="ru-RU" sz="3200" spc="-1" strike="noStrike">
                <a:solidFill>
                  <a:srgbClr val="c00000"/>
                </a:solidFill>
                <a:latin typeface="Bodoni MT Black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Bodoni MT Black"/>
              </a:rPr>
              <a:t>Anisovic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odoni MT Black"/>
              </a:rPr>
              <a:t>Teacher</a:t>
            </a:r>
            <a:r>
              <a:rPr b="1" lang="ru-RU" sz="3200" spc="-1" strike="noStrike">
                <a:solidFill>
                  <a:srgbClr val="c00000"/>
                </a:solidFill>
                <a:latin typeface="Bodoni MT Black"/>
              </a:rPr>
              <a:t>:</a:t>
            </a:r>
            <a:r>
              <a:rPr b="1" lang="en-US" sz="3200" spc="-1" strike="noStrike">
                <a:solidFill>
                  <a:srgbClr val="c00000"/>
                </a:solidFill>
                <a:latin typeface="Bodoni MT Black"/>
              </a:rPr>
              <a:t> Typeko Valentina Grigorevn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6" descr="IMG_20140621_111231"/>
          <p:cNvPicPr/>
          <p:nvPr/>
        </p:nvPicPr>
        <p:blipFill>
          <a:blip r:embed="rId1">
            <a:lum contrast="6000"/>
          </a:blip>
          <a:srcRect l="-2625" t="46055" r="57022" b="7872"/>
          <a:stretch/>
        </p:blipFill>
        <p:spPr>
          <a:xfrm rot="21001800">
            <a:off x="685440" y="228240"/>
            <a:ext cx="15238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        </a:t>
            </a:r>
            <a:r>
              <a:rPr b="0" lang="en-US" sz="4400" spc="-1" strike="noStrike">
                <a:solidFill>
                  <a:srgbClr val="cc0000"/>
                </a:solidFill>
                <a:latin typeface="Bodoni MT Black"/>
              </a:rPr>
              <a:t>War is terrible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81880" cy="44956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War is violence and destruction. She bring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death, hunger, cold, diseases or, orphanhood. If there was no war, how many people would be alive, they would have children and grandchildren. Examples shlos our people to move a lot of wars, but the greatest began on 22 June 1941 a terrible Patriotic War against the Nazis. It was a cruel and powerful enemy of all Soviet people courageously stood up to defend the homeland. Front and rear fought and worked to death! War broke into every house, every family. I know about the war from books and films, according to his letters from the front, fighting grandmother. It stores photos, award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96440" cy="12193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c00000"/>
                </a:solidFill>
                <a:latin typeface="Bodoni MT"/>
                <a:ea typeface="Times New Roman"/>
              </a:rPr>
              <a:t>Letter to my great-grandmother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Bodoni MT"/>
                <a:ea typeface="Times New Roman"/>
              </a:rPr>
              <a:t>                      in 1943!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6" name="Picture 5" descr="IMG_20140621_111149"/>
          <p:cNvPicPr/>
          <p:nvPr/>
        </p:nvPicPr>
        <p:blipFill>
          <a:blip r:embed="rId1"/>
          <a:srcRect l="0" t="8221" r="0" b="12332"/>
          <a:stretch/>
        </p:blipFill>
        <p:spPr>
          <a:xfrm>
            <a:off x="4419720" y="1828800"/>
            <a:ext cx="4389480" cy="4648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IMG_20140621_111108"/>
          <p:cNvPicPr/>
          <p:nvPr/>
        </p:nvPicPr>
        <p:blipFill>
          <a:blip r:embed="rId2">
            <a:lum bright="12000"/>
          </a:blip>
          <a:srcRect l="7841" t="2351" r="0" b="4709"/>
          <a:stretch/>
        </p:blipFill>
        <p:spPr>
          <a:xfrm>
            <a:off x="380880" y="1676520"/>
            <a:ext cx="3683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623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c00000"/>
                </a:solidFill>
                <a:latin typeface="Bodoni MT Black"/>
              </a:rPr>
              <a:t>My great – grandfather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42670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y great-grandfather’s name was Tolmachev Dmitry Petrovich. He was born in 1908 year on February 3. In the 32 years he met my great-grandmother Evdokia (Dunya). He met the war first and fought almost to Victor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436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96440" cy="1143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en-US" sz="4400" spc="-1" strike="noStrike">
                <a:solidFill>
                  <a:srgbClr val="c00000"/>
                </a:solidFill>
                <a:latin typeface="Bodoni MT Black"/>
              </a:rPr>
              <a:t>The</a:t>
            </a: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0" lang="ru-RU" sz="4400" spc="-1" strike="noStrike">
                <a:solidFill>
                  <a:srgbClr val="cc0000"/>
                </a:solidFill>
                <a:latin typeface="Arial Black"/>
              </a:rPr>
              <a:t>9 о</a:t>
            </a:r>
            <a:r>
              <a:rPr b="0" lang="en-US" sz="4400" spc="-1" strike="noStrike">
                <a:solidFill>
                  <a:srgbClr val="cc0000"/>
                </a:solidFill>
                <a:latin typeface="Bodoni MT Black"/>
              </a:rPr>
              <a:t>f May!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Bodoni MT Black"/>
              </a:rPr>
              <a:t>           </a:t>
            </a:r>
            <a:r>
              <a:rPr b="0" lang="en-US" sz="4000" spc="-1" strike="noStrike">
                <a:solidFill>
                  <a:srgbClr val="c00000"/>
                </a:solidFill>
                <a:latin typeface="Bodoni MT Black"/>
              </a:rPr>
              <a:t>1945-2015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9532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e celebrate the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ventieth     anniversary of Victory over fascist Germany in 2015. It is one of the greatest holidays. The Soviet Army won a great victory in 1945. The struggle was very difficult, many heroes gave their lives for our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therland, m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eat-grandfather too. He died in 1945 on Marc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.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I am proud of my great-grandfather - he is a hero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исович</cp:lastModifiedBy>
  <dcterms:modified xsi:type="dcterms:W3CDTF">2015-04-30T14:35:11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