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reeze.wav" ContentType="audio/x-wav"/>
  <Override PartName="/ppt/media/applause.wav" ContentType="audio/x-wav"/>
  <Override PartName="/ppt/media/image7.jpeg" ContentType="image/jpeg"/>
  <Override PartName="/ppt/media/image6.png" ContentType="image/png"/>
  <Override PartName="/ppt/media/chimes.wav" ContentType="audio/x-wav"/>
  <Override PartName="/ppt/media/arrow.wav" ContentType="audio/x-wav"/>
  <Override PartName="/ppt/media/image1.png" ContentType="image/png"/>
  <Override PartName="/ppt/media/type.wav" ContentType="audio/x-wav"/>
  <Override PartName="/ppt/media/laser.wav" ContentType="audio/x-wav"/>
  <Override PartName="/ppt/media/suction.wav" ContentType="audio/x-wav"/>
  <Override PartName="/ppt/media/image4.jpeg" ContentType="image/jpeg"/>
  <Override PartName="/ppt/media/image2.jpeg" ContentType="image/jpeg"/>
  <Override PartName="/ppt/media/image3.png" ContentType="image/png"/>
  <Override PartName="/ppt/media/click.wav" ContentType="audio/x-wav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12325"/>
</p:presentation>
</file>

<file path=ppt/commentAuthors.xml><?xml version="1.0" encoding="utf-8"?>
<p:cmAuthorLst xmlns:p="http://schemas.openxmlformats.org/presentationml/2006/main">
  <p:cmAuthor id="0" name="Романенко" initials="Р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6-02-11T21:59:37.729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280" y="728640"/>
            <a:ext cx="485748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C298-F061-4209-9A37-1C72E59E0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EFB3-F7AC-4538-B682-C87B3F21F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556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мо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ить тему и цели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сти формулы квадрата суммы и разности двух выра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геометрический смысл этих форму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применять эти формулы при преобразовании выраж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знания и умения в ходе самостоятельной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огическое мыш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ют самостоятельно в тетрадях, потом говорят отв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ют по одному примеру сразу проверя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г) решаем двумя способами, закрепляя формул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-a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DC52-3B1C-417E-BAAC-3692C88A8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ют самостоятельно в тетрадях, потом говорят 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решения задается домашнее зада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32 до примера 4 включительно, рассмотреть доказательство формул геометрическим способ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3604-15A6-4855-B8D3-CEA11B86A4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амостоятельная рабо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ранее заготовленных карточ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времени можно проверить в конце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C76E-817A-4274-AD89-7764C9F1D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8BB6-EE9F-4C09-9620-73CAEFD59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ктуализация знаний уча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озвести в квадрат (в степень) произведени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озвести в квадрат (в степень) дроб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6965-D362-48C2-836F-6EFF55726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 заполняем табл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130E-38B5-42C6-8C84-E1C48AFF85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яснение нового матери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им формулу «квадрат сумм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ем правило «квадрат сумм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BA5F-B35E-498A-BF15-FB3F3509C6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им формулу «квадрат раз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ем правило для «квадрата раз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9538-FE87-46B7-A4CC-0C9537B857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комментированием с мес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ем примеры на каждую из форм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D426-6513-4109-B256-BD3441491E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шение упраж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ем комментируя с места, обращаем внимание на примеры д) и 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ске и в тетрадях выписываем формулу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-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=(b-a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64A1-8E24-4C85-BE64-F3828312E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41160" y="4641840"/>
            <a:ext cx="54846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ют самостоятельно в карточ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9B50-480C-4545-B335-80149E70EE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афета. Решают по очереди по два  человека  у доски, остальные в тетрад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382C-8DB6-4C48-B2A2-97A09835A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D47-D49C-4587-9478-B5B5BB6D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A30-C867-42D4-B359-AB948206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017-FF96-45F9-B4CB-A9B5471C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B8C-F230-41AE-9792-FC63CADF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73E-A367-4779-98B2-5F4085A2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606-463F-4551-86B6-D8AC29A1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B0C-A16E-4132-9B28-620F32FA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257-CDF8-4ADE-BA00-90CA5903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A66-FB59-4B77-966F-BC8E5C21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2D0-3E3D-4750-9FB9-2F35C51A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C67-7D7C-43F1-A3E9-F5E61870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C2E-174E-4242-B71E-37DA30BF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5CC1-1ABF-405A-827C-CF7F8DBEC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voltage.wav" TargetMode="External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7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Возведение в квадрат суммы и разности двух выраж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3"/>
          <p:cNvSpPr/>
          <p:nvPr/>
        </p:nvSpPr>
        <p:spPr>
          <a:xfrm>
            <a:off x="6983280" y="4842000"/>
            <a:ext cx="2160720" cy="2016000"/>
          </a:xfrm>
          <a:prstGeom prst="rect">
            <a:avLst/>
          </a:prstGeom>
          <a:gradFill rotWithShape="0">
            <a:gsLst>
              <a:gs pos="0">
                <a:srgbClr val="1cc238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" name="Rectangle 134"/>
          <p:cNvSpPr/>
          <p:nvPr/>
        </p:nvSpPr>
        <p:spPr>
          <a:xfrm>
            <a:off x="6464160" y="4286160"/>
            <a:ext cx="2160720" cy="2016360"/>
          </a:xfrm>
          <a:prstGeom prst="rect">
            <a:avLst/>
          </a:prstGeom>
          <a:gradFill rotWithShape="0">
            <a:gsLst>
              <a:gs pos="0">
                <a:srgbClr val="1cc238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Rectangle 135"/>
          <p:cNvSpPr/>
          <p:nvPr/>
        </p:nvSpPr>
        <p:spPr>
          <a:xfrm>
            <a:off x="5945040" y="3605040"/>
            <a:ext cx="2160720" cy="2016360"/>
          </a:xfrm>
          <a:prstGeom prst="rect">
            <a:avLst/>
          </a:prstGeom>
          <a:gradFill rotWithShape="0">
            <a:gsLst>
              <a:gs pos="0">
                <a:srgbClr val="1cc238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Rectangle 137"/>
          <p:cNvSpPr/>
          <p:nvPr/>
        </p:nvSpPr>
        <p:spPr>
          <a:xfrm>
            <a:off x="2050920" y="3789360"/>
            <a:ext cx="2016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979640" y="1773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Формулы сокращённого умножения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2"/>
          <p:cNvSpPr/>
          <p:nvPr/>
        </p:nvSpPr>
        <p:spPr>
          <a:xfrm>
            <a:off x="533520" y="3048120"/>
            <a:ext cx="1828800" cy="53316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ыполните возведение в квадр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43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7-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2a+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-3p+q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5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1/3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9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618920" y="1523880"/>
            <a:ext cx="25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…=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10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5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618920" y="2057400"/>
            <a:ext cx="25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=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49-1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i="1" lang="ru-RU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i="1" lang="ru-RU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855440" y="251460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…=4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4b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a+b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8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3352680" y="35053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…=q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6q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p+9p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923480" y="35053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(q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3p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2169360" y="388620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…=25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20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4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2702880" y="4495680"/>
            <a:ext cx="38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…=1/9 m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8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6m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81n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917640" y="476280"/>
            <a:ext cx="78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(</a:t>
            </a:r>
            <a:r>
              <a:rPr b="1" i="1" lang="ru-RU" sz="2800" spc="-1" strike="noStrike">
                <a:solidFill>
                  <a:srgbClr val="da0423"/>
                </a:solidFill>
                <a:latin typeface="Times New Roman"/>
              </a:rPr>
              <a:t> самостоятельно решаем и говорим ответы…)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50200" y="3048120"/>
            <a:ext cx="19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9p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6pq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q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2000520" y="3048120"/>
            <a:ext cx="27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=((-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p)+q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…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редставьте в виде многочле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2b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3y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7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12a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15x-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3y+8y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4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11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423880" y="333360"/>
            <a:ext cx="67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a0423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da0423"/>
                </a:solidFill>
                <a:latin typeface="Times New Roman"/>
              </a:rPr>
              <a:t>самостоятельно решаем и говорим ответы…)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2202840" y="806400"/>
            <a:ext cx="24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4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b+4b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2355840" y="145404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6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9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8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700360" y="19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2713320" y="2030400"/>
            <a:ext cx="35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49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1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168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7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144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203200" y="2606760"/>
            <a:ext cx="276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225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30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2427840" y="3182760"/>
            <a:ext cx="29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9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48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64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10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2633400" y="3759120"/>
            <a:ext cx="31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16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88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5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121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4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AutoShape 20">
            <a:hlinkClick r:id="" action="ppaction://hlinkshowjump?jump=nextslide"/>
            <a:hlinkClick r:id="rId1"/>
          </p:cNvPr>
          <p:cNvSpPr/>
          <p:nvPr/>
        </p:nvSpPr>
        <p:spPr>
          <a:xfrm>
            <a:off x="7956720" y="5805360"/>
            <a:ext cx="971280" cy="827280"/>
          </a:xfrm>
          <a:custGeom>
            <a:avLst/>
            <a:gdLst>
              <a:gd name="textAreaLeft" fmla="*/ 53640 w 971280"/>
              <a:gd name="textAreaRight" fmla="*/ 917640 w 97128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25358" h="21600">
                <a:moveTo>
                  <a:pt x="0" y="0"/>
                </a:moveTo>
                <a:lnTo>
                  <a:pt x="25358" y="0"/>
                </a:lnTo>
                <a:lnTo>
                  <a:pt x="25358" y="21600"/>
                </a:lnTo>
                <a:lnTo>
                  <a:pt x="0" y="21600"/>
                </a:lnTo>
                <a:close/>
              </a:path>
              <a:path fill="lightenLess" w="25358" h="21600">
                <a:moveTo>
                  <a:pt x="0" y="0"/>
                </a:moveTo>
                <a:lnTo>
                  <a:pt x="25358" y="0"/>
                </a:lnTo>
                <a:lnTo>
                  <a:pt x="23958" y="1400"/>
                </a:lnTo>
                <a:lnTo>
                  <a:pt x="1400" y="1400"/>
                </a:lnTo>
                <a:close/>
              </a:path>
              <a:path fill="darken" w="25358" h="21600">
                <a:moveTo>
                  <a:pt x="25358" y="0"/>
                </a:moveTo>
                <a:lnTo>
                  <a:pt x="25358" y="21600"/>
                </a:lnTo>
                <a:lnTo>
                  <a:pt x="23958" y="20200"/>
                </a:lnTo>
                <a:lnTo>
                  <a:pt x="23958" y="1400"/>
                </a:lnTo>
                <a:close/>
              </a:path>
              <a:path fill="darkenLess" w="25358" h="21600">
                <a:moveTo>
                  <a:pt x="25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58" y="20200"/>
                </a:lnTo>
                <a:close/>
              </a:path>
              <a:path fill="lighten" w="25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58" h="21600">
                <a:moveTo>
                  <a:pt x="1267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358" h="21600">
                <a:moveTo>
                  <a:pt x="1267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358" h="21600">
                <a:moveTo>
                  <a:pt x="10103" y="8224"/>
                </a:moveTo>
                <a:lnTo>
                  <a:pt x="13967" y="8224"/>
                </a:lnTo>
                <a:lnTo>
                  <a:pt x="13967" y="15221"/>
                </a:lnTo>
                <a:lnTo>
                  <a:pt x="15255" y="15221"/>
                </a:lnTo>
                <a:lnTo>
                  <a:pt x="15255" y="16144"/>
                </a:lnTo>
                <a:lnTo>
                  <a:pt x="10103" y="16144"/>
                </a:lnTo>
                <a:lnTo>
                  <a:pt x="10103" y="15221"/>
                </a:lnTo>
                <a:lnTo>
                  <a:pt x="11391" y="15221"/>
                </a:lnTo>
                <a:lnTo>
                  <a:pt x="11391" y="9129"/>
                </a:lnTo>
                <a:lnTo>
                  <a:pt x="10103" y="912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+5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6-c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5a-2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-x-3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a+b+c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88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2+y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-12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2x+9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-y-7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+y-z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55640" y="1773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1401840" y="7650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ариант 1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6010200" y="76500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ариант 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39640" y="422100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2133000" y="1558800"/>
            <a:ext cx="21301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x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10x+25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36-12c+c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25a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-20a+4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a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2a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1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x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6x+9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6597720" y="1484280"/>
            <a:ext cx="220788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4+4y+y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x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-24x+144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4x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36x+81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b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2b</a:t>
            </a:r>
            <a:r>
              <a:rPr b="0" i="1" lang="ru-RU" sz="28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1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=y</a:t>
            </a:r>
            <a:r>
              <a:rPr b="0" i="1" lang="en-US" sz="2800" spc="-1" strike="noStrike" baseline="30000">
                <a:solidFill>
                  <a:srgbClr val="0707ad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707ad"/>
                </a:solidFill>
                <a:latin typeface="Times New Roman"/>
              </a:rPr>
              <a:t>+14y+49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2268360" y="429264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2347920" y="422100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(a+(b+c))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1273680" y="4653000"/>
            <a:ext cx="30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=a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+2a(b+c)+(b+c)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6647760" y="4241880"/>
            <a:ext cx="17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=(x+(y-z))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417240" y="5013360"/>
            <a:ext cx="38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a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2ab+2ac+(b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2bc+c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)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469800" y="5465880"/>
            <a:ext cx="34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a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b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c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2ab+2ac+2bc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5737680" y="4653000"/>
            <a:ext cx="27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x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2x(y-z)+(y-z)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4952520" y="5013360"/>
            <a:ext cx="35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x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2xy-2xz+(y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-2yz+z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)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4932000" y="5394240"/>
            <a:ext cx="31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=x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y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z</a:t>
            </a:r>
            <a:r>
              <a:rPr b="0" i="1" lang="en-US" sz="2400" spc="-1" strike="noStrike" baseline="30000">
                <a:solidFill>
                  <a:srgbClr val="0707ad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707ad"/>
                </a:solidFill>
                <a:latin typeface="Times New Roman"/>
              </a:rPr>
              <a:t>+2xy-2xz-2yz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1" name="AutoShape 28">
            <a:hlinkClick r:id="rId2" action="ppaction://hlinksldjump"/>
          </p:cNvPr>
          <p:cNvSpPr/>
          <p:nvPr/>
        </p:nvSpPr>
        <p:spPr>
          <a:xfrm>
            <a:off x="8244000" y="5950080"/>
            <a:ext cx="682560" cy="78264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782640"/>
              <a:gd name="textAreaBottom" fmla="*/ 738720 h 782640"/>
            </a:gdLst>
            <a:ahLst/>
            <a:rect l="textAreaLeft" t="textAreaTop" r="textAreaRight" b="textAreaBottom"/>
            <a:pathLst>
              <a:path w="21600" h="24765">
                <a:moveTo>
                  <a:pt x="0" y="0"/>
                </a:moveTo>
                <a:lnTo>
                  <a:pt x="21600" y="0"/>
                </a:lnTo>
                <a:lnTo>
                  <a:pt x="21600" y="24765"/>
                </a:lnTo>
                <a:lnTo>
                  <a:pt x="0" y="24765"/>
                </a:lnTo>
                <a:close/>
              </a:path>
              <a:path fill="lightenLess" w="21600" h="247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65">
                <a:moveTo>
                  <a:pt x="21600" y="0"/>
                </a:moveTo>
                <a:lnTo>
                  <a:pt x="21600" y="24765"/>
                </a:lnTo>
                <a:lnTo>
                  <a:pt x="20200" y="23365"/>
                </a:lnTo>
                <a:lnTo>
                  <a:pt x="20200" y="1400"/>
                </a:lnTo>
                <a:close/>
              </a:path>
              <a:path fill="darkenLess" w="21600" h="24765">
                <a:moveTo>
                  <a:pt x="21600" y="24765"/>
                </a:moveTo>
                <a:lnTo>
                  <a:pt x="0" y="24765"/>
                </a:lnTo>
                <a:lnTo>
                  <a:pt x="1400" y="23365"/>
                </a:lnTo>
                <a:lnTo>
                  <a:pt x="20200" y="23365"/>
                </a:lnTo>
                <a:close/>
              </a:path>
              <a:path fill="lighten" w="21600" h="24765">
                <a:moveTo>
                  <a:pt x="0" y="247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65"/>
                </a:lnTo>
                <a:close/>
              </a:path>
              <a:path fill="darken" w="21600" h="24765">
                <a:moveTo>
                  <a:pt x="3794" y="9075"/>
                </a:moveTo>
                <a:lnTo>
                  <a:pt x="7301" y="9075"/>
                </a:lnTo>
                <a:lnTo>
                  <a:pt x="7301" y="14411"/>
                </a:lnTo>
                <a:cubicBezTo>
                  <a:pt x="7301" y="15333"/>
                  <a:pt x="8102" y="16064"/>
                  <a:pt x="9138" y="16064"/>
                </a:cubicBezTo>
                <a:lnTo>
                  <a:pt x="10800" y="16064"/>
                </a:lnTo>
                <a:cubicBezTo>
                  <a:pt x="11836" y="16064"/>
                  <a:pt x="12636" y="15333"/>
                  <a:pt x="12636" y="14411"/>
                </a:cubicBezTo>
                <a:lnTo>
                  <a:pt x="12636" y="9075"/>
                </a:lnTo>
                <a:lnTo>
                  <a:pt x="10800" y="9075"/>
                </a:lnTo>
                <a:lnTo>
                  <a:pt x="14308" y="5568"/>
                </a:lnTo>
                <a:lnTo>
                  <a:pt x="17981" y="9075"/>
                </a:lnTo>
                <a:lnTo>
                  <a:pt x="16144" y="9075"/>
                </a:lnTo>
                <a:lnTo>
                  <a:pt x="16144" y="14411"/>
                </a:lnTo>
                <a:cubicBezTo>
                  <a:pt x="16144" y="17178"/>
                  <a:pt x="13568" y="19737"/>
                  <a:pt x="10800" y="19737"/>
                </a:cubicBezTo>
                <a:lnTo>
                  <a:pt x="9138" y="19737"/>
                </a:lnTo>
                <a:cubicBezTo>
                  <a:pt x="6370" y="19737"/>
                  <a:pt x="3794" y="17178"/>
                  <a:pt x="3794" y="14411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12"/>
          <p:cNvSpPr txBox="1"/>
          <p:nvPr/>
        </p:nvSpPr>
        <p:spPr>
          <a:xfrm>
            <a:off x="1908000" y="1125360"/>
            <a:ext cx="5904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i="1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окончен!</a:t>
            </a:r>
            <a:endParaRPr b="0" i="1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 за внимание!</a:t>
            </a:r>
            <a:endParaRPr b="0" i="1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30492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378"/>
          <p:cNvSpPr/>
          <p:nvPr/>
        </p:nvSpPr>
        <p:spPr>
          <a:xfrm>
            <a:off x="0" y="549360"/>
            <a:ext cx="3922560" cy="2952720"/>
          </a:xfrm>
          <a:prstGeom prst="verticalScroll">
            <a:avLst>
              <a:gd name="adj" fmla="val 12500"/>
            </a:avLst>
          </a:prstGeom>
          <a:solidFill>
            <a:srgbClr val="083b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" name="AutoShape 377"/>
          <p:cNvSpPr/>
          <p:nvPr/>
        </p:nvSpPr>
        <p:spPr>
          <a:xfrm>
            <a:off x="4788000" y="692280"/>
            <a:ext cx="3671640" cy="3671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a4dd4"/>
              </a:gs>
              <a:gs pos="100000">
                <a:srgbClr val="05246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19640" y="-3160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Размин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очитайте выражени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(a+b)(a-b)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-b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+b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(a-b)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(a+b)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2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6000" y="112500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озведите в квадрат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,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,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2x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/5 b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1/4 m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0,1 y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3640" y="1266840"/>
            <a:ext cx="268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Text Box 188"/>
          <p:cNvSpPr/>
          <p:nvPr/>
        </p:nvSpPr>
        <p:spPr>
          <a:xfrm>
            <a:off x="6159240" y="1413000"/>
            <a:ext cx="11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0,04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0,25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4x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1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25 b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1/16 m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0,01 y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AutoShape 195"/>
          <p:cNvSpPr/>
          <p:nvPr/>
        </p:nvSpPr>
        <p:spPr>
          <a:xfrm>
            <a:off x="1619280" y="3284640"/>
            <a:ext cx="3457440" cy="3429000"/>
          </a:xfrm>
          <a:prstGeom prst="verticalScroll">
            <a:avLst>
              <a:gd name="adj" fmla="val 12500"/>
            </a:avLst>
          </a:prstGeom>
          <a:solidFill>
            <a:srgbClr val="0707a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Text Box 197"/>
          <p:cNvSpPr/>
          <p:nvPr/>
        </p:nvSpPr>
        <p:spPr>
          <a:xfrm>
            <a:off x="2411280" y="364500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редставьте 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виде квадрата: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" name="Text Box 198"/>
          <p:cNvSpPr/>
          <p:nvPr/>
        </p:nvSpPr>
        <p:spPr>
          <a:xfrm>
            <a:off x="2340000" y="4437000"/>
            <a:ext cx="3692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x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6a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4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0,16x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6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6,25b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" name="Text Box 376"/>
          <p:cNvSpPr/>
          <p:nvPr/>
        </p:nvSpPr>
        <p:spPr>
          <a:xfrm>
            <a:off x="3138480" y="4437000"/>
            <a:ext cx="10933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(3x)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10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(6a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(0,4x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=(2,5b)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олните таблиц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4920" y="2276640"/>
          <a:ext cx="9109080" cy="2952720"/>
        </p:xfrm>
        <a:graphic>
          <a:graphicData uri="http://schemas.openxmlformats.org/drawingml/2006/table">
            <a:tbl>
              <a:tblPr/>
              <a:tblGrid>
                <a:gridCol w="1803240"/>
                <a:gridCol w="912960"/>
                <a:gridCol w="912960"/>
                <a:gridCol w="914400"/>
                <a:gridCol w="912600"/>
                <a:gridCol w="912960"/>
                <a:gridCol w="912600"/>
                <a:gridCol w="914400"/>
                <a:gridCol w="91296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i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военное произведение</a:t>
                      </a:r>
                      <a:endParaRPr b="0" i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Rectangle 61"/>
          <p:cNvSpPr/>
          <p:nvPr/>
        </p:nvSpPr>
        <p:spPr>
          <a:xfrm>
            <a:off x="3200400" y="-57240"/>
            <a:ext cx="22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азминка</a:t>
            </a:r>
            <a:endParaRPr b="0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1815840" y="249084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; y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2771640" y="24922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; m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3758400" y="2490840"/>
            <a:ext cx="8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; 0,5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1" name="Text Box 65"/>
          <p:cNvSpPr/>
          <p:nvPr/>
        </p:nvSpPr>
        <p:spPr>
          <a:xfrm>
            <a:off x="4570560" y="249228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y; 4x 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Text Box 66"/>
          <p:cNvSpPr/>
          <p:nvPr/>
        </p:nvSpPr>
        <p:spPr>
          <a:xfrm>
            <a:off x="5507640" y="2421000"/>
            <a:ext cx="77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3x;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5a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Text Box 67"/>
          <p:cNvSpPr/>
          <p:nvPr/>
        </p:nvSpPr>
        <p:spPr>
          <a:xfrm>
            <a:off x="6351120" y="2417760"/>
            <a:ext cx="76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c; 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1x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Text Box 68"/>
          <p:cNvSpPr/>
          <p:nvPr/>
        </p:nvSpPr>
        <p:spPr>
          <a:xfrm>
            <a:off x="7379640" y="2421000"/>
            <a:ext cx="93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 m; 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Text Box 69"/>
          <p:cNvSpPr/>
          <p:nvPr/>
        </p:nvSpPr>
        <p:spPr>
          <a:xfrm>
            <a:off x="8299800" y="2417760"/>
            <a:ext cx="7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Text Box 70"/>
          <p:cNvSpPr/>
          <p:nvPr/>
        </p:nvSpPr>
        <p:spPr>
          <a:xfrm>
            <a:off x="1959840" y="342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896200" y="34257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m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Text Box 72"/>
          <p:cNvSpPr/>
          <p:nvPr/>
        </p:nvSpPr>
        <p:spPr>
          <a:xfrm>
            <a:off x="3759120" y="342576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5b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Text Box 73"/>
          <p:cNvSpPr/>
          <p:nvPr/>
        </p:nvSpPr>
        <p:spPr>
          <a:xfrm>
            <a:off x="4716360" y="34290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xy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Text Box 74"/>
          <p:cNvSpPr/>
          <p:nvPr/>
        </p:nvSpPr>
        <p:spPr>
          <a:xfrm>
            <a:off x="5558400" y="34257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15xa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Text Box 75"/>
          <p:cNvSpPr/>
          <p:nvPr/>
        </p:nvSpPr>
        <p:spPr>
          <a:xfrm>
            <a:off x="6660720" y="34290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x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2" name="Text Box 76"/>
          <p:cNvSpPr/>
          <p:nvPr/>
        </p:nvSpPr>
        <p:spPr>
          <a:xfrm>
            <a:off x="7359480" y="342576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mn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Text Box 77"/>
          <p:cNvSpPr/>
          <p:nvPr/>
        </p:nvSpPr>
        <p:spPr>
          <a:xfrm>
            <a:off x="8321040" y="342900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4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Text Box 78"/>
          <p:cNvSpPr/>
          <p:nvPr/>
        </p:nvSpPr>
        <p:spPr>
          <a:xfrm>
            <a:off x="1887480" y="44337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xy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Text Box 79"/>
          <p:cNvSpPr/>
          <p:nvPr/>
        </p:nvSpPr>
        <p:spPr>
          <a:xfrm>
            <a:off x="2843280" y="4437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m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Text Box 80"/>
          <p:cNvSpPr/>
          <p:nvPr/>
        </p:nvSpPr>
        <p:spPr>
          <a:xfrm>
            <a:off x="399708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Text Box 81"/>
          <p:cNvSpPr/>
          <p:nvPr/>
        </p:nvSpPr>
        <p:spPr>
          <a:xfrm>
            <a:off x="4695840" y="44337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xy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Text Box 82"/>
          <p:cNvSpPr/>
          <p:nvPr/>
        </p:nvSpPr>
        <p:spPr>
          <a:xfrm>
            <a:off x="5559120" y="443376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3xa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6496920" y="44337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cx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7360560" y="44337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Text Box 85"/>
          <p:cNvSpPr/>
          <p:nvPr/>
        </p:nvSpPr>
        <p:spPr>
          <a:xfrm>
            <a:off x="8371800" y="443376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8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2"/>
          <p:cNvSpPr/>
          <p:nvPr/>
        </p:nvSpPr>
        <p:spPr>
          <a:xfrm>
            <a:off x="250920" y="3284640"/>
            <a:ext cx="8497800" cy="2520720"/>
          </a:xfrm>
          <a:prstGeom prst="horizontalScroll">
            <a:avLst>
              <a:gd name="adj" fmla="val 125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278160" y="621360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473760" y="0"/>
            <a:ext cx="49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озведём в квадрат сумму  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а+в: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55040" y="568440"/>
            <a:ext cx="11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(а+в)</a:t>
            </a:r>
            <a:r>
              <a:rPr b="1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384560" y="56844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(а+в)(а+в)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002040" y="549360"/>
            <a:ext cx="19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1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+ав+ав+в</a:t>
            </a:r>
            <a:r>
              <a:rPr b="1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4802760" y="54936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1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+2ав+в</a:t>
            </a:r>
            <a:r>
              <a:rPr b="1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1080" y="169848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Значи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476360" y="1628640"/>
            <a:ext cx="388944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а+в)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а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+2ав+в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5505840" y="1843200"/>
            <a:ext cx="31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—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формула квадрата суммы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11280" y="371628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вадрат суммы двух выражений равен квадрату первого выражения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плюс удвоенное произведение первого и второго выражений, плюс квадрат второго выражения.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2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4"/>
          <p:cNvSpPr/>
          <p:nvPr/>
        </p:nvSpPr>
        <p:spPr>
          <a:xfrm>
            <a:off x="324000" y="2997360"/>
            <a:ext cx="8424720" cy="2781000"/>
          </a:xfrm>
          <a:prstGeom prst="horizontalScroll">
            <a:avLst>
              <a:gd name="adj" fmla="val 125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278160" y="621360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72320" y="0"/>
            <a:ext cx="51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озведём в квадрат разность 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а-в: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83400" y="546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(а-в)</a:t>
            </a:r>
            <a:r>
              <a:rPr b="0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58560" y="5493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(а-в)(а-в)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714040" y="549360"/>
            <a:ext cx="18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-ав-ав+в</a:t>
            </a:r>
            <a:r>
              <a:rPr b="0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441680" y="54936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-2ав+в</a:t>
            </a:r>
            <a:r>
              <a:rPr b="0" i="1" lang="ru-RU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080" y="169848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Значи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476360" y="1628640"/>
            <a:ext cx="388944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а-в)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а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2ав+в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506920" y="1843200"/>
            <a:ext cx="342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—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формула квадрата разности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755640" y="335772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вадрат разности двух выражений равен квадрату первого выражения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минус удвоенное произведение первого и второго выражений, плюс квадрат второго выражения.  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2160" y="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: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135840" y="-138600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70440" y="546120"/>
            <a:ext cx="40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едём в квадрат сумму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4х+3: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3440" y="112536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4х+3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243440" y="1122480"/>
            <a:ext cx="6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4х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835280" y="11095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+2•4х•3+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848320" y="1125360"/>
            <a:ext cx="5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280680" y="112536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6х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3780000" y="112536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+24х+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573080" y="112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46080" y="1844640"/>
            <a:ext cx="49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Возведём в квадрат разност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х-3у: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97440" y="2565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8х-3у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1386360" y="2563920"/>
            <a:ext cx="6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8х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885680" y="256392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8х•3у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2826000" y="2563920"/>
            <a:ext cx="9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+(3у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690360" y="256392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64х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119120" y="256392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48ху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699440" y="256392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+9у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3"/>
          <p:cNvSpPr/>
          <p:nvPr/>
        </p:nvSpPr>
        <p:spPr>
          <a:xfrm>
            <a:off x="179280" y="3429000"/>
            <a:ext cx="2808360" cy="792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b13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 в виде многочле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+y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-y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+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10-c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-9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9-y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+12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15-x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-0,5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0,3-m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80360" y="1557360"/>
            <a:ext cx="4503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540800" y="1576440"/>
            <a:ext cx="14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+2xy+y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69880" y="20098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-2py+y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628280" y="2492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+6b+9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626480" y="2924280"/>
            <a:ext cx="16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100-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c+c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483920" y="33577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-18y+81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1483920" y="378936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81-18y+y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772640" y="42210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i="1" lang="ru-RU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+24a+144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626840" y="465300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225-30x+x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1700640" y="508464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-b+0,25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1773000" y="558972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0,09-0,6m+m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327480" y="337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TextBox 18"/>
          <p:cNvSpPr/>
          <p:nvPr/>
        </p:nvSpPr>
        <p:spPr>
          <a:xfrm>
            <a:off x="4500720" y="350028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cc"/>
                </a:solidFill>
                <a:latin typeface="Times New Roman"/>
              </a:rPr>
              <a:t>a-b)</a:t>
            </a:r>
            <a:r>
              <a:rPr b="0" i="1" lang="en-US" sz="40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0000cc"/>
                </a:solidFill>
                <a:latin typeface="Times New Roman"/>
              </a:rPr>
              <a:t>=(b-a)</a:t>
            </a:r>
            <a:r>
              <a:rPr b="0" i="1" lang="en-US" sz="40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5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6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4"/>
          <p:cNvSpPr/>
          <p:nvPr/>
        </p:nvSpPr>
        <p:spPr>
          <a:xfrm>
            <a:off x="179280" y="0"/>
            <a:ext cx="7417080" cy="136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ed63e"/>
              </a:gs>
              <a:gs pos="100000">
                <a:srgbClr val="1d631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Замените пропуски одночленом так, чтобы получившееся равенство было тождеств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  +2b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4ab+4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3x+   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9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6ax+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    -2m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100-40m+4m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      -9c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36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108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+81c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15y+         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225y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12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+0,16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3a+2,5b)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9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6,25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64920" y="128916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стно 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96000" y="1628640"/>
            <a:ext cx="4032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)</a:t>
            </a: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4436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a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672920" y="2246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a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042920" y="278136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10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052640" y="3284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6a</a:t>
            </a:r>
            <a:r>
              <a:rPr b="1" i="1" lang="en-US" sz="2800" spc="-1" strike="noStrike" baseline="30000">
                <a:solidFill>
                  <a:srgbClr val="da0423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825920" y="383076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0,4x</a:t>
            </a:r>
            <a:r>
              <a:rPr b="1" i="1" lang="en-US" sz="2800" spc="-1" strike="noStrike" baseline="30000">
                <a:solidFill>
                  <a:srgbClr val="da0423"/>
                </a:solidFill>
                <a:latin typeface="Times New Roman"/>
              </a:rPr>
              <a:t>3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4552200" y="43340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a0423"/>
                </a:solidFill>
                <a:latin typeface="Times New Roman"/>
              </a:rPr>
              <a:t>15ab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. Преобразуйте выражение: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x+3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7y-6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10+8k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5y-4x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5a+1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 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1/4 m-2n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0,3x-0,5a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10c+0,1y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564920" y="1413000"/>
            <a:ext cx="27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(2x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2x•3+3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294440" y="141300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01eb4"/>
                </a:solidFill>
                <a:latin typeface="Times New Roman"/>
              </a:rPr>
              <a:t>4x</a:t>
            </a:r>
            <a:r>
              <a:rPr b="0" i="1" lang="en-US" sz="2800" spc="-1" strike="noStrike" baseline="30000">
                <a:solidFill>
                  <a:srgbClr val="301eb4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01eb4"/>
                </a:solidFill>
                <a:latin typeface="Times New Roman"/>
              </a:rPr>
              <a:t>+12x+9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419840" y="1844640"/>
            <a:ext cx="26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7y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7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6+6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i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4004640" y="184464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49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84y+36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564200" y="2205000"/>
            <a:ext cx="31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8k+(8k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4509360" y="220500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00+160k+64k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564920" y="2637000"/>
            <a:ext cx="32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(5y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2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5y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4x+(4x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4660920" y="263700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25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40xy+16x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908000" y="2997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(5a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5a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/5 b+(1/5 b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5724360" y="2997360"/>
            <a:ext cx="31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25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ab+1/25 b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2067840" y="3429000"/>
            <a:ext cx="42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(1/4 m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2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/4 m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2n+(2n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6174720" y="3429000"/>
            <a:ext cx="25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/16 m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mn+4n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2067480" y="3860640"/>
            <a:ext cx="43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(0,3x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2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•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0,3x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0,5a+(0,5a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6138720" y="3860640"/>
            <a:ext cx="31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0,09x</a:t>
            </a:r>
            <a:r>
              <a:rPr b="0" i="1" lang="ru-RU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-0,3xa+0,25a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Text Box 33"/>
          <p:cNvSpPr/>
          <p:nvPr/>
        </p:nvSpPr>
        <p:spPr>
          <a:xfrm>
            <a:off x="1996560" y="4581360"/>
            <a:ext cx="42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(10c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•10c•0,1y+(0,1y)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6902280" y="5911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6102720" y="458136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00c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+2cy+0,01y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endParaRPr b="0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5:19:24Z</dcterms:created>
  <dc:creator>Романенко</dc:creator>
  <dc:description/>
  <dc:language>en-US</dc:language>
  <cp:lastModifiedBy>Ирина</cp:lastModifiedBy>
  <dcterms:modified xsi:type="dcterms:W3CDTF">2015-02-08T12:49:39Z</dcterms:modified>
  <cp:revision>44</cp:revision>
  <dc:subject/>
  <dc:title>Возведение в квадрат суммы и разности двух выражений.</dc:title>
</cp:coreProperties>
</file>