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1BA-3BAA-4A25-82E2-3A6C60C7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4AC-3FD0-4726-9A74-BBFE604F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812-0970-48EA-8B4C-0AE1AF48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0DF-A6B4-44DF-BA66-91903479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6C19-83DE-43DB-9415-CC4A1267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CB16-C70C-4A80-95BF-4ECCA42D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5EBB-269E-4241-A8EC-AAA504C8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A79C-1795-4BFA-A7C7-B521510F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13A5-DCD5-4676-8457-B7F085E1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CC86-6D3F-47BA-8681-2BDD2521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62B1-02B5-43AF-8564-996807E8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292-3179-42C7-8FE7-D7C624AB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7F80-ECFA-46D1-B0CE-B9DDA35A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13A4-F0A2-4B59-B004-595177CE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2D6C-6E0B-4E2D-AC3B-821781FE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80AF-7F3F-45D7-A3AB-C658CD1A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C9A0-B950-4E84-BDEB-142ACD27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828-1C51-4B90-976B-6F013B6C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C40-6EA3-4AA8-A5AE-6C0C1F1A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4EF-FC2A-443A-9EF4-90557E24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442-6845-4B33-9845-96DF8BF3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016-61D0-4641-959E-23BF1E67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CA3-AD93-48E7-9189-2B8212D4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55B-3C9E-466C-9283-39A8D42E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DB168A-3148-46A3-980A-B7A66EE47E5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A97F5A-7A40-47FE-B1FD-333C54316C6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6600" spc="-1" strike="noStrike">
                <a:solidFill>
                  <a:srgbClr val="ff0000"/>
                </a:solidFill>
                <a:latin typeface="Calibri"/>
              </a:rPr>
              <a:t>УСТНОЕ НАРОДНОЕ ТВОРЧЕСТВО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692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ва, Вова-карапуз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ъел у бабушки арбуз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абушка ругается,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ва отпираетс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7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о, бабушка, не я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о кошечка твоя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72240" cy="636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800" spc="-1" strike="noStrike">
                <a:solidFill>
                  <a:srgbClr val="7030a0"/>
                </a:solidFill>
                <a:latin typeface="Calibri"/>
              </a:rPr>
              <a:t>СКОРОГОВОРКИ, СЧИТАЛКИ, НЕБЫЛИЦЫ</a:t>
            </a:r>
            <a:br>
              <a:rPr sz="4400"/>
            </a:br>
            <a:endParaRPr b="0" lang="ru-RU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640" y="692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Шла Саша по шоссе и сосала сушки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дворе трава, на траве дрова.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е руби дрова на траве двора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короговорки, считалки, небылицы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ивут у меня куку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 –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рят галу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,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кут пампу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,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ют часту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орошие подру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ж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 –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ёстрые куку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!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640" y="83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хала деревня мимо мужика,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друг из-под собаки лают ворота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убина выбегает с мальчиком в руках,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за ним тулупчик с бабой на плечах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ревня закричала: «Мужики горят!»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рафаны в бабах на пожар спешат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0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9600" spc="-1" strike="noStrike" u="sng">
                <a:solidFill>
                  <a:srgbClr val="7030a0"/>
                </a:solidFill>
                <a:uFillTx/>
                <a:latin typeface="Calibri"/>
              </a:rPr>
              <a:t>ЗАГАДКИ</a:t>
            </a:r>
            <a:endParaRPr b="0" lang="ru-RU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1640" y="1268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тит птица –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крылата, не перната,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сик долгий,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лос тонкий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её убьёт,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т свою кровь прольёт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240" cy="59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 отца был мальчик странный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еобычный - деревянный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о любил папаша сына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то за странный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еловечек деревянный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земле и под водой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щет ключик золотой?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сюду нос сует он длинный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то же это?..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229240" cy="57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осик круглый, пятачком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Им в земле удобно рыться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Хвостик маленький крючком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место туфелек - копытца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Трое их - и до чего же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Братья дружные похожи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гадайте без подсказки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то герои этой сказки?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ВИД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ЗАГАД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СЛОВИЦЫ, ПОГОВОР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ЕСЕН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ТЕШКИ, ПРИБАУТ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СКОРОГОВОРКИ, СЧИТАЛКИ, НЕБЫЛИЦ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РОДНЫЕ ПЕСЕН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ю, кукла, баю-ба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тра в школу мам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сегодня не играй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 не будь упрямо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, хорошая, усни –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н придёт весёлый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клы – малые он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не ходят в школ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744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НАРОДНЫЕ ПЕСЕН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нышко, вёдрышко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ляни, посвет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еточку зелёную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яблоньку кудрявую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ёзку кучерявую!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860000" y="1542240"/>
            <a:ext cx="3312000" cy="31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НАРОДНЫЕ ПЕСЕН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ждик, дождик, посильней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гони моих гус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и гуси дома, не боятся гро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843640" y="3421440"/>
            <a:ext cx="30708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0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800" spc="-1" strike="noStrike">
                <a:solidFill>
                  <a:srgbClr val="7030a0"/>
                </a:solidFill>
                <a:latin typeface="Calibri"/>
              </a:rPr>
              <a:t>ПОТЕШКИ, ПРИБАУТКИ, ПРИГОВОРКИ</a:t>
            </a:r>
            <a:br>
              <a:rPr sz="4400"/>
            </a:br>
            <a:endParaRPr b="0" lang="ru-RU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шун, коршун, колесом,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вои дети за селом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бе кричат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таскай цыплят,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летай кругом –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д зелёным лугом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аня, Ваня, простота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упил лошадь без хвоста,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ел задом наперёд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И поехал в огород.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76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ла лисичка по мосту,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сла вязанку хворосту,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топила баньку,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купала Ваньку,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адила в уголок,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ла сладкий пирожок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  <Words>330</Words>
  <Paragraphs>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4:22:52Z</dcterms:created>
  <dc:creator>user</dc:creator>
  <dc:description/>
  <dc:language>en-US</dc:language>
  <cp:lastModifiedBy>Admin</cp:lastModifiedBy>
  <dcterms:modified xsi:type="dcterms:W3CDTF">2015-08-25T07:17:16Z</dcterms:modified>
  <cp:revision>2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