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91F-2C03-46F3-9B72-45056C12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923-7D0E-4482-A3CB-3ED66BB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B42-3608-41A5-A97A-D606EB3A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DD1-E281-423B-B921-60EB6182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5A95-A114-4AEB-8BC4-273CB5E3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61A-89B0-4029-AC90-482890E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3272-9EA0-4931-A313-50B3A41A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544C-3589-4870-94BA-43E42DC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1F93-05A8-4ECD-9266-C708D14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FD8-B7FC-4720-8DC1-37B7AD2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525A-0116-42BF-8428-133BCB7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27E-2227-4964-B7D3-9A7124C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542A-0854-4354-9E45-65F43D8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7F5C-A21B-4179-B711-FA958FB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9690-7E89-4612-9BB0-7DA3EAAA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C8F-6DE3-4A03-96E4-FAFE5798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4122-BD5F-45BA-AFAA-81E74469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FB0-6E57-4FCB-AED3-A72F3CF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643-5093-488A-B7C1-9902A85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D7F-C4AE-4D93-BC99-13E37F4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EA2-CAFC-4725-9DF2-13F0DDB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997-E6CA-4F38-BB62-F683F0F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600-CD70-4F6A-8BAB-BF9C31CA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C48-F6E0-4EE4-B6B9-31859AB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70591C-7C44-452D-8DB4-3243A4322F0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FA05B3-2A6C-46C6-8DAA-E23024B4859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УСТНОЕ НАРОДНОЕ ТВОРЧЕСТВО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69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ва, Вова-карапуз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ъел у бабушки арбуз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бушка ругается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ва отпираетс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, бабушка, не 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 кошечка тво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72240" cy="63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СКОРОГОВОРКИ, СЧИТАЛКИ, НЕБЫЛИЦЫ</a:t>
            </a:r>
            <a:br>
              <a:rPr sz="4400"/>
            </a:b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640" y="69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ла Саша по шоссе и сосала сушк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дворе трава, на траве дрова.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 руби дрова на траве двора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короговорки, считалки, небылиц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вут у меня кук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 –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рят гал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,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кут памп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,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ют част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рошие подр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 –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ёстрые куку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ш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640" y="83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хала деревня мимо мужика,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друг из-под собаки лают ворот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убина выбегает с мальчиком в руках,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за ним тулупчик с бабой на плечах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ревня закричала: «Мужики горят!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рафаны в бабах на пожар спешат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600" spc="-1" strike="noStrike" u="sng">
                <a:solidFill>
                  <a:srgbClr val="7030a0"/>
                </a:solidFill>
                <a:uFillTx/>
                <a:latin typeface="Calibri"/>
              </a:rPr>
              <a:t>ЗАГАДКИ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ит птица –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крылата, не перната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сик долгий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лос тонки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её убьёт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т свою кровь прольёт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240" cy="59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 отца был мальчик странны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обычный - деревянный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о любил папаша сына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то за странн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ловечек деревянн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земле и под водо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щет ключик золотой?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юду нос сует он длинный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то же это?..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осик круглый, пятачком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м в земле удобно рыться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востик маленький крючком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место туфелек - копытца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рое их - и до чего ж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ратья дружные похожи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гадайте без подсказки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то герои этой сказки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ИД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ГАД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СЛОВИЦЫ, ПОГОВОР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ЕСЕН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ТЕШКИ, ПРИБА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КОРОГОВОРКИ, СЧИТАЛКИ, НЕБЫЛИЦ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ю, кукла, баю-ба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тра в школу ма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сегодня не игра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 не будь упрям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, хорошая, усни –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придёт весёлы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ы – малые он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 ходят в школ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4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ышко, вёдрышко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ляни, посве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точку зелёную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яблоньку кудрявую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ёзку кучерявую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860000" y="1542240"/>
            <a:ext cx="3312000" cy="31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НАРОДНЫЕ ПЕСЕН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ждик, дождик, посильней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ни моих гус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и гуси дома, не боятся гро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43640" y="3421440"/>
            <a:ext cx="3070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0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ПОТЕШКИ, ПРИБАУТКИ, ПРИГОВОРКИ</a:t>
            </a:r>
            <a:br>
              <a:rPr sz="4400"/>
            </a:b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шун, коршун, колесом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и дети за село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бе кричат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таскай цыплят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летай кругом –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д зелёным лугом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аня, Ваня, простота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упил лошадь без хвоста,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ел задом наперёд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 поехал в огород.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ла лисичка по мосту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сла вязанку хворосту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топила баньку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купала Ваньку,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адила в уголок,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а сладкий пирожо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  <Words>330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4:22:52Z</dcterms:created>
  <dc:creator>user</dc:creator>
  <dc:description/>
  <dc:language>en-US</dc:language>
  <cp:lastModifiedBy>Admin</cp:lastModifiedBy>
  <dcterms:modified xsi:type="dcterms:W3CDTF">2015-08-25T07:17:16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