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E5AB-F4F3-45A3-9AEC-EBD84FF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9B86-D4AE-4068-AD17-4D4CADD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F155-4CF2-47EE-B204-01986547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0835-09B0-479C-ADDE-D97E535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C79D-EAAB-42E9-A08C-2BFF9828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2FA3-E4AB-4B9E-B0E8-817BA87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9B6A-1236-40C5-A4AC-D2E656A2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4FC-30B6-4375-8EF4-32F26D78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587C-E923-49D7-B7B8-F0F5F41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CFF-B3D5-40A8-9A36-22362B7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7717-F858-4E4E-9518-2FF2C79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2020-B5E9-4DEE-9AB4-651A24D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42E7-4EA6-47DD-B8F2-23775FA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65C0-0A3F-4A42-9BAA-F201630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396A-0124-4633-86AB-EC464F6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B4E0-F4FE-47D7-AD30-A3DC5038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3A3-0443-425C-9F51-8578DC9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7009-9C2B-4FA3-B6A9-A0D04D8D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31FF-FB61-4B72-8958-6C83ACD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A03B-E4DB-4CD7-A92D-3E73BF04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D94F-23EF-40C0-8112-84F1FD0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1114-4BD4-404C-BD38-E00A62C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71DD-0D31-4841-B39A-CC565F3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74F-1072-47EB-A788-53408C3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9CA-AC64-4BED-88C2-DE227CF49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F74-BBBD-4EDB-957D-9B84AB6B6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4920" y="4723920"/>
            <a:ext cx="8062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Arial"/>
              </a:rPr>
              <a:t>АЛЕКСАНДР СЕРГЕЕВИЧ ПУШКИН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3886200"/>
            <a:ext cx="6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1672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7920" y="-360"/>
            <a:ext cx="4186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219640" cy="374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8000" y="188640"/>
            <a:ext cx="388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ий поэт, писатель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ды жизни:          6 июня 1799г. - 10 февраля 1837г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5076720" cy="674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ександр Сергеевич Пушкин родился в Москв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ец его, Сергей Львович, происходил из помещичьей, когда-то богатой семьи. Он был поклонником французских классиков и сам пописывал французские и русские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4608360" cy="583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ать Пушкина, Надежда Осиповна, урожденная Ганнибал, была на 4 года моложе своего мужа. Характером обладала непросты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с детьми и прислугой бывала непомерно сурова и обладала способностью «дуться» на тех, кто возбудил ее неудовольствие, целыми месяцами и более (так, с сыном Александром она не разговаривала чуть не целый год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58920" cy="547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508720" y="0"/>
            <a:ext cx="3635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ние Пушкина было безалаберным. Сменявшиеся французы-гувернеры, случайные учителя не могли иметь глубокого влияния на ребенка, в значительной степени предоставленного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640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64000" y="0"/>
            <a:ext cx="3780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поэзии появилась у Александра около 8 лет. Умея уже читать и писать, он сочинял на французском языке маленькие комедии и эпиграммы на своих учителей. Ребенок проводил бессонные ночи и тайком в кабинете отца пожирал книги одну за дру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724360" cy="453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 детства Пушкина окружала заботой и лаской Арина Родионовна, его няня. Она была крепостной Ганнибалов, бабушки поэта – Марии Алексеевны, а в семье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шкиных появилась, когда родился Александр. У Сергея Львовича и Надежды Осиповны Пушкиных было восемь детей, но пятеро скончались в младенчестве. Остались дочь Ольга, Александр, будущий поэт, и их младший брат Лева. Больше всех своих воспитанников няня любила курчавого, смышленого, очень подвижного Сашеньку. А уж какие сказки сказывала она! Мальчик слушал их с затаенным дыханием, и всё просил: «Ещё, ещё!»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427640" cy="604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19 октября 1811 года началась лицейская жизнь Пушкина в Царском Селе, при дворце Александра I. Лицей был закрытым учебным заведением, в него было принято всего 30 учеников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5003640" cy="54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859280" y="0"/>
            <a:ext cx="41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Наталья Николаевна Гончарова вышла замуж за А.С. Пушкина в 1831г. Между супругами с самого начала сложились сердечные и дружеские отношения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788000" cy="5616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8:13:57Z</dcterms:created>
  <dc:creator>Ирина</dc:creator>
  <dc:description/>
  <dc:language>en-US</dc:language>
  <cp:lastModifiedBy>Ирина</cp:lastModifiedBy>
  <dcterms:modified xsi:type="dcterms:W3CDTF">2012-09-25T19:16:31Z</dcterms:modified>
  <cp:revision>15</cp:revision>
  <dc:subject/>
  <dc:title>АЛЕКСАНДР СЕРГЕЕВИЧ ПУШКИН</dc:title>
</cp:coreProperties>
</file>