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7919-ECFB-47FE-810B-3C80B31B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37D8-45F7-44B1-8142-90F9BEBD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E6E4-B6AA-4F9F-BFEE-2146AC9A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E414-6CDF-4510-90BE-4C1FF244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991B-183B-495C-A4F9-0C31E22F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6851-79AD-40D3-A24D-C424D07E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33B-44A1-407C-B94A-E54B6BAD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886-A612-4074-8D2F-92F2CB2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17AF-D746-47F6-8277-4B4083B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ADB5-873C-4E7C-956F-940C119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B7A-BBED-4711-A317-2B6B0D2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4788-D40A-4A9D-A884-3B06074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A0E3-451F-4B12-846E-CEEE228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B24-C9EA-4B37-8964-A16ED20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3E73-44D5-4BE5-81A7-7B5EE2B3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465-11A3-418B-9C0B-7E53C9CA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A4A-D1B2-472E-BB51-A26151F0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3385-B2A7-4995-B513-CCE0620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E16A-52A0-47DE-8601-68A87763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2F1F-4067-4A31-BB75-921C7AB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A4CE-0EDB-4ED3-9588-BA19DB6A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EF09-3E4F-4E83-8469-7A668DD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0733-6441-4829-BBC4-D52E90A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F947-6039-4629-9804-AB3B9BC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FADA-7DDC-4D0B-AF94-BFC7D974D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4915-2FEC-4CFC-84AB-1D01733615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4920" y="4723920"/>
            <a:ext cx="8062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Arial"/>
              </a:rPr>
              <a:t>АЛЕКСАНДР СЕРГЕЕВИЧ ПУШКИН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3886200"/>
            <a:ext cx="6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1672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7920" y="-360"/>
            <a:ext cx="4186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5219640" cy="374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8000" y="188640"/>
            <a:ext cx="388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ий поэт, писатель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оды жизни:          6 июня 1799г. - 10 февраля 1837г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5076720" cy="674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ександр Сергеевич Пушкин родился в Москв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ец его, Сергей Львович, происходил из помещичьей, когда-то богатой семьи. Он был поклонником французских классиков и сам пописывал французские и русские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4608360" cy="583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16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ать Пушкина, Надежда Осиповна, урожденная Ганнибал, была на 4 года моложе своего мужа. Характером обладала непросты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с детьми и прислугой бывала непомерно сурова и обладала способностью «дуться» на тех, кто возбудил ее неудовольствие, целыми месяцами и более (так, с сыном Александром она не разговаривала чуть не целый год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58920" cy="547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508720" y="0"/>
            <a:ext cx="3635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ание Пушкина было безалаберным. Сменявшиеся французы-гувернеры, случайные учителя не могли иметь глубокого влияния на ребенка, в значительной степени предоставленного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640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64000" y="0"/>
            <a:ext cx="3780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сть к поэзии появилась у Александра около 8 лет. Умея уже читать и писать, он сочинял на французском языке маленькие комедии и эпиграммы на своих учителей. Ребенок проводил бессонные ночи и тайком в кабинете отца пожирал книги одну за дру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724360" cy="453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0072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 детства Пушкина окружала заботой и лаской Арина Родионовна, его няня. Она была крепостной Ганнибалов, бабушки поэта – Марии Алексеевны, а в семье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шкиных появилась, когда родился Александр. У Сергея Львовича и Надежды Осиповны Пушкиных было восемь детей, но пятеро скончались в младенчестве. Остались дочь Ольга, Александр, будущий поэт, и их младший брат Лева. Больше всех своих воспитанников няня любила курчавого, смышленого, очень подвижного Сашеньку. А уж какие сказки сказывала она! Мальчик слушал их с затаенным дыханием, и всё просил: «Ещё, ещё!»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427640" cy="604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 19 октября 1811 года началась лицейская жизнь Пушкина в Царском Селе, при дворце Александра I. Лицей был закрытым учебным заведением, в него было принято всего 30 учеников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5003640" cy="54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859280" y="0"/>
            <a:ext cx="41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Наталья Николаевна Гончарова вышла замуж за А.С. Пушкина в 1831г. Между супругами с самого начала сложились сердечные и дружеские отношения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788000" cy="5616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8:13:57Z</dcterms:created>
  <dc:creator>Ирина</dc:creator>
  <dc:description/>
  <dc:language>en-US</dc:language>
  <cp:lastModifiedBy>Ирина</cp:lastModifiedBy>
  <dcterms:modified xsi:type="dcterms:W3CDTF">2012-09-25T19:16:31Z</dcterms:modified>
  <cp:revision>15</cp:revision>
  <dc:subject/>
  <dc:title>АЛЕКСАНДР СЕРГЕЕВИЧ ПУШКИН</dc:title>
</cp:coreProperties>
</file>