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wmf" ContentType="image/x-wmf"/>
  <Override PartName="/ppt/media/image4.png" ContentType="image/png"/>
  <Override PartName="/ppt/media/image5.wmf" ContentType="image/x-wmf"/>
  <Override PartName="/ppt/media/image6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E6514-4551-410D-9B7C-EDEB63D3A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C5742-0807-4AC4-95A3-B60014460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A9DA2-4CD6-48BE-A66A-627C63BDE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97212-12FE-46BE-8EA0-92E1BA993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776BB-C45F-439D-AE25-6481CAFF0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F8489-90B0-4030-9F24-B505B87AB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96843-DAEB-4D63-9340-D92CDEC81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D021F-6522-4FFF-9D3B-4167824A7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1EC9E-F5A6-4C20-84CC-A7EA6846D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161B2-6BC0-4AA2-A3D4-439FBF89E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6912C-DF3B-4182-BF75-5FCA883F4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DF77B-D6B9-4F44-913B-8DC4E241A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91920-0C64-4093-BC33-30C9C2175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DEBDE-A9AD-42D4-800A-43F82FF38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6105D-607C-440A-B929-37BE1F00E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4CFF8-AD1E-4CF1-9683-FA0009272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1F3F5-CB21-43FA-95CE-766C11D3F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D3C7E-9C16-42F7-8B9B-F2B7E13E5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F42F1-E837-4DA7-87AD-848A2385C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C5A78-4A6E-49F1-873E-584F7542C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93EC1-AD5C-4937-81D3-FAAF4957F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D5D39-529F-4610-8AAD-6E3C58B3A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D9A17-3C0B-4F4B-84A3-67A918B66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4BC23-168C-4B04-9686-89BC9D69D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DFB04-1DB3-4771-9A95-FAA46577ECC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B3FFC-A9AF-4010-9BCA-7188976CA436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0560" y="404280"/>
            <a:ext cx="8713800" cy="32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3300"/>
                </a:solidFill>
                <a:latin typeface="Arial Black"/>
              </a:rPr>
              <a:t>Родительское собрание </a:t>
            </a:r>
            <a:endParaRPr b="1" lang="en-US" sz="7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547280" y="2852640"/>
            <a:ext cx="7129800" cy="30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«ПРОБЛЕМЫ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АДАПТАЦИИ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ПЕРВОКЛАССНИК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В ШКОЛЕ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Picture 4" descr="MCj04234770000[1]"/>
          <p:cNvPicPr/>
          <p:nvPr/>
        </p:nvPicPr>
        <p:blipFill>
          <a:blip r:embed="rId1"/>
          <a:srcRect l="0" t="0" r="0" b="14249"/>
          <a:stretch/>
        </p:blipFill>
        <p:spPr>
          <a:xfrm>
            <a:off x="0" y="3832200"/>
            <a:ext cx="4248000" cy="3025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503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Старайтесь, чтобы малыш принимал участие в ваших делах: готовил обед, пересаживал цветы и друго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Помогите ребенку выучить сведения о его семь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Регулярно водите ребенка в библиотек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Будьте примером для малыша: пусть он видит, какое удовольствие вы получаете от чтения газет, журналов, книг. Играйте с ребенком в разные игр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8" dur="20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 u="sng">
              <a:solidFill>
                <a:srgbClr val="ffffb7"/>
              </a:solidFill>
              <a:uFillTx/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Не перебивайте ребенка, не говорите, что вы все поняли, не отворачивайтесь, пока ребенок не закончит свой рассказ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Не принуждайте ребенка делать то, к чему он не готов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Не заставляйте ребенка делать что-нибудь, если он вертится, устал; займитесь чем – то другим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WordArt 4"/>
          <p:cNvSpPr txBox="1"/>
          <p:nvPr/>
        </p:nvSpPr>
        <p:spPr>
          <a:xfrm>
            <a:off x="1763640" y="692280"/>
            <a:ext cx="240048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Impact"/>
              </a:rPr>
              <a:t>Не делайте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Impact"/>
              <a:ea typeface="Impact"/>
            </a:endParaRPr>
          </a:p>
        </p:txBody>
      </p:sp>
    </p:spTree>
  </p:cSld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0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4" dur="20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244080"/>
            <a:ext cx="8229600" cy="577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Arial"/>
              </a:rPr>
              <a:t>Не требуйте сразу слишком много: пройдет немало времени, прежде чем малыш приучится самостоятельно убирать свои игрушки или приводить в порядок комнату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Arial"/>
              </a:rPr>
              <a:t>Никогда не критикуйте ребенка в присутствии посторонних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Arial"/>
              </a:rPr>
              <a:t>Не надо устанавливать для ребенка слишком много правил: он перестанет обращать на вас внимание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Arial"/>
              </a:rPr>
              <a:t>Не сравнивайте вашего ребенка с другими детьми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1" dur="2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5" dur="20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0" dur="20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Мой ребёнок лучше адаптируется к школе и будет успешнее учиться, если я … ”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Picture 5" descr="i?id=459058444-30-72&amp;n=21"/>
          <p:cNvPicPr/>
          <p:nvPr/>
        </p:nvPicPr>
        <p:blipFill>
          <a:blip r:embed="rId1"/>
          <a:stretch/>
        </p:blipFill>
        <p:spPr>
          <a:xfrm>
            <a:off x="4859280" y="4005360"/>
            <a:ext cx="3673440" cy="242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11280" y="2420640"/>
            <a:ext cx="8229600" cy="44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Monotype Corsiva"/>
              </a:rPr>
              <a:t>«Быть готовым к школе – не значит уметь читать, писать и считать. Быть готовым к школе – значит быть готовым всему этому научиться» </a:t>
            </a:r>
            <a:br>
              <a:rPr sz="3600"/>
            </a:br>
            <a:r>
              <a:rPr b="0" lang="ru-RU" sz="3600" spc="-1" strike="noStrike">
                <a:solidFill>
                  <a:srgbClr val="ffffb7"/>
                </a:solidFill>
                <a:latin typeface="Monotype Corsiva"/>
              </a:rPr>
              <a:t>                        (Венгер Л.А.)</a:t>
            </a:r>
            <a:br>
              <a:rPr sz="3600"/>
            </a:b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2" name="Picture 2" descr="http://5psy.ru/images/stories/mediateka/first-former-12a.jpg"/>
          <p:cNvPicPr/>
          <p:nvPr/>
        </p:nvPicPr>
        <p:blipFill>
          <a:blip r:embed="rId1"/>
          <a:stretch/>
        </p:blipFill>
        <p:spPr>
          <a:xfrm>
            <a:off x="6588000" y="3141720"/>
            <a:ext cx="2286000" cy="3441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5"/>
          <p:cNvSpPr/>
          <p:nvPr/>
        </p:nvSpPr>
        <p:spPr>
          <a:xfrm>
            <a:off x="395280" y="836640"/>
            <a:ext cx="77058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cc00"/>
                </a:solidFill>
                <a:latin typeface="Arial"/>
              </a:rPr>
              <a:t>Адаптация   к    школе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-  это процесс привыкания   к новым школьным условиям, который каждый  первоклассник  пере-живает и осознает  по-своему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Picture 6" descr="MCj03981490000[1]"/>
          <p:cNvPicPr/>
          <p:nvPr/>
        </p:nvPicPr>
        <p:blipFill>
          <a:blip r:embed="rId1"/>
          <a:stretch/>
        </p:blipFill>
        <p:spPr>
          <a:xfrm>
            <a:off x="5003640" y="4292640"/>
            <a:ext cx="2257560" cy="222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3366cc"/>
                </a:solidFill>
                <a:latin typeface="Arial Black"/>
              </a:rPr>
              <a:t>Уровни адаптации: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68360" y="105264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Высокий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– избыточный уровень; высокие результаты адаптации, достигнутые благодаря значительному психическому и моральному напряжению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Средний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– обусловлен недостаточной требовательностью к себе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Низкий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– плохое эмоциональное самочувствие; невротические реакции (неумение приспосабливаться к школьной жизни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Picture 4" descr="PPLGP132"/>
          <p:cNvPicPr/>
          <p:nvPr/>
        </p:nvPicPr>
        <p:blipFill>
          <a:blip r:embed="rId1"/>
          <a:stretch/>
        </p:blipFill>
        <p:spPr>
          <a:xfrm>
            <a:off x="3851280" y="4869000"/>
            <a:ext cx="4321080" cy="1728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85840" y="285480"/>
            <a:ext cx="8238960" cy="123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3366cc"/>
                </a:solidFill>
                <a:latin typeface="Arial Black"/>
              </a:rPr>
              <a:t>Трудности, которые возникают у первоклассников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8229600" cy="44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первые дни, недели посещения школы снижается сопротивляемость организма, могут нарушаться сон, аппетит, повышается температур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ервоклассники отвлекаются, быстро утомляются, возбудимы, эмоциональны, впечатлительн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ведение нередко отличается неорганизованностью, несобранностью, недисциплинированность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Picture 4" descr="MCj03981530000[1]"/>
          <p:cNvPicPr/>
          <p:nvPr/>
        </p:nvPicPr>
        <p:blipFill>
          <a:blip r:embed="rId1"/>
          <a:stretch/>
        </p:blipFill>
        <p:spPr>
          <a:xfrm>
            <a:off x="7020000" y="5265720"/>
            <a:ext cx="1873080" cy="1592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66cc"/>
                </a:solidFill>
                <a:latin typeface="Arial Black"/>
              </a:rPr>
              <a:t>Основные показатели адаптации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Формирование адекватного поведения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становление контактов с учащимися, учителем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владение навыками учебной деятельности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55280" y="-53208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i="1" lang="ru-RU" sz="4400" spc="-1" strike="noStrike">
                <a:solidFill>
                  <a:srgbClr val="3366cc"/>
                </a:solidFill>
                <a:latin typeface="Arial Black"/>
              </a:rPr>
              <a:t>Анализ наблюдений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80 % учащихся легко и без проблем адаптировались к школ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У 20 % учащихся были определенные трудности: плаксивость, непонимание требований учителя, нарушение поведения на уроках в первые недели обуче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6" name="WordArt 5"/>
          <p:cNvSpPr txBox="1"/>
          <p:nvPr/>
        </p:nvSpPr>
        <p:spPr>
          <a:xfrm>
            <a:off x="1547640" y="476280"/>
            <a:ext cx="575964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7" name="Rectangle 6"/>
          <p:cNvSpPr/>
          <p:nvPr/>
        </p:nvSpPr>
        <p:spPr>
          <a:xfrm>
            <a:off x="611280" y="2284560"/>
            <a:ext cx="8281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Tahoma"/>
              </a:rPr>
              <a:t>Радуйтесь своему малышу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Tahoma"/>
              </a:rPr>
              <a:t>Разговаривайте с ребенком заботливым, успокаивающим, ободряющим тоном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Tahoma"/>
              </a:rPr>
              <a:t>Когда ребенок с вами разговаривает, слушайте его сочувственно и внимательно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WordArt 7"/>
          <p:cNvSpPr txBox="1"/>
          <p:nvPr/>
        </p:nvSpPr>
        <p:spPr>
          <a:xfrm>
            <a:off x="3059280" y="1484280"/>
            <a:ext cx="3817800" cy="131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00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 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00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5200" y="603000"/>
            <a:ext cx="8007120" cy="43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Советы родителям от психологов!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2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7" dur="20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2" dur="5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49320"/>
            <a:ext cx="83851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69192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Arial"/>
              </a:rPr>
              <a:t>Установите четкие и жесткие требования к ребенку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Arial"/>
              </a:rPr>
              <a:t>Будьте терпеливы!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Arial"/>
              </a:rPr>
              <a:t>Поощряйте в ребенке стремление задавать вопросы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Arial"/>
              </a:rPr>
              <a:t>Не скупитесь на наград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Arial"/>
              </a:rPr>
              <a:t>Поощряйте любопытство и воображение вашего ребенка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Arial"/>
              </a:rPr>
              <a:t>Поощряйте игры с другими детьми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9" dur="2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2" dur="20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2T17:08:40Z</dcterms:created>
  <dc:creator>User</dc:creator>
  <dc:description/>
  <dc:language>en-US</dc:language>
  <cp:lastModifiedBy>ирина</cp:lastModifiedBy>
  <dcterms:modified xsi:type="dcterms:W3CDTF">2016-10-26T09:22:30Z</dcterms:modified>
  <cp:revision>21</cp:revision>
  <dc:subject/>
  <dc:title>Как узнать, готов ли Ваш ребенок  к школе?</dc:title>
</cp:coreProperties>
</file>