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wmf" ContentType="image/x-wmf"/>
  <Override PartName="/ppt/media/image4.png" ContentType="image/png"/>
  <Override PartName="/ppt/media/image5.wmf" ContentType="image/x-wmf"/>
  <Override PartName="/ppt/media/image6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A4546-2820-420A-91FF-D4A6A07CA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0CFCD-010D-4BB5-B264-16437A63E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DE29E-BCAF-4E3C-91E1-0E93390A5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81323-E7D9-4469-A83B-1163BDAEB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7E355-C08F-4EBB-ACD3-FE6C25775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C648F-7A05-418B-B542-99887BFE5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DDE3E-19D1-448A-A967-3C267823D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C1FD9-BC9E-462F-B4B8-5136F4044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35C22-8E89-4A74-9706-193BD6E43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54303-4600-4F32-8104-D21311A5F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58995-E6FD-4753-944B-7C612B6FA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718AA-5C29-496D-9DF1-397758AF2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D9A0B-F948-40F6-8BF4-B792549D4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657DF-CEE5-4C49-897C-5B4E79360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411AA-2FB9-4E57-A1FE-E1E57C32F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FD03C-505D-4DA8-958B-5AE204E07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5580C-4803-4F7A-B814-457563892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DDFD1-E8E9-453D-B26D-8D6908739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56901-F67E-4DF0-A392-0223D30F1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EBDB5-5A54-4EEC-9BEB-B6EEFA041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A7A97-AD35-4D81-AE4A-B6A69B34F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84886-5331-4F12-AF03-989581F83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D30BB-C6F5-42BC-ABAE-608A422A2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3837D-A607-4019-A1E6-C76259C16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4550D-B014-4635-8EBA-FA750FB558D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8F644-FB13-4868-9970-1DE97140C909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0560" y="404280"/>
            <a:ext cx="8713800" cy="32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3300"/>
                </a:solidFill>
                <a:latin typeface="Arial Black"/>
              </a:rPr>
              <a:t>Родительское собрание </a:t>
            </a:r>
            <a:endParaRPr b="1" lang="en-US" sz="7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547280" y="2852640"/>
            <a:ext cx="7129800" cy="30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«ПРОБЛЕМЫ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АДАПТАЦИИ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ПЕРВОКЛАССНИК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В ШКОЛЕ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Picture 4" descr="MCj04234770000[1]"/>
          <p:cNvPicPr/>
          <p:nvPr/>
        </p:nvPicPr>
        <p:blipFill>
          <a:blip r:embed="rId1"/>
          <a:srcRect l="0" t="0" r="0" b="14249"/>
          <a:stretch/>
        </p:blipFill>
        <p:spPr>
          <a:xfrm>
            <a:off x="0" y="3832200"/>
            <a:ext cx="4248000" cy="3025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503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Старайтесь, чтобы малыш принимал участие в ваших делах: готовил обед, пересаживал цветы и друго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Помогите ребенку выучить сведения о его семь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Регулярно водите ребенка в библиотек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Будьте примером для малыша: пусть он видит, какое удовольствие вы получаете от чтения газет, журналов, книг. Играйте с ребенком в разные игр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8" dur="20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 u="sng">
              <a:solidFill>
                <a:srgbClr val="ffffb7"/>
              </a:solidFill>
              <a:uFillTx/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Не перебивайте ребенка, не говорите, что вы все поняли, не отворачивайтесь, пока ребенок не закончит свой рассказ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Не принуждайте ребенка делать то, к чему он не готов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Не заставляйте ребенка делать что-нибудь, если он вертится, устал; займитесь чем – то другим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WordArt 4"/>
          <p:cNvSpPr txBox="1"/>
          <p:nvPr/>
        </p:nvSpPr>
        <p:spPr>
          <a:xfrm>
            <a:off x="1763640" y="692280"/>
            <a:ext cx="240048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Impact"/>
              </a:rPr>
              <a:t>Не делайте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Impact"/>
              <a:ea typeface="Impact"/>
            </a:endParaRPr>
          </a:p>
        </p:txBody>
      </p:sp>
    </p:spTree>
  </p:cSld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0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4" dur="20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244080"/>
            <a:ext cx="8229600" cy="577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Arial"/>
              </a:rPr>
              <a:t>Не требуйте сразу слишком много: пройдет немало времени, прежде чем малыш приучится самостоятельно убирать свои игрушки или приводить в порядок комнату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Arial"/>
              </a:rPr>
              <a:t>Никогда не критикуйте ребенка в присутствии посторонних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Arial"/>
              </a:rPr>
              <a:t>Не надо устанавливать для ребенка слишком много правил: он перестанет обращать на вас внимание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Arial"/>
              </a:rPr>
              <a:t>Не сравнивайте вашего ребенка с другими детьми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1" dur="2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5" dur="20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0" dur="20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Мой ребёнок лучше адаптируется к школе и будет успешнее учиться, если я … ”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Picture 5" descr="i?id=459058444-30-72&amp;n=21"/>
          <p:cNvPicPr/>
          <p:nvPr/>
        </p:nvPicPr>
        <p:blipFill>
          <a:blip r:embed="rId1"/>
          <a:stretch/>
        </p:blipFill>
        <p:spPr>
          <a:xfrm>
            <a:off x="4859280" y="4005360"/>
            <a:ext cx="3673440" cy="242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11280" y="2420640"/>
            <a:ext cx="8229600" cy="44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Monotype Corsiva"/>
              </a:rPr>
              <a:t>«Быть готовым к школе – не значит уметь читать, писать и считать. Быть готовым к школе – значит быть готовым всему этому научиться» </a:t>
            </a:r>
            <a:br>
              <a:rPr sz="3600"/>
            </a:br>
            <a:r>
              <a:rPr b="0" lang="ru-RU" sz="3600" spc="-1" strike="noStrike">
                <a:solidFill>
                  <a:srgbClr val="ffffb7"/>
                </a:solidFill>
                <a:latin typeface="Monotype Corsiva"/>
              </a:rPr>
              <a:t>                        (Венгер Л.А.)</a:t>
            </a:r>
            <a:br>
              <a:rPr sz="3600"/>
            </a:b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2" name="Picture 2" descr="http://5psy.ru/images/stories/mediateka/first-former-12a.jpg"/>
          <p:cNvPicPr/>
          <p:nvPr/>
        </p:nvPicPr>
        <p:blipFill>
          <a:blip r:embed="rId1"/>
          <a:stretch/>
        </p:blipFill>
        <p:spPr>
          <a:xfrm>
            <a:off x="6588000" y="3141720"/>
            <a:ext cx="2286000" cy="3441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5"/>
          <p:cNvSpPr/>
          <p:nvPr/>
        </p:nvSpPr>
        <p:spPr>
          <a:xfrm>
            <a:off x="395280" y="836640"/>
            <a:ext cx="77058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cc00"/>
                </a:solidFill>
                <a:latin typeface="Arial"/>
              </a:rPr>
              <a:t>Адаптация   к    школе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-  это процесс привыкания   к новым школьным условиям, который каждый  первоклассник  пере-живает и осознает  по-своему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Picture 6" descr="MCj03981490000[1]"/>
          <p:cNvPicPr/>
          <p:nvPr/>
        </p:nvPicPr>
        <p:blipFill>
          <a:blip r:embed="rId1"/>
          <a:stretch/>
        </p:blipFill>
        <p:spPr>
          <a:xfrm>
            <a:off x="5003640" y="4292640"/>
            <a:ext cx="2257560" cy="222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3366cc"/>
                </a:solidFill>
                <a:latin typeface="Arial Black"/>
              </a:rPr>
              <a:t>Уровни адаптации: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68360" y="105264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Высокий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– избыточный уровень; высокие результаты адаптации, достигнутые благодаря значительному психическому и моральному напряжению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Средний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– обусловлен недостаточной требовательностью к себе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Низкий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– плохое эмоциональное самочувствие; невротические реакции (неумение приспосабливаться к школьной жизни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Picture 4" descr="PPLGP132"/>
          <p:cNvPicPr/>
          <p:nvPr/>
        </p:nvPicPr>
        <p:blipFill>
          <a:blip r:embed="rId1"/>
          <a:stretch/>
        </p:blipFill>
        <p:spPr>
          <a:xfrm>
            <a:off x="3851280" y="4869000"/>
            <a:ext cx="4321080" cy="1728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85840" y="285480"/>
            <a:ext cx="8238960" cy="123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3366cc"/>
                </a:solidFill>
                <a:latin typeface="Arial Black"/>
              </a:rPr>
              <a:t>Трудности, которые возникают у первоклассников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8229600" cy="44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первые дни, недели посещения школы снижается сопротивляемость организма, могут нарушаться сон, аппетит, повышается температур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ервоклассники отвлекаются, быстро утомляются, возбудимы, эмоциональны, впечатлительн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ведение нередко отличается неорганизованностью, несобранностью, недисциплинированность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Picture 4" descr="MCj03981530000[1]"/>
          <p:cNvPicPr/>
          <p:nvPr/>
        </p:nvPicPr>
        <p:blipFill>
          <a:blip r:embed="rId1"/>
          <a:stretch/>
        </p:blipFill>
        <p:spPr>
          <a:xfrm>
            <a:off x="7020000" y="5265720"/>
            <a:ext cx="1873080" cy="1592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66cc"/>
                </a:solidFill>
                <a:latin typeface="Arial Black"/>
              </a:rPr>
              <a:t>Основные показатели адаптации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Формирование адекватного поведения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становление контактов с учащимися, учителем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владение навыками учебной деятельности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55280" y="-53208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i="1" lang="ru-RU" sz="4400" spc="-1" strike="noStrike">
                <a:solidFill>
                  <a:srgbClr val="3366cc"/>
                </a:solidFill>
                <a:latin typeface="Arial Black"/>
              </a:rPr>
              <a:t>Анализ наблюдений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80 % учащихся легко и без проблем адаптировались к школ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У 20 % учащихся были определенные трудности: плаксивость, непонимание требований учителя, нарушение поведения на уроках в первые недели обуче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6" name="WordArt 5"/>
          <p:cNvSpPr txBox="1"/>
          <p:nvPr/>
        </p:nvSpPr>
        <p:spPr>
          <a:xfrm>
            <a:off x="1547640" y="476280"/>
            <a:ext cx="575964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7" name="Rectangle 6"/>
          <p:cNvSpPr/>
          <p:nvPr/>
        </p:nvSpPr>
        <p:spPr>
          <a:xfrm>
            <a:off x="611280" y="2284560"/>
            <a:ext cx="8281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Tahoma"/>
              </a:rPr>
              <a:t>Радуйтесь своему малышу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Tahoma"/>
              </a:rPr>
              <a:t>Разговаривайте с ребенком заботливым, успокаивающим, ободряющим тоном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Tahoma"/>
              </a:rPr>
              <a:t>Когда ребенок с вами разговаривает, слушайте его сочувственно и внимательно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WordArt 7"/>
          <p:cNvSpPr txBox="1"/>
          <p:nvPr/>
        </p:nvSpPr>
        <p:spPr>
          <a:xfrm>
            <a:off x="3059280" y="1484280"/>
            <a:ext cx="3817800" cy="131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00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 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00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5200" y="603000"/>
            <a:ext cx="8007120" cy="43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Советы родителям от психологов!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2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7" dur="20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2" dur="5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49320"/>
            <a:ext cx="83851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69192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Arial"/>
              </a:rPr>
              <a:t>Установите четкие и жесткие требования к ребенку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Arial"/>
              </a:rPr>
              <a:t>Будьте терпеливы!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Arial"/>
              </a:rPr>
              <a:t>Поощряйте в ребенке стремление задавать вопросы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Arial"/>
              </a:rPr>
              <a:t>Не скупитесь на наград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Arial"/>
              </a:rPr>
              <a:t>Поощряйте любопытство и воображение вашего ребенка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Arial"/>
              </a:rPr>
              <a:t>Поощряйте игры с другими детьми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9" dur="2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2" dur="20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2T17:08:40Z</dcterms:created>
  <dc:creator>User</dc:creator>
  <dc:description/>
  <dc:language>en-US</dc:language>
  <cp:lastModifiedBy>ирина</cp:lastModifiedBy>
  <dcterms:modified xsi:type="dcterms:W3CDTF">2016-10-26T09:22:30Z</dcterms:modified>
  <cp:revision>21</cp:revision>
  <dc:subject/>
  <dc:title>Как узнать, готов ли Ваш ребенок  к школе?</dc:title>
</cp:coreProperties>
</file>