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CB6F-8105-460F-B6FD-F2D645D9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AE5A-2B67-4201-96BC-3E260696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3688-74F3-4B34-82DF-D91786DE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5267-86EB-4F28-B3BF-45A8079E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3A59-E931-4DA9-BB2B-66549916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0E59-1611-49B0-8564-BF460616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FE9D-05CB-4ED2-BAFB-9B224BFB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3E75-52E1-42E2-B75B-56716C04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2AF3-E081-4F7E-8ABE-931F97FF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4341-DDE1-4ADB-AD10-243962E6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EB7C-BD93-4211-BE24-C940122D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877E-587A-4AA9-AE7B-02DB9A24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F2A2-0E2A-4E58-9CA6-0535A722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DF82-16C1-4E38-8DEE-EB4DD38E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9EC9-31E8-4D7F-8E30-423AEFAA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ED7A-4688-4C7B-BE5A-008B87E7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1B35-7048-4F30-8B14-5F2875D1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6D72-FD6A-4A85-9767-BCD5EF66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FDE5-0336-4742-B7D4-F457640A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CDDE-2D88-4609-A2DF-63DCC1E4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B58B-5978-49BF-94C0-E0CD1E9B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5C67-3EB8-404D-8D4C-E04B2F56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6854-B271-484D-B445-ECCF6555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5C3-67D7-42FF-ACD2-0001FADE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81A3-59E6-47A6-A656-ACB5328B6D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8B3B-A737-4DAC-B4EE-6F81D48AEAE0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o.clan.su/Biography/barto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orum.sibmama.ru/usrpx/3791/3791_600x455_resize_1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orum.sibmama.ru/usrpx/3791/3791_600x455_resize2_1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dia-films.ru/resize.php?f=foto/05_igrushki_abarto/im8.jpg&amp;t=1&amp;type=3&amp;s=0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ia-films.ru/resize.php?f=foto/05_igrushki_abarto/im9.jpg&amp;t=1&amp;type=3&amp;s=0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har.ru/books/p974940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o.clan.su/Biography/barto.jpg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www.prodalit.ru/images/75000/70885.jpg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booksiti.net.ru/books/784000.jpg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char.ru/books/p147595.jpg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www.char.ru/books/p167565.jpg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www.machaon.net/pic/devochka_chuma_pms_large.jpg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www.char.ru/books/p166005.jpg" TargetMode="External"/><Relationship Id="rId16" Type="http://schemas.openxmlformats.org/officeDocument/2006/relationships/image" Target="../media/image8.jpeg"/><Relationship Id="rId17" Type="http://schemas.openxmlformats.org/officeDocument/2006/relationships/image" Target="../media/image9.jpeg"/><Relationship Id="rId1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082.radikal.ru/0911/7d/f4ef69d229ee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avok.name/uploads/diafilmy/igrushki/im7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ia-films.ru/resize.php?f=foto/05_igrushki_abarto/im10.jpg&amp;t=1&amp;type=3&amp;s=0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ia-films.ru/resize.php?f=foto/05_igrushki_abarto/im11.jpg&amp;t=1&amp;type=3&amp;s=0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ia-films.ru/resize.php?f=foto/05_igrushki_abarto/im12.jpg&amp;t=1&amp;type=3&amp;s=0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1773360"/>
            <a:ext cx="4140360" cy="23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Verdana"/>
              </a:rPr>
              <a:t>Агния Львовна Барто -</a:t>
            </a: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116000" y="4436640"/>
            <a:ext cx="5400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Verdana"/>
              </a:rPr>
              <a:t>ДЕТЯМ! 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5" descr="Картинка 12 из 1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94440" y="765000"/>
            <a:ext cx="3351240" cy="3672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4932360" y="5589720"/>
            <a:ext cx="3887640" cy="934920"/>
          </a:xfrm>
          <a:prstGeom prst="rect">
            <a:avLst/>
          </a:prstGeom>
          <a:solidFill>
            <a:srgbClr val="ebf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Автор: Бегашева Ирина Юрьевна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учитель начальных классо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95280" y="33336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Урок чтения во 2 класс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2" name="Picture 5" descr="Картинка 72 из 35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Picture 4" descr="Картинка 41 из 35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8" name="Picture 5" descr="Картинка 2 из 35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1" name="Picture 5" descr="Картинка 53 из 35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Картинка 1 из 145"/>
          <p:cNvPicPr/>
          <p:nvPr/>
        </p:nvPicPr>
        <p:blipFill>
          <a:blip r:embed="rId1"/>
          <a:stretch/>
        </p:blipFill>
        <p:spPr>
          <a:xfrm>
            <a:off x="1332000" y="0"/>
            <a:ext cx="633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barto_my_ne_zametili_juka"/>
          <p:cNvPicPr/>
          <p:nvPr/>
        </p:nvPicPr>
        <p:blipFill>
          <a:blip r:embed="rId1"/>
          <a:stretch/>
        </p:blipFill>
        <p:spPr>
          <a:xfrm>
            <a:off x="3492360" y="620640"/>
            <a:ext cx="5651640" cy="597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4" name="Rectangle 6"/>
          <p:cNvSpPr/>
          <p:nvPr/>
        </p:nvSpPr>
        <p:spPr>
          <a:xfrm rot="21301800">
            <a:off x="2124000" y="691920"/>
            <a:ext cx="1584360" cy="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Мы не заметили жук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476360" y="4221000"/>
            <a:ext cx="15112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не заметили жук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рамы зимние закрыл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он живо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жив по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ужжит в окн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равив крылья…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barto_risunok"/>
          <p:cNvPicPr/>
          <p:nvPr/>
        </p:nvPicPr>
        <p:blipFill>
          <a:blip r:embed="rId1"/>
          <a:stretch/>
        </p:blipFill>
        <p:spPr>
          <a:xfrm>
            <a:off x="3930480" y="333360"/>
            <a:ext cx="5213520" cy="60865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6"/>
          <p:cNvSpPr/>
          <p:nvPr/>
        </p:nvSpPr>
        <p:spPr>
          <a:xfrm>
            <a:off x="826920" y="260280"/>
            <a:ext cx="30974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Рисунок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547640" y="981000"/>
            <a:ext cx="2448000" cy="20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— город. Как высок он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крыш! И сколько окон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отрит голубь сверху вниз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уселся на карниз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1835280" y="4149720"/>
            <a:ext cx="194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 на самом первом план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рисован человек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ше всех высотных здан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учился человек.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barto_v_dojd"/>
          <p:cNvPicPr/>
          <p:nvPr/>
        </p:nvPicPr>
        <p:blipFill>
          <a:blip r:embed="rId1"/>
          <a:stretch/>
        </p:blipFill>
        <p:spPr>
          <a:xfrm>
            <a:off x="324000" y="1413000"/>
            <a:ext cx="6573600" cy="51418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755640" y="476280"/>
            <a:ext cx="2448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В дожд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003640" y="692280"/>
            <a:ext cx="3168720" cy="12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их цыплят вела насед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друг что-то грохнуло вдал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естит дождя косая сет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разу реки потекл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5724360" y="6021360"/>
            <a:ext cx="208764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рога мокрая, сыра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едка мечется-как быть?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добежать ей до сара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ыплят от ливня не укрыть…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barto_kuda_vesna_propala"/>
          <p:cNvPicPr/>
          <p:nvPr/>
        </p:nvPicPr>
        <p:blipFill>
          <a:blip r:embed="rId1"/>
          <a:stretch/>
        </p:blipFill>
        <p:spPr>
          <a:xfrm>
            <a:off x="1979640" y="404640"/>
            <a:ext cx="6737400" cy="64533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6"/>
          <p:cNvSpPr/>
          <p:nvPr/>
        </p:nvSpPr>
        <p:spPr>
          <a:xfrm rot="21008400">
            <a:off x="1403280" y="692280"/>
            <a:ext cx="2232000" cy="7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Куда весна пропала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5076720" y="4581360"/>
            <a:ext cx="936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знаю, почему ж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на всё не идёт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ять замёрзли луж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хрустывает лёд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Картинка 144 из 3585"/>
          <p:cNvPicPr/>
          <p:nvPr/>
        </p:nvPicPr>
        <p:blipFill>
          <a:blip r:embed="rId1"/>
          <a:stretch/>
        </p:blipFill>
        <p:spPr>
          <a:xfrm>
            <a:off x="3059280" y="260280"/>
            <a:ext cx="6337080" cy="71294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2627280" y="404640"/>
            <a:ext cx="201600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Любитель-рыболо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1403280" y="1844640"/>
            <a:ext cx="108108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утра сидит на озер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итель-рыболов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Сидит, мурлычет песенк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песенка без слов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-ля-л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Тра-ля-л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Тра-ля-ля”,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5292720" y="4941720"/>
            <a:ext cx="2232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еро глубоко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ачным будет л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йчас поймает окун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итель-рыболо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-ля-л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-ля-л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-ля-ля”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Картинка 145 из 35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89000"/>
            <a:ext cx="1312920" cy="180000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pic>
        <p:nvPicPr>
          <p:cNvPr id="173" name="Picture 6" descr="Картинка 12 из 14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2133720"/>
            <a:ext cx="2103480" cy="2305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Картинка 148 из 358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619280" y="476280"/>
            <a:ext cx="1490760" cy="17287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pic>
        <p:nvPicPr>
          <p:cNvPr id="175" name="Picture 8" descr="Картинка 146 из 358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332000" y="2565360"/>
            <a:ext cx="1431720" cy="187164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pic>
        <p:nvPicPr>
          <p:cNvPr id="176" name="Picture 10" descr="Картинка 8 из 6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435640" y="333360"/>
            <a:ext cx="1654200" cy="1616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Картинка 22 из 6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00720" y="2349360"/>
            <a:ext cx="1447920" cy="1944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Картинка 9 из 79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692360" y="4581360"/>
            <a:ext cx="1560600" cy="206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Картинка 18 из 79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851280" y="4581360"/>
            <a:ext cx="1525680" cy="2049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799151"/>
          <p:cNvPicPr/>
          <p:nvPr/>
        </p:nvPicPr>
        <p:blipFill>
          <a:blip r:embed="rId17"/>
          <a:stretch/>
        </p:blipFill>
        <p:spPr>
          <a:xfrm>
            <a:off x="5940360" y="4581360"/>
            <a:ext cx="1554120" cy="2105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barto_korablik"/>
          <p:cNvPicPr/>
          <p:nvPr/>
        </p:nvPicPr>
        <p:blipFill>
          <a:blip r:embed="rId1"/>
          <a:stretch/>
        </p:blipFill>
        <p:spPr>
          <a:xfrm>
            <a:off x="3851280" y="333360"/>
            <a:ext cx="5065560" cy="63356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6"/>
          <p:cNvSpPr/>
          <p:nvPr/>
        </p:nvSpPr>
        <p:spPr>
          <a:xfrm>
            <a:off x="1116000" y="404640"/>
            <a:ext cx="295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Корабли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1042920" y="1773360"/>
            <a:ext cx="2233800" cy="19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росская шап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евка в рук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яну я корабли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быстрой реке,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900000" y="4292640"/>
            <a:ext cx="266400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скачут лягушк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 мной по пята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просят меня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кати, капитан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6" name="Picture 5" descr="barto_fonarik"/>
          <p:cNvPicPr/>
          <p:nvPr/>
        </p:nvPicPr>
        <p:blipFill>
          <a:blip r:embed="rId1"/>
          <a:stretch/>
        </p:blipFill>
        <p:spPr>
          <a:xfrm>
            <a:off x="250920" y="981000"/>
            <a:ext cx="4787640" cy="49420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6"/>
          <p:cNvSpPr/>
          <p:nvPr/>
        </p:nvSpPr>
        <p:spPr>
          <a:xfrm>
            <a:off x="2195640" y="333360"/>
            <a:ext cx="2016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Фонарик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5724360" y="1700280"/>
            <a:ext cx="1800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е не скучно без огня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фонарик у мен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него посмотришь днём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чего не видно в нём,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5292720" y="4653000"/>
            <a:ext cx="215892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 посмотришь вечерком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н с зелёным огонько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то в баночке с траво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ветлячок сидит живо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Картинка 139 из 3585"/>
          <p:cNvPicPr/>
          <p:nvPr/>
        </p:nvPicPr>
        <p:blipFill>
          <a:blip r:embed="rId1"/>
          <a:stretch/>
        </p:blipFill>
        <p:spPr>
          <a:xfrm>
            <a:off x="2484360" y="549360"/>
            <a:ext cx="6264360" cy="4967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41" name="Rectangle 6"/>
          <p:cNvSpPr/>
          <p:nvPr/>
        </p:nvSpPr>
        <p:spPr>
          <a:xfrm>
            <a:off x="2771640" y="333360"/>
            <a:ext cx="341964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Любоч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1476360" y="1197000"/>
            <a:ext cx="13669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енькая юбоч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точка в кос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не знает Любочку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у знают вс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755640" y="508464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вочки на праздник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ерутся в круг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танцует Любочка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чше всех подруг.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4788000" y="4581360"/>
            <a:ext cx="360036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ружится и юбочка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ленточка в косе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се глядят на Любочку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дуются все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5" descr="barto_esli_budu_ya_usat"/>
          <p:cNvPicPr/>
          <p:nvPr/>
        </p:nvPicPr>
        <p:blipFill>
          <a:blip r:embed="rId1"/>
          <a:stretch/>
        </p:blipFill>
        <p:spPr>
          <a:xfrm>
            <a:off x="4067280" y="549360"/>
            <a:ext cx="4680000" cy="57592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7"/>
          <p:cNvSpPr/>
          <p:nvPr/>
        </p:nvSpPr>
        <p:spPr>
          <a:xfrm>
            <a:off x="468360" y="1557360"/>
            <a:ext cx="352908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хотел иметь ус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енький Геннадий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Отращу себе ус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азу стану дяде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755640" y="549360"/>
            <a:ext cx="309564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Если буду я уса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1332000" y="4292640"/>
            <a:ext cx="24480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сли буду я уса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пойду я в детский сад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пущу себе ус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делаюсь взросле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уду целые час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ыгать по аллее.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1" name="Picture 5" descr="barto_moi_pes"/>
          <p:cNvPicPr/>
          <p:nvPr/>
        </p:nvPicPr>
        <p:blipFill>
          <a:blip r:embed="rId1"/>
          <a:stretch/>
        </p:blipFill>
        <p:spPr>
          <a:xfrm>
            <a:off x="324000" y="0"/>
            <a:ext cx="8569080" cy="73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barto_delo_bylo_v_yanvare"/>
          <p:cNvPicPr/>
          <p:nvPr/>
        </p:nvPicPr>
        <p:blipFill>
          <a:blip r:embed="rId1"/>
          <a:stretch/>
        </p:blipFill>
        <p:spPr>
          <a:xfrm>
            <a:off x="2700360" y="836640"/>
            <a:ext cx="6443640" cy="504036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6"/>
          <p:cNvSpPr/>
          <p:nvPr/>
        </p:nvSpPr>
        <p:spPr>
          <a:xfrm>
            <a:off x="1042920" y="1268280"/>
            <a:ext cx="29527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о было в январ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яла ёлка на гор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возле этой ёлк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одили злые волки..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564000" y="620640"/>
            <a:ext cx="223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Дело было в январе</a:t>
            </a:r>
            <a:br>
              <a:rPr sz="3200"/>
            </a:b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900000" y="4508640"/>
            <a:ext cx="367200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т как-то раз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очной порой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гда в лесу так тихо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стречают волка под горой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йчата и зайчиха..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7" descr="barto_ne_odna"/>
          <p:cNvPicPr/>
          <p:nvPr/>
        </p:nvPicPr>
        <p:blipFill>
          <a:blip r:embed="rId1"/>
          <a:stretch/>
        </p:blipFill>
        <p:spPr>
          <a:xfrm>
            <a:off x="1547640" y="189000"/>
            <a:ext cx="7359840" cy="63356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8"/>
          <p:cNvSpPr/>
          <p:nvPr/>
        </p:nvSpPr>
        <p:spPr>
          <a:xfrm>
            <a:off x="250920" y="5516640"/>
            <a:ext cx="432108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не ели, мы не пил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бу снежную лепили..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3708360" y="260280"/>
            <a:ext cx="24494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Не одн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5" descr="barto_ya_rastu"/>
          <p:cNvPicPr/>
          <p:nvPr/>
        </p:nvPicPr>
        <p:blipFill>
          <a:blip r:embed="rId1"/>
          <a:stretch/>
        </p:blipFill>
        <p:spPr>
          <a:xfrm>
            <a:off x="4067280" y="1413000"/>
            <a:ext cx="4725720" cy="54450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6"/>
          <p:cNvSpPr/>
          <p:nvPr/>
        </p:nvSpPr>
        <p:spPr>
          <a:xfrm>
            <a:off x="684360" y="1628640"/>
            <a:ext cx="352728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я не знал, что я раст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ё время, каждый час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сел на стул — но я раст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у, шагая в класс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1258920" y="476280"/>
            <a:ext cx="26654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Я раст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1619280" y="4437000"/>
            <a:ext cx="216072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ту, когда гляжу в окн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ту, когда сижу в кин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гда светло, когда темн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ту, расту я всё равно.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5" descr="barto_vorobei"/>
          <p:cNvPicPr/>
          <p:nvPr/>
        </p:nvPicPr>
        <p:blipFill>
          <a:blip r:embed="rId1"/>
          <a:stretch/>
        </p:blipFill>
        <p:spPr>
          <a:xfrm>
            <a:off x="2843280" y="0"/>
            <a:ext cx="610848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6"/>
          <p:cNvSpPr/>
          <p:nvPr/>
        </p:nvSpPr>
        <p:spPr>
          <a:xfrm>
            <a:off x="826920" y="476280"/>
            <a:ext cx="223236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Воробе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1403280" y="2852640"/>
            <a:ext cx="1584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робей по лужиц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ыгает и кружитс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ышки взъерошил он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востик распуши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года хорошая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л-чив-чил!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5" descr="barto_pomoshnica"/>
          <p:cNvPicPr/>
          <p:nvPr/>
        </p:nvPicPr>
        <p:blipFill>
          <a:blip r:embed="rId1"/>
          <a:stretch/>
        </p:blipFill>
        <p:spPr>
          <a:xfrm>
            <a:off x="4356000" y="476280"/>
            <a:ext cx="4353120" cy="40323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6"/>
          <p:cNvSpPr/>
          <p:nvPr/>
        </p:nvSpPr>
        <p:spPr>
          <a:xfrm>
            <a:off x="900000" y="404640"/>
            <a:ext cx="288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Помощниц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468360" y="1844640"/>
            <a:ext cx="352728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Танюши дел немал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Танюши много дел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ром брату помогал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с утра конфеты ел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900000" y="4005360"/>
            <a:ext cx="3024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т у Тани сколько дела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я ела, чай пил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ла, с мамой посидел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тала, к бабушке пошл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4859280" y="5157720"/>
            <a:ext cx="396072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 сном сказала мам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 меня разденьте сам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устала, не мог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вам завтра помог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Биография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гнии Барт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Настоящая фамилия Волова. Родилась 17 февраля 1906 года. В детстве хотела стать балериной, но выбрала писать стихи. Очень много выступала на радио и писала для газет. Умерла 1 апреля 1981 года в Москве. Стихи Агнии Барто переведены на многие языки мира. Их даже брал в космос Ю. А. Гагарин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3" name="Picture 4" descr="Картинка 20 из 3585"/>
          <p:cNvPicPr/>
          <p:nvPr/>
        </p:nvPicPr>
        <p:blipFill>
          <a:blip r:embed="rId1"/>
          <a:stretch/>
        </p:blipFill>
        <p:spPr>
          <a:xfrm>
            <a:off x="1116000" y="0"/>
            <a:ext cx="705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3" dur="2000" fill="hold"/>
                                        <p:tgtEl>
                                          <p:spTgt spid="2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5" name="Picture 3" descr="Картинка 148 из 3585"/>
          <p:cNvPicPr/>
          <p:nvPr/>
        </p:nvPicPr>
        <p:blipFill>
          <a:blip r:embed="rId1"/>
          <a:stretch/>
        </p:blipFill>
        <p:spPr>
          <a:xfrm>
            <a:off x="250920" y="620640"/>
            <a:ext cx="4657680" cy="56880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4"/>
          <p:cNvSpPr/>
          <p:nvPr/>
        </p:nvSpPr>
        <p:spPr>
          <a:xfrm>
            <a:off x="5796000" y="836640"/>
            <a:ext cx="2160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л сынок у маменьки —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вежонок маленьки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аму был фигурою —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едведицу бурую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5003640" y="2276640"/>
            <a:ext cx="381636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ляжется медведиц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деревом в тени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ын рядом присоседится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так лежат он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5003640" y="4149720"/>
            <a:ext cx="3672000" cy="20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упадёт. —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х, бедненький! —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го жалеет мать. —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нее в заповедник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ёнка не сыскать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3"/>
          <p:cNvSpPr/>
          <p:nvPr/>
        </p:nvSpPr>
        <p:spPr>
          <a:xfrm>
            <a:off x="0" y="3213000"/>
            <a:ext cx="4500720" cy="23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ь твердит: —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й в виду —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нельз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ватать еду! —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0" name="Picture 4" descr="Картинка 17 из 178"/>
          <p:cNvPicPr/>
          <p:nvPr/>
        </p:nvPicPr>
        <p:blipFill>
          <a:blip r:embed="rId1"/>
          <a:stretch/>
        </p:blipFill>
        <p:spPr>
          <a:xfrm>
            <a:off x="3203640" y="260280"/>
            <a:ext cx="5724360" cy="52563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5"/>
          <p:cNvSpPr/>
          <p:nvPr/>
        </p:nvSpPr>
        <p:spPr>
          <a:xfrm>
            <a:off x="755640" y="692280"/>
            <a:ext cx="316872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ыночек дисциплин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сем не признаёт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шёл он мёд пчелиный —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грязной лапой в мёд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4572000" y="5445000"/>
            <a:ext cx="4032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он как начал чавкать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азался в мед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826920" y="5229360"/>
            <a:ext cx="3024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тели беседуют —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шает он бесед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4" name="Picture 4" descr="Картинка 16 из 178"/>
          <p:cNvPicPr/>
          <p:nvPr/>
        </p:nvPicPr>
        <p:blipFill>
          <a:blip r:embed="rId1"/>
          <a:stretch/>
        </p:blipFill>
        <p:spPr>
          <a:xfrm>
            <a:off x="971640" y="404640"/>
            <a:ext cx="7345440" cy="49276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4427640" y="5516640"/>
            <a:ext cx="40320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бивать не следуе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зрослого медведя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43280" y="404280"/>
            <a:ext cx="4043520" cy="576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Спасибо </a:t>
            </a: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Агнии Львовне Барто </a:t>
            </a:r>
            <a:br>
              <a:rPr sz="4400"/>
            </a:b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за чудесные стихи </a:t>
            </a:r>
            <a:br>
              <a:rPr sz="4400"/>
            </a:b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и сказки!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87" name="Picture 5" descr="Картинка 12 из 145"/>
          <p:cNvPicPr/>
          <p:nvPr/>
        </p:nvPicPr>
        <p:blipFill>
          <a:blip r:embed="rId1"/>
          <a:stretch/>
        </p:blipFill>
        <p:spPr>
          <a:xfrm>
            <a:off x="755640" y="620640"/>
            <a:ext cx="3476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6919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Давайте вспомним стихи Агнии Барто!!!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5" descr="Картинка 22 из 35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Picture 5" descr="im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5" descr="Картинка 102 из 35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Picture 5" descr="Картинка 84 из 35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Picture 5" descr="Картинка 118 из 35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3:57:17Z</dcterms:created>
  <dc:creator>Admin</dc:creator>
  <dc:description/>
  <dc:language>en-US</dc:language>
  <cp:lastModifiedBy>ирина</cp:lastModifiedBy>
  <dcterms:modified xsi:type="dcterms:W3CDTF">2014-02-17T16:09:05Z</dcterms:modified>
  <cp:revision>11</cp:revision>
  <dc:subject/>
  <dc:title>Слайд 1</dc:title>
</cp:coreProperties>
</file>