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36C-6F2E-490B-B342-627B004C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A0C-CCCE-43A6-AB33-1CCAECF2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29A-E78B-491F-ADA6-063B6B70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02D-9266-4680-8926-45EC467F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1D0-A9AA-4FE7-B97C-98F875A6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FDD4-8D4D-459C-BED8-FE8A54B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F703-635E-4F6F-B7E0-16ECD8C9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28AE-C053-4E6D-AB2D-0395E4DE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8597-90FF-47BB-804E-E3F04937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680C-1F31-4B55-B7C8-7765CB61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2D1D-930D-4AE2-B602-1AAF671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472-D1A9-4B6A-B217-0E01360B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E93F-63C7-4DB6-BB08-C086912C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C800-19D5-41D9-9A0B-1A8A526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3B1-BEF3-4AD2-946F-993BDFFE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FC03-DDBB-4EAD-A40C-71BC3160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3CF-E6D3-4542-8AB6-6317392C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1F8-FC68-4BAE-85E8-85D6230A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64F-B13D-480A-BC11-5BB5DD71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F86-D0A7-4B41-9F46-9909DF9B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ED7-AE59-4D70-94D1-8DC77631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467-EEB4-47F1-9AC6-403C9043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C9E-DD84-4D05-AE64-17A8FCA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654-8DE3-4D3E-93B6-6A7A71B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E9F-A7F4-4DD4-85F7-4E08D7B186B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DF73-1CD1-4F78-8022-148786ACBFC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дительское собр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У Топчихинская средняя общеобразовательна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кола № 1 имени Героя России Дмитрия Ерофее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итель начальных классов  Красюкова Л.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1947-5C95-4A04-9186-3F38B1EB89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ичины проявления детской агрессии связаны с семьей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оянные ссоры род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изическое насилие родителей по отношению друг к друг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убость и хамство, уни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Желание видеть друг в друге только плохое, подчеркивать это – ежедневная школа агрессии, в которой ребенок  формируется и получает уроки мастерства в проявлении агресс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E77-ABCF-4335-BE37-E3A9AAD02C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ловия предотвращения агрессивного поведе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ость родителей по отношению к себе и по отношению к собственному ребенк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ый по отношению к себе  родитель никогда не позволит требовать от своего ребенка то, что им самим в его ребенке не заложе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8AA-4B89-4023-87D7-0AF72875F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дители должны помни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ость – это не тирания. Тирания порождает тир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бовательность должна быть разумной и доброжелатель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27C-17ED-474F-B8F4-C7668C8F12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аму, папу, потому что они ругаются, бьют, деру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дейцев, бандитов, охотников, потому что они убивают людей и живот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69A-11FC-4296-8D8C-6193FB6768CA}" type="slidenum">
              <a:t>13</a:t>
            </a:fld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170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ак бы ты поступил, если бы встретился с агрессивным ребенком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Начал бы дратьс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дари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ачка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рызгал б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шел бы мим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звал на помощ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шел б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беж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791-A10D-47CA-A035-842302BD875D}" type="slidenum">
              <a:t>14</a:t>
            </a:fld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читаешь ли ты себя агрессивным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9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агрессивных детей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6280" y="2017800"/>
            <a:ext cx="379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Ответы неагрессивных дете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CE7-BDAC-49F8-8FEF-7AC188D383B3}" type="slidenum">
              <a:t>15</a:t>
            </a:fld>
          </a:p>
        </p:txBody>
      </p:sp>
    </p:spTree>
  </p:cSld>
  <p:transition>
    <p:comb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итерии агрессивности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7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бено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теряет контроль над соб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пециально раздражает люд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винит других в своих ошиб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о завислив, мстителе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7A2-23EB-4457-9BBE-F7DB31147162}" type="slidenum">
              <a:t>16</a:t>
            </a:fld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омочь агрессивному ребенку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бота с гне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учение детей навыкам распознавания и контроля, умению владеть собой в ситуациях, провоцирующих вспышки гн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ировании способности к  доверию, сочувствию, сопережива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1B9-2CAC-4E8B-8F92-9D549BDE40BC}" type="slidenum">
              <a:t>17</a:t>
            </a:fld>
          </a:p>
        </p:txBody>
      </p:sp>
    </p:spTree>
  </p:cSld>
  <p:transition>
    <p:comb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комендации по профилактике и коррекции детской агрессивност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Сказкотерап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Психотехнические освобождающие иг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Режиссерские иг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BAF-065D-4C26-BA12-94877B9ED4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е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слышать своих де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арайтесь делать так, чтобы только вы, родители, снимали их эмоциональное напряж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запрещайте детям выражать отрицательные эмо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йте принять и любить их такими, какие они е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161-2AE9-4D74-8C32-FB4C7F3AC0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9120" y="1858680"/>
            <a:ext cx="76136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грессия детей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100" spc="-1" strike="noStrike">
                <a:solidFill>
                  <a:srgbClr val="333399"/>
                </a:solidFill>
                <a:latin typeface="Tahoma"/>
              </a:rPr>
              <a:t>Причины </a:t>
            </a:r>
            <a:br>
              <a:rPr sz="3100"/>
            </a:br>
            <a:r>
              <a:rPr b="1" lang="en-US" sz="3100" spc="-1" strike="noStrike">
                <a:solidFill>
                  <a:srgbClr val="333399"/>
                </a:solidFill>
                <a:latin typeface="Tahoma"/>
              </a:rPr>
              <a:t> и предупреждение.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22720" y="3886200"/>
            <a:ext cx="4549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E215-48F9-4C42-8F5C-3F37938A17A5}" type="slidenum">
              <a:t>2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 заключении…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не  раздражаться, когда  ребенок  необъяснимо  дурно  ведет себя,  нужно  поставить перед  собою  вопрос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Интересно, что  с  ним  сейчас  происходит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510-BC72-4D19-B7BE-86F2DD145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собр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блюдать за эмоциональным состоянием своего ребенка в различной обстанов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лать установку на положительные эмо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едовать правилам семьи по преодолению детской агре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485-227F-4C79-85C7-C928CEAF39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ибо за внимание 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32200" y="201780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631-1D29-4B71-9045-6E13EC9D53CE}" type="slidenum">
              <a:t>22</a:t>
            </a:fld>
          </a:p>
        </p:txBody>
      </p:sp>
    </p:spTree>
  </p:cSld>
  <p:transition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68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68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ий слова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грессия – это  поведение, противоречащее нормам и правилам существования людей в обществе, приносящее физический или моральный ущерб людям, или вызывающий у них психологический дискомфор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9BD-6B15-4BA0-8D89-0B9A0EB15682}" type="slidenum">
              <a:t>3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агре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струментальн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достижения определенной ц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6360" y="1700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раждеб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чинить человеку бо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56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ff"/>
              </a:gs>
              <a:gs pos="50000">
                <a:srgbClr val="00e4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2421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ff"/>
              </a:gs>
              <a:gs pos="50000">
                <a:srgbClr val="00e4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3280" y="1844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080-2602-48B9-AC61-A05CEEEDB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 воспитании можно выделить две пары важных признаков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сполож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еприя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14D-52E3-41EC-A76A-7ED9F1D0CB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Чем характеризуется и как влияет на преодоление агрессивности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расположение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мья помогает ребенк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одолеть труд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выслушать реб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меняет доброе слово, теплый взгляд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8F4-E4BA-44D1-80FE-725000866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еприят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имулирует агресс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бенок устраняется от об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сутствует - одиночество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сутствует  желание общать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59A-BD78-4E0F-8BF4-C232098AA6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громное значение имеет поощр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згля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ес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йстви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3CD-AD19-46B3-A677-60A919C8DC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чень значимо для человека и наказание, ес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следует немедленно за проступк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ъяснено ребен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суровое, но не жестоко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оценивает действия ребенка, а не его человеческие кач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аказании нужно проявлять терпение, спокойствие и выдерж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9C4-4E51-4598-A22D-7E358F9FE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5:15:10Z</dcterms:created>
  <dc:creator>Л.С.П</dc:creator>
  <dc:description/>
  <dc:language>en-US</dc:language>
  <cp:lastModifiedBy>Красюкова</cp:lastModifiedBy>
  <dcterms:modified xsi:type="dcterms:W3CDTF">2011-01-12T13:39:42Z</dcterms:modified>
  <cp:revision>11</cp:revision>
  <dc:subject/>
  <dc:title>Агрессия детей.  Причины   и предупреждение</dc:title>
</cp:coreProperties>
</file>