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5F1-A3B7-4461-8C99-DF3BD94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D5B-D374-4406-894D-2913E550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3EB-5C0E-42D1-B31B-4338F1E6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DD9-3A94-4BEC-AC14-53F65585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559D-23BB-4031-9824-0FE47D97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AB7-3C8E-4199-8FD9-C35A5E42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0CD-CD2A-4B61-96AC-E782FAF6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D385-00FB-4F3A-A319-882B45D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239A-0AA6-4125-9B37-3067A14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9FF-3B4D-4DF1-8D60-FD07169D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BF6-5C0A-44B1-9F77-14A2502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26C-71B4-4D7C-8023-0F0C4FB9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A0A6-EA1B-4E4D-95E6-5B18266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E916-ABB9-40F9-A2A8-6EAB9DE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2910-9A3A-409D-8088-05F218A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39B1-0ED9-4F5A-B4EA-308C8C8B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D819-3B13-48AF-9ED5-A1954E7B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731-C195-49FE-94B9-D0BD35E2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728-1ACB-41FE-85DE-039B7FDD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D9E-39B1-48FF-99CF-65814722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340-9360-4876-ADDA-C846F7A0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02A-4011-4DD3-9ED1-9D430AD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694-1918-43CC-9147-4B72087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4A4-A32D-4773-BB3A-5E1BDA0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DB3F-7EBE-4441-B4DE-0B67A2F5D5C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39B4-BC95-4B82-98AF-14AD2C096C0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дительское собр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У Топчихинская средняя общеобразовательна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кола № 1 имени Героя России Дмитрия Ерофее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итель начальных классов  Красюкова Л.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354-798D-4A51-AC0C-316B334947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ичины проявления детской агрессии связаны с семьей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оянные ссоры род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изическое насилие родителей по отношению друг к друг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убость и хамство, уни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елание видеть друг в друге только плохое, подчеркивать это – ежедневная школа агрессии, в которой ребенок  формируется и получает уроки мастерства в проявлении агресс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EED-A1FD-4E48-A196-F942568882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ловия предотвращения агрессивного повед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ость родителей по отношению к себе и по отношению к собственному ребенк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ый по отношению к себе  родитель никогда не позволит требовать от своего ребенка то, что им самим в его ребенке не заложе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C5D-F196-4A49-ACD2-D1D29B910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дители должны помни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ость – это не тирания. Тирания порождает тир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ость должна быть разумной и доброжелатель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036-A779-45B8-9892-C7604193F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му, папу, потому что они ругаются, бьют, деру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дейцев, бандитов, охотников, потому что они убивают людей и живот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9EA-69EC-430B-9AD2-52D182DB70EA}" type="slidenum">
              <a:t>13</a:t>
            </a:fld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170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ак бы ты поступил, если бы встретился с агрессивным ребенком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Начал бы дратьс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дари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ачка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рызгал б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шел бы мим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звал на помощ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ше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беж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32B-34A2-469C-8C89-F6B0AEE8E4D1}" type="slidenum">
              <a:t>14</a:t>
            </a:fld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читаешь ли ты себя агрессивным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F4F-9D71-44EE-AF2A-913F00B32769}" type="slidenum">
              <a:t>15</a:t>
            </a:fld>
          </a:p>
        </p:txBody>
      </p:sp>
    </p:spTree>
  </p:cSld>
  <p:transition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итерии агрессивности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ено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теряет контроль над соб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ециально раздражает люд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винит других в своих ошиб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завислив, мстителе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789-4A07-47CC-B9A4-AF58BC508821}" type="slidenum">
              <a:t>16</a:t>
            </a:fld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омочь агрессивному ребенку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бота с гне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учение детей навыкам распознавания и контроля, умению владеть собой в ситуациях, провоцирующих вспышки гн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и способности к  доверию, сочувствию, сопережив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607-FDAC-4B45-80B9-EC33C285E788}" type="slidenum">
              <a:t>17</a:t>
            </a:fld>
          </a:p>
        </p:txBody>
      </p:sp>
    </p:spTree>
  </p:cSld>
  <p:transition>
    <p:comb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комендации по профилактике и коррекции детской агрессивност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Сказкотерап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Психотехнические освобождающие иг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ежиссерские иг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8F5-0FA2-4603-9B92-1B6BDA2974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е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слышать своих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арайтесь делать так, чтобы только вы, родители, снимали их эмоциональное напряж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запрещайте детям выражать отрицательные эмо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йте принять и любить их такими, какие они е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475-3498-426F-917C-7C5BC3A075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9120" y="1858680"/>
            <a:ext cx="76136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грессия детей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100" spc="-1" strike="noStrike">
                <a:solidFill>
                  <a:srgbClr val="333399"/>
                </a:solidFill>
                <a:latin typeface="Tahoma"/>
              </a:rPr>
              <a:t>Причины </a:t>
            </a:r>
            <a:br>
              <a:rPr sz="3100"/>
            </a:br>
            <a:r>
              <a:rPr b="1" lang="en-US" sz="3100" spc="-1" strike="noStrike">
                <a:solidFill>
                  <a:srgbClr val="333399"/>
                </a:solidFill>
                <a:latin typeface="Tahoma"/>
              </a:rPr>
              <a:t> и предупреждение.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22720" y="3886200"/>
            <a:ext cx="454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EA2F-18B8-4548-8C7C-9D277BB4DF0A}" type="slidenum">
              <a:t>2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 заключении…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не  раздражаться, когда  ребенок  необъяснимо  дурно  ведет себя,  нужно  поставить перед  собою  вопрос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Интересно, что  с  ним  сейчас  происходит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321-4C03-4766-BC5E-7B1A4C624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собр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блюдать за эмоциональным состоянием своего ребенка в различной обстанов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лать установку на положительные эмо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едовать правилам семьи по преодолению детской агре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BE-2B9A-4ED1-9418-1091805EE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ибо за внимание 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32200" y="201780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CC7-1369-4C76-9913-CAC9B13E6CAC}" type="slidenum">
              <a:t>22</a:t>
            </a:fld>
          </a:p>
        </p:txBody>
      </p:sp>
    </p:spTree>
  </p:cSld>
  <p:transition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68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68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ий слов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грессия – это  поведение, противоречащее нормам и правилам существования людей в обществе, приносящее физический или моральный ущерб людям, или вызывающий у них психологический дискомфор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80F-1F80-491B-B21C-81EFA08E757B}" type="slidenum">
              <a:t>3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агре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струментальн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достижения определенной ц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6360" y="1700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раждеб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чинить человеку бо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56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ff"/>
              </a:gs>
              <a:gs pos="50000">
                <a:srgbClr val="00e4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2421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ff"/>
              </a:gs>
              <a:gs pos="50000">
                <a:srgbClr val="00e4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3280" y="1844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467-F7EA-464B-98EE-9CF1379070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 воспитании можно выделить две пары важных признаков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сполож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еприя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0E8-045A-405E-B2F9-3B12E8716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Чем характеризуется и как влияет на преодоление агрессивности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расположение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мья помогает ребенк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одолеть труд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выслушать реб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меняет доброе слово, теплый взгляд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8F1-AFC8-4AB8-A2E1-772613D5A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еприят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имулирует агресс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бенок устраняется от об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сутствует - одиночество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сутствует  желание общать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A58-592C-4165-B8CC-3288B309F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громное значение имеет поощр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гля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ес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йстви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360-1EBC-44A1-83EA-D8AAC16D6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чень значимо для человека и наказание, ес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следует немедленно за проступк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ъяснено ребен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суровое, но не жестоко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оценивает действия ребенка, а не его человеческие кач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аказании нужно проявлять терпение, спокойствие и выдерж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BF3-DFFF-4414-BD68-40D498460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5:15:10Z</dcterms:created>
  <dc:creator>Л.С.П</dc:creator>
  <dc:description/>
  <dc:language>en-US</dc:language>
  <cp:lastModifiedBy>Красюкова</cp:lastModifiedBy>
  <dcterms:modified xsi:type="dcterms:W3CDTF">2011-01-12T13:39:42Z</dcterms:modified>
  <cp:revision>11</cp:revision>
  <dc:subject/>
  <dc:title>Агрессия детей.  Причины   и предупреждение</dc:title>
</cp:coreProperties>
</file>