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63D-B9A8-4A8C-8BB6-89A10302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7A1-0EBA-4A4A-A54D-CB33CCC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BAD-8125-4A1C-890E-CF4781C7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4C8-F19A-4A66-AD84-D9A900FC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8E0-37FA-45D8-9585-AA3ABCCD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5907-0C84-4449-B3AA-A61E1576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5D32-45F7-45F9-8A72-F4B047D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25A2-BBA5-4291-A14F-0D3AF74B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6787-428B-4635-8DCF-778A97A4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E8B-420A-494F-AF32-F3FE611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87D-6D5A-43DD-BCC0-6C553DA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B75-B769-40D9-8C0F-5F2BECAC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6A3F-210B-4759-8525-1283F3E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F72A-6718-47B3-AAB7-7D0D7F5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6259-0124-4A6E-BDE6-7EDA9C3A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E5B-1690-4E94-8301-DC7DC28D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FF76-1B31-44FC-8BB9-4C92BABB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38B-041B-4DB9-8E67-E9CC13C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FE8-CCB3-4131-B5C5-D19A2E4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73D-15CF-4BD4-81F0-6D5812A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B4F-6E47-4B5D-B526-CD1B290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3BE-0C31-4A48-861B-EDDF97D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2AE-8128-4A22-BADD-9C421B71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D65-BF54-4423-A64A-C0F80DA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D1D-A1F6-4199-836A-FCA11C8B0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F71-7EB2-4E63-B4A9-C8C050C50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4380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Тема: "Буква Ю и звуки, которые она обозначает"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57680" y="5143320"/>
            <a:ext cx="6032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: Зинченко О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лицей №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Юла возле Юльк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Кружится, поёт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Юле и Юр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ть не даёт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скороговор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азбука 056"/>
          <p:cNvPicPr/>
          <p:nvPr/>
        </p:nvPicPr>
        <p:blipFill>
          <a:blip r:embed="rId1"/>
          <a:stretch/>
        </p:blipFill>
        <p:spPr>
          <a:xfrm>
            <a:off x="179280" y="333360"/>
            <a:ext cx="446400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4859280" y="255420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С. 4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33480" cy="116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936720" cy="10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1079640" cy="11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4572000" y="1773360"/>
            <a:ext cx="1152360" cy="138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5"/>
          <a:stretch/>
        </p:blipFill>
        <p:spPr>
          <a:xfrm>
            <a:off x="6012000" y="1916280"/>
            <a:ext cx="100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5"/>
          <p:cNvSpPr/>
          <p:nvPr/>
        </p:nvSpPr>
        <p:spPr>
          <a:xfrm>
            <a:off x="642960" y="185724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звенел уже звон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ньте, дети, не лените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мне дружно улыбните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дравствуйте, ребята, с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 парты посмотр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дут нужными опять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жка, ручка и тетра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лодцы! Готов весь класс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у назову сейч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2124000" y="476280"/>
            <a:ext cx="3888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116000" y="260280"/>
            <a:ext cx="6120000" cy="52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763640" y="1052640"/>
            <a:ext cx="5184720" cy="47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85800" y="260280"/>
            <a:ext cx="5614920" cy="52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2627280" y="692280"/>
            <a:ext cx="4824360" cy="52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Ю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19280" y="1341360"/>
            <a:ext cx="413388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АТ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332000" y="1357200"/>
            <a:ext cx="530676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ЮТ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Ю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41:01Z</dcterms:created>
  <dc:creator>XTreme</dc:creator>
  <dc:description/>
  <dc:language>en-US</dc:language>
  <cp:lastModifiedBy>User</cp:lastModifiedBy>
  <dcterms:modified xsi:type="dcterms:W3CDTF">2017-02-09T15:21:45Z</dcterms:modified>
  <cp:revision>3</cp:revision>
  <dc:subject/>
  <dc:title>Тема: "Буква Ю и звуки, которые она обозначает" </dc:title>
</cp:coreProperties>
</file>