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52F-929F-4689-9F00-EC1B2097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BB5-FA19-4308-A21B-481408BF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D39-54CE-4D60-87EF-20FA0808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E20-F1A9-4A23-83E4-FFDFF1EA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C197-F482-4CDF-9145-E1F1E156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740F-3A44-4F3E-8B30-DC464B3A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67A8-F878-4647-BB57-3ABBF488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24E9-7592-4322-86DE-773FAC16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3039-592B-4737-93D4-3B453A71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CA96-349C-4B29-8BC9-66B689A7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245E-5D9F-4DCB-AD87-76A9D39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454-5707-4AD2-976A-2430624D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6ED0-1E78-4798-ADD6-31204A8F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8D40-756A-4C69-938F-1E60541D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8B26-31EB-4036-A3F5-994B3193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C726-EBF7-4A61-9224-1C3841B6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13DB-3A15-4CF5-ACB7-5D8ADA28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78C-AC1B-4B22-9CB7-1F324BDF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4B9-9680-451C-AE9F-6376096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4F4-AA9D-4035-8E84-283BB32B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422-5780-4E45-AB7A-56934DC0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48A-E1F9-433D-A147-FEAC95D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399-2F51-4F04-8370-591C9AFF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0FF-7E4D-45BD-A09E-EC2E90F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574C-0BC3-4A6E-A061-4CB01D0581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361-3176-4A72-87F3-8E2F3D0D23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89840" cy="4380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Тема: "Буква Ю и звуки, которые она обозначает"</a:t>
            </a: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57680" y="5143320"/>
            <a:ext cx="60321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а: Зинченко О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ОУ лицей №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Юла возле Юльк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Кружится, поёт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Юле и Юре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ть не даёт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скороговорк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азбука 056"/>
          <p:cNvPicPr/>
          <p:nvPr/>
        </p:nvPicPr>
        <p:blipFill>
          <a:blip r:embed="rId1"/>
          <a:stretch/>
        </p:blipFill>
        <p:spPr>
          <a:xfrm>
            <a:off x="179280" y="333360"/>
            <a:ext cx="4464000" cy="5334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4859280" y="255420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С. 4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933480" cy="116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936720" cy="1081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1079640" cy="115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4572000" y="1773360"/>
            <a:ext cx="1152360" cy="1384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5"/>
          <a:stretch/>
        </p:blipFill>
        <p:spPr>
          <a:xfrm>
            <a:off x="6012000" y="1916280"/>
            <a:ext cx="100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5"/>
          <p:cNvSpPr/>
          <p:nvPr/>
        </p:nvSpPr>
        <p:spPr>
          <a:xfrm>
            <a:off x="642960" y="185724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урок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звенел уже звоно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чинается ур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таньте, дети, не ленитес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е мне дружно улыбните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дравствуйте, ребята, с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а парты посмотр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дут нужными опять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нижка, ручка и тетрад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лодцы! Готов весь класс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у назову сейча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5"/>
          <p:cNvSpPr txBox="1"/>
          <p:nvPr/>
        </p:nvSpPr>
        <p:spPr>
          <a:xfrm>
            <a:off x="2124000" y="476280"/>
            <a:ext cx="3888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116000" y="260280"/>
            <a:ext cx="6120000" cy="522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1763640" y="1052640"/>
            <a:ext cx="5184720" cy="479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685800" y="260280"/>
            <a:ext cx="5614920" cy="522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2627280" y="692280"/>
            <a:ext cx="4824360" cy="529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Ю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1619280" y="1341360"/>
            <a:ext cx="4133880" cy="41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К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ЛАТ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ИК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332000" y="1357200"/>
            <a:ext cx="5306760" cy="41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К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ЛЮТ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ЮК</a:t>
            </a:r>
            <a:endParaRPr b="0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20:41:01Z</dcterms:created>
  <dc:creator>XTreme</dc:creator>
  <dc:description/>
  <dc:language>en-US</dc:language>
  <cp:lastModifiedBy>User</cp:lastModifiedBy>
  <dcterms:modified xsi:type="dcterms:W3CDTF">2017-02-09T15:21:45Z</dcterms:modified>
  <cp:revision>3</cp:revision>
  <dc:subject/>
  <dc:title>Тема: "Буква Ю и звуки, которые она обозначает" </dc:title>
</cp:coreProperties>
</file>