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9B8-6B2D-4E98-BE10-C1611D0D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9A4-9494-4FB3-9B17-70F17B3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E8B-8A1A-46B7-BB40-47D1CF01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CA-E0CD-441F-9747-1628A771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9BA7-B21D-40F4-B0B9-ADAE75D2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9F1-AC19-4964-AB5F-6DDFEA8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DC72-8BE9-4714-955B-8CD8F85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6FE-EC03-4D0C-95D8-6FCFACB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875-549B-4AFE-BE42-C6BEF78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7D3C-7ADF-464F-A47C-6735176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8B7E-D726-4F61-9B55-8558BC1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10F-9DD8-4FB9-AE03-3C2D6A70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88F-DD7F-48BC-BC3F-D183768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CD45-DB96-4862-BDDF-D74D2A85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07A-3D6A-48E6-BC02-2A076E2C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BD55-957D-40FD-9456-34B92EA8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290-032E-4FC8-ADDA-2E3A604E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615-E0CD-457B-9CBE-2EBFFB0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45D-A324-4A4D-A60A-5F4AC5E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71C-EDC2-4BBF-AF02-F6D58C04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5A0-E0D9-49C1-BBAD-F76FF720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0DD-4DBB-4019-A50C-65029916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743-F93E-4A1C-BF3F-1790179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04D-20CB-4473-BC2B-8A30592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C403-9780-4868-BC03-2BCEFDDC79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D1B-677F-414B-BB12-24784B872F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Формирование рефлексивной самооценк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68360" y="260280"/>
            <a:ext cx="8208000" cy="5575320"/>
            <a:chOff x="468360" y="260280"/>
            <a:chExt cx="8208000" cy="5575320"/>
          </a:xfrm>
        </p:grpSpPr>
        <p:cxnSp>
          <p:nvCxnSpPr>
            <p:cNvPr id="117" name="_s6157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119560" y="1942560"/>
              <a:ext cx="1115640" cy="221004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_s6155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2909880" y="1942200"/>
              <a:ext cx="1115640" cy="221076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_s6151"/>
            <p:cNvSpPr/>
            <p:nvPr/>
          </p:nvSpPr>
          <p:spPr>
            <a:xfrm>
              <a:off x="2678760" y="26028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cc"/>
                  </a:solidFill>
                  <a:latin typeface="Verdana"/>
                </a:rPr>
                <a:t>Самооценка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_s6152"/>
            <p:cNvSpPr/>
            <p:nvPr/>
          </p:nvSpPr>
          <p:spPr>
            <a:xfrm>
              <a:off x="468360" y="360540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ичностные УУД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истема оценок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и представлени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 себе на основе умен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нализировать свои действия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идеть себя со стороны,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равнивать свои дости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чера и сегодня</a:t>
              </a: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.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_s6154"/>
            <p:cNvSpPr/>
            <p:nvPr/>
          </p:nvSpPr>
          <p:spPr>
            <a:xfrm>
              <a:off x="4888080" y="360540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Метапредметные УУД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егулятивное УУД оцен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ак компонент учебной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91600" y="638280"/>
            <a:ext cx="48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ефлексивная самооцен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55640" y="1268280"/>
            <a:ext cx="1801800" cy="25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341360"/>
            <a:ext cx="216036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7560" y="388296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циализация в обществ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верстни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06600" y="30909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мение учитьс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Главная линия становления самооценки в начальной школе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нание ученика о собственных возможностях и их ограничениях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пособность определить границу знания и незнания, умения и неум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ействие контроля и самооценки в программе «2100»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ценка настроения, с которым заканчивают урок и ден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бота с эталонами, которая проводится на минутках чистописания (на уроках русского языка и математики)- конкурс на лучшую букву, цифр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ценивание с помощью «линеечек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оцен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етроспективная (обращенная в прошлое) – оценка уже выполненной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гностическая (предсказывающая) – оценка предстоящей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апы формирования ретроспективной самооцен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Шаг первы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 ребёнок оценивает свою работу после того, как учитель её проверил, т.е. исправил ошибк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Шаг второ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 ребёнок оценивает свою работу сразу после её выполнения,  до учительской проверк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51:50Z</dcterms:created>
  <dc:creator>www.PHILka.RU</dc:creator>
  <dc:description/>
  <dc:language>en-US</dc:language>
  <cp:lastModifiedBy>www.PHILka.RU</cp:lastModifiedBy>
  <dcterms:modified xsi:type="dcterms:W3CDTF">2012-05-14T20:52:57Z</dcterms:modified>
  <cp:revision>5</cp:revision>
  <dc:subject/>
  <dc:title>Формирование рефлексивной самооценки</dc:title>
</cp:coreProperties>
</file>