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FB0-EAB7-458E-872E-4070A024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7D3-E538-4B9F-B495-D51BD0EB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E77-DB7A-4563-B411-9AFB76CE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34F-F380-4256-BDDE-8FEBDE70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3A40-FCC1-40BD-8A54-D1F3B7D2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F90B-EC1A-4707-B5EE-F97AEFCA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B70E-823D-42A3-B7BB-2BEC1EB8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B341-5E52-493C-B5A6-FF93175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19B9-85F6-4E9B-8FFA-06EA34B2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3301-CC7A-41D4-AE44-93BE4F6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FA51-7BD5-41EA-97EA-E31FFA7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625-BC20-4C0C-9EE8-3B9DFF1C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D054-A98A-4381-BCF7-1625937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A667-6E63-44A9-9E7E-3824E5D0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CAAE-61CE-459A-9804-928DC69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6AB8-7B89-4D62-AD0A-CCE3163F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47A2-C681-42F5-9DF6-E8E0E9CF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4B9-F343-4F55-9991-EA5C0F91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FFD-AC44-4C1F-B4FA-CC16809E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46F-8248-4898-A267-999E50DF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36F-E80F-45F5-9193-9AF97EA7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482-826F-4920-A1EE-D04C0A5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9C6-165C-463B-9F01-551F726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E23-1B52-43EF-9C2A-431BBE6C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B4E9-2120-4372-B802-AE3DF609BC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5D5-CC6A-4FB9-A16F-D5A38990B9E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Формирование рефлексивной самооценк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68360" y="260280"/>
            <a:ext cx="8208000" cy="5575320"/>
            <a:chOff x="468360" y="260280"/>
            <a:chExt cx="8208000" cy="5575320"/>
          </a:xfrm>
        </p:grpSpPr>
        <p:cxnSp>
          <p:nvCxnSpPr>
            <p:cNvPr id="117" name="_s6157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119560" y="1942560"/>
              <a:ext cx="1115640" cy="2210040"/>
            </a:xfrm>
            <a:prstGeom prst="bentConnector3">
              <a:avLst>
                <a:gd name="adj1" fmla="val 10232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0" name="_s6155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2909880" y="1942200"/>
              <a:ext cx="1115640" cy="2210760"/>
            </a:xfrm>
            <a:prstGeom prst="bentConnector3">
              <a:avLst>
                <a:gd name="adj1" fmla="val 10232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19" name="_s6151"/>
            <p:cNvSpPr/>
            <p:nvPr/>
          </p:nvSpPr>
          <p:spPr>
            <a:xfrm>
              <a:off x="2678760" y="260280"/>
              <a:ext cx="3788280" cy="2230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cc"/>
                  </a:solidFill>
                  <a:latin typeface="Verdana"/>
                </a:rPr>
                <a:t>Самооценка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_s6152"/>
            <p:cNvSpPr/>
            <p:nvPr/>
          </p:nvSpPr>
          <p:spPr>
            <a:xfrm>
              <a:off x="468360" y="3605400"/>
              <a:ext cx="3788280" cy="2230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ичностные УУД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истема оценок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и представлений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 себе на основе умени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нализировать свои действия,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идеть себя со стороны,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равнивать свои достиж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чера и сегодня</a:t>
              </a: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.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_s6154"/>
            <p:cNvSpPr/>
            <p:nvPr/>
          </p:nvSpPr>
          <p:spPr>
            <a:xfrm>
              <a:off x="4888080" y="3605400"/>
              <a:ext cx="3788280" cy="2230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Метапредметные УУД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егулятивное УУД оценк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ак компонент учебной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91600" y="638280"/>
            <a:ext cx="48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Рефлексивная самооцен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55640" y="1268280"/>
            <a:ext cx="1801800" cy="259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341360"/>
            <a:ext cx="216036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7560" y="388296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циализация в обществ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верстни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06600" y="309096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мение учитьс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Главная линия становления самооценки в начальной школе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нание ученика о собственных возможностях и их ограничениях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пособность определить границу знания и незнания, умения и неум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Действие контроля и самооценки в программе «2100»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ценка настроения, с которым заканчивают урок и ден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бота с эталонами, которая проводится на минутках чистописания (на уроках русского языка и математики)- конкурс на лучшую букву, цифру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ценивание с помощью «линеечек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оцен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етроспективная (обращенная в прошлое) – оценка уже выполненной рабо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гностическая (предсказывающая) – оценка предстоящей рабо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апы формирования ретроспективной самооцен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Шаг первый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 ребёнок оценивает свою работу после того, как учитель её проверил, т.е. исправил ошибки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Шаг второй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: ребёнок оценивает свою работу сразу после её выполнения,  до учительской проверки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9:51:50Z</dcterms:created>
  <dc:creator>www.PHILka.RU</dc:creator>
  <dc:description/>
  <dc:language>en-US</dc:language>
  <cp:lastModifiedBy>www.PHILka.RU</cp:lastModifiedBy>
  <dcterms:modified xsi:type="dcterms:W3CDTF">2012-05-14T20:52:57Z</dcterms:modified>
  <cp:revision>5</cp:revision>
  <dc:subject/>
  <dc:title>Формирование рефлексивной самооценки</dc:title>
</cp:coreProperties>
</file>