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FC0-EAB6-43DB-B22C-6C47246D8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58F1-3F15-46FB-A57B-CBF7E22C6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C827-C316-4DB0-B6D2-B1BDDEEEC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1ABE-CDC1-4865-8967-0440940B6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9324-79CC-4A34-AE83-30A5A260A1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D65E-83D0-4AC7-9ACA-649ADBC13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0D8A-2DE9-4FE4-9095-00574E7B4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3DE8-28D6-4C3E-8DD5-50A3615A4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C214-0E1E-4BB7-8231-06DCF810A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D67-7C9C-460E-8AC6-5DEFBA72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94F-FE0D-45B5-BFC7-4851BA93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386-99CE-443E-A9EF-52C16A4B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CDF-181D-4FA1-B4C7-1D09AE4C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1B5-09BA-43F6-98B2-21D7A30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2D3-3B32-4926-851D-63048ABF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377-42AD-40BA-B5BA-CE69800D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B31-E6FA-4FFF-B100-122F11A4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0EE-23BF-4A13-9599-E19AEA33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859-2E56-409F-A480-FA7DB50F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426-3EAE-4178-9E3A-5D8E876C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878-A8D9-48F9-86FB-15EC35C6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802C-8234-4A9A-87F3-91451698A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ерои мультфильмов Уолта Дисн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inker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 российском варианте фею зовут Динь-Динь. Она фея из сказки Дж. Барри «Питер Пэ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Рост феи Динь-Динь — 13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Мультфильм Уолта Диснея «Питер Пэн» вышел в 1953 году. Многие считали, что Дисней писал образ Динь с Мэрилин Мон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Бронзовая статуя Динь-Динь расположена в Лондоне. Автор — скульптор Дайермуд Байрон О’Коннор. Размеры этой статуи 9,5 дюймов (размах крыльев) на 7 дюймов (в высот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Динь является своего рода логотипом — образом самой компании Уолта Дисн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1249032003_lgfp2061tink-tinkerbell-the-fairy-disney-fairies"/>
          <p:cNvPicPr/>
          <p:nvPr/>
        </p:nvPicPr>
        <p:blipFill>
          <a:blip r:embed="rId1"/>
          <a:stretch/>
        </p:blipFill>
        <p:spPr>
          <a:xfrm>
            <a:off x="790560" y="1197000"/>
            <a:ext cx="3468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имба, Тимон и Пум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4" descr="тимон симба пумба.jpg"/>
          <p:cNvPicPr/>
          <p:nvPr/>
        </p:nvPicPr>
        <p:blipFill>
          <a:blip r:embed="rId1"/>
          <a:stretch/>
        </p:blipFill>
        <p:spPr>
          <a:xfrm>
            <a:off x="142920" y="1428840"/>
            <a:ext cx="435600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Персонажи популярного анимационного фильма «Король Лев», выпущенного киностудией Walt Disney Pictures в 199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6600"/>
                </a:solidFill>
                <a:latin typeface="Arial"/>
              </a:rPr>
              <a:t>Симба </a:t>
            </a: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(англ. Simba) (суахили «Лев») —главный положительный герой – жизнерадостный, неугомонный, любопытный львенок, наследник престола Саванн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6600"/>
                </a:solidFill>
                <a:latin typeface="Arial"/>
              </a:rPr>
              <a:t>Тимон </a:t>
            </a: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— смешной антропоморфный сурикат. Тимон мог быть назван в честь греческого философа или же персонажа пьесы Шекспира «Тимон-афиняни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6600"/>
                </a:solidFill>
                <a:latin typeface="Arial"/>
              </a:rPr>
              <a:t>Пумба </a:t>
            </a: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— неуклюжий кабан-бородавочник. «Пумба» на языке суахили означает «простак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Впервые за историю диснеевской анимации положительный персонаж умирает на экра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Элтон Джон и Тим Райс написали пять оригинальных песен для этого филь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Фильм собрал 783 841 776 долларов во всем мир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Tim_sim_pum.jpg"/>
          <p:cNvPicPr/>
          <p:nvPr/>
        </p:nvPicPr>
        <p:blipFill>
          <a:blip r:embed="rId2"/>
          <a:stretch/>
        </p:blipFill>
        <p:spPr>
          <a:xfrm>
            <a:off x="428760" y="4286160"/>
            <a:ext cx="38098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ALL-E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nd 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 российском прокате фильм получил название «ВАЛЛ-И» (акроним от Вселенский Аннигилятор Ландшафтный Лёгкий • Интеллектуальный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 Великобритании слово «wally»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значает «дурачо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При подготовке к работе над фильмом художники со студии Pixar посетили различные мусорные свалки, где наблюдали за работой всевозможных машин и приспособлений, изучали настоящих робо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Разработкой Евы занимался Джонатан Айв, дизайнер, подаривший миру iPod, iMac, iPh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После зарядки солнечных батарей Валл-и издает звук, такой же звук издают компьютеры Apple при загру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Для получения звука летающей ЕВЫ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использована сконструированная действующая трёхметровая модель реактивного самолёта, и записано как этот аппарат пролетает прямо над голов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untitled"/>
          <p:cNvPicPr/>
          <p:nvPr/>
        </p:nvPicPr>
        <p:blipFill>
          <a:blip r:embed="rId1"/>
          <a:stretch/>
        </p:blipFill>
        <p:spPr>
          <a:xfrm>
            <a:off x="250920" y="1916280"/>
            <a:ext cx="44020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Dreams Come True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WaltDisneyWallpaper21024"/>
          <p:cNvPicPr/>
          <p:nvPr/>
        </p:nvPicPr>
        <p:blipFill>
          <a:blip r:embed="rId1"/>
          <a:stretch/>
        </p:blipFill>
        <p:spPr>
          <a:xfrm rot="571800">
            <a:off x="2410920" y="1628640"/>
            <a:ext cx="6193080" cy="464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09753_"/>
          <p:cNvPicPr/>
          <p:nvPr/>
        </p:nvPicPr>
        <p:blipFill>
          <a:blip r:embed="rId2"/>
          <a:stretch/>
        </p:blipFill>
        <p:spPr>
          <a:xfrm rot="1291200">
            <a:off x="250920" y="3213000"/>
            <a:ext cx="2233440" cy="1563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-FILM-TV-PERSONALITIES-DISNEY-characters"/>
          <p:cNvPicPr/>
          <p:nvPr/>
        </p:nvPicPr>
        <p:blipFill>
          <a:blip r:embed="rId3"/>
          <a:stretch/>
        </p:blipFill>
        <p:spPr>
          <a:xfrm rot="20622600">
            <a:off x="178920" y="1197000"/>
            <a:ext cx="2305080" cy="18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1180682035_24524"/>
          <p:cNvPicPr/>
          <p:nvPr/>
        </p:nvPicPr>
        <p:blipFill>
          <a:blip r:embed="rId4"/>
          <a:stretch/>
        </p:blipFill>
        <p:spPr>
          <a:xfrm rot="20506800">
            <a:off x="179280" y="4941360"/>
            <a:ext cx="216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Mickey 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ult-pict"/>
          <p:cNvPicPr/>
          <p:nvPr/>
        </p:nvPicPr>
        <p:blipFill>
          <a:blip r:embed="rId1"/>
          <a:stretch/>
        </p:blipFill>
        <p:spPr>
          <a:xfrm>
            <a:off x="468360" y="1700280"/>
            <a:ext cx="367668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148360" y="155736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27640" y="1341360"/>
            <a:ext cx="435456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Создателями Микки Мауса являются Уолт Дисней и его главный аниматор Аб Айверк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cc"/>
                </a:solidFill>
                <a:latin typeface="Arial"/>
              </a:rPr>
              <a:t>День рождения Микки Мауса</a:t>
            </a:r>
            <a:r>
              <a:rPr b="0" lang="en-US" sz="1500" spc="-1" strike="noStrike">
                <a:solidFill>
                  <a:srgbClr val="0000cc"/>
                </a:solidFill>
                <a:latin typeface="Arial"/>
              </a:rPr>
              <a:t> — 18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ноября 1928 года</a:t>
            </a:r>
            <a:r>
              <a:rPr b="0" lang="en-US" sz="15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cc"/>
                </a:solidFill>
                <a:latin typeface="Arial"/>
              </a:rPr>
              <a:t>Сначала Уолт Дисней хотел назвать мышонка Мортимером, но его жена предложила свой вариант — Мик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cc"/>
                </a:solidFill>
                <a:latin typeface="Arial"/>
              </a:rPr>
              <a:t>Дисней долго сам озвучивал Микки-Мауса в своих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мультфильма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Рост Микки — 109 с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Вес Микки — 23,5 фунт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Микки-Маус является логотипом корпорации Дисне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Во многих диснеевских фильмах есть феномен «скрытого Микки» — в неожиданный момент появляется тень или какая-то иная композиция в кадре в форме головы и круглых ушей Микки Маус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7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7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7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7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7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7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innie the Po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Винни Пух родился в 1961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Винни-Пух — главный персонаж двух книг Милна: Winnie-the-Pooh и </a:t>
            </a: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The House at Pooh Co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Винни Пух - это наивный, добродушный и скромный «Медведь с Маленькими Мозга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По итогам опроса населения Гонконга в 2004 году Винни оказался любимым персонажем диснеевских мультфильмов всех времё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11 апреля 2006 года на Аллее славы в Голливуде была открыта звезда Винни П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4411a6315f24"/>
          <p:cNvPicPr/>
          <p:nvPr/>
        </p:nvPicPr>
        <p:blipFill>
          <a:blip r:embed="rId1"/>
          <a:stretch/>
        </p:blipFill>
        <p:spPr>
          <a:xfrm>
            <a:off x="0" y="1428840"/>
            <a:ext cx="4572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Donald D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4" descr="дональд дак.jpg"/>
          <p:cNvPicPr/>
          <p:nvPr/>
        </p:nvPicPr>
        <p:blipFill>
          <a:blip r:embed="rId1"/>
          <a:stretch/>
        </p:blipFill>
        <p:spPr>
          <a:xfrm>
            <a:off x="785880" y="1357200"/>
            <a:ext cx="3233520" cy="4759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2920" y="1357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айт компании Disney утверждает что его имя — Дональд Фаунтлерой Д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День рождения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ональда — 9 июня 1934 года, день, когда вышла короткометражка «Маленькая умная курочка» («The Wise Little Hen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В августе 2004 года Дональд Дак получил звезду на Бульваре Звёзд в Лос-Анджеле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исней хотел персонажа, который бы имел несколько отрицательных качеств, которые уже нельзя было добавить Микки. Так появился Дональд Да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В 1938 году Дональд по рейтингу обогнал Микки Мау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ональд Дак – единственный персонаж мультфильмов, который стал символом университета. Американский университет в Орегоне заключил договор с компанией Уолт Дисней на использование изображения Дональ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Goo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goofy003.gif"/>
          <p:cNvPicPr/>
          <p:nvPr/>
        </p:nvPicPr>
        <p:blipFill>
          <a:blip r:embed="rId1"/>
          <a:stretch/>
        </p:blipFill>
        <p:spPr>
          <a:xfrm>
            <a:off x="-357120" y="107172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18572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уфи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англ. Goofy) — герой мультфильмов от Уолта Дисн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ень Рождения - 25 мая 1932 года ( появление в фильме «Путешествие Микк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глийское "goofy" переводится как "бестолковый, глупый, тупой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уфи был официальным талисманом французской сборной на Олимпийских играх 1980 года, а также талисманом первого юношеского теннисного турнира Уимблдон в 1983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crooge McD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ScroogeMcDuck.gif"/>
          <p:cNvPicPr/>
          <p:nvPr/>
        </p:nvPicPr>
        <p:blipFill>
          <a:blip r:embed="rId1"/>
          <a:stretch/>
        </p:blipFill>
        <p:spPr>
          <a:xfrm>
            <a:off x="785880" y="1343160"/>
            <a:ext cx="3429000" cy="4971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2920" y="1357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Скрудж Макдак - селезень шотландского происхождения из города Глазго, главный герой диснеевского мультсериала «Утиные истор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Создателем Дядюшки Скруджа является Карл Барк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День рождения – декабрь 1947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Имя дяди Скруджа основано на имени скупца Эбенезера Скруджа, персонажа романа Чарльза Диккенса «Рождественская песн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2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Согласно мнению Карла Баркса состояние Макдака равно один мультиплижиллион девять обскватуматиллионов шестьсот двадцать </a:t>
            </a:r>
            <a:r>
              <a:rPr b="0" lang="ru-RU" sz="1300" spc="-1" strike="noStrike">
                <a:solidFill>
                  <a:srgbClr val="c00000"/>
                </a:solidFill>
                <a:latin typeface="Arial"/>
              </a:rPr>
              <a:t>три доллара шестьдесят два цен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2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Arial"/>
              </a:rPr>
              <a:t>В 2007 году городской совет города Глазго включил Скруджа Макдака в список выдающихся горожа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2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Arial"/>
              </a:rPr>
              <a:t>Скрудж Макдак возглавил в 2007 году список пятнадцати самых богатых вымышленных персонажей по версии журнала Forbe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илли, Вилли и Дил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стоящие имена утят Huey, Dewey, and Louie - Хьюи, Дьюи и Л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зданы художниками студии Диснея Тедом Осборном и Алом Талиафер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нем рождения считается 17 октября 1937 года, когда утята впервые появились в газетной колонке коми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качестве мультипликационных персонажей впервые появились 15 апреля 1938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uey-dewey-louie-duck"/>
          <p:cNvPicPr/>
          <p:nvPr/>
        </p:nvPicPr>
        <p:blipFill>
          <a:blip r:embed="rId1"/>
          <a:stretch/>
        </p:blipFill>
        <p:spPr>
          <a:xfrm>
            <a:off x="179280" y="1785960"/>
            <a:ext cx="43927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hip and D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Впервые Чип и Дейл появились в мультфильме «Рядовой Плуто» (англ. «Private Pluto») 2 апреля 1943 го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До 1956 года было снято 24 мультфильма с участием Чипа и Дейл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Наибольшую известность они приобрели благодаря</a:t>
            </a:r>
            <a:r>
              <a:rPr b="0" lang="en-US" sz="1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мультсериалу «Чип и Дейл спешат на помощь»</a:t>
            </a:r>
            <a:r>
              <a:rPr b="0" lang="en-US" sz="17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снятому в 1989—1990 года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В Германии мультсериал называется «Chip und Chap», в Нидерландах «Knabbel en Babbel», во Франции «Tic et Tac», в Испании «Chip y Chop», в Бразилии — «Tico e Teco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чип и дейл"/>
          <p:cNvPicPr/>
          <p:nvPr/>
        </p:nvPicPr>
        <p:blipFill>
          <a:blip r:embed="rId1"/>
          <a:stretch/>
        </p:blipFill>
        <p:spPr>
          <a:xfrm>
            <a:off x="179280" y="1844640"/>
            <a:ext cx="43927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Принцессы Дисн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4" descr="38186410.jpg"/>
          <p:cNvPicPr/>
          <p:nvPr/>
        </p:nvPicPr>
        <p:blipFill>
          <a:blip r:embed="rId1"/>
          <a:stretch/>
        </p:blipFill>
        <p:spPr>
          <a:xfrm>
            <a:off x="123840" y="1785960"/>
            <a:ext cx="4371840" cy="3859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2920" y="14288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Каждая из принцесс – Жасмин, Белоснежка, Аврора, Золушка, Белль и Ариэль – главная героиня своей сказ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ЖАСМИН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 — дочь могущественного султана, сильная, независимая и свободолюбив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БЕЛОСНЕЖКА 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— юная принцесса, доверчивая, добрая и честна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Спящую красавицу зовут </a:t>
            </a: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АВРОРА. 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Воспитанная любящими феями, она выросла нежной, доброй и внимательной девушк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ЗОЛУШКА 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— настоящая труженица. Несмотря на обиды и разочарования девушка верит, что ее мечты сбудут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БЕЛЛЬ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 — очень красива, но ее внутренняя красота еще прекраснее, чем внешность. Она добра, терпелива и неж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АРИЭЛЬ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 — прекрасная русалочка. Она упряма, наивна и уверена, что человеческий мир гораздо лучше подводног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3:16:28Z</dcterms:created>
  <dc:creator>Лаборатория информатики №2</dc:creator>
  <dc:description/>
  <dc:language>en-US</dc:language>
  <cp:lastModifiedBy>Admin</cp:lastModifiedBy>
  <dcterms:modified xsi:type="dcterms:W3CDTF">2014-03-04T21:33:02Z</dcterms:modified>
  <cp:revision>24</cp:revision>
  <dc:subject/>
  <dc:title>Слайд 1</dc:title>
</cp:coreProperties>
</file>