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0B9-5067-4EE5-B0B0-797D891A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568-203B-4E19-A677-96C7FE76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00B4F-7608-4D31-AAD1-E7ADCB3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90765-8EC7-4F49-9887-979F3C3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91011-C63A-445A-86EE-21A9C524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2387A-4809-4165-B94E-64B1AFB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10B17-C42D-4006-A051-F4A22CB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6E69D-8274-4B44-B250-1700BEC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AB1E1-580B-467B-BB5D-76CC8593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DAABC-21A8-462F-A5C5-378190AD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C073B-95DF-4BE5-BD58-53744C37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48F-70BD-4A60-8AEB-14BC7E8D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234-2189-464A-994B-8A9BE6A5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7F1E-E517-482A-A74B-BB710654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778D-04E1-4DF0-A631-4B21A2BB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17BB-FC4F-480B-A77B-85D1CE79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1814-6A89-45CF-B170-DE22EEA0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404A-1336-4D99-BB58-4C6E5E39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A8A-3EDD-4E57-84FB-ABE5214E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8E9F-C7A0-44B0-80C9-BC1C548E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0FE-E7D8-457C-86B9-96D8CC6A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F5E6-7AE6-48B3-90EA-179BD0E2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829E-032D-4F57-AAC8-FDFA3CB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950A-A41F-47DE-A465-E44A47F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917-7899-467E-A798-FAD38097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A9A1-F20E-4480-AED6-EBF931F9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83D1-069E-4FCD-90E0-C77D2420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C4DD-8473-4F04-A68D-CD0B7232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B83B-6EA6-44A3-8905-E1D5C483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EC02-12B8-479E-80CC-1BB3D176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DE6F-B862-49A3-A016-70BDCE1A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A14-B659-45CE-80BE-40008F5F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73F9-4456-4665-96A3-45EB8203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F7AC-93DB-4724-BB43-32DFEF9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5502-B7DF-4727-9859-240A039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AB8A-20DC-4B75-A9E6-F4F566E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8C3B-A449-44AA-907F-3A1D234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28A1-4966-4064-BEE6-A8CAC208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F8DC-2BD1-48FE-A3E4-72EDA400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A2851-240F-4421-93CA-3FBCB9A9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A5D2-5FA4-4360-92D6-C15DF85F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78BA-4F3F-4FC2-99BF-C070D698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41B-235F-4CB8-98E3-E4F5E385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CC99-AB5D-459C-B9FA-EFCF030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737A-A535-4D27-9440-B66BBDB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9CFB5-86EC-4D47-811F-C2B74E57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A96A-94A7-4CA1-8055-593E993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B021-692D-47D0-B326-B647C710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F517-F841-483E-80E6-60DE3D6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66265-B7C4-4E3B-A0C3-77DC77F0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FACF-CF72-4922-B2D1-F17A756E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2CD7-20B0-4014-A829-5D4DD323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34CDF-6051-407C-A285-817B4B43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417-0DED-442F-AB44-73DD5E3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DFE9D-0BD0-44C5-A7BE-7B636B64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5A86D-4B31-47BE-9E4A-60543D2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34AC8-15B0-4D36-838F-A58CB262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4E92-7B16-4B81-8C42-3428A00E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E1421-FCFC-43DD-89BE-828BBB3A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043A-7EDE-49DC-9F4A-DD802249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17D9-A46A-4B0F-9946-3B34375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3F7E-DED1-4E27-BB4D-20A4AC6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A43F-ACB0-45E3-A7E0-9964C0DD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F0E2-CCB5-4A6E-A8E6-3417510E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038-1B5A-439F-9E1B-B5CC761E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999A-5AF4-419E-B55C-59CED25F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F548-2E82-4557-B5FA-A16CB0D5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D2988-9385-451C-B77B-634BAE06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516F-906D-445A-85EA-605C58E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AFE36-0D94-4BE5-B9EC-B9F4B55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3CA5-FDC2-47FE-AEF7-75B0ED7E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43B2D-CF29-41BD-BCC7-208F60FD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3FF33-8573-429E-B2DE-AE26B63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FB042-2AF6-4522-988C-642A3DAF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B2003-AAE6-4431-BFB5-1B78AEE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ADB-E238-4CA6-BAAB-483347E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4B281-C38E-47DF-AD4F-D639CC46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A1155-6310-41DB-A313-4CDF5AF3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79F0-2A3B-4D89-8418-63A13084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42F7-93F9-4E10-A39A-B5AD90AE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FCECB-06BD-44AF-9D57-92BCEC4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B83AE-5279-4F19-A5B2-6EBD2BB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78F0-CBD7-4C6A-90F8-70841965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64677-8223-4DF9-907C-98A7709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44AC-5036-47F0-9421-B1671763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1FD0-08B4-4A0E-BEB4-2BABAD9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89B-7BA5-4B93-9BEA-5F626FF4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EC15-7707-4630-B4A8-E9AB2FA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F374-B394-475A-88EB-727A3591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ACF21-F987-4D5C-B379-B8B5010C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36593-A829-4DBD-80AD-297867D2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D895D-5141-4930-9D77-2AD9853A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BABC-171C-49CC-8A28-D39631EE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BBCC7-CD06-4917-A158-CC0065B2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09297-92C1-4179-9F83-4E195C2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224C-107A-4406-A9DF-88679A03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7FAA4-B5E9-428F-9516-627922D1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94D-3274-4FE8-8401-00FE6D0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F6169-2DEE-4E8B-905B-5B98D42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FE79-A887-4C2A-8D3D-784A5EC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2B939-88A3-4993-BFAA-6EA541CC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5AAF4-F6D5-486E-A811-66FD8A74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374CD-941E-4B24-B428-3D964ED8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DA5F9-2832-4467-9B9A-5BE23C24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A60B-5656-4A93-9AF0-64C80E44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12384-CDC2-4905-BF1C-5E3A2753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AD2A5-5308-430B-89DE-0C8067BD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67B90-2666-4FFE-AA72-3359F6F4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9FA7-DD50-4ED2-A693-AE75A351043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02CC-40B4-4181-9F22-07A11C0E405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6C2F-27FF-4E5B-87E7-A0A0202FA6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87A-82CB-4AB2-ABBB-904A50BC31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7F3C-4DDC-4920-83E3-2609B4C3D9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1344-4FC5-4729-9368-E0AB3B3C79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CEC7-47D8-471A-9D61-FC44C3067B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5A7B-37A5-4CD3-960E-36E079793B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3811-A530-4B89-9BF4-B6C2785576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58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0" y="4714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1" name="Рисунок 10" descr="лесовичок зимой.jpg"/>
          <p:cNvPicPr/>
          <p:nvPr/>
        </p:nvPicPr>
        <p:blipFill>
          <a:blip r:embed="rId1"/>
          <a:stretch/>
        </p:blipFill>
        <p:spPr>
          <a:xfrm>
            <a:off x="2714760" y="142920"/>
            <a:ext cx="35719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3" name="Содержимое 3" descr="берёза.jpg"/>
          <p:cNvPicPr/>
          <p:nvPr/>
        </p:nvPicPr>
        <p:blipFill>
          <a:blip r:embed="rId1"/>
          <a:stretch/>
        </p:blipFill>
        <p:spPr>
          <a:xfrm>
            <a:off x="357120" y="500040"/>
            <a:ext cx="3929040" cy="59292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ель.jpg"/>
          <p:cNvPicPr/>
          <p:nvPr/>
        </p:nvPicPr>
        <p:blipFill>
          <a:blip r:embed="rId2"/>
          <a:stretch/>
        </p:blipFill>
        <p:spPr>
          <a:xfrm>
            <a:off x="4572000" y="500040"/>
            <a:ext cx="4286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Содержимое 4" descr="берёза зимой.jpg"/>
          <p:cNvPicPr/>
          <p:nvPr/>
        </p:nvPicPr>
        <p:blipFill>
          <a:blip r:embed="rId1"/>
          <a:stretch/>
        </p:blipFill>
        <p:spPr>
          <a:xfrm>
            <a:off x="461880" y="785880"/>
            <a:ext cx="4181400" cy="51433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" descr="ель зимой.jpg"/>
          <p:cNvPicPr/>
          <p:nvPr/>
        </p:nvPicPr>
        <p:blipFill>
          <a:blip r:embed="rId2"/>
          <a:stretch/>
        </p:blipFill>
        <p:spPr>
          <a:xfrm>
            <a:off x="5143680" y="785880"/>
            <a:ext cx="3500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Содержимое 3" descr="лиственница зимой.jpg"/>
          <p:cNvPicPr/>
          <p:nvPr/>
        </p:nvPicPr>
        <p:blipFill>
          <a:blip r:embed="rId1"/>
          <a:stretch/>
        </p:blipFill>
        <p:spPr>
          <a:xfrm>
            <a:off x="3643200" y="2000160"/>
            <a:ext cx="529452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5" descr="лиственница 1.jpg"/>
          <p:cNvPicPr/>
          <p:nvPr/>
        </p:nvPicPr>
        <p:blipFill>
          <a:blip r:embed="rId2"/>
          <a:stretch/>
        </p:blipFill>
        <p:spPr>
          <a:xfrm>
            <a:off x="316080" y="214200"/>
            <a:ext cx="3184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2" name="Содержимое 3" descr="белка зимой 1.jpg"/>
          <p:cNvPicPr/>
          <p:nvPr/>
        </p:nvPicPr>
        <p:blipFill>
          <a:blip r:embed="rId1"/>
          <a:stretch/>
        </p:blipFill>
        <p:spPr>
          <a:xfrm>
            <a:off x="714240" y="642960"/>
            <a:ext cx="778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0" y="356760"/>
            <a:ext cx="8686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4" name="Содержимое 3" descr="сосновый бор.jpg"/>
          <p:cNvPicPr/>
          <p:nvPr/>
        </p:nvPicPr>
        <p:blipFill>
          <a:blip r:embed="rId1"/>
          <a:stretch/>
        </p:blipFill>
        <p:spPr>
          <a:xfrm>
            <a:off x="142920" y="142920"/>
            <a:ext cx="4143240" cy="37861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ельник.jpg"/>
          <p:cNvPicPr/>
          <p:nvPr/>
        </p:nvPicPr>
        <p:blipFill>
          <a:blip r:embed="rId2"/>
          <a:stretch/>
        </p:blipFill>
        <p:spPr>
          <a:xfrm>
            <a:off x="4214880" y="2928960"/>
            <a:ext cx="4763880" cy="37908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7" descr=""/>
          <p:cNvPicPr/>
          <p:nvPr/>
        </p:nvPicPr>
        <p:blipFill>
          <a:blip r:embed="rId3"/>
          <a:stretch/>
        </p:blipFill>
        <p:spPr>
          <a:xfrm>
            <a:off x="353880" y="3139920"/>
            <a:ext cx="4370400" cy="237672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8" descr=""/>
          <p:cNvPicPr/>
          <p:nvPr/>
        </p:nvPicPr>
        <p:blipFill>
          <a:blip r:embed="rId4"/>
          <a:stretch/>
        </p:blipFill>
        <p:spPr>
          <a:xfrm>
            <a:off x="3706920" y="566640"/>
            <a:ext cx="601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1:24Z</dcterms:created>
  <dc:creator>user</dc:creator>
  <dc:description/>
  <dc:language>en-US</dc:language>
  <cp:lastModifiedBy>Валентина</cp:lastModifiedBy>
  <dcterms:modified xsi:type="dcterms:W3CDTF">2017-02-08T21:08:17Z</dcterms:modified>
  <cp:revision>9</cp:revision>
  <dc:subject/>
  <dc:title>Виды ветров</dc:title>
</cp:coreProperties>
</file>