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302-B805-49AD-8D3A-6C7335B2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83D-CAFA-4081-B551-C56171EF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1E89F-0667-456A-B705-6A55B0AA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CADFC-0ED6-4059-BED1-4960BEB4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3F8CD-E0E1-4A48-A481-66C3910D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3B91D-2765-4008-9565-EE16188F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FE75F-A1B2-4C99-A6ED-375BA58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9EF2E-53F5-4637-AB6E-9CAA1C07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13B1E-F054-4D77-8A28-1815A07F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BCA08-50E1-49FD-9C64-F6A06A52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EE9FB-13A5-431D-9E31-C8C077DB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DE0-8551-4F5E-B30B-32414D81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9BC-BD5F-45E4-8837-1623EC0F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E076-AE57-42A0-BE56-E1FF038F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3EF9-3019-4488-8322-7828231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5035-B955-473E-9899-BF20C222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9B61-856B-4F33-BF72-B1B8A0D4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C34-3F18-4223-B21A-F30199BF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F33D-5EF1-4265-9E52-9CF811BC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19CD-6268-484A-94B0-83874C0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C06-D467-4AA0-8869-57C3EE9D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6808-41F3-4F72-827F-67D1E335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E067-6594-4071-811E-666FC351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FFB6-01FE-42E6-A0BC-BCF2763F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3A33-F4EA-42BA-B199-8ECD1249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3047-7397-43B9-A383-D51AF19A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E1E5-FD20-437D-A03B-9366CA25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311C-3B57-4FF5-8D9A-4790A87A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8C03-ED5F-4ACF-BDB8-41735FC5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7992A-D248-43AB-A15D-3912DB6D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6A79-E5B0-48F7-8533-A8829B6A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C31-68C1-4B40-B772-67144113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FE74-7275-4C6F-A8BE-E880152E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AEFF-8FB6-4E1F-8FAF-8CCAA63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7DDC-7B45-4F23-8702-231F4AB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3A85-9C68-4011-8B20-153A7964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F520-34C8-468F-9294-CE80AA5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778B-C1C8-4E63-B2CA-12A0A06D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4924-A830-4BBB-8C36-B4E52B80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3E3C-B5D1-4F91-92D3-A3AED6BC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8817-8B7A-474A-959D-C82662BD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08647-591C-492A-8321-916D7FEB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530-3000-433E-87C4-CA6358D1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ADB6-5D71-4726-AACB-B7E27C95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D907-39B2-45DF-9FA7-D2E07683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C694-5122-405E-B87C-6CE30CEC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4343-C8EE-45FE-B545-D7FAC2B6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B5F24-924C-45B6-9532-32FE45BC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1DF6-0063-4C68-8F72-7E64171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E96D-9787-4CFC-8923-9F5FBEF0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56A9-5C5E-4E8B-95CF-499BA8F0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FD88E-C9EC-4B10-8323-F3BC0CE4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FDD7-4FF6-4224-A950-9B65FE96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1A9-E932-45C1-814F-87EEE0D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AA31-B274-4147-A77F-2CCA1238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B5E9D-9B5C-4324-B0E7-CF93B1AA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2B65-403C-4537-81FB-E8A6029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1467B-98FA-48A3-AF6B-5C7BAEBB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BC984-8B17-4AA1-9907-67E93F38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7F625-D8F5-440D-B144-BAB3044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65CA-4CBF-482B-BCB7-0D1A0357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CC5C7-D1F3-4FD2-9FC4-15CF3871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91B2-B83B-4FC6-B3C6-82C4D377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D1B8-1520-4BA1-B495-4D5DCEA7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825-54B8-4F69-A888-128F5E58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E6074-433E-4F1E-AF59-B2F5DFD3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32F9-4563-477D-9657-970829B8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F45B5-F88A-4FAD-93EC-86DCE0F7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7D38-2D43-4A7E-9A50-C2DB10B2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D073F-1660-49A9-A1A7-91D06622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BAF0A-C4BF-4C51-8363-B681981E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6001-E626-4BFE-A6A3-B82D6D14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91C2A-0E44-4DB0-BA1B-126BBFBF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684F2-6ED2-41F4-A53C-ADD91CAC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E252A-BB9D-47C9-8CB0-45B0B2B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22A-8771-4FC4-ACC3-AB916BCF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CF83B-9A3C-4978-9168-3036E2B9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EE0C5-580C-400E-9E36-A8AB84C3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5315F-9EF8-423C-9CB1-34B54488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F0E75-7BE6-4A81-A57F-09D3B1A3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32961-2456-44F5-9102-5B2D5725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B1683-E976-40E3-AC81-39E9277B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ADB9B-829C-4396-9155-DE33072D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74150-8B22-4AEC-A7BB-C2FE197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4ED1D-8C6C-4644-8572-97D7E55C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28B2D-AB5C-4378-BC4A-01BC8960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2B6-61A8-4482-99AA-785645D2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9345-99E4-438B-8CB8-49764CD9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03FD1-9530-4A4D-89C9-C9C96582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5E24-40C8-4118-827E-457BAE0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E44D-3564-4A65-A18F-C36611BE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1D49D-EE02-4B87-AEF1-23135908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6D466-BD72-4E34-8916-0EA22547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74756-8ACA-41D2-8A8E-3176D281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27E6-CE87-40E3-BE25-E78FD6A6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35CC-5E08-4554-85BC-2995FC90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96C42-A061-4483-918B-6243A4A8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1FC-CF60-4EFD-AAAD-4391B7E3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D3043-ECEA-4B25-869C-DAB1796E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53C23-7E3D-4D77-8E45-A79B89E6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82D01-13C7-4B43-9A5D-621C9DB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6E576-1E16-4C16-AAD0-137485B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96091-54E4-4EAA-B585-EF31E513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51914-156F-43E8-93EC-0E89A2A6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99B36-93EE-426D-A9E5-0D513A9D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5CCA4-0EB8-45B9-85E0-291736AC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68AD4-29A4-4A25-A150-DE0CBCDF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49B97-7EFD-45E5-9A39-13B0A9CA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04AC-0311-4C76-AD2C-97540A4090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BE7E-0073-4CA1-B707-27E360ADD7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E7EE-ECBF-47AC-B471-17DFA9E9EB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67FF-14FA-463B-8975-C0E362E6B8A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261-36A4-4966-AED9-27BDF201B78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F1F5-D1FE-492F-BD7A-72AFFB0840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1A86-3F4A-4E1C-ABD1-EDCF421207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4077-76E9-4F9B-ACD7-7835EC539B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C927-D0E4-432E-BEDD-FA0954D0846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58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0" y="4714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1" name="Рисунок 10" descr="лесовичок зимой.jpg"/>
          <p:cNvPicPr/>
          <p:nvPr/>
        </p:nvPicPr>
        <p:blipFill>
          <a:blip r:embed="rId1"/>
          <a:stretch/>
        </p:blipFill>
        <p:spPr>
          <a:xfrm>
            <a:off x="2714760" y="142920"/>
            <a:ext cx="35719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3" name="Содержимое 3" descr="берёза.jpg"/>
          <p:cNvPicPr/>
          <p:nvPr/>
        </p:nvPicPr>
        <p:blipFill>
          <a:blip r:embed="rId1"/>
          <a:stretch/>
        </p:blipFill>
        <p:spPr>
          <a:xfrm>
            <a:off x="357120" y="500040"/>
            <a:ext cx="3929040" cy="59292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ель.jpg"/>
          <p:cNvPicPr/>
          <p:nvPr/>
        </p:nvPicPr>
        <p:blipFill>
          <a:blip r:embed="rId2"/>
          <a:stretch/>
        </p:blipFill>
        <p:spPr>
          <a:xfrm>
            <a:off x="4572000" y="500040"/>
            <a:ext cx="42861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Содержимое 4" descr="берёза зимой.jpg"/>
          <p:cNvPicPr/>
          <p:nvPr/>
        </p:nvPicPr>
        <p:blipFill>
          <a:blip r:embed="rId1"/>
          <a:stretch/>
        </p:blipFill>
        <p:spPr>
          <a:xfrm>
            <a:off x="461880" y="785880"/>
            <a:ext cx="4181400" cy="51433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5" descr="ель зимой.jpg"/>
          <p:cNvPicPr/>
          <p:nvPr/>
        </p:nvPicPr>
        <p:blipFill>
          <a:blip r:embed="rId2"/>
          <a:stretch/>
        </p:blipFill>
        <p:spPr>
          <a:xfrm>
            <a:off x="5143680" y="785880"/>
            <a:ext cx="3500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9" name="Содержимое 3" descr="лиственница зимой.jpg"/>
          <p:cNvPicPr/>
          <p:nvPr/>
        </p:nvPicPr>
        <p:blipFill>
          <a:blip r:embed="rId1"/>
          <a:stretch/>
        </p:blipFill>
        <p:spPr>
          <a:xfrm>
            <a:off x="3643200" y="2000160"/>
            <a:ext cx="529452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5" descr="лиственница 1.jpg"/>
          <p:cNvPicPr/>
          <p:nvPr/>
        </p:nvPicPr>
        <p:blipFill>
          <a:blip r:embed="rId2"/>
          <a:stretch/>
        </p:blipFill>
        <p:spPr>
          <a:xfrm>
            <a:off x="316080" y="214200"/>
            <a:ext cx="3184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2" name="Содержимое 3" descr="белка зимой 1.jpg"/>
          <p:cNvPicPr/>
          <p:nvPr/>
        </p:nvPicPr>
        <p:blipFill>
          <a:blip r:embed="rId1"/>
          <a:stretch/>
        </p:blipFill>
        <p:spPr>
          <a:xfrm>
            <a:off x="714240" y="642960"/>
            <a:ext cx="778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0" y="356760"/>
            <a:ext cx="8686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4" name="Содержимое 3" descr="сосновый бор.jpg"/>
          <p:cNvPicPr/>
          <p:nvPr/>
        </p:nvPicPr>
        <p:blipFill>
          <a:blip r:embed="rId1"/>
          <a:stretch/>
        </p:blipFill>
        <p:spPr>
          <a:xfrm>
            <a:off x="142920" y="142920"/>
            <a:ext cx="4143240" cy="378612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ельник.jpg"/>
          <p:cNvPicPr/>
          <p:nvPr/>
        </p:nvPicPr>
        <p:blipFill>
          <a:blip r:embed="rId2"/>
          <a:stretch/>
        </p:blipFill>
        <p:spPr>
          <a:xfrm>
            <a:off x="4214880" y="2928960"/>
            <a:ext cx="4763880" cy="37908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7" descr=""/>
          <p:cNvPicPr/>
          <p:nvPr/>
        </p:nvPicPr>
        <p:blipFill>
          <a:blip r:embed="rId3"/>
          <a:stretch/>
        </p:blipFill>
        <p:spPr>
          <a:xfrm>
            <a:off x="353880" y="3139920"/>
            <a:ext cx="4370400" cy="237672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8" descr=""/>
          <p:cNvPicPr/>
          <p:nvPr/>
        </p:nvPicPr>
        <p:blipFill>
          <a:blip r:embed="rId4"/>
          <a:stretch/>
        </p:blipFill>
        <p:spPr>
          <a:xfrm>
            <a:off x="3706920" y="566640"/>
            <a:ext cx="601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1:24Z</dcterms:created>
  <dc:creator>user</dc:creator>
  <dc:description/>
  <dc:language>en-US</dc:language>
  <cp:lastModifiedBy>Валентина</cp:lastModifiedBy>
  <dcterms:modified xsi:type="dcterms:W3CDTF">2017-02-08T21:08:17Z</dcterms:modified>
  <cp:revision>9</cp:revision>
  <dc:subject/>
  <dc:title>Виды ветров</dc:title>
</cp:coreProperties>
</file>