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478-DFDC-4CEA-A893-8BE8DCC2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D92-390B-4EB7-B281-133A7550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90E-D933-4288-9B59-454BF2B2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46E-046C-471F-86A3-D5F5E646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09B-8D0F-42A9-94E1-CF04518E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770-3815-45B4-BD4A-0893A620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34F-AE40-4847-B31E-21D25856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77E-8547-414D-9BA5-E685FF06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3EE-4D04-40E1-8BBE-38B11023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F7F-AB5B-4D12-BDDA-939D4B61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F63-EBCB-42FF-9F42-64F146C9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D56-5C71-442B-910E-49111106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7B22-849A-476A-A82E-F5391ADB58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368360" y="907560"/>
            <a:ext cx="6012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820000"/>
                </a:solidFill>
                <a:latin typeface="Times New Roman"/>
              </a:rPr>
              <a:t>Конкурс – викто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2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«Угут в годы Великой </a:t>
            </a:r>
            <a:br>
              <a:rPr sz="3600"/>
            </a:b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Отечественной   войны»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посвящённой 70-лет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со дня Победы в Великой Отечественной вой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755640" y="4724280"/>
            <a:ext cx="3311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Times New Roman"/>
              </a:rPr>
              <a:t>Каймысова Лилия 8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Times New Roman"/>
              </a:rPr>
              <a:t>МБОУ «Угутская СОШ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820000"/>
                </a:solidFill>
                <a:latin typeface="Times New Roman"/>
              </a:rPr>
              <a:t>1-Б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Times New Roman"/>
              </a:rPr>
              <a:t>Рук. Кретинина А.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63272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9. Вернувшись с фронта инвалидом, этот охотник к ноябрю 1942 года уже выполнил план пушнины четвёртого квартала на 100%, а к концу года обещал выполнить план пушных заготовок на 200%. Назовите этого передовика трудового фронта?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2420640"/>
            <a:ext cx="5508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Это  охотник артели имени Сталина инвалид Отечественной войны тов. Когончин Егор Иванович план пушнины четвёртого квартала выполнил на 3 ноября 1942 на 100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D:\Когончин ЕИ УКМ КП 826.jpg"/>
          <p:cNvPicPr/>
          <p:nvPr/>
        </p:nvPicPr>
        <p:blipFill>
          <a:blip r:embed="rId1"/>
          <a:stretch/>
        </p:blipFill>
        <p:spPr>
          <a:xfrm>
            <a:off x="5796000" y="1844640"/>
            <a:ext cx="2514600" cy="36003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>
            <a:off x="4788000" y="6093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из книги «Летопись народного подвиг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4788000" y="5877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Фотографии из архива УКМ им. П.С. Бахлыко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5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10. В каких войсках прошла войну Козлова В.Д., после войны приехавшая  в Угут и проработавшая до пенсии поваром в Угутской школ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38163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Козлова Валентина Дмитриевна прошла войну  в войсках связи. Она поддерживала связь с боевыми самолетами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G:\фото участники войны\Козлова ВД Архив Куклиной.jpg"/>
          <p:cNvPicPr/>
          <p:nvPr/>
        </p:nvPicPr>
        <p:blipFill>
          <a:blip r:embed="rId1"/>
          <a:stretch/>
        </p:blipFill>
        <p:spPr>
          <a:xfrm>
            <a:off x="5148360" y="1413000"/>
            <a:ext cx="3063600" cy="4213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4788000" y="5877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от Брагиной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4788000" y="6093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Фотографии из архива УКМ им. П.С. Бахлыко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5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11. Назовите участников Великой Отечественной войны, умерших уже в 21 веке и похороненных на Угутском кладбище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5084280"/>
            <a:ext cx="2952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Косарев Ники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Ефимиво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G:\фото участники войны\Кулешов ИС Архив Сивовой.jpg"/>
          <p:cNvPicPr/>
          <p:nvPr/>
        </p:nvPicPr>
        <p:blipFill>
          <a:blip r:embed="rId1"/>
          <a:stretch/>
        </p:blipFill>
        <p:spPr>
          <a:xfrm>
            <a:off x="3419640" y="1844640"/>
            <a:ext cx="2303280" cy="295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G:\фото участники войны\Фомин ВЗ Архив Макаровой_1.jpg"/>
          <p:cNvPicPr/>
          <p:nvPr/>
        </p:nvPicPr>
        <p:blipFill>
          <a:blip r:embed="rId2"/>
          <a:srcRect l="0" t="0" r="0" b="10718"/>
          <a:stretch/>
        </p:blipFill>
        <p:spPr>
          <a:xfrm>
            <a:off x="6300720" y="1413000"/>
            <a:ext cx="2087640" cy="295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D:\фото участники войны\Копия Общее фото УКМ КП 979.jpg"/>
          <p:cNvPicPr/>
          <p:nvPr/>
        </p:nvPicPr>
        <p:blipFill>
          <a:blip r:embed="rId3"/>
          <a:srcRect l="14222" t="19067" r="74405" b="61602"/>
          <a:stretch/>
        </p:blipFill>
        <p:spPr>
          <a:xfrm>
            <a:off x="826920" y="2276640"/>
            <a:ext cx="1976760" cy="28670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>
            <a:off x="5435640" y="5877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и фотографии из архива У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м. П.С. Бахлыко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6233760" y="4581360"/>
            <a:ext cx="211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Фомин Васил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Захарови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3276720" y="494172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Кулешов   Иван Степанови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(Стефанович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12. Назовите автора слов песни «Дети войны – пенсионеры», с которой с честью представлял Угут сельский хор «Русская душа» на районном конкурсе</a:t>
            </a:r>
            <a:r>
              <a:rPr b="0" lang="ru-RU" sz="2400" spc="-1" strike="noStrike">
                <a:solidFill>
                  <a:srgbClr val="82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24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Песня была написана в 2010 году  жительницей нашего посёлка   Шевчуковой Галиной Дмитриевной. Была  исполнена на районном конкурсе «Серебренная карусель»,посвящённый  65-летию Великой Отечественной войны</a:t>
            </a:r>
            <a:r>
              <a:rPr b="1" lang="ru-RU" sz="26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C:\Documents and Settings\Admin\Рабочий стол\сканирование0002.jpg"/>
          <p:cNvPicPr/>
          <p:nvPr/>
        </p:nvPicPr>
        <p:blipFill>
          <a:blip r:embed="rId1"/>
          <a:srcRect l="0" t="3664" r="4553" b="2244"/>
          <a:stretch/>
        </p:blipFill>
        <p:spPr>
          <a:xfrm>
            <a:off x="5148360" y="1413000"/>
            <a:ext cx="3090600" cy="4537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4793040" y="6093000"/>
            <a:ext cx="252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и фото Крыловой Н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1. Когда в Угуте был открыт памятник угутянам, погибшим в годы Великой Отечественной войны 1941-1945 гг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515736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Открытие памятника павшим 1941-1945 гг. состоялся 9 мая 2002года.</a:t>
            </a: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G:\Памятник\Вторая плита на памятник.jpg"/>
          <p:cNvPicPr/>
          <p:nvPr/>
        </p:nvPicPr>
        <p:blipFill>
          <a:blip r:embed="rId1"/>
          <a:stretch/>
        </p:blipFill>
        <p:spPr>
          <a:xfrm>
            <a:off x="1619280" y="1197000"/>
            <a:ext cx="5883120" cy="3911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4859280" y="595008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из книги «Сельское поселение Угу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8"/>
          <p:cNvSpPr/>
          <p:nvPr/>
        </p:nvSpPr>
        <p:spPr>
          <a:xfrm>
            <a:off x="485928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Фотографии из архива УКМ им. П.С. Бахлыко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2. Сколько имён погибших угутян выбито на плитах памятник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920" y="5157720"/>
            <a:ext cx="7632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На плитах памятника выбито двадцать одно  имя погибших угутя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C:\Documents and Settings\Admin\Рабочий стол\9 мамммм\памятник\IMAG0953.jpg"/>
          <p:cNvPicPr/>
          <p:nvPr/>
        </p:nvPicPr>
        <p:blipFill>
          <a:blip r:embed="rId1"/>
          <a:stretch/>
        </p:blipFill>
        <p:spPr>
          <a:xfrm>
            <a:off x="5364000" y="1413000"/>
            <a:ext cx="2521080" cy="374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229572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3.  Где и кем был установлен самый первый памятный знак с именами угутян, погибших на фронтах Великой Отечественной Войны </a:t>
            </a:r>
            <a:br>
              <a:rPr sz="2000"/>
            </a:b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1941-1945гг..?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2205000"/>
            <a:ext cx="4752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 1979 году Бахлыковым П.С. был  изготовлен из фанеры и установлен в зале краеведческого музея села памятник-пирамида с фамилиями погибших земляков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5867280" y="5661000"/>
            <a:ext cx="273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из книги «Сельское поселение Угут». Фотография из книги «Подвижники из Угут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Рисунок 5" descr="Бахлыков Пётр Семёнович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4. В 1941 году был образован Угутский сельский совет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(без с.Юган).  Назовите представителей  Угутского сельсовета призванных на фронт и погибших в первые годы войны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11280" y="2707920"/>
            <a:ext cx="800424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На фронт были призваны и погибли председатели Угутского сельсовета Силин Александр Григорьевич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Шимолин Василий Александрови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5148360" y="6093000"/>
            <a:ext cx="34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из книги «Сельское поселение Угу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5. Кого и почему в годы войны на территории Угутского сельсовета называли «пянъ ими»- клюквенная женщина»?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3640" y="1700280"/>
            <a:ext cx="81356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 военные годы юганские ханты называли Анну Петровну Волкову «пянъ ими», что означает клюквенная женщина. Все военные годы заготовкой ягод занималась Анна Петровна Волкова. Она объединила всё Приюганье, в лицо знала каждого сборщика и умела организовать его труд. Целыми обласами и лодками привозили ханты и русские сочные ягоды в Уг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4788000" y="6093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из книги «Сельское поселение Угу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6. Чем Угут помогал фронту в годы Великой Отечественной войны?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1197000"/>
            <a:ext cx="82915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 годы войны угутяне  добывали рыбу для фронта, охотники  пушнину, собирали ягоды:  чернику, голубику, клюкву, бруснику, смородин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C:\Documents and Settings\Admin\Рабочий стол\9 мамммм\image.jpg"/>
          <p:cNvPicPr/>
          <p:nvPr/>
        </p:nvPicPr>
        <p:blipFill>
          <a:blip r:embed="rId1"/>
          <a:stretch/>
        </p:blipFill>
        <p:spPr>
          <a:xfrm>
            <a:off x="5797440" y="2779560"/>
            <a:ext cx="2773440" cy="352908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611280" y="2349360"/>
            <a:ext cx="49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Отправляли тёплые вещи, носки, валенки, полушубки, портянки,  в носили деньги кто сколько мог. Школа послала на фронт ценную продуктовую посылку. М.Т. Силиной   была просьба из её заработка в фонд обороны страны двухдневный заработок до окончания войны, на воскреснике заработали  600 руб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7. На постройку, какой танковой колоны отчисляли двухдневный  заработок комсомольцы Угута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4581360"/>
            <a:ext cx="7632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На постройку танковой колоны «Боевые подруги»  комсомольцы Угута отчисляли двухдневный  заработ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C:\Documents and Settings\Admin\Рабочий стол\9 мамммм\41_20.jpg"/>
          <p:cNvPicPr/>
          <p:nvPr/>
        </p:nvPicPr>
        <p:blipFill>
          <a:blip r:embed="rId1"/>
          <a:stretch/>
        </p:blipFill>
        <p:spPr>
          <a:xfrm>
            <a:off x="1979640" y="1341360"/>
            <a:ext cx="5113440" cy="32972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4788000" y="6093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20000"/>
                </a:solidFill>
                <a:latin typeface="Times New Roman"/>
              </a:rPr>
              <a:t>Информация из книги «Сельское поселение Угу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7756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Times New Roman"/>
              </a:rPr>
              <a:t>8. В ноябре 1942 года за досрочное выполнение годового плана рыбодобычи ряд колхозов области был занесен на областную Доску почёта, назовите руководителей рыбартелей Угутского сельсовета, удостоенных этой награды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3534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Постановление Омского областного комитета ВКП(б) и исполкома областного Совета депутатов трудящихся от 23 ноября 1942 года за досрочное выполнение годового плана рыбодобычи они занесены на областную Доску почё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C:\Documents and Settings\Admin\Рабочий стол\9 мамммм\image(1).jpg"/>
          <p:cNvPicPr/>
          <p:nvPr/>
        </p:nvPicPr>
        <p:blipFill>
          <a:blip r:embed="rId1"/>
          <a:stretch/>
        </p:blipFill>
        <p:spPr>
          <a:xfrm>
            <a:off x="5078520" y="3718080"/>
            <a:ext cx="3522600" cy="2590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611280" y="3284640"/>
            <a:ext cx="51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ыбартель имени Кирова  председатель рыбартели тов. ТайлаковД.К., бригадир  рыбартели КурломкинЕ.А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имени Сталина председатель Кымичев Ф.С. бригадиры лова Когончин Н.А., Кельмин В.С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RePack by Diakov</cp:lastModifiedBy>
  <dcterms:modified xsi:type="dcterms:W3CDTF">2017-02-09T08:46:26Z</dcterms:modified>
  <cp:revision>76</cp:revision>
  <dc:subject/>
  <dc:title>Слайд 1</dc:title>
</cp:coreProperties>
</file>