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7DCE-CC1F-4FBA-A581-395245661F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6924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089240"/>
            <a:ext cx="786924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4BF68-E61B-481D-9AD9-D64746B4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182520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08924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0560" y="408924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05A8-A829-4DB2-8F22-BD91A85A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2533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825200"/>
            <a:ext cx="2533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9720" y="1825200"/>
            <a:ext cx="2533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089240"/>
            <a:ext cx="2533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4089240"/>
            <a:ext cx="2533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9720" y="4089240"/>
            <a:ext cx="2533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0183-CC5A-4669-B597-02DBC5242C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825200"/>
            <a:ext cx="78692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AE2E3-656A-496B-A503-A65C371F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6924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C88F3-E854-4B7C-A2D7-A7BA8FB9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012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0560" y="1825200"/>
            <a:ext cx="384012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1121-245B-4382-BEE0-7F3AA642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AF58-A074-4507-8EFD-51061126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69240" cy="60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CC13-3233-40F7-B25D-A22C689B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0560" y="1825200"/>
            <a:ext cx="384012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08924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368BE-F7D3-4F89-9377-13EB8E89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012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560" y="182520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0560" y="408924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38F3-EF27-41E4-90FE-F2FF2C59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560" y="182520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089240"/>
            <a:ext cx="786924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2A7D-6E17-4E25-8D6C-4D591CB3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5200"/>
            <a:ext cx="786924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160"/>
            <a:ext cx="2040120" cy="3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458040" y="6356160"/>
            <a:ext cx="2039760" cy="3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B88A1-F9BC-4293-A042-D6E7C9381306}" type="slidenum">
              <a:rPr b="0" lang="uk-UA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0"/>
            <a:ext cx="87836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999999"/>
                </a:solidFill>
                <a:latin typeface="Calibri Light"/>
              </a:rPr>
              <a:t>«Кошачья Долина»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6000" y="1294920"/>
            <a:ext cx="52560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193300"/>
                </a:solidFill>
                <a:latin typeface="Calibri"/>
              </a:rPr>
              <a:t>-Здравствуйте ребята! Добро пожаловать в Кошачью Долину! Наверное вам интересно зачем мы пришли сюда? Дело в том, что в гости нас пригласили четыре основателя этой Долины, всем вам хорошо известные персонажи: Кот из Простаквашино- Матроскин, кот из Лукоморья- Кот Учёный, Кот в сапогах и кот из «Алисы в стране чудес»- Чешир или просто Чеширский кот. Вам нужно будет выполнить их задания, чтобы они смогли разобраться в проблеме, которая у них появилась. Дело в том, что все взрослые коты, кошки и маленькие котята забыли кто они такие и чем занимались вчера. Вы ведь поможете им? Я, и не только я, надеемся на вас! Удачи вам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72000" y="1295280"/>
            <a:ext cx="3456000" cy="4967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6000" y="5332320"/>
            <a:ext cx="1468440" cy="1363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139840" y="5335560"/>
            <a:ext cx="2611440" cy="1073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fill="hold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08720" y="396720"/>
            <a:ext cx="2160720" cy="1185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720" y="420840"/>
            <a:ext cx="561672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666666"/>
                </a:solidFill>
                <a:latin typeface="Calibri Light"/>
              </a:rPr>
              <a:t>-Здравствуйте, </a:t>
            </a:r>
            <a:r>
              <a:rPr b="1" i="1" lang="ru-RU" sz="2600" spc="-1" strike="noStrike">
                <a:solidFill>
                  <a:srgbClr val="333333"/>
                </a:solidFill>
                <a:latin typeface="Calibri Light"/>
              </a:rPr>
              <a:t>гости</a:t>
            </a:r>
            <a:r>
              <a:rPr b="1" i="1" lang="ru-RU" sz="2600" spc="-1" strike="noStrike">
                <a:solidFill>
                  <a:srgbClr val="666666"/>
                </a:solidFill>
                <a:latin typeface="Calibri Light"/>
              </a:rPr>
              <a:t> </a:t>
            </a:r>
            <a:r>
              <a:rPr b="1" i="1" lang="ru-RU" sz="2600" spc="-1" strike="noStrike">
                <a:solidFill>
                  <a:srgbClr val="808080"/>
                </a:solidFill>
                <a:latin typeface="Calibri Light"/>
              </a:rPr>
              <a:t>дор</a:t>
            </a:r>
            <a:r>
              <a:rPr b="1" i="1" lang="ru-RU" sz="2600" spc="-1" strike="noStrike">
                <a:solidFill>
                  <a:srgbClr val="999999"/>
                </a:solidFill>
                <a:latin typeface="Calibri Light"/>
              </a:rPr>
              <a:t>огие</a:t>
            </a:r>
            <a:r>
              <a:rPr b="1" i="1" lang="ru-RU" sz="2600" spc="-1" strike="noStrike">
                <a:solidFill>
                  <a:srgbClr val="666666"/>
                </a:solidFill>
                <a:latin typeface="Calibri Light"/>
              </a:rPr>
              <a:t>! </a:t>
            </a:r>
            <a:r>
              <a:rPr b="1" i="1" lang="ru-RU" sz="2600" spc="-1" strike="noStrike">
                <a:solidFill>
                  <a:srgbClr val="333333"/>
                </a:solidFill>
                <a:latin typeface="Calibri Light"/>
              </a:rPr>
              <a:t>Очень</a:t>
            </a:r>
            <a:r>
              <a:rPr b="1" i="1" lang="ru-RU" sz="2600" spc="-1" strike="noStrike">
                <a:solidFill>
                  <a:srgbClr val="666666"/>
                </a:solidFill>
                <a:latin typeface="Calibri Light"/>
              </a:rPr>
              <a:t> хорошо, </a:t>
            </a:r>
            <a:r>
              <a:rPr b="1" i="1" lang="ru-RU" sz="2600" spc="-1" strike="noStrike">
                <a:solidFill>
                  <a:srgbClr val="333333"/>
                </a:solidFill>
                <a:latin typeface="Calibri Light"/>
              </a:rPr>
              <a:t>что вы пришли</a:t>
            </a:r>
            <a:r>
              <a:rPr b="1" i="1" lang="ru-RU" sz="2600" spc="-1" strike="noStrike">
                <a:solidFill>
                  <a:srgbClr val="666666"/>
                </a:solidFill>
                <a:latin typeface="Calibri Light"/>
              </a:rPr>
              <a:t> </a:t>
            </a:r>
            <a:r>
              <a:rPr b="1" i="1" lang="ru-RU" sz="2600" spc="-1" strike="noStrike">
                <a:solidFill>
                  <a:srgbClr val="b2b2b2"/>
                </a:solidFill>
                <a:latin typeface="Calibri Light"/>
              </a:rPr>
              <a:t>к</a:t>
            </a:r>
            <a:r>
              <a:rPr b="1" i="1" lang="ru-RU" sz="2600" spc="-1" strike="noStrike">
                <a:solidFill>
                  <a:srgbClr val="666666"/>
                </a:solidFill>
                <a:latin typeface="Calibri Light"/>
              </a:rPr>
              <a:t> </a:t>
            </a:r>
            <a:r>
              <a:rPr b="1" i="1" lang="ru-RU" sz="2600" spc="-1" strike="noStrike">
                <a:solidFill>
                  <a:srgbClr val="b2b2b2"/>
                </a:solidFill>
                <a:latin typeface="Calibri Light"/>
              </a:rPr>
              <a:t>нам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/>
          <p:nvPr/>
        </p:nvSpPr>
        <p:spPr>
          <a:xfrm>
            <a:off x="2343240" y="5040360"/>
            <a:ext cx="65134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дачи! </a:t>
            </a:r>
            <a:r>
              <a:rPr b="0" lang="ru-RU" sz="4400" spc="-1" strike="noStrike">
                <a:solidFill>
                  <a:srgbClr val="808080"/>
                </a:solidFill>
                <a:latin typeface="Calibri"/>
              </a:rPr>
              <a:t>М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на вас надеемся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2664000" y="3090960"/>
            <a:ext cx="61196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alibri"/>
              </a:rPr>
              <a:t>-Если вы поможете нам её решить, мы будем благодарны в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944720" y="1655640"/>
            <a:ext cx="68724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alibri"/>
              </a:rPr>
              <a:t>-У нас появились задания, которую даже мы решить не смог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82520" y="1479600"/>
            <a:ext cx="1689120" cy="1473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50840" y="3090960"/>
            <a:ext cx="2513160" cy="173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44360" y="4979880"/>
            <a:ext cx="2198880" cy="1211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3" dur="indefinite" fill="hold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#ppt_#ppt_#ppt_#ppt_#ppt_#ppt_#ppt_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#ppt_#ppt_#ppt_x+(cos(-2*pi*(1-$))*-#ppt_#ppt_#ppt_#ppt_#ppt_#ppt_#ppt_#ppt_#ppt_x-sin(-2*pi*(1-$))*(1-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x+(cos(-2*pi*(1-$))*-#ppt_#ppt_#ppt_#ppt_#ppt_#ppt_#ppt_#ppt_#ppt_x-sin(-2*pi*(1-$))*(1-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y+(sin(-2*pi*(1-$))*-#ppt_#ppt_#ppt_#ppt_#ppt_#ppt_#ppt_#ppt_#ppt_x+cos(-2*pi*(1-$))*(1-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y+(sin(-2*pi*(1-$))*-#ppt_#ppt_#ppt_#ppt_#ppt_#ppt_#ppt_#ppt_#ppt_x+cos(-2*pi*(1-$))*(1-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200" y="75960"/>
            <a:ext cx="78822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808080"/>
                </a:solidFill>
                <a:latin typeface="Calibri Light"/>
              </a:rPr>
              <a:t>           </a:t>
            </a:r>
            <a:r>
              <a:rPr b="1" i="1" lang="ru-RU" sz="4400" spc="-1" strike="noStrike">
                <a:solidFill>
                  <a:srgbClr val="808080"/>
                </a:solidFill>
                <a:latin typeface="Franklin Gothic Medium"/>
              </a:rPr>
              <a:t>«Письмо родителям»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/>
          <p:nvPr/>
        </p:nvSpPr>
        <p:spPr>
          <a:xfrm>
            <a:off x="628560" y="1825560"/>
            <a:ext cx="38466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667400" y="4095720"/>
            <a:ext cx="38462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628560" y="4095720"/>
            <a:ext cx="38466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628560" y="1368360"/>
            <a:ext cx="3846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667400" y="4095720"/>
            <a:ext cx="38462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628560" y="4095720"/>
            <a:ext cx="38466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5241960" y="1716120"/>
            <a:ext cx="3757680" cy="253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189000" y="1077840"/>
            <a:ext cx="42544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30000"/>
                </a:solidFill>
                <a:latin typeface="Times New Roman"/>
              </a:rPr>
              <a:t>-Здравствуйте ребята. Я рад вас видеть. Ну что, приступим. Задание называется «Письмо родителям». Правила его очень просты: Дядя Фёдор решил написать родителям письмо, но после него написали и Кот Матроскин, и пес Шарик. Каждый из них писал своё и родители Дяди Фёдора напридумывали себе, что их сын не такой, каким был. То у него хвост отваливается, то он линяет. Ваша задача собрать из частей фигуру Дяди Фёдора глазами его родителей после прочтения письма. Победит команда, которая меньше за 1 мину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3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330000"/>
                </a:solidFill>
                <a:latin typeface="Times New Roman"/>
              </a:rPr>
              <a:t>сможет собрать фигуру из частей. Побеждайте и успехов вам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28560" y="1825560"/>
            <a:ext cx="384336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664160" y="1825560"/>
            <a:ext cx="384336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664160" y="4092480"/>
            <a:ext cx="384336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28560" y="4092480"/>
            <a:ext cx="384336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216000" y="382680"/>
            <a:ext cx="8928000" cy="43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т учё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бро пожаловать в мою лабораторию. Ну что, понравилось вам задание Матроскина? Вижу, что понравилось. А теперь слушайте моё задание. Вам свои клубки одолжила Баба — Яга. С помощью этих клубков сделаем фигурки: медведь, заяц, дельфин, за 5 минут. Удачи вам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49120" y="3168720"/>
            <a:ext cx="860760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6000" y="520560"/>
            <a:ext cx="8783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т в сапог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Я вас всех приветствую. Вот вам моё задание. Вам нужно будет найти 10 отличий в рисунках за 1 минуту. Желаю вам победы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72000" y="2160720"/>
            <a:ext cx="460836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0360" y="216000"/>
            <a:ext cx="83520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ширский к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Назовите мне, пожалуйста, 3 названия мультфильмов на татарском язык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Я хочу услышать от вас краткое содержание мультфильма «Кәҗә белән сарык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Желаю всем интересных мультиков на татарском язык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24360" y="3672000"/>
            <a:ext cx="583236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50840" y="936720"/>
            <a:ext cx="714852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Вы молодцы, ребята! Хорошо справились с заданиями. Вам понравилось? Ну, тогда чего ждём, продолжим наше путешеств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16000" y="2303640"/>
            <a:ext cx="8783640" cy="444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1T16:16:18Z</dcterms:created>
  <dc:creator>Інна</dc:creator>
  <dc:description/>
  <dc:language>en-US</dc:language>
  <cp:lastModifiedBy>Інна</cp:lastModifiedBy>
  <dcterms:modified xsi:type="dcterms:W3CDTF">2015-07-11T16:48:03Z</dcterms:modified>
  <cp:revision>9</cp:revision>
  <dc:subject/>
  <dc:title>Презентація PowerPoint</dc:title>
</cp:coreProperties>
</file>