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62EA-C68D-40D3-8494-3030094D06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8924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3039-5A14-4A0E-9E08-DC3C5DF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1E0C-7CDA-4C05-97DE-1059088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9720" y="182520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9720" y="4089240"/>
            <a:ext cx="2533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1F73-4AA3-4981-A641-75337AEAC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D0A4-7979-4145-9230-B984454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DD21-806C-4C50-B7C9-3AF6D42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B643-5446-4E0A-B382-6134330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90CB-24E6-42BB-B9DF-85A32FA9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6924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384C-1215-47FA-820F-F768173F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678E-2587-4520-8A2C-8F9EB0F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408924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2FE8-9AB3-4E91-BADD-FAB099F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825200"/>
            <a:ext cx="384012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89240"/>
            <a:ext cx="786924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EAC9-84E0-42F2-A515-A298D961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69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6924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4012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3976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ABA59-E903-40CB-BB28-78A55F7F04EE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0"/>
            <a:ext cx="878364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999999"/>
                </a:solidFill>
                <a:latin typeface="Calibri Light"/>
              </a:rPr>
              <a:t>«Кошачья Долина»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6000" y="1294920"/>
            <a:ext cx="5256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193300"/>
                </a:solidFill>
                <a:latin typeface="Calibri"/>
              </a:rPr>
              <a:t>-Здравствуйте ребята! Добро пожаловать в Кошачью Долину! Наверное вам интересно зачем мы пришли сюда? Дело в том, что в гости нас пригласили четыре основателя этой Долины, всем вам хорошо известные персонажи: Кот из Простаквашино- Матроскин, кот из Лукоморья- Кот Учёный, Кот в сапогах и кот из «Алисы в стране чудес»- Чешир или просто Чеширский кот. Вам нужно будет выполнить их задания, чтобы они смогли разобраться в проблеме, которая у них появилась. Дело в том, что все взрослые коты, кошки и маленькие котята забыли кто они такие и чем занимались вчера. Вы ведь поможете им? Я, и не только я, надеемся на вас! Удачи в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72000" y="1295280"/>
            <a:ext cx="3456000" cy="496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6000" y="5332320"/>
            <a:ext cx="1468440" cy="1363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139840" y="5335560"/>
            <a:ext cx="2611440" cy="1073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8720" y="396720"/>
            <a:ext cx="2160720" cy="118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420840"/>
            <a:ext cx="561672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-Здравствуйте,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гости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808080"/>
                </a:solidFill>
                <a:latin typeface="Calibri Light"/>
              </a:rPr>
              <a:t>дор</a:t>
            </a:r>
            <a:r>
              <a:rPr b="1" i="1" lang="ru-RU" sz="2600" spc="-1" strike="noStrike">
                <a:solidFill>
                  <a:srgbClr val="999999"/>
                </a:solidFill>
                <a:latin typeface="Calibri Light"/>
              </a:rPr>
              <a:t>огие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!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Очень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хорошо, </a:t>
            </a:r>
            <a:r>
              <a:rPr b="1" i="1" lang="ru-RU" sz="2600" spc="-1" strike="noStrike">
                <a:solidFill>
                  <a:srgbClr val="333333"/>
                </a:solidFill>
                <a:latin typeface="Calibri Light"/>
              </a:rPr>
              <a:t>что вы пришли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b2b2b2"/>
                </a:solidFill>
                <a:latin typeface="Calibri Light"/>
              </a:rPr>
              <a:t>к</a:t>
            </a:r>
            <a:r>
              <a:rPr b="1" i="1" lang="ru-RU" sz="2600" spc="-1" strike="noStrike">
                <a:solidFill>
                  <a:srgbClr val="666666"/>
                </a:solidFill>
                <a:latin typeface="Calibri Light"/>
              </a:rPr>
              <a:t> </a:t>
            </a:r>
            <a:r>
              <a:rPr b="1" i="1" lang="ru-RU" sz="2600" spc="-1" strike="noStrike">
                <a:solidFill>
                  <a:srgbClr val="b2b2b2"/>
                </a:solidFill>
                <a:latin typeface="Calibri Light"/>
              </a:rPr>
              <a:t>нам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/>
          <p:nvPr/>
        </p:nvSpPr>
        <p:spPr>
          <a:xfrm>
            <a:off x="2343240" y="5040360"/>
            <a:ext cx="65134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ачи! </a:t>
            </a:r>
            <a:r>
              <a:rPr b="0" lang="ru-RU" sz="4400" spc="-1" strike="noStrike">
                <a:solidFill>
                  <a:srgbClr val="808080"/>
                </a:solidFill>
                <a:latin typeface="Calibri"/>
              </a:rPr>
              <a:t>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вас надеемся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664000" y="3090960"/>
            <a:ext cx="61196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</a:rPr>
              <a:t>-Если вы поможете нам её решить, мы будем благодарны 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944720" y="1655640"/>
            <a:ext cx="68724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</a:rPr>
              <a:t>-У нас появились задания, которую даже мы решить не смог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82520" y="1479600"/>
            <a:ext cx="1689120" cy="1473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0840" y="3090960"/>
            <a:ext cx="251316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360" y="4979880"/>
            <a:ext cx="2198880" cy="1211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3" dur="indefinite" fill="hold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#ppt_#ppt_#ppt_#ppt_#ppt_#ppt_#ppt_#ppt_#ppt_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#ppt_#ppt_#ppt_#ppt_#ppt_#ppt_#ppt_#ppt_#ppt_x+(cos(-2*pi*(1-$))*-#ppt_#ppt_#ppt_#ppt_#ppt_#ppt_#ppt_#ppt_#ppt_x-sin(-2*pi*(1-$))*(1-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x+(cos(-2*pi*(1-$))*-#ppt_#ppt_#ppt_#ppt_#ppt_#ppt_#ppt_#ppt_#ppt_x-sin(-2*pi*(1-$))*(1-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#ppt_#ppt_#ppt_#ppt_#ppt_#ppt_#ppt_#ppt_#ppt_y+(sin(-2*pi*(1-$))*-#ppt_#ppt_#ppt_#ppt_#ppt_#ppt_#ppt_#ppt_#ppt_x+cos(-2*pi*(1-$))*(1-#ppt_#ppt_#ppt_#ppt_#ppt_#ppt_#ppt_#ppt_#ppt_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#ppt_#ppt_#ppt_#ppt_#ppt_#ppt_#ppt_#ppt_#ppt_y+(sin(-2*pi*(1-$))*-#ppt_#ppt_#ppt_#ppt_#ppt_#ppt_#ppt_#ppt_#ppt_x+cos(-2*pi*(1-$))*(1-#ppt_#ppt_#ppt_#ppt_#ppt_#ppt_#ppt_#ppt_#ppt_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75960"/>
            <a:ext cx="78822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8080"/>
                </a:solidFill>
                <a:latin typeface="Calibri Light"/>
              </a:rPr>
              <a:t>           </a:t>
            </a:r>
            <a:r>
              <a:rPr b="1" i="1" lang="ru-RU" sz="4400" spc="-1" strike="noStrike">
                <a:solidFill>
                  <a:srgbClr val="808080"/>
                </a:solidFill>
                <a:latin typeface="Franklin Gothic Medium"/>
              </a:rPr>
              <a:t>«Письмо родителям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182556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4095720"/>
            <a:ext cx="38462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28560" y="409572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628560" y="1368360"/>
            <a:ext cx="3846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67400" y="4095720"/>
            <a:ext cx="38462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4095720"/>
            <a:ext cx="3846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241960" y="1716120"/>
            <a:ext cx="3757680" cy="253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89000" y="1077840"/>
            <a:ext cx="42544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-Здравствуйте ребята. Я рад вас видеть. Ну что, приступим. Задание называется «Письмо родителям». Правила его очень просты: Дядя Фёдор решил написать родителям письмо, но после него написали и Кот Матроскин, и пес Шарик. Каждый из них писал своё и родители Дяди Фёдора напридумывали себе, что их сын не такой, каким был. То у него хвост отваливается, то он линяет. Ваша задача собрать из частей фигуру Дяди Фёдора глазами его родителей после прочтения письма. Победит команда, которая меньше за 1 мину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30000"/>
                </a:solidFill>
                <a:latin typeface="Times New Roman"/>
              </a:rPr>
              <a:t>сможет собрать фигуру из частей. Побеждайте и успехов вам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28560" y="1825560"/>
            <a:ext cx="3843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664160" y="1825560"/>
            <a:ext cx="3843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64160" y="4092480"/>
            <a:ext cx="3843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28560" y="4092480"/>
            <a:ext cx="3843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16000" y="382680"/>
            <a:ext cx="892800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 учё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ро пожаловать в мою лабораторию. Ну что, понравилось вам задание Матроскина? Вижу, что понравилось. А теперь слушайте моё задание. Вам свои клубки одолжила Баба — Яга. С помощью этих клубков сделаем фигурки: медведь, заяц, дельфин, за 5 минут. Удачи вам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9120" y="3168720"/>
            <a:ext cx="86076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520560"/>
            <a:ext cx="8783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т в сапог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вас всех приветствую. Вот вам моё задание. Вам нужно будет найти 10 отличий в рисунках за 1 минуту. Желаю вам победы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72000" y="216072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360" y="216000"/>
            <a:ext cx="83520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ширский к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зовите мне, пожалуйста, 3 названия мультфильмов на татарском язы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Я хочу услышать от вас краткое содержание мультфильма «Кәҗә белән сарык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елаю всем интересных мультиков на татарском язы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24360" y="3672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50840" y="936720"/>
            <a:ext cx="714852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Вы молодцы, ребята! Хорошо справились с заданиями. Вам понравилось? Ну, тогда чего ждём, продолжим наше путешеств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6000" y="2303640"/>
            <a:ext cx="8783640" cy="444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