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94D1-D295-4EAC-96D5-44E97C0A8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F0B0-067E-4CD1-94E4-3F111BDB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82F0-5A63-4E09-9C40-1BAEB9606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8EBA-EAF7-4ABF-B69D-01BFD87B4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EDCF-99BB-4B3F-BDE2-4E329B7E5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7F92-73B4-4C49-9BEB-6088086D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8D35-3DD8-44D2-BD37-59AB77E5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C2C1-82A3-4C38-AD4A-996DC083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D0D23-BA24-4D8D-B5DA-314B5624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2A26-EBE8-43DB-848B-4E53319E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D8C9-65CF-4CB6-8610-9B9F845D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4CDD-6B71-4479-8299-939AEF89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5052-F710-492D-9EB6-9A472EB0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4FCB4-12EA-4BA4-8AE8-7D5841C9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04AB-0AF3-4C22-90F8-0205EDCD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3440-946E-45DA-8BC8-CC6C56D9E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54E1-8901-4660-B3B6-700EA69E8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4C40-F326-4250-94B7-7D3FE643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6088-BA74-42C9-B82A-0E66DC6D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83B6-40F1-4260-A2B8-F4A9B436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F49C-68FE-428E-A203-9B8C5B1A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4781-80C8-4AFA-B0FB-40CF5DDB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9707-0DF7-4B49-B4CB-DB2DC8C3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4CEB-D8C9-49C0-8A6F-024FA3FB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7797-140C-4F76-97D8-090DC990C18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B2C8-4E66-4455-A01B-F852CFEF02F2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280" y="1341360"/>
            <a:ext cx="79930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99"/>
                </a:solidFill>
                <a:latin typeface="Tahoma"/>
              </a:rPr>
              <a:t>Формирование рефлексивной самооценки как условие сохранения и укрепления психологического здоровья учащихся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340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1c1c"/>
                </a:solidFill>
                <a:latin typeface="Tahoma"/>
              </a:rPr>
              <a:t>Плаксина Н.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1c1c1c"/>
                </a:solidFill>
                <a:latin typeface="Tahoma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ahoma"/>
              </a:rPr>
              <a:t>МОУ СОШ № 7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ехнология самооценив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5076720" y="2133720"/>
            <a:ext cx="3816360" cy="914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ритерии самооце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539640" y="3429000"/>
            <a:ext cx="3816360" cy="914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Прогноз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5003640" y="4653000"/>
            <a:ext cx="3672000" cy="865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сужде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рре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3419640" y="5734080"/>
            <a:ext cx="3024000" cy="981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то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овая ц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539640" y="2133720"/>
            <a:ext cx="3816360" cy="914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становка ц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1"/>
          <p:cNvSpPr/>
          <p:nvPr/>
        </p:nvSpPr>
        <p:spPr>
          <a:xfrm>
            <a:off x="435600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4932360" y="3429000"/>
            <a:ext cx="3816360" cy="914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ценивание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539640" y="4653000"/>
            <a:ext cx="3888000" cy="863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цен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ите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6"/>
          <p:cNvSpPr/>
          <p:nvPr/>
        </p:nvSpPr>
        <p:spPr>
          <a:xfrm>
            <a:off x="4356000" y="3933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0"/>
          <p:cNvSpPr/>
          <p:nvPr/>
        </p:nvSpPr>
        <p:spPr>
          <a:xfrm flipH="1">
            <a:off x="2771280" y="3068640"/>
            <a:ext cx="2305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1"/>
          <p:cNvSpPr/>
          <p:nvPr/>
        </p:nvSpPr>
        <p:spPr>
          <a:xfrm flipH="1">
            <a:off x="3347640" y="4292640"/>
            <a:ext cx="158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2"/>
          <p:cNvSpPr/>
          <p:nvPr/>
        </p:nvSpPr>
        <p:spPr>
          <a:xfrm flipH="1">
            <a:off x="4859280" y="5516640"/>
            <a:ext cx="4334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3"/>
          <p:cNvSpPr/>
          <p:nvPr/>
        </p:nvSpPr>
        <p:spPr>
          <a:xfrm>
            <a:off x="4356000" y="508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4"/>
          <p:cNvSpPr/>
          <p:nvPr/>
        </p:nvSpPr>
        <p:spPr>
          <a:xfrm>
            <a:off x="4427640" y="5229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еделя вежливости</a:t>
            </a:r>
            <a:br>
              <a:rPr sz="4400"/>
            </a:b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Критерии самооценк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п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унктуальность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культура поведения на уроках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культура общения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(с работниками школы и друг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с другом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культура поведения в столовой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ы для обсуждения самооценк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У кого совпали  все три оценки?»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У кого совпала прогностическая и реальная?» -  «Почему»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 У кого лучше прогностическая, чем реальная?» -  «Чем это можно объяснить?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У кого наоборот лучше реальная, чем прогностическая?»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У кого прогностическая или реальная самооценка отличается от моей оценки?» -  «Как вы это можете объяснить?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КРИТЕРИИ ЧТЕНИЯ НАИЗУСТЬ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 .Указана ли фамилия автора и название стихотвор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. Безошибочность чт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3. Выразительность чтения (правильно ли расставлено логическое ударение, паузы, правильно ли выбрана интонация, темп чтения и сила голоса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4. Эффективное использование мимики и жест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ритерии оценк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ценка "5" - выполнены правильно все требован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ценка "4" - не соблюдены 1-2 требован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ценка "3" -допущены ошибки по трем требованиям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ценка "2" - допущены ошибки более, чем по трем требования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езультаты работ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2017440"/>
            <a:ext cx="834372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декватная осознанная самооценка у большинства учащихс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мение оценить свои поступки на основе моральных нор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явление этических чувств (стыда, вины, совести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ложительная динамика дисциплины в классе и  поведения на перемен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Organization Chart 3"/>
          <p:cNvGrpSpPr/>
          <p:nvPr/>
        </p:nvGrpSpPr>
        <p:grpSpPr>
          <a:xfrm>
            <a:off x="457200" y="620640"/>
            <a:ext cx="8228520" cy="5686200"/>
            <a:chOff x="457200" y="620640"/>
            <a:chExt cx="8228520" cy="5686200"/>
          </a:xfrm>
        </p:grpSpPr>
        <p:cxnSp>
          <p:nvCxnSpPr>
            <p:cNvPr id="102" name="_s1028"/>
            <p:cNvCxnSpPr>
              <a:stCxn id="103" idx="0"/>
              <a:endCxn id="104" idx="2"/>
            </p:cNvCxnSpPr>
            <p:nvPr/>
          </p:nvCxnSpPr>
          <p:spPr>
            <a:xfrm flipV="1" rot="16200000">
              <a:off x="5110560" y="2355480"/>
              <a:ext cx="1137600" cy="2215440"/>
            </a:xfrm>
            <a:prstGeom prst="bentConnector3">
              <a:avLst>
                <a:gd name="adj1" fmla="val 1022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1029"/>
            <p:cNvCxnSpPr>
              <a:stCxn id="106" idx="0"/>
              <a:endCxn id="104" idx="2"/>
            </p:cNvCxnSpPr>
            <p:nvPr/>
          </p:nvCxnSpPr>
          <p:spPr>
            <a:xfrm flipH="1" flipV="1" rot="5400000">
              <a:off x="2894400" y="2355480"/>
              <a:ext cx="1137600" cy="2216160"/>
            </a:xfrm>
            <a:prstGeom prst="bentConnector3">
              <a:avLst>
                <a:gd name="adj1" fmla="val 1022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4" name="_s1030"/>
            <p:cNvSpPr/>
            <p:nvPr/>
          </p:nvSpPr>
          <p:spPr>
            <a:xfrm>
              <a:off x="2673000" y="620640"/>
              <a:ext cx="3797640" cy="2274480"/>
            </a:xfrm>
            <a:prstGeom prst="roundRect">
              <a:avLst>
                <a:gd name="adj" fmla="val 16667"/>
              </a:avLst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333399"/>
                  </a:solidFill>
                  <a:latin typeface="Verdana"/>
                </a:rPr>
                <a:t>Самооценка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  <a:ea typeface="Dotum"/>
                </a:rPr>
                <a:t>Система оценок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  <a:ea typeface="Dotum"/>
                </a:rPr>
                <a:t>и представле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  <a:ea typeface="Dotum"/>
                </a:rPr>
                <a:t>о себе на основе ум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  <a:ea typeface="Dotum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  <a:ea typeface="Dotum"/>
                </a:rPr>
                <a:t>анализировать свои действия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  <a:ea typeface="Dotum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  <a:ea typeface="Dotum"/>
                </a:rPr>
                <a:t>видеть себя со стороны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  <a:ea typeface="Dotum"/>
                </a:rPr>
                <a:t>сравнивать свои достижения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31"/>
            <p:cNvSpPr/>
            <p:nvPr/>
          </p:nvSpPr>
          <p:spPr>
            <a:xfrm>
              <a:off x="457200" y="4032360"/>
              <a:ext cx="3797640" cy="2274480"/>
            </a:xfrm>
            <a:prstGeom prst="roundRect">
              <a:avLst>
                <a:gd name="adj" fmla="val 16667"/>
              </a:avLst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Личностные УУ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самоопределение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(внутренняя позиция школьника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самоидентификация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морально-этическа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ориента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(оценка своих поступков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032"/>
            <p:cNvSpPr/>
            <p:nvPr/>
          </p:nvSpPr>
          <p:spPr>
            <a:xfrm>
              <a:off x="4888080" y="4032360"/>
              <a:ext cx="3797640" cy="2274480"/>
            </a:xfrm>
            <a:prstGeom prst="roundRect">
              <a:avLst>
                <a:gd name="adj" fmla="val 16667"/>
              </a:avLst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Регулятивные УУ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Dotum"/>
                  <a:ea typeface="Dotum"/>
                </a:rPr>
                <a:t>– </a:t>
              </a:r>
              <a:r>
                <a:rPr b="1" lang="en-US" sz="1800" spc="-1" strike="noStrike">
                  <a:solidFill>
                    <a:srgbClr val="000000"/>
                  </a:solidFill>
                  <a:latin typeface="Dotum"/>
                  <a:ea typeface="Dotum"/>
                </a:rPr>
                <a:t>управление свое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Dotum"/>
                  <a:ea typeface="Dotum"/>
                </a:rPr>
                <a:t>деятельность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Dotum"/>
                  <a:ea typeface="Dotum"/>
                </a:rPr>
                <a:t>– </a:t>
              </a:r>
              <a:r>
                <a:rPr b="1" lang="en-US" sz="1800" spc="-1" strike="noStrike">
                  <a:solidFill>
                    <a:srgbClr val="000000"/>
                  </a:solidFill>
                  <a:latin typeface="Dotum"/>
                  <a:ea typeface="Dotum"/>
                </a:rPr>
                <a:t>контроль и коррек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Dotum"/>
                  <a:ea typeface="Dotum"/>
                </a:rPr>
                <a:t>– </a:t>
              </a:r>
              <a:r>
                <a:rPr b="1" lang="en-US" sz="1800" spc="-1" strike="noStrike">
                  <a:solidFill>
                    <a:srgbClr val="000000"/>
                  </a:solidFill>
                  <a:latin typeface="Dotum"/>
                  <a:ea typeface="Dotum"/>
                </a:rPr>
                <a:t>инициатив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Dotum"/>
                  <a:ea typeface="Dotum"/>
                </a:rPr>
                <a:t>– </a:t>
              </a:r>
              <a:r>
                <a:rPr b="1" lang="en-US" sz="1800" spc="-1" strike="noStrike">
                  <a:solidFill>
                    <a:srgbClr val="000000"/>
                  </a:solidFill>
                  <a:latin typeface="Dotum"/>
                  <a:ea typeface="Dotum"/>
                </a:rPr>
                <a:t>самостоятель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8" name="Содержимое 4" descr="DSC06461.JPG"/>
          <p:cNvPicPr/>
          <p:nvPr/>
        </p:nvPicPr>
        <p:blipFill>
          <a:blip r:embed="rId1"/>
          <a:stretch/>
        </p:blipFill>
        <p:spPr>
          <a:xfrm>
            <a:off x="500040" y="428760"/>
            <a:ext cx="814392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2276640"/>
            <a:ext cx="7792920" cy="40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Рефлексивная самооценка -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мение анализировать собственные действия, видеть себя со стороны, допускать существование других точек зрения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Морально-нравственная самооценка-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мение оценивать свои поступки, свое поведение в соответствии с морально-нравственными нормам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амооцен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2600" y="1571400"/>
            <a:ext cx="7772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троспективная (обращенная в прошлое) – оценка уже выполненной работ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гностическая (предсказывающая) – оценка предстоящей работ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ехнология самооценив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5076720" y="2133720"/>
            <a:ext cx="3816360" cy="914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ритерии самооце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539640" y="3429000"/>
            <a:ext cx="3816360" cy="914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Прогноз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5003640" y="4653000"/>
            <a:ext cx="3672000" cy="865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сужде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рре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419640" y="5734080"/>
            <a:ext cx="3024000" cy="981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то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овая ц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539640" y="2133720"/>
            <a:ext cx="3816360" cy="914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становка ц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1"/>
          <p:cNvSpPr/>
          <p:nvPr/>
        </p:nvSpPr>
        <p:spPr>
          <a:xfrm>
            <a:off x="435600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4932360" y="3429000"/>
            <a:ext cx="3816360" cy="914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ценивание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539640" y="4653000"/>
            <a:ext cx="3888000" cy="863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цен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ите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6"/>
          <p:cNvSpPr/>
          <p:nvPr/>
        </p:nvSpPr>
        <p:spPr>
          <a:xfrm>
            <a:off x="4356000" y="3933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 flipH="1">
            <a:off x="2771280" y="3068640"/>
            <a:ext cx="2305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1"/>
          <p:cNvSpPr/>
          <p:nvPr/>
        </p:nvSpPr>
        <p:spPr>
          <a:xfrm flipH="1">
            <a:off x="3347640" y="4292640"/>
            <a:ext cx="158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2"/>
          <p:cNvSpPr/>
          <p:nvPr/>
        </p:nvSpPr>
        <p:spPr>
          <a:xfrm flipH="1">
            <a:off x="4859280" y="5516640"/>
            <a:ext cx="4334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3"/>
          <p:cNvSpPr/>
          <p:nvPr/>
        </p:nvSpPr>
        <p:spPr>
          <a:xfrm>
            <a:off x="4356000" y="508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4"/>
          <p:cNvSpPr/>
          <p:nvPr/>
        </p:nvSpPr>
        <p:spPr>
          <a:xfrm>
            <a:off x="4427640" y="5229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Уровни прогностической самооценк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143160" y="2357280"/>
            <a:ext cx="492912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Солнце 3"/>
          <p:cNvSpPr/>
          <p:nvPr/>
        </p:nvSpPr>
        <p:spPr>
          <a:xfrm>
            <a:off x="1857240" y="228600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олнце 4"/>
          <p:cNvSpPr/>
          <p:nvPr/>
        </p:nvSpPr>
        <p:spPr>
          <a:xfrm>
            <a:off x="1857240" y="335772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блако 5"/>
          <p:cNvSpPr/>
          <p:nvPr/>
        </p:nvSpPr>
        <p:spPr>
          <a:xfrm>
            <a:off x="1857240" y="3857760"/>
            <a:ext cx="914400" cy="9144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00b0f0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блако 6"/>
          <p:cNvSpPr/>
          <p:nvPr/>
        </p:nvSpPr>
        <p:spPr>
          <a:xfrm>
            <a:off x="1785960" y="5072040"/>
            <a:ext cx="914400" cy="9144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00b0f0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3429000" y="23414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правлюсь, всё будет хорош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3429000" y="3571920"/>
            <a:ext cx="471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правлюсь не в полном объё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9"/>
          <p:cNvSpPr/>
          <p:nvPr/>
        </p:nvSpPr>
        <p:spPr>
          <a:xfrm>
            <a:off x="3571920" y="52149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 справлю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ехнология самооценив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5076720" y="2133720"/>
            <a:ext cx="3816360" cy="914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ритерии самооце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539640" y="3429000"/>
            <a:ext cx="3816360" cy="914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Прогноз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5003640" y="4653000"/>
            <a:ext cx="3672000" cy="865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сужде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рре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3419640" y="5734080"/>
            <a:ext cx="3024000" cy="981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то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овая ц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539640" y="2133720"/>
            <a:ext cx="3816360" cy="914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становка ц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1"/>
          <p:cNvSpPr/>
          <p:nvPr/>
        </p:nvSpPr>
        <p:spPr>
          <a:xfrm>
            <a:off x="435600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4932360" y="3429000"/>
            <a:ext cx="3816360" cy="914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ценивание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5"/>
          <p:cNvSpPr/>
          <p:nvPr/>
        </p:nvSpPr>
        <p:spPr>
          <a:xfrm>
            <a:off x="539640" y="4653000"/>
            <a:ext cx="3888000" cy="863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цен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ите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6"/>
          <p:cNvSpPr/>
          <p:nvPr/>
        </p:nvSpPr>
        <p:spPr>
          <a:xfrm>
            <a:off x="4356000" y="3933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0"/>
          <p:cNvSpPr/>
          <p:nvPr/>
        </p:nvSpPr>
        <p:spPr>
          <a:xfrm flipH="1">
            <a:off x="2771280" y="3068640"/>
            <a:ext cx="2305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1"/>
          <p:cNvSpPr/>
          <p:nvPr/>
        </p:nvSpPr>
        <p:spPr>
          <a:xfrm flipH="1">
            <a:off x="3347640" y="4292640"/>
            <a:ext cx="158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2"/>
          <p:cNvSpPr/>
          <p:nvPr/>
        </p:nvSpPr>
        <p:spPr>
          <a:xfrm flipH="1">
            <a:off x="4859280" y="5516640"/>
            <a:ext cx="4334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3"/>
          <p:cNvSpPr/>
          <p:nvPr/>
        </p:nvSpPr>
        <p:spPr>
          <a:xfrm>
            <a:off x="4356000" y="508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4"/>
          <p:cNvSpPr/>
          <p:nvPr/>
        </p:nvSpPr>
        <p:spPr>
          <a:xfrm>
            <a:off x="4427640" y="5229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2" name="Содержимое 3" descr="DSC06447.JPG"/>
          <p:cNvPicPr/>
          <p:nvPr/>
        </p:nvPicPr>
        <p:blipFill>
          <a:blip r:embed="rId1"/>
          <a:stretch/>
        </p:blipFill>
        <p:spPr>
          <a:xfrm>
            <a:off x="571680" y="428760"/>
            <a:ext cx="807228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2:17:38Z</dcterms:created>
  <dc:creator>Александр</dc:creator>
  <dc:description/>
  <dc:language>en-US</dc:language>
  <cp:lastModifiedBy>Home</cp:lastModifiedBy>
  <dcterms:modified xsi:type="dcterms:W3CDTF">2014-04-16T18:22:36Z</dcterms:modified>
  <cp:revision>146</cp:revision>
  <dc:subject/>
  <dc:title>Федеральный государственный образовательный стандарт  общего начального образования второго поколения</dc:title>
</cp:coreProperties>
</file>