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412-1775-4E51-925E-60AF9CE0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CB9-964E-4062-A8C0-30C85501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E2B-CB15-4640-9A26-EC0A1B82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51D-DA4C-43D0-939D-C8F0B6B1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5598-E72B-4F94-B207-BAEDD50D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C0BA-9D01-4FE9-9FE6-CDE896C2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8407-7803-4382-98A0-003DD7F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9756-7807-4964-8AA4-F44469A9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ACFC-9E2A-45BC-8775-8DE7492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2C1A-F17B-4B8B-B175-201BE842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09BB-4FD5-4D73-B713-161B2C4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6D6-5634-4CF4-99F0-B48AB5FC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54BC-E345-47F1-9FA9-EA503A9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C8D6-1C63-4828-947B-5E91098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4DA6-1C5F-490B-AA1E-F44CD3A0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BC68-9EA5-4B94-B588-70D10B9E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7137-CDB0-4A24-98D2-FB5C781A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4F4-921F-4F32-B5B4-C7E6EB9B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FAF-2913-4DF1-BA30-7BDDC3F0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C8A-E9D8-49AF-B4FF-FD9C9994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6DD-9C5D-4950-A95B-9F0D2BE1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5F5-D7AE-4FBB-8276-8E77825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EC6-E847-4E6B-9E9D-DCCAF264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B8F-4F4B-4768-A1FF-8AD474D6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9001-1A4E-4B1A-984E-04AE3A4A53F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A949-2F89-4548-AEC8-D8AE5DC5013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134136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Tahoma"/>
              </a:rPr>
              <a:t>Формирование рефлексивной самооценки как условие сохранения и укрепления психологического здоровья учащихся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0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ahoma"/>
              </a:rPr>
              <a:t>Плаксина Н.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1c1c1c"/>
                </a:solidFill>
                <a:latin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ahoma"/>
              </a:rPr>
              <a:t>МОУ СОШ № 7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хнология самооцени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07672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итерии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3964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огноз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003640" y="4653000"/>
            <a:ext cx="367200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сужд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419640" y="5734080"/>
            <a:ext cx="3024000" cy="981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т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53964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ановка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35600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493236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539640" y="4653000"/>
            <a:ext cx="388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435600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 flipH="1">
            <a:off x="2771280" y="3068640"/>
            <a:ext cx="23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 flipH="1">
            <a:off x="3347640" y="429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 flipH="1">
            <a:off x="4859280" y="5516640"/>
            <a:ext cx="433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35600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4427640" y="522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еделя вежливости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Критерии самооцен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унктуально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ультура поведения на урока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ультура общен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с работниками школы и дру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 другом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ультура поведения в столово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ы для обсуждения самооцен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У кого совпали  все три оценки?»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У кого совпала прогностическая и реальная?» -  «Почему»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 У кого лучше прогностическая, чем реальная?» -  «Чем это можно объяснить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У кого наоборот лучше реальная, чем прогностическая?»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У кого прогностическая или реальная самооценка отличается от моей оценки?» -  «Как вы это можете объяснить?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РИТЕРИИ ЧТЕНИЯ НАИЗУСТЬ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 .Указана ли фамилия автора и название стихотво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Безошибочность чт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Выразительность чтения (правильно ли расставлено логическое ударение, паузы, правильно ли выбрана интонация, темп чтения и сила голоса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Эффективное использование мимики и жес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ритерии оцен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"5" - выполнены правильно все требо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"4" - не соблюдены 1-2 требо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"3" -допущены ошибки по трем требования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"2" - допущены ошибки более, чем по трем требования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 раб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екватная осознанная самооценка у большинства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ние оценить свои поступки на основе моральных нор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явление этических чувств (стыда, вины, совести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жительная динамика дисциплины в классе и  поведения на переме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3"/>
          <p:cNvGrpSpPr/>
          <p:nvPr/>
        </p:nvGrpSpPr>
        <p:grpSpPr>
          <a:xfrm>
            <a:off x="457200" y="620640"/>
            <a:ext cx="8228520" cy="5686200"/>
            <a:chOff x="457200" y="620640"/>
            <a:chExt cx="8228520" cy="568620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110560" y="2355480"/>
              <a:ext cx="1137600" cy="2215440"/>
            </a:xfrm>
            <a:prstGeom prst="bentConnector3">
              <a:avLst>
                <a:gd name="adj1" fmla="val 102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2"/>
            </p:cNvCxnSpPr>
            <p:nvPr/>
          </p:nvCxnSpPr>
          <p:spPr>
            <a:xfrm flipH="1" flipV="1" rot="5400000">
              <a:off x="2894400" y="2355480"/>
              <a:ext cx="1137600" cy="2216160"/>
            </a:xfrm>
            <a:prstGeom prst="bentConnector3">
              <a:avLst>
                <a:gd name="adj1" fmla="val 102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0"/>
            <p:cNvSpPr/>
            <p:nvPr/>
          </p:nvSpPr>
          <p:spPr>
            <a:xfrm>
              <a:off x="2673000" y="620640"/>
              <a:ext cx="3797640" cy="2274480"/>
            </a:xfrm>
            <a:prstGeom prst="roundRect">
              <a:avLst>
                <a:gd name="adj" fmla="val 16667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333399"/>
                  </a:solidFill>
                  <a:latin typeface="Verdana"/>
                </a:rPr>
                <a:t>Самооценк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Система оцен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и представл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о себе на основе ум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анализировать свои действ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видеть себя со стороны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сравнивать свои достижени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1"/>
            <p:cNvSpPr/>
            <p:nvPr/>
          </p:nvSpPr>
          <p:spPr>
            <a:xfrm>
              <a:off x="457200" y="4032360"/>
              <a:ext cx="3797640" cy="2274480"/>
            </a:xfrm>
            <a:prstGeom prst="roundRect">
              <a:avLst>
                <a:gd name="adj" fmla="val 16667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ичностные УУ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самоопределение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внутренняя позиция школьника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амоидентифика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орально-этическ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риент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оценка своих поступк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4888080" y="4032360"/>
              <a:ext cx="3797640" cy="2274480"/>
            </a:xfrm>
            <a:prstGeom prst="roundRect">
              <a:avLst>
                <a:gd name="adj" fmla="val 16667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Регулятивные УУ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управление свое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деятельность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контроль и коррек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инициати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самосто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Содержимое 4" descr="DSC06461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792920" cy="40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флексивная самооценка 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ние анализировать собственные действия, видеть себя со стороны, допускать существование других точек зрения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рально-нравственная самооценка-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ние оценивать свои поступки, свое поведение в соответствии с морально-нравственными норма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амооце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157140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троспективная (обращенная в прошлое) – оценка уже выполненной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ностическая (предсказывающая) – оценка предстоящей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хнология самооцени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07672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итерии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964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огноз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003640" y="4653000"/>
            <a:ext cx="367200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сужд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419640" y="5734080"/>
            <a:ext cx="3024000" cy="981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т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3964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ановка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435600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93236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539640" y="4653000"/>
            <a:ext cx="388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435600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H="1">
            <a:off x="2771280" y="3068640"/>
            <a:ext cx="23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H="1">
            <a:off x="3347640" y="429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 flipH="1">
            <a:off x="4859280" y="5516640"/>
            <a:ext cx="433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435600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4427640" y="522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овни прогностической самооцен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143160" y="2357280"/>
            <a:ext cx="49291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Солнце 3"/>
          <p:cNvSpPr/>
          <p:nvPr/>
        </p:nvSpPr>
        <p:spPr>
          <a:xfrm>
            <a:off x="1857240" y="228600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лнце 4"/>
          <p:cNvSpPr/>
          <p:nvPr/>
        </p:nvSpPr>
        <p:spPr>
          <a:xfrm>
            <a:off x="1857240" y="3357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блако 5"/>
          <p:cNvSpPr/>
          <p:nvPr/>
        </p:nvSpPr>
        <p:spPr>
          <a:xfrm>
            <a:off x="1857240" y="3857760"/>
            <a:ext cx="914400" cy="914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блако 6"/>
          <p:cNvSpPr/>
          <p:nvPr/>
        </p:nvSpPr>
        <p:spPr>
          <a:xfrm>
            <a:off x="1785960" y="5072040"/>
            <a:ext cx="914400" cy="914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429000" y="23414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люсь, всё будет хоро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3429000" y="35719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люсь не в полном объё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9"/>
          <p:cNvSpPr/>
          <p:nvPr/>
        </p:nvSpPr>
        <p:spPr>
          <a:xfrm>
            <a:off x="3571920" y="521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справлю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хнология самооцени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07672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итерии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3964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огноз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003640" y="4653000"/>
            <a:ext cx="367200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сужд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419640" y="5734080"/>
            <a:ext cx="3024000" cy="981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т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53964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ановка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435600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493236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39640" y="4653000"/>
            <a:ext cx="388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435600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H="1">
            <a:off x="2771280" y="3068640"/>
            <a:ext cx="23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 flipH="1">
            <a:off x="3347640" y="429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H="1">
            <a:off x="4859280" y="5516640"/>
            <a:ext cx="433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435600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4427640" y="522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Содержимое 3" descr="DSC06447.JPG"/>
          <p:cNvPicPr/>
          <p:nvPr/>
        </p:nvPicPr>
        <p:blipFill>
          <a:blip r:embed="rId1"/>
          <a:stretch/>
        </p:blipFill>
        <p:spPr>
          <a:xfrm>
            <a:off x="571680" y="428760"/>
            <a:ext cx="80722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2:17:38Z</dcterms:created>
  <dc:creator>Александр</dc:creator>
  <dc:description/>
  <dc:language>en-US</dc:language>
  <cp:lastModifiedBy>Home</cp:lastModifiedBy>
  <dcterms:modified xsi:type="dcterms:W3CDTF">2014-04-16T18:22:36Z</dcterms:modified>
  <cp:revision>146</cp:revision>
  <dc:subject/>
  <dc:title>Федеральный государственный образовательный стандарт  общего начального образования второго поколения</dc:title>
</cp:coreProperties>
</file>