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DD6F-271A-447D-8B90-B510EB078520}" type="slidenum"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778D-CC58-49D5-9EBE-795F68C8F03C}" type="slidenum"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E537-EFDF-4284-B719-3D024FAD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3A09-0BAC-4AAC-AD90-6C505492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CB4F-BD70-497F-99F3-7889BF32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7365-00D2-4850-AA70-84941403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C3D6-9FB7-4CF8-9DC9-6CB1785A8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1606-F3AF-46A5-AA2B-1D1F0482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88CD-AF26-46AF-8EB3-A679B653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0247-9FE8-4F23-859B-7C25C7E2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C699-EEC6-4B9F-9598-3E7CA4C8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E71D-399E-4B42-B661-BBB0DACC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A422-09F3-41A6-9094-EF8BE150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6BDE-B27F-43F7-BEA4-5DE7EF2F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BB9C-7AC7-497E-9A8B-3815C07C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7CAB-5A67-4AAB-8156-CAA6CF10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E98D-A8EC-437B-A3A6-BAE6AB73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5335-79C6-4E99-AB74-7EA701907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2918-6F42-426C-8662-5A7988BD4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2C6E4-6A12-46D3-8B3E-B236C16F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4BF45-AF19-489D-BFE8-4FD81222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10FA3-7ED8-4E23-B9AD-1509AC64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64193-C823-44FF-BBDF-A130102A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9F6A9-5280-4649-BA56-EF3582CA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6910-3950-4F70-9F8E-DFC09EE4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52AA4-A00C-4E4E-8323-129DB13D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D54EF-3787-4E82-BBB8-89C36DA0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54CC0-82A8-4F45-A480-AC29C4E5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FD4F5-2505-479D-BA19-DDBE7B51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8E802-AC6E-43AC-B631-A1DE236E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65AD9-1DBA-48D8-B2A1-FE9E596C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9B79B-2821-4B73-95DE-EA4FDBEC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227C8-EE10-4E54-B232-D56427E9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F0086-B4DB-40D7-982E-100425B9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2F957-B8D3-48B3-B715-09C9DCA4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0A93-1FD9-487D-A28C-6BCFA7E2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BF081-136E-4546-85D5-0FFC64B7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B5992-AF9E-452B-A78B-679F2484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38B50-485F-4C7C-85FB-BE1510F7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B4D45-666A-4F6C-BFEC-12B3F0F4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37358-E9CA-468C-9D32-62A8C3DF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0F35C-CBB7-45BA-8DF5-1909313C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D9630-B328-411D-9159-D5CF0714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E4AA1-AEC9-46FA-A1E0-AF89F41C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6800C-E916-43BA-A6E2-F3E61FA5F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C6AC-8EE9-43A5-A2AF-C3860EB2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CFC7-F999-4687-B159-A0AA2166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F121-2AC0-43E4-9C2A-80D86CBA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0E9B-0CA2-496D-83D5-F624A664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8D40-3050-48B8-9123-F463F366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B9CE-93ED-4F2C-AD0C-CB6F16E003E4}" type="slidenum">
              <a:rPr b="1" i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55CF-6D4F-4F21-BCA8-8A28D28AD38F}" type="slidenum">
              <a:rPr b="1" i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sp>
          <p:nvSpPr>
            <p:cNvPr id="116" name="Rectangle 7"/>
            <p:cNvSpPr/>
            <p:nvPr/>
          </p:nvSpPr>
          <p:spPr>
            <a:xfrm>
              <a:off x="0" y="0"/>
              <a:ext cx="9144000" cy="38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16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7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3617-4E48-4F24-9E98-F36391B46226}" type="slidenum">
              <a:rPr b="1" i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sp>
          <p:nvSpPr>
            <p:cNvPr id="167" name="Rectangle 8"/>
            <p:cNvSpPr/>
            <p:nvPr/>
          </p:nvSpPr>
          <p:spPr>
            <a:xfrm>
              <a:off x="0" y="0"/>
              <a:ext cx="9144000" cy="38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6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2130-72DF-4B7E-BBFB-8E8AE1B1E6E4}" type="slidenum">
              <a:rPr b="1" i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Объект 2" descr=""/>
          <p:cNvPicPr/>
          <p:nvPr/>
        </p:nvPicPr>
        <p:blipFill>
          <a:blip r:embed="rId1"/>
          <a:stretch/>
        </p:blipFill>
        <p:spPr>
          <a:xfrm>
            <a:off x="609480" y="237960"/>
            <a:ext cx="7705800" cy="557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3"/>
          <p:cNvSpPr/>
          <p:nvPr/>
        </p:nvSpPr>
        <p:spPr>
          <a:xfrm>
            <a:off x="539640" y="54936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8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2001 нче елдан алып бүгенге көнгә кадәр Зөя мәктәбендә татар теле һәм әдәбияты укытучысы булып эшлим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7" descr="C:\Users\Лилия Ильдаровна\Downloads\DSCN4238.JPG"/>
          <p:cNvPicPr/>
          <p:nvPr/>
        </p:nvPicPr>
        <p:blipFill>
          <a:blip r:embed="rId1"/>
          <a:stretch/>
        </p:blipFill>
        <p:spPr>
          <a:xfrm>
            <a:off x="4948200" y="2249640"/>
            <a:ext cx="2846520" cy="1944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2"/>
          <a:stretch/>
        </p:blipFill>
        <p:spPr>
          <a:xfrm>
            <a:off x="4948200" y="4462560"/>
            <a:ext cx="2846520" cy="21351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"/>
          <p:cNvPicPr/>
          <p:nvPr/>
        </p:nvPicPr>
        <p:blipFill>
          <a:blip r:embed="rId3"/>
          <a:stretch/>
        </p:blipFill>
        <p:spPr>
          <a:xfrm>
            <a:off x="585720" y="4479840"/>
            <a:ext cx="3003480" cy="21351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"/>
          <p:cNvPicPr/>
          <p:nvPr/>
        </p:nvPicPr>
        <p:blipFill>
          <a:blip r:embed="rId4"/>
          <a:stretch/>
        </p:blipFill>
        <p:spPr>
          <a:xfrm>
            <a:off x="585720" y="2249640"/>
            <a:ext cx="300348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755280" y="-360"/>
            <a:ext cx="72010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0" algn="ctr">
              <a:lnSpc>
                <a:spcPct val="60000"/>
              </a:lnSpc>
              <a:spcBef>
                <a:spcPts val="425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0" algn="ctr">
              <a:lnSpc>
                <a:spcPct val="60000"/>
              </a:lnSpc>
              <a:spcBef>
                <a:spcPts val="8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400" spc="-1" strike="noStrike">
                <a:solidFill>
                  <a:srgbClr val="21306a"/>
                </a:solidFill>
                <a:latin typeface="Times New Roman"/>
              </a:rPr>
              <a:t>Предмет буенча өлгереш һәм сыйфат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0">
              <a:lnSpc>
                <a:spcPct val="60000"/>
              </a:lnSpc>
              <a:spcBef>
                <a:spcPts val="8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539640" y="1628640"/>
          <a:ext cx="7715520" cy="4525920"/>
        </p:xfrm>
        <a:graphic>
          <a:graphicData uri="http://schemas.openxmlformats.org/drawingml/2006/table">
            <a:tbl>
              <a:tblPr/>
              <a:tblGrid>
                <a:gridCol w="1944720"/>
                <a:gridCol w="1913040"/>
                <a:gridCol w="1928880"/>
                <a:gridCol w="192888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Уку елы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t-RU" sz="20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Фән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t-RU" sz="20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Сыйфат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t-RU" sz="20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Өлгереш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2013-2014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Татар теле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Татар әдәбияты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55%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2014-2015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Татар теле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Татар әдәбияты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65%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2015-2016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Татар теле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Татар әдәбияты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306a"/>
                          </a:solidFill>
                          <a:latin typeface="Calibri"/>
                        </a:rPr>
                        <a:t>64%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31489f"/>
                </a:solidFill>
                <a:latin typeface="Times New Roman"/>
              </a:rPr>
              <a:t>Бәхетле мин, һич арттырып әйтмим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31489f"/>
                </a:solidFill>
                <a:latin typeface="Times New Roman"/>
              </a:rPr>
              <a:t>Алда әле күпме юллар бар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31489f"/>
                </a:solidFill>
                <a:latin typeface="Times New Roman"/>
              </a:rPr>
              <a:t>Эшнең тәмен белеп, кулга кул тотынып,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31489f"/>
                </a:solidFill>
                <a:latin typeface="Times New Roman"/>
              </a:rPr>
              <a:t>Хезмәттәшләр белән эшләр өчен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31489f"/>
                </a:solidFill>
                <a:latin typeface="Times New Roman"/>
              </a:rPr>
              <a:t>Алда әле күпме еллар бар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31489f"/>
                </a:solidFill>
                <a:latin typeface="Times New Roman"/>
              </a:rPr>
              <a:t>Укытучы булу – зур бәхет ул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31489f"/>
                </a:solidFill>
                <a:latin typeface="Times New Roman"/>
              </a:rPr>
              <a:t>Ул – яраткан минем хезмәтем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5"/>
          <p:cNvSpPr/>
          <p:nvPr/>
        </p:nvSpPr>
        <p:spPr>
          <a:xfrm>
            <a:off x="539640" y="692280"/>
            <a:ext cx="806616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1489f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31489f"/>
                </a:solidFill>
                <a:latin typeface="Times New Roman"/>
              </a:rPr>
              <a:t>Музафарова </a:t>
            </a:r>
            <a:endParaRPr b="0" i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1489f"/>
                </a:solidFill>
                <a:latin typeface="Times New Roman"/>
              </a:rPr>
              <a:t>Лилия Илдар кызы</a:t>
            </a:r>
            <a:endParaRPr b="0" i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800" spc="-1" strike="noStrike">
                <a:solidFill>
                  <a:srgbClr val="31489f"/>
                </a:solidFill>
                <a:latin typeface="Times New Roman"/>
              </a:rPr>
              <a:t>Зөя гомуми урта белем мәктәбенең </a:t>
            </a:r>
            <a:r>
              <a:rPr b="1" i="1" lang="ru-RU" sz="4800" spc="-1" strike="noStrike">
                <a:solidFill>
                  <a:srgbClr val="31489f"/>
                </a:solidFill>
                <a:latin typeface="Times New Roman"/>
              </a:rPr>
              <a:t>татар теле һәм әдәбияты укытучысы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2"/>
          <p:cNvSpPr/>
          <p:nvPr/>
        </p:nvSpPr>
        <p:spPr>
          <a:xfrm>
            <a:off x="324000" y="333360"/>
            <a:ext cx="85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4ac8b"/>
                </a:solidFill>
                <a:latin typeface="Times New Roman"/>
              </a:rPr>
              <a:t>Туган җирем, үскән җирем-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4ac8b"/>
                </a:solidFill>
                <a:latin typeface="Times New Roman"/>
              </a:rPr>
              <a:t>Гади генә бер авыл.</a:t>
            </a:r>
            <a:br>
              <a:rPr sz="4400"/>
            </a:br>
            <a:br>
              <a:rPr sz="4400"/>
            </a:b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оугольник 3"/>
          <p:cNvSpPr/>
          <p:nvPr/>
        </p:nvSpPr>
        <p:spPr>
          <a:xfrm>
            <a:off x="4932360" y="2421000"/>
            <a:ext cx="3960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уган авылым Татар Танае Татарстан Республикасы Яшел Үзән районының иң матур  авылларыннан берсе булып тора.Ул ямьле Гөбенә елгасы буена урнашкан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5" descr="C:\Users\Лилия Ильдаровна\Pictures\1d192282c9455536c85576a4b9c328b7.jpg"/>
          <p:cNvPicPr/>
          <p:nvPr/>
        </p:nvPicPr>
        <p:blipFill>
          <a:blip r:embed="rId1"/>
          <a:stretch/>
        </p:blipFill>
        <p:spPr>
          <a:xfrm>
            <a:off x="611280" y="2637000"/>
            <a:ext cx="38163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468360" y="33336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Туган авылым үзенең матур табигате, олуг мәчетләре, тырыш, кунакчыл, динле кешеләре белән дан тота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6" descr="C:\Users\Лилия Ильдаровна\Pictures\i (10).jpg"/>
          <p:cNvPicPr/>
          <p:nvPr/>
        </p:nvPicPr>
        <p:blipFill>
          <a:blip r:embed="rId1"/>
          <a:stretch/>
        </p:blipFill>
        <p:spPr>
          <a:xfrm>
            <a:off x="5435640" y="1380960"/>
            <a:ext cx="2733480" cy="2048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C:\Users\Лилия Ильдаровна\Pictures\DSC01390_0.JPG"/>
          <p:cNvPicPr/>
          <p:nvPr/>
        </p:nvPicPr>
        <p:blipFill>
          <a:blip r:embed="rId2"/>
          <a:stretch/>
        </p:blipFill>
        <p:spPr>
          <a:xfrm>
            <a:off x="2411280" y="3789360"/>
            <a:ext cx="3926160" cy="2625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C:\Users\Лилия Ильдаровна\Pictures\e41ac7d321532d0d4b67fcbf68bea558.jpg"/>
          <p:cNvPicPr/>
          <p:nvPr/>
        </p:nvPicPr>
        <p:blipFill>
          <a:blip r:embed="rId3"/>
          <a:stretch/>
        </p:blipFill>
        <p:spPr>
          <a:xfrm>
            <a:off x="971640" y="1450800"/>
            <a:ext cx="311616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7"/>
          <p:cNvSpPr/>
          <p:nvPr/>
        </p:nvSpPr>
        <p:spPr>
          <a:xfrm>
            <a:off x="611280" y="6922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Туган ягымның күренекле шәхесләре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оугольник 9"/>
          <p:cNvSpPr/>
          <p:nvPr/>
        </p:nvSpPr>
        <p:spPr>
          <a:xfrm>
            <a:off x="5076720" y="5157720"/>
            <a:ext cx="286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оугольник 10"/>
          <p:cNvSpPr/>
          <p:nvPr/>
        </p:nvSpPr>
        <p:spPr>
          <a:xfrm>
            <a:off x="179280" y="432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0" i="1" lang="tt-RU" sz="24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Афзал Шамов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оугольник 11"/>
          <p:cNvSpPr/>
          <p:nvPr/>
        </p:nvSpPr>
        <p:spPr>
          <a:xfrm>
            <a:off x="3419640" y="5286240"/>
            <a:ext cx="32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Фаил Шәфигуллин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10" descr="C:\Users\Лилия Ильдаровна\Pictures\Qayum_Nasírí.jpg"/>
          <p:cNvPicPr/>
          <p:nvPr/>
        </p:nvPicPr>
        <p:blipFill>
          <a:blip r:embed="rId1"/>
          <a:stretch/>
        </p:blipFill>
        <p:spPr>
          <a:xfrm>
            <a:off x="6610320" y="2060640"/>
            <a:ext cx="1354320" cy="18050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1" descr="C:\Users\Лилия Ильдаровна\Pictures\7e191953-498d-4645-bdc1-120494d36d52_800x600.jpg"/>
          <p:cNvPicPr/>
          <p:nvPr/>
        </p:nvPicPr>
        <p:blipFill>
          <a:blip r:embed="rId2"/>
          <a:stretch/>
        </p:blipFill>
        <p:spPr>
          <a:xfrm>
            <a:off x="900000" y="2060640"/>
            <a:ext cx="1224000" cy="186048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4"/>
          <p:cNvSpPr/>
          <p:nvPr/>
        </p:nvSpPr>
        <p:spPr>
          <a:xfrm>
            <a:off x="6507000" y="431640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Каюм Насыйри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12" descr="C:\Users\Лилия Ильдаровна\Pictures\schafigulin.jpg"/>
          <p:cNvPicPr/>
          <p:nvPr/>
        </p:nvPicPr>
        <p:blipFill>
          <a:blip r:embed="rId3"/>
          <a:stretch/>
        </p:blipFill>
        <p:spPr>
          <a:xfrm>
            <a:off x="4067280" y="3290760"/>
            <a:ext cx="12160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826920" y="108000"/>
            <a:ext cx="7705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ru-RU" sz="4000" spc="-1" strike="noStrike">
                <a:solidFill>
                  <a:srgbClr val="5968b0"/>
                </a:solidFill>
                <a:latin typeface="Times New Roman"/>
              </a:rPr>
              <a:t>Әй, мәктәбем белем учагы, 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968b0"/>
                </a:solidFill>
                <a:latin typeface="Times New Roman"/>
              </a:rPr>
              <a:t>Син гомернең иң гүзәл чагы»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Афзал Шамов исемендәге 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Татар Танае мәктәбе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7" descr="C:\Users\Лилия Ильдаровна\Pictures\58702171 (1).jpg"/>
          <p:cNvPicPr/>
          <p:nvPr/>
        </p:nvPicPr>
        <p:blipFill>
          <a:blip r:embed="rId1"/>
          <a:stretch/>
        </p:blipFill>
        <p:spPr>
          <a:xfrm>
            <a:off x="468360" y="29242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C:\Users\Лилия Ильдаровна\Pictures\Рисунок1.jpg"/>
          <p:cNvPicPr/>
          <p:nvPr/>
        </p:nvPicPr>
        <p:blipFill>
          <a:blip r:embed="rId2"/>
          <a:stretch/>
        </p:blipFill>
        <p:spPr>
          <a:xfrm>
            <a:off x="5076720" y="2973240"/>
            <a:ext cx="3087720" cy="2543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Picture 5" descr="C:\Users\Лилия Ильдаровна\Pictures\Рисунок2.jpg"/>
          <p:cNvPicPr/>
          <p:nvPr/>
        </p:nvPicPr>
        <p:blipFill>
          <a:blip r:embed="rId1"/>
          <a:stretch/>
        </p:blipFill>
        <p:spPr>
          <a:xfrm>
            <a:off x="1450800" y="1197000"/>
            <a:ext cx="6242400" cy="4392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1"/>
          <p:cNvSpPr/>
          <p:nvPr/>
        </p:nvSpPr>
        <p:spPr>
          <a:xfrm>
            <a:off x="611280" y="1351080"/>
            <a:ext cx="7921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073c65"/>
                </a:solidFill>
                <a:latin typeface="Times New Roman"/>
              </a:rPr>
              <a:t>Мин укытучылар нәселеннән. Династияне дәвам итүче бер вәкил мин. Әниемнең бабасы Җәббаров Зәйнетдин 10 ел мәдрәсәдә белем биргән. Әнисе – Миңсылу Зәйнетдин кызы мәктәптә 40, ә әнисенең сеңлесе Наҗия апа 45 ел  математика фәнен укыткан. Әнием үзе, апасы, сеңлесе – барысы да математика укытучылары.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852480" y="404640"/>
            <a:ext cx="829152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lnSpc>
                <a:spcPct val="10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000" spc="-1" strike="noStrike">
                <a:solidFill>
                  <a:srgbClr val="31489f"/>
                </a:solidFill>
                <a:latin typeface="Times New Roman"/>
              </a:rPr>
              <a:t>Бу тормышта минем адымым нык,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000" spc="-1" strike="noStrike">
                <a:solidFill>
                  <a:srgbClr val="31489f"/>
                </a:solidFill>
                <a:latin typeface="Times New Roman"/>
              </a:rPr>
              <a:t>Укытучы – минем һөнәрем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000" spc="-1" strike="noStrike">
                <a:solidFill>
                  <a:srgbClr val="31489f"/>
                </a:solidFill>
                <a:latin typeface="Times New Roman"/>
              </a:rPr>
              <a:t> </a:t>
            </a:r>
            <a:r>
              <a:rPr b="0" i="1" lang="tt-RU" sz="4000" spc="-1" strike="noStrike">
                <a:solidFill>
                  <a:srgbClr val="31489f"/>
                </a:solidFill>
                <a:latin typeface="Times New Roman"/>
              </a:rPr>
              <a:t>Бар көчемне, талантымны биреп,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000" spc="-1" strike="noStrike">
                <a:solidFill>
                  <a:srgbClr val="31489f"/>
                </a:solidFill>
                <a:latin typeface="Times New Roman"/>
              </a:rPr>
              <a:t>Балалар, дип уза көннәрем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Лилия Ильдаровна</cp:lastModifiedBy>
  <dcterms:modified xsi:type="dcterms:W3CDTF">2017-02-09T11:59:41Z</dcterms:modified>
  <cp:revision>157</cp:revision>
  <dc:subject/>
  <dc:title>Презентация PowerPoint</dc:title>
</cp:coreProperties>
</file>