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5103-1F24-4AB4-928F-6EA653DB36E5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5ECC-1B35-4CE8-B1B8-001888360E5A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5B1-CDCC-4F1D-92C9-D5F4B6CB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218-3547-49EA-BCD1-B636409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A7B-3457-4C4C-B913-B5975DD0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390-C1AB-4712-A349-FED4F55D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6AE5-5DCB-4C08-8194-789A87E6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4C46-A4F3-4F4D-8E28-D9A091B3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1BFB-24BE-46B8-BAB5-B35B0E45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A5F6-A3D5-4D26-B02A-17BB6CCF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222B-A2AF-4683-B9E7-A417798E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737B-E327-4DCF-A5CA-BBEC4715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E1F7-8911-4F59-9DEF-D7472443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E0F-FF15-4E05-AAA7-4458FBD2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7037-6CBD-42F8-94B6-D8A94EED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32E2-52E0-4872-8859-99259314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3FCA-31FE-40F2-BF20-E51FE872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0CF2-6215-4376-850B-2AA1433E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E17A-D23E-4F42-B1C8-5A99A97F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7EFA-F955-4697-AE0F-3355F21C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35C2-7B1D-445C-953A-8ECB1FD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B281-9AB8-4D87-AE54-D04F6468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CAE7-8A7E-49FA-8065-592CC63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2C7D-A6A7-4FBC-906F-E1D25A90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0DD-02C6-485F-A3C1-27D07E86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FCE6-9E03-4F74-A2C7-465D5C52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173D-0219-4CE6-9FA6-51AE169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FD79-1CEF-412E-9DBA-1AAAB3B4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3305-4EE0-4275-9FD8-8F9A3B78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C7D6-6B0F-4605-97DA-1272587D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7F70-C8FB-4860-A4A5-EF2A23FE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C465-9E21-4883-8EDD-2EC015F5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DAEB-641A-4B78-AC20-E4216778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5CBC-2684-4970-95A7-2F45BE8E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F390-E6AE-4303-8F66-C73EE8CD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160-78E5-40B2-B067-FF5AFD62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1B720-A1F9-467E-AB74-CA4C2386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60E7-6AA9-48D5-945B-505C14D1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5C751-2C72-461E-B249-7EFE2577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C9936-3862-4907-A5C4-6894D209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DDA3-FBBD-4461-A514-D2C63596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211F-49C3-4566-A747-24EFD0C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4AF6-D400-4C50-850B-CF82E40C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A2627-B9E2-40F7-B313-7D836A2B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64CD9-B265-4519-A1F9-9E64FA60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CE8-4908-48D6-B87E-39F3F50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AB4-C7F4-43E4-B65D-AAD5E7A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278-63F2-4BB9-9AA0-1FF0AF17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3BD-88A4-4734-ACE9-F507ED5C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C31-E00E-4F39-9CD5-97F2B947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E4A8-B8DB-4F4C-95B6-AD983B7767E5}" type="slidenum">
              <a:rPr b="1" i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FD91-9C4B-4B3E-A43A-82E2B05C5816}" type="slidenum">
              <a:rPr b="1" i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sp>
          <p:nvSpPr>
            <p:cNvPr id="116" name="Rectangle 7"/>
            <p:cNvSpPr/>
            <p:nvPr/>
          </p:nvSpPr>
          <p:spPr>
            <a:xfrm>
              <a:off x="0" y="0"/>
              <a:ext cx="9144000" cy="38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AD08-EFFC-4E7A-B641-AAC1E708CF94}" type="slidenum">
              <a:rPr b="1" i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sp>
          <p:nvSpPr>
            <p:cNvPr id="167" name="Rectangle 8"/>
            <p:cNvSpPr/>
            <p:nvPr/>
          </p:nvSpPr>
          <p:spPr>
            <a:xfrm>
              <a:off x="0" y="0"/>
              <a:ext cx="9144000" cy="38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6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4266-3245-4713-9A18-EF67909B2EC5}" type="slidenum">
              <a:rPr b="1" i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Объект 2" descr=""/>
          <p:cNvPicPr/>
          <p:nvPr/>
        </p:nvPicPr>
        <p:blipFill>
          <a:blip r:embed="rId1"/>
          <a:stretch/>
        </p:blipFill>
        <p:spPr>
          <a:xfrm>
            <a:off x="609480" y="237960"/>
            <a:ext cx="770580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3"/>
          <p:cNvSpPr/>
          <p:nvPr/>
        </p:nvSpPr>
        <p:spPr>
          <a:xfrm>
            <a:off x="539640" y="549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2001 нче елдан алып бүгенге көнгә кадәр Зөя мәктәбендә татар теле һәм әдәбияты укытучысы булып эшлим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7" descr="C:\Users\Лилия Ильдаровна\Downloads\DSCN4238.JPG"/>
          <p:cNvPicPr/>
          <p:nvPr/>
        </p:nvPicPr>
        <p:blipFill>
          <a:blip r:embed="rId1"/>
          <a:stretch/>
        </p:blipFill>
        <p:spPr>
          <a:xfrm>
            <a:off x="4948200" y="2249640"/>
            <a:ext cx="2846520" cy="1944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2"/>
          <a:stretch/>
        </p:blipFill>
        <p:spPr>
          <a:xfrm>
            <a:off x="4948200" y="446256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3"/>
          <a:stretch/>
        </p:blipFill>
        <p:spPr>
          <a:xfrm>
            <a:off x="585720" y="4479840"/>
            <a:ext cx="3003480" cy="2135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4"/>
          <a:stretch/>
        </p:blipFill>
        <p:spPr>
          <a:xfrm>
            <a:off x="585720" y="2249640"/>
            <a:ext cx="30034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55280" y="-360"/>
            <a:ext cx="7201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0" algn="ctr">
              <a:lnSpc>
                <a:spcPct val="60000"/>
              </a:lnSpc>
              <a:spcBef>
                <a:spcPts val="4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 algn="ctr">
              <a:lnSpc>
                <a:spcPct val="6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400" spc="-1" strike="noStrike">
                <a:solidFill>
                  <a:srgbClr val="21306a"/>
                </a:solidFill>
                <a:latin typeface="Times New Roman"/>
              </a:rPr>
              <a:t>Предмет буенча өлгереш һәм сыйфат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>
              <a:lnSpc>
                <a:spcPct val="6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1628640"/>
          <a:ext cx="7715520" cy="4525920"/>
        </p:xfrm>
        <a:graphic>
          <a:graphicData uri="http://schemas.openxmlformats.org/drawingml/2006/table">
            <a:tbl>
              <a:tblPr/>
              <a:tblGrid>
                <a:gridCol w="1944720"/>
                <a:gridCol w="1913040"/>
                <a:gridCol w="1928880"/>
                <a:gridCol w="1928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Уку ел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Фә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ыйфа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t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Өлгереш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2013-201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тел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әдәбият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2014-201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тел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әдәбият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тел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Татар әдәбият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Calibri"/>
                        </a:rPr>
                        <a:t>64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Бәхетле мин, һич арттырып әйтми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Алда әле күпме юллар бар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Эшнең тәмен белеп, кулга кул тотынып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Хезмәттәшләр белән эшләр өчен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Алда әле күпме еллар бар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Укытучы булу – зур бәхет ул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31489f"/>
                </a:solidFill>
                <a:latin typeface="Times New Roman"/>
              </a:rPr>
              <a:t>Ул – яраткан минем хезмәте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539640" y="692280"/>
            <a:ext cx="80661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1489f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31489f"/>
                </a:solidFill>
                <a:latin typeface="Times New Roman"/>
              </a:rPr>
              <a:t>Музафарова 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1489f"/>
                </a:solidFill>
                <a:latin typeface="Times New Roman"/>
              </a:rPr>
              <a:t>Лилия Илдар кызы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800" spc="-1" strike="noStrike">
                <a:solidFill>
                  <a:srgbClr val="31489f"/>
                </a:solidFill>
                <a:latin typeface="Times New Roman"/>
              </a:rPr>
              <a:t>Зөя гомуми урта белем мәктәбенең </a:t>
            </a:r>
            <a:r>
              <a:rPr b="1" i="1" lang="ru-RU" sz="4800" spc="-1" strike="noStrike">
                <a:solidFill>
                  <a:srgbClr val="31489f"/>
                </a:solidFill>
                <a:latin typeface="Times New Roman"/>
              </a:rPr>
              <a:t>татар теле һәм әдәбияты укытучысы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2"/>
          <p:cNvSpPr/>
          <p:nvPr/>
        </p:nvSpPr>
        <p:spPr>
          <a:xfrm>
            <a:off x="324000" y="33336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4ac8b"/>
                </a:solidFill>
                <a:latin typeface="Times New Roman"/>
              </a:rPr>
              <a:t>Туган җирем, үскән җирем-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4ac8b"/>
                </a:solidFill>
                <a:latin typeface="Times New Roman"/>
              </a:rPr>
              <a:t>Гади генә бер авыл.</a:t>
            </a: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4932360" y="2421000"/>
            <a:ext cx="396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ган авылым Татар Танае Татарстан Республикасы Яшел Үзән районының иң матур  авылларыннан берсе булып тора.Ул ямьле Гөбенә елгасы буена урнашкан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C:\Users\Лилия Ильдаровна\Pictures\1d192282c9455536c85576a4b9c328b7.jpg"/>
          <p:cNvPicPr/>
          <p:nvPr/>
        </p:nvPicPr>
        <p:blipFill>
          <a:blip r:embed="rId1"/>
          <a:stretch/>
        </p:blipFill>
        <p:spPr>
          <a:xfrm>
            <a:off x="611280" y="2637000"/>
            <a:ext cx="3816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68360" y="333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Туган авылым үзенең матур табигате, олуг мәчетләре, тырыш, кунакчыл, динле кешеләре белән дан тота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6" descr="C:\Users\Лилия Ильдаровна\Pictures\i (10).jpg"/>
          <p:cNvPicPr/>
          <p:nvPr/>
        </p:nvPicPr>
        <p:blipFill>
          <a:blip r:embed="rId1"/>
          <a:stretch/>
        </p:blipFill>
        <p:spPr>
          <a:xfrm>
            <a:off x="5435640" y="1380960"/>
            <a:ext cx="2733480" cy="2048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C:\Users\Лилия Ильдаровна\Pictures\DSC01390_0.JPG"/>
          <p:cNvPicPr/>
          <p:nvPr/>
        </p:nvPicPr>
        <p:blipFill>
          <a:blip r:embed="rId2"/>
          <a:stretch/>
        </p:blipFill>
        <p:spPr>
          <a:xfrm>
            <a:off x="2411280" y="3789360"/>
            <a:ext cx="3926160" cy="2625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C:\Users\Лилия Ильдаровна\Pictures\e41ac7d321532d0d4b67fcbf68bea558.jpg"/>
          <p:cNvPicPr/>
          <p:nvPr/>
        </p:nvPicPr>
        <p:blipFill>
          <a:blip r:embed="rId3"/>
          <a:stretch/>
        </p:blipFill>
        <p:spPr>
          <a:xfrm>
            <a:off x="971640" y="1450800"/>
            <a:ext cx="3116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7"/>
          <p:cNvSpPr/>
          <p:nvPr/>
        </p:nvSpPr>
        <p:spPr>
          <a:xfrm>
            <a:off x="611280" y="692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Туган ягымның күренекле шәхесләре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9"/>
          <p:cNvSpPr/>
          <p:nvPr/>
        </p:nvSpPr>
        <p:spPr>
          <a:xfrm>
            <a:off x="5076720" y="5157720"/>
            <a:ext cx="28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179280" y="43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Афзал Шамов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оугольник 11"/>
          <p:cNvSpPr/>
          <p:nvPr/>
        </p:nvSpPr>
        <p:spPr>
          <a:xfrm>
            <a:off x="3419640" y="5286240"/>
            <a:ext cx="32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Фаил Шәфигулли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10" descr="C:\Users\Лилия Ильдаровна\Pictures\Qayum_Nasírí.jpg"/>
          <p:cNvPicPr/>
          <p:nvPr/>
        </p:nvPicPr>
        <p:blipFill>
          <a:blip r:embed="rId1"/>
          <a:stretch/>
        </p:blipFill>
        <p:spPr>
          <a:xfrm>
            <a:off x="6610320" y="2060640"/>
            <a:ext cx="1354320" cy="1805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C:\Users\Лилия Ильдаровна\Pictures\7e191953-498d-4645-bdc1-120494d36d52_800x600.jpg"/>
          <p:cNvPicPr/>
          <p:nvPr/>
        </p:nvPicPr>
        <p:blipFill>
          <a:blip r:embed="rId2"/>
          <a:stretch/>
        </p:blipFill>
        <p:spPr>
          <a:xfrm>
            <a:off x="900000" y="2060640"/>
            <a:ext cx="1224000" cy="18604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4"/>
          <p:cNvSpPr/>
          <p:nvPr/>
        </p:nvSpPr>
        <p:spPr>
          <a:xfrm>
            <a:off x="6507000" y="431640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аюм Насыйр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2" descr="C:\Users\Лилия Ильдаровна\Pictures\schafigulin.jpg"/>
          <p:cNvPicPr/>
          <p:nvPr/>
        </p:nvPicPr>
        <p:blipFill>
          <a:blip r:embed="rId3"/>
          <a:stretch/>
        </p:blipFill>
        <p:spPr>
          <a:xfrm>
            <a:off x="4067280" y="3290760"/>
            <a:ext cx="1216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826920" y="108000"/>
            <a:ext cx="770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4000" spc="-1" strike="noStrike">
                <a:solidFill>
                  <a:srgbClr val="5968b0"/>
                </a:solidFill>
                <a:latin typeface="Times New Roman"/>
              </a:rPr>
              <a:t>Әй, мәктәбем белем учагы,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968b0"/>
                </a:solidFill>
                <a:latin typeface="Times New Roman"/>
              </a:rPr>
              <a:t>Син гомернең иң гүзәл чагы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Афзал Шамов исемендәге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Татар Танае мәктәбе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:\Users\Лилия Ильдаровна\Pictures\58702171 (1).jpg"/>
          <p:cNvPicPr/>
          <p:nvPr/>
        </p:nvPicPr>
        <p:blipFill>
          <a:blip r:embed="rId1"/>
          <a:stretch/>
        </p:blipFill>
        <p:spPr>
          <a:xfrm>
            <a:off x="468360" y="2924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:\Users\Лилия Ильдаровна\Pictures\Рисунок1.jpg"/>
          <p:cNvPicPr/>
          <p:nvPr/>
        </p:nvPicPr>
        <p:blipFill>
          <a:blip r:embed="rId2"/>
          <a:stretch/>
        </p:blipFill>
        <p:spPr>
          <a:xfrm>
            <a:off x="5076720" y="2973240"/>
            <a:ext cx="3087720" cy="254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5" descr="C:\Users\Лилия Ильдаровна\Pictures\Рисунок2.jpg"/>
          <p:cNvPicPr/>
          <p:nvPr/>
        </p:nvPicPr>
        <p:blipFill>
          <a:blip r:embed="rId1"/>
          <a:stretch/>
        </p:blipFill>
        <p:spPr>
          <a:xfrm>
            <a:off x="1450800" y="1197000"/>
            <a:ext cx="624240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611280" y="1351080"/>
            <a:ext cx="79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073c65"/>
                </a:solidFill>
                <a:latin typeface="Times New Roman"/>
              </a:rPr>
              <a:t>Мин укытучылар нәселеннән. Династияне дәвам итүче бер вәкил мин. Әниемнең бабасы Җәббаров Зәйнетдин 10 ел мәдрәсәдә белем биргән. Әнисе – Миңсылу Зәйнетдин кызы мәктәптә 40, ә әнисенең сеңлесе Наҗия апа 45 ел  математика фәнен укыткан. Әнием үзе, апасы, сеңлесе – барысы да математика укытучылары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52480" y="404640"/>
            <a:ext cx="8291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Бу тормышта минем адымым нык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Укытучы – минем һөнәрем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 </a:t>
            </a: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Бар көчемне, талантымны биреп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31489f"/>
                </a:solidFill>
                <a:latin typeface="Times New Roman"/>
              </a:rPr>
              <a:t>Балалар, дип уза көннәрем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Лилия Ильдаровна</cp:lastModifiedBy>
  <dcterms:modified xsi:type="dcterms:W3CDTF">2017-02-09T11:59:41Z</dcterms:modified>
  <cp:revision>157</cp:revision>
  <dc:subject/>
  <dc:title>Презентация PowerPoint</dc:title>
</cp:coreProperties>
</file>