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4C4-1FFF-4A45-91B6-EBC73108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7BE-6A05-4596-8594-68079F55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3E7-AA34-474B-96AB-67263A66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564-6EA2-443D-8C8C-ED065511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F9C1-B1AE-49FC-BC0B-A821FDD4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3A43-2398-4C5C-A7D6-BEAAC98C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18F6-7C44-46BE-9AFB-8A10AA2A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1354-689A-4407-9CCD-E1FB6D48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162D-0DD0-427B-A4CD-CD3D6918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82AC-5730-45F9-8469-A47442AD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B41A-9F12-4632-9080-9E3E6AA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803-62DB-491B-8F6F-A4BDF56E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054B-C6EF-4402-90AF-64105874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F7F3-9D54-45A0-9111-E42D5402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D372-89F8-4ECF-ADB1-A5759530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F6AE-3BD1-4534-AECF-4BF09A2E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D146-7BAA-4551-87C6-4DEFB61F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ACE-77F4-4780-8C75-DE93184F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10B-1263-48B9-9F48-1BD39162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F7C-F385-431F-AB3B-8536FBFA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BAD-3C43-434D-8502-F65CBC62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802-50C3-4B88-AAAE-5DAFAB5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0EA-A87E-40A3-93E9-974561C9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069-44E9-4D2A-9B6E-9F57AAF9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6374-A653-4114-9821-24E40B5A009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F691-4451-48F6-9D14-597FE0DB6A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en-US" sz="8800" spc="-1" strike="noStrike">
                <a:solidFill>
                  <a:srgbClr val="339966"/>
                </a:solidFill>
                <a:latin typeface="Tahoma"/>
              </a:rPr>
              <a:t>МОЯ МАЛАЯ РОДИНА</a:t>
            </a:r>
            <a:endParaRPr b="1" lang="en-US" sz="8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Ухта – второй город от Сыктывкара и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ятый город от Воркут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Ухта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орода Ухта и Сосногорск находятся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на самом маленьком рас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Сосногорск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36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Инта находится южнее Воркуты и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                            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соседствует с 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               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Инта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Если ехать из Сосногорска в Воркуту, то первой остановкой будет Печо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Печора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Z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ород Микунь находится на таком же расстоянии к юго-западу от Ухты, как и Инта к югу от Воркут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Микунь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Если от Микуни проехать 5 городов к северу, вернуться на 4 города, а затем снова проехать 3 города к северу, вы окажетесь в Усинск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Усинск – город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Tahoma"/>
              </a:rPr>
              <a:t>Определите, какой из вариантов соответствует очертаниям Республики Коми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contrast="-46000"/>
          </a:blip>
          <a:stretch/>
        </p:blipFill>
        <p:spPr>
          <a:xfrm>
            <a:off x="1828800" y="1981080"/>
            <a:ext cx="2362320" cy="213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>
            <a:lum contrast="-38000"/>
          </a:blip>
          <a:stretch/>
        </p:blipFill>
        <p:spPr>
          <a:xfrm>
            <a:off x="5486400" y="198108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>
            <a:lum contrast="-46000"/>
          </a:blip>
          <a:stretch/>
        </p:blipFill>
        <p:spPr>
          <a:xfrm>
            <a:off x="1828800" y="4267080"/>
            <a:ext cx="2362320" cy="213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>
            <a:lum contrast="-44000"/>
          </a:blip>
          <a:stretch/>
        </p:blipFill>
        <p:spPr>
          <a:xfrm>
            <a:off x="5486400" y="426708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animClr clrSpc="rgb">
                                      <p:cBhvr>
                                        <p:cTn id="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Следующее задание: составьте административную карту республики Коми из 14 часте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Задание «Город»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Определите, какие здания, сооружения и достопримечательности обозначены на карте города Ин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КАК ВЫ ДУМАЕТЕ, ЧТО ТАКОЕ </a:t>
            </a:r>
            <a:r>
              <a:rPr b="1" lang="en-US" sz="4400" spc="-1" strike="noStrike">
                <a:solidFill>
                  <a:srgbClr val="ccff99"/>
                </a:solidFill>
                <a:latin typeface="Tahoma"/>
              </a:rPr>
              <a:t>МАЛАЯ РОДИНА?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РА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                          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ОБЛА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РЕСПУБЛИКА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              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ГОРОД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СЕЛ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                     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ДЕРЕВН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Выберите правильный ответ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Какой площади нет в нашем город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а) Лен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б) Комсомольск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в) Лермонт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г) Кир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1852560"/>
            <a:ext cx="440532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143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Какой улицы нет в нашем город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а) Ми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б) Дедушк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в) Курат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г) Кир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акая шахта в  нашем городе продолжает работать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Глубок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Капитальн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Интинск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Восточн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Какой город находится не в Республике Коми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А) Усинс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Б) Великий Устю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В) Ух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Г) Печо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Какие цвета присутствуют на флаге Республики Коми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а) </a:t>
            </a: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сини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зеленый-</a:t>
            </a:r>
            <a:r>
              <a:rPr b="0" lang="ru-RU" sz="4000" spc="-1" strike="noStrike">
                <a:solidFill>
                  <a:srgbClr val="effbf0"/>
                </a:solidFill>
                <a:latin typeface="Tahoma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б) </a:t>
            </a:r>
            <a:r>
              <a:rPr b="0" lang="ru-RU" sz="4000" spc="-1" strike="noStrike">
                <a:solidFill>
                  <a:srgbClr val="effbf0"/>
                </a:solidFill>
                <a:latin typeface="Tahoma"/>
              </a:rPr>
              <a:t>белы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красны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ерны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в) </a:t>
            </a: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сини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зелены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г) </a:t>
            </a:r>
            <a:r>
              <a:rPr b="0" lang="ru-RU" sz="4000" spc="-1" strike="noStrike">
                <a:solidFill>
                  <a:srgbClr val="effbf0"/>
                </a:solidFill>
                <a:latin typeface="Tahoma"/>
              </a:rPr>
              <a:t>белый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-зеленый-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желты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акой школы нет в нашем город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    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На каком автобусе мы сможем доехать до вокза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а)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б)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)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) 1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4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На какой улице находится наша шко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а) Чайковск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б) Ми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) Поляр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) Социалистич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15080" y="1981080"/>
            <a:ext cx="400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Какое животное не встречается в Республике Ко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а) медвед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б) свинь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в) гепар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г) вол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3086280"/>
            <a:ext cx="36576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Как фамилия главы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                </a:t>
            </a: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Республики Коми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а) Гейзу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б) Гайзер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в) Гейзе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г) Гайзу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6253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Tahoma"/>
              </a:rPr>
              <a:t>РЕСПУБЛИКА КОМИ</a:t>
            </a:r>
            <a:br>
              <a:rPr sz="5400"/>
            </a:b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Основана 22 августа 1921 года. Занимает почти весь северо-восток европейской части Росс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На севере граничит с Ненецким автономным округом, на западе – с Архангельской областью, на юге и востоке – с Кировской, Пермской и Тюменской областя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На ее территории, превышающей 400 000 км могли бы одновременно разместиться такие государства, как Голландия, Бельгия, Дания, Люксембург и Швейцар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Сколько домов на улице Северная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1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1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      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54480" y="533520"/>
            <a:ext cx="3992760" cy="5867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880" y="809640"/>
            <a:ext cx="563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Как называется достопримечательность, которая видна из окон нашей шко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а) Пизанская баш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б) Водонапорная баш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) Водяная баш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) Ма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В каком году образована наша республик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а) 1916 г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б) 1922 г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в) 1921 г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г) 1918 г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огда мы отмечаем день рождения Республики Коми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13 сентябр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7 октябр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22 авгу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30 июн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1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3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1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59364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акой автомобильный код у Республики Ко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Когда Инта получила статус город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а) 7 ноября 1955 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б) 4 октября 1954 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) 2 сентября 1953 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г) 9 декабря 1952 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15080" y="1981080"/>
            <a:ext cx="4228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Как называется река, протекающая под окнами нашей школ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а) Ус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б) Инт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в) Кось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ahoma"/>
              </a:rPr>
              <a:t>г) Вычег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15080" y="1981080"/>
            <a:ext cx="392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Сколько километров разделяют Инту и столицу Росси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а) 1500 к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б) 2000 к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в) 1000 к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ahoma"/>
              </a:rPr>
              <a:t>г) 3000 к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Какая улица была образована раньше других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а) Ми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б) Курато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в) Киро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ahoma"/>
              </a:rPr>
              <a:t>г) Бабушки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ак раньше называлась улица Мира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а) улица Ждано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б) улица Свобод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) улица Широк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г) улица Главн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52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009900"/>
                </a:solidFill>
                <a:latin typeface="Tahoma"/>
              </a:rPr>
              <a:t>СХЕМАТИЧНАЯ КАРТА </a:t>
            </a:r>
            <a:r>
              <a:rPr b="1" lang="en-US" sz="3600" spc="-1" strike="noStrike">
                <a:solidFill>
                  <a:srgbClr val="66ff66"/>
                </a:solidFill>
                <a:latin typeface="Tahoma"/>
              </a:rPr>
              <a:t>РЕСПУБЛИКИ КО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ahoma"/>
              </a:rPr>
              <a:t>Проверим правильность   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ahoma"/>
              </a:rPr>
              <a:t>            </a:t>
            </a:r>
            <a:r>
              <a:rPr b="0" lang="en-US" sz="4800" spc="-1" strike="noStrike">
                <a:solidFill>
                  <a:srgbClr val="009900"/>
                </a:solidFill>
                <a:latin typeface="Tahoma"/>
              </a:rPr>
              <a:t>ваших ответов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4282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ahoma"/>
              </a:rPr>
              <a:t>Любите и берегите свою </a:t>
            </a:r>
            <a:r>
              <a:rPr b="1" lang="en-US" sz="9600" spc="-1" strike="noStrike">
                <a:solidFill>
                  <a:srgbClr val="009900"/>
                </a:solidFill>
                <a:latin typeface="Tahoma"/>
              </a:rPr>
              <a:t>МАЛУЮ РОДИНУ!</a:t>
            </a: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536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Задание </a:t>
            </a:r>
            <a:br>
              <a:rPr sz="4000"/>
            </a:b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«Города республики Коми»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Каждый город зашифрован под своей буквой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Вам необходимо, пользуясь схематичной картой республики Коми, разгадать все города и определить город 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С</a:t>
            </a:r>
            <a:r>
              <a:rPr b="0" lang="en-US" sz="4000" spc="-1" strike="noStrike">
                <a:solidFill>
                  <a:srgbClr val="0099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6854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Х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– столица нашей республ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лежит за полярным круг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– второй от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Х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и пятый от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находятся на самом маленьком расстоянии друг от дру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соседствует с городом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, но лежит южне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Если ехать в город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из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, то первой остановкой будет город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Z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Город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находится на таком же расстоянии к юго-западу от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, как и город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к югу от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Если от города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М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 проехать 5 городов к северу, вернуться на 4 города, а затем снова проехать 3 города, вы окажетесь в город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. Назовите город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7200" spc="-1" strike="noStrike">
                <a:solidFill>
                  <a:srgbClr val="009900"/>
                </a:solidFill>
                <a:latin typeface="Tahoma"/>
              </a:rPr>
              <a:t>Проверим...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Столица нашей республики –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 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Сыктывка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Сыктывкар – город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Х.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За полярным кругом лежит город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         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орку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Воркута – горо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иблиотека</cp:lastModifiedBy>
  <dcterms:modified xsi:type="dcterms:W3CDTF">2010-11-26T19:08:25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