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1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47280" y="826920"/>
            <a:ext cx="55069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47280" y="4300560"/>
            <a:ext cx="550692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0"/>
          </p:nvPr>
        </p:nvSpPr>
        <p:spPr>
          <a:xfrm>
            <a:off x="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1"/>
          </p:nvPr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F499-DF88-419F-9F42-910FEE9296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017DF-0C7C-4665-8DD2-0A05BE4E6F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70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4B75-97B1-479C-A560-F8614984ED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97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A024F-E5A6-4C35-8C35-FFA8E29B77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0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E1A7-BF5C-474E-A262-8E86650639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3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916E6-1D16-4FA7-A825-E6BF9B4602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6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B1C63-AB9B-4166-B0E8-4E827A06D1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9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9C18-7162-4BDA-AA62-212D7C1D54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12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9A3D5-B07B-4758-8B71-4902A7A141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15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A9C57-47D5-49F7-BC77-021FD868D0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18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B6860-C34C-4EDF-AAE0-276F85E94C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05360" cy="3679920"/>
          </a:xfrm>
          <a:prstGeom prst="rect">
            <a:avLst/>
          </a:prstGeom>
          <a:ln w="0">
            <a:noFill/>
          </a:ln>
        </p:spPr>
      </p:sp>
      <p:sp>
        <p:nvSpPr>
          <p:cNvPr id="421" name="Text Box 2"/>
          <p:cNvSpPr/>
          <p:nvPr/>
        </p:nvSpPr>
        <p:spPr>
          <a:xfrm>
            <a:off x="681120" y="4665600"/>
            <a:ext cx="54417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69F62-2246-4192-872C-DD91417C9A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24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FD960-BDD2-4E02-AEB4-BEC134F194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73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D80C-1458-4AC4-AF87-AE34E0C137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05360" cy="3679920"/>
          </a:xfrm>
          <a:prstGeom prst="rect">
            <a:avLst/>
          </a:prstGeom>
          <a:ln w="0">
            <a:noFill/>
          </a:ln>
        </p:spPr>
      </p:sp>
      <p:sp>
        <p:nvSpPr>
          <p:cNvPr id="427" name="Text Box 2"/>
          <p:cNvSpPr/>
          <p:nvPr/>
        </p:nvSpPr>
        <p:spPr>
          <a:xfrm>
            <a:off x="681120" y="4665600"/>
            <a:ext cx="54417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5690E-5E80-45A4-AEE5-7037C56627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95280" y="826920"/>
            <a:ext cx="4213440" cy="31608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47640" y="4300200"/>
            <a:ext cx="55087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E8640-BD7D-4260-9593-29AA74E7DD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76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40DF8-51A4-4DF0-BF8B-6C80D0D10D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0040" cy="368136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81120" y="4665600"/>
            <a:ext cx="54435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5EC39-3F96-4E5B-BBE4-BA41797F44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82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44BAC-C913-4319-840D-8412F540B8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85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6D3B3-A717-45B7-BF5D-16CA32C231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88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5F823-B7DA-4C89-855E-7FEA6A1FBF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91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B4EF6-3403-4721-B5C7-D86A2B1BA9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94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BA0A-1D95-4D9B-939D-5340F290C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9BF8-B43C-4E81-965C-64BBAC5E9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D25F-258D-40C9-9901-8C83D9E7D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5E39-288F-4A82-819F-7141EC0AF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FA5A-7E0D-469C-B3D5-8C8F14304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2250-F02F-41F5-833B-21FE653AD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23AE-A83F-45E7-A1A4-F957C94EB3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96AA-007B-4FCE-B8E9-797DF79889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F2D8-BD70-4AF9-81FA-8F9B942FEF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C2F9-95FA-4EEC-AA3E-5253199FA3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2BC2-E454-45D3-BBD0-2D0CECC974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0945-471F-4A0A-A222-22F9C463B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142C-480F-490B-8578-9F7A1C568E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425D-0982-4914-982C-1A2578EE42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1A7D-ED7E-4898-9FFC-EC5B427BBD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DDEB-9E0C-40DD-AAAA-456F505471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383E-84B9-4148-8601-7B6B55B348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5A94F-6CDF-4FF9-BB89-CA5A8BB7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AE318-4645-47FA-A0C2-E1E13798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6284D-5655-46CE-BFB4-0EDBF6C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12614-7D8C-41D2-8DAE-D68A5F54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74ACF-706A-4CC1-90D7-060AD09D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3F68-3D8D-4BC3-B5C7-8828F4C56A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518B9-3D0F-4AF9-BCCD-9F3C7B5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B1A5F-2C49-4A2E-AFF3-47BA8A3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DD26-A591-4231-A938-8E768BB1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5CDF1-0F84-4A96-9B6D-867FF81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409D3-6A3B-4E40-BE2B-B44AAC2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E567-019A-45A9-BF62-3023EB56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39F86-FAFA-4B64-9ECA-EFDEF004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16E9-39F5-4758-8801-401DAFECF6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F9AC-4748-4937-92E9-C126277511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D43C-973C-44A7-81EA-01FFA6BD58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954CD-DFD2-4A35-9D6B-308E950B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4EA6D-04E4-4DF9-AA01-C8465426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F1375-FDD8-4824-BCFD-AAE63534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23065-46F4-4BD6-9230-3597079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E9739-4BA2-46DD-9BC6-034D1D9F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D01F4-DC39-49A5-B49A-316F1CA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944ED-FF12-4F0B-AA78-513D2B6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3C82E-EB8A-408B-8700-70CA817F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9E021-D482-4BA2-9878-13AAF5B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DEC5-3234-48F9-95EF-5E7EE1D62A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5C6F8-7C9D-475D-A48E-4331008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F5202-A68A-4A15-9BB8-94C62D3E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C3040-374A-4B0B-96C2-1698CA76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08A6-CE5B-4144-A438-AE0AFEEC1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FEB8-EC61-43DC-9267-43080AD82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7240" cy="6845400"/>
            <a:chOff x="0" y="0"/>
            <a:chExt cx="9147240" cy="6845400"/>
          </a:xfrm>
        </p:grpSpPr>
        <p:sp>
          <p:nvSpPr>
            <p:cNvPr id="1" name="Rectangle 2"/>
            <p:cNvSpPr/>
            <p:nvPr/>
          </p:nvSpPr>
          <p:spPr>
            <a:xfrm>
              <a:off x="8305920" y="1440"/>
              <a:ext cx="825480" cy="6843960"/>
            </a:xfrm>
            <a:prstGeom prst="rect">
              <a:avLst/>
            </a:prstGeom>
            <a:gradFill rotWithShape="0">
              <a:gsLst>
                <a:gs pos="0">
                  <a:srgbClr val="4f627e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67652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2743200" y="0"/>
              <a:ext cx="6732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3581280" y="0"/>
              <a:ext cx="368280" cy="68454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133720" y="0"/>
              <a:ext cx="5968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762120" y="0"/>
              <a:ext cx="90144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5720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0" y="0"/>
              <a:ext cx="4446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342900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41972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1981080" y="0"/>
              <a:ext cx="21600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5238720" y="0"/>
              <a:ext cx="38736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391520" y="0"/>
              <a:ext cx="21564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15200" y="0"/>
              <a:ext cx="1054080" cy="68454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5562720" y="0"/>
              <a:ext cx="9777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609588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693432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19"/>
            <p:cNvSpPr/>
            <p:nvPr/>
          </p:nvSpPr>
          <p:spPr>
            <a:xfrm>
              <a:off x="4254480" y="0"/>
              <a:ext cx="22860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0"/>
            <p:cNvSpPr/>
            <p:nvPr/>
          </p:nvSpPr>
          <p:spPr>
            <a:xfrm>
              <a:off x="3755880" y="0"/>
              <a:ext cx="52092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1440" y="6151680"/>
              <a:ext cx="9131400" cy="69372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0" y="6138720"/>
              <a:ext cx="9147240" cy="263520"/>
            </a:xfrm>
            <a:custGeom>
              <a:avLst/>
              <a:gdLst>
                <a:gd name="textAreaLeft" fmla="*/ 0 w 9147240"/>
                <a:gd name="textAreaRight" fmla="*/ 9147600 w 91472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7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Text Box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1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2A160F-98E4-47AF-A2DB-E7452EE73C3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2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"/>
          <p:cNvGrpSpPr/>
          <p:nvPr/>
        </p:nvGrpSpPr>
        <p:grpSpPr>
          <a:xfrm>
            <a:off x="0" y="0"/>
            <a:ext cx="9147240" cy="6845400"/>
            <a:chOff x="0" y="0"/>
            <a:chExt cx="9147240" cy="6845400"/>
          </a:xfrm>
        </p:grpSpPr>
        <p:sp>
          <p:nvSpPr>
            <p:cNvPr id="64" name="Rectangle 2"/>
            <p:cNvSpPr/>
            <p:nvPr/>
          </p:nvSpPr>
          <p:spPr>
            <a:xfrm>
              <a:off x="8305920" y="1440"/>
              <a:ext cx="825480" cy="6843960"/>
            </a:xfrm>
            <a:prstGeom prst="rect">
              <a:avLst/>
            </a:prstGeom>
            <a:gradFill rotWithShape="0">
              <a:gsLst>
                <a:gs pos="0">
                  <a:srgbClr val="4f627e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3"/>
            <p:cNvSpPr/>
            <p:nvPr/>
          </p:nvSpPr>
          <p:spPr>
            <a:xfrm>
              <a:off x="167652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2743200" y="0"/>
              <a:ext cx="6732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3581280" y="0"/>
              <a:ext cx="368280" cy="68454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2133720" y="0"/>
              <a:ext cx="5968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762120" y="0"/>
              <a:ext cx="90144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5720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0" y="0"/>
              <a:ext cx="4446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342900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441972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1981080" y="0"/>
              <a:ext cx="21600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5238720" y="0"/>
              <a:ext cx="38736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7391520" y="0"/>
              <a:ext cx="21564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315200" y="0"/>
              <a:ext cx="1054080" cy="68454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562720" y="0"/>
              <a:ext cx="9777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609588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693432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4254480" y="0"/>
              <a:ext cx="22860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3755880" y="0"/>
              <a:ext cx="52092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1440" y="6151680"/>
              <a:ext cx="9131400" cy="69372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0" y="6138720"/>
              <a:ext cx="9147240" cy="263520"/>
            </a:xfrm>
            <a:custGeom>
              <a:avLst/>
              <a:gdLst>
                <a:gd name="textAreaLeft" fmla="*/ 0 w 9147240"/>
                <a:gd name="textAreaRight" fmla="*/ 9147600 w 91472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7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1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9E813A-7444-452B-B81C-BE1F0DDB60D0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4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5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252C13-641D-491B-A7D7-A7E632AB34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-31680" y="0"/>
            <a:ext cx="9240840" cy="6891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 fontScale="98000"/>
          </a:bodyPr>
          <a:p>
            <a:pPr marL="335880" indent="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1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2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3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4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5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6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357120" y="285840"/>
            <a:ext cx="8499600" cy="6213240"/>
          </a:xfrm>
          <a:custGeom>
            <a:avLst/>
            <a:gdLst>
              <a:gd name="textAreaLeft" fmla="*/ 0 w 8499600"/>
              <a:gd name="textAreaRight" fmla="*/ 8499960 w 8499600"/>
              <a:gd name="textAreaTop" fmla="*/ 0 h 6213240"/>
              <a:gd name="textAreaBottom" fmla="*/ 6213600 h 6213240"/>
            </a:gdLst>
            <a:ahLst/>
            <a:rect l="textAreaLeft" t="textAreaTop" r="textAreaRight" b="textAreaBottom"/>
            <a:pathLst>
              <a:path w="8499475" h="6213475">
                <a:moveTo>
                  <a:pt x="0" y="0"/>
                </a:moveTo>
                <a:lnTo>
                  <a:pt x="0" y="0"/>
                </a:lnTo>
                <a:lnTo>
                  <a:pt x="180" y="90"/>
                </a:lnTo>
                <a:lnTo>
                  <a:pt x="23611" y="0"/>
                </a:lnTo>
                <a:lnTo>
                  <a:pt x="0" y="0"/>
                </a:lnTo>
                <a:lnTo>
                  <a:pt x="270" y="90"/>
                </a:lnTo>
                <a:lnTo>
                  <a:pt x="23611" y="172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71280" y="71280"/>
            <a:ext cx="199872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357120" y="285840"/>
            <a:ext cx="8499600" cy="6213240"/>
          </a:xfrm>
          <a:custGeom>
            <a:avLst/>
            <a:gdLst>
              <a:gd name="textAreaLeft" fmla="*/ 0 w 8499600"/>
              <a:gd name="textAreaRight" fmla="*/ 8499960 w 8499600"/>
              <a:gd name="textAreaTop" fmla="*/ 0 h 6213240"/>
              <a:gd name="textAreaBottom" fmla="*/ 6213600 h 6213240"/>
            </a:gdLst>
            <a:ahLst/>
            <a:rect l="textAreaLeft" t="textAreaTop" r="textAreaRight" b="textAreaBottom"/>
            <a:pathLst>
              <a:path w="8499475" h="6213475">
                <a:moveTo>
                  <a:pt x="0" y="0"/>
                </a:moveTo>
                <a:lnTo>
                  <a:pt x="0" y="0"/>
                </a:lnTo>
                <a:lnTo>
                  <a:pt x="180" y="90"/>
                </a:lnTo>
                <a:lnTo>
                  <a:pt x="23611" y="0"/>
                </a:lnTo>
                <a:lnTo>
                  <a:pt x="0" y="0"/>
                </a:lnTo>
                <a:lnTo>
                  <a:pt x="270" y="90"/>
                </a:lnTo>
                <a:lnTo>
                  <a:pt x="23611" y="172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71280" y="71280"/>
            <a:ext cx="1998720" cy="1998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1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2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3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4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5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6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6"/>
          </p:nvPr>
        </p:nvSpPr>
        <p:spPr>
          <a:xfrm>
            <a:off x="14364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7"/>
          </p:nvPr>
        </p:nvSpPr>
        <p:spPr>
          <a:xfrm>
            <a:off x="3616200" y="6246720"/>
            <a:ext cx="28958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BA9351-40D1-49D7-A402-473CDDE877B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-71280" y="-52560"/>
            <a:ext cx="9215280" cy="6917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"/>
          <p:cNvSpPr/>
          <p:nvPr/>
        </p:nvSpPr>
        <p:spPr>
          <a:xfrm>
            <a:off x="287280" y="235080"/>
            <a:ext cx="8350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Муниципальное бюджетное дошкольное образовательное учрежд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        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«Детский сад № 1 «Звёздоч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200" y="647640"/>
            <a:ext cx="89935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едагогический проек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Музейная педагоги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Актуальность, современность, перспектив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мини-муз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«</a:t>
            </a:r>
            <a:r>
              <a:rPr b="0" lang="ru-RU" sz="60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	</a:t>
            </a:r>
            <a:r>
              <a:rPr b="0" lang="ru-RU" sz="60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ВЕСЁЛЫЙ КЛОУН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887640" y="5472000"/>
            <a:ext cx="49672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Автор проекта: воспитатель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                               </a:t>
            </a: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Толстова И.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738440" y="144360"/>
            <a:ext cx="69372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Участник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44360" y="936720"/>
            <a:ext cx="8568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Руководитель проекта: </a:t>
            </a:r>
            <a:r>
              <a:rPr b="0" i="1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Толстова И.Е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Воспитанни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i="1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группы № 2 «Божьи                                       коровк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Родит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Коллег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Дарители</a:t>
            </a:r>
            <a:r>
              <a:rPr b="0" i="1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 семейных коллек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792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863640" y="144360"/>
            <a:ext cx="7386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Этапы создания мини-муз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1280" y="932040"/>
            <a:ext cx="9072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DejaVu Sans"/>
              </a:rPr>
              <a:t>Подготовительный этап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—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пределение темы, разработка  цели и задач,  сбор информации, использование компьютерных технологий, подбор художественной литературы и  иллюстративного материала,  заготовки экспон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DejaVu Sans"/>
              </a:rPr>
              <a:t>Основной этап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оведение игр, наблюдений, бесед с детьми (как групповых, так и индивидуальных). Совместная деятельность воспитателей, детей, их родителей. Оформление выставок поделок и рисунков «Весёлые клоуны». Подготовка консультаций для родителей по данной тематике. Создание фото галереи мини-музе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DejaVu Sans"/>
              </a:rPr>
              <a:t>Заключительный эта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подведение  итогов. Участие в конкурсе «Мини-музеи ДО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792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"/>
          <p:cNvSpPr/>
          <p:nvPr/>
        </p:nvSpPr>
        <p:spPr>
          <a:xfrm>
            <a:off x="1009800" y="247680"/>
            <a:ext cx="68389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ланируемые результ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71280" y="1069920"/>
            <a:ext cx="9072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рганизация познавательно-исследовательской деятельности в рамках мини-музея будет осуществляться чере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формирование и организацию коллекций, создание экспози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совместную исследовательскую и творческую деятельность, чувственного восприятия (сенсорный опы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использование метода проектов в образовательной работе с деть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организацию выставок, экскурсий, занятий, тематических вечеров и музейных   празд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взаимодействие музея с предметно-развивающей средой групп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организацию встреч с интересными людь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лагодаря эффективным формам и методам мини-музей станет местом познания, исследования, общения и совместного творчества педагогов, детей и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"/>
          <p:cNvSpPr/>
          <p:nvPr/>
        </p:nvSpPr>
        <p:spPr>
          <a:xfrm>
            <a:off x="1224000" y="103320"/>
            <a:ext cx="6364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одготов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87280" y="765000"/>
            <a:ext cx="8567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начале работы коллектив группы (дети, воспитатели) вместе с родителями определили тему и название мини-музея, разработали его модель, выбрали место для его размещ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Методическая служба детского сада разработала критерии конкурса на лучший мини-муз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одителям было предложено обсудить, что такое музей, для чего он создаётся, для чего его посещают люди и т.д. , по возможности посетить с детьми муз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1"/>
          <a:stretch/>
        </p:blipFill>
        <p:spPr>
          <a:xfrm>
            <a:off x="792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2448000" y="287280"/>
            <a:ext cx="39495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Основно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-41400" y="1101600"/>
          <a:ext cx="9153720" cy="5792760"/>
        </p:xfrm>
        <a:graphic>
          <a:graphicData uri="http://schemas.openxmlformats.org/drawingml/2006/table">
            <a:tbl>
              <a:tblPr/>
              <a:tblGrid>
                <a:gridCol w="7472520"/>
                <a:gridCol w="1681200"/>
              </a:tblGrid>
              <a:tr h="532080">
                <a:tc>
                  <a:txBody>
                    <a:bodyPr lIns="90000" rIns="90000" tIns="168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Содержание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Авгус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683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Сбор экспонатов и оформление экспозиций мини-музея «Весёлый клоун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Авгус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028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Посещение цирка-шапито совместно с родителям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н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683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Консультация «Музей в жизни ребенка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Август-ок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028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Изготовление экспонатов детьми и взрослым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н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299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Круглый стол «День музея в семье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н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028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мейный клуб « Самодельная игрушк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Сент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683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Работа по организации посещений экспозиций мини-музе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Ок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496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щита проекта мини-музей «Весёлый клоун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Но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2"/>
          <p:cNvSpPr/>
          <p:nvPr/>
        </p:nvSpPr>
        <p:spPr>
          <a:xfrm>
            <a:off x="1260360" y="144360"/>
            <a:ext cx="65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Семейный клу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«Самодельная игруш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454200" cy="259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347976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"/>
          <p:cNvSpPr/>
          <p:nvPr/>
        </p:nvSpPr>
        <p:spPr>
          <a:xfrm>
            <a:off x="1560600" y="144360"/>
            <a:ext cx="5927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Заключ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87280" y="996840"/>
            <a:ext cx="856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явление интереса к музеям, музей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вышение качества усвоения знаний детьми во время Н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бобщение педагогического опыта по применению музейной педагог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Использование опыта проекта в разных видах деятельност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граждение грамотами самых активных участников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2"/>
          <p:cNvSpPr/>
          <p:nvPr/>
        </p:nvSpPr>
        <p:spPr>
          <a:xfrm>
            <a:off x="216000" y="216000"/>
            <a:ext cx="8690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равила поведения в мини-муз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216000" y="892080"/>
            <a:ext cx="8640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нашем музее многие экспонаты разрешено трогать рукам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ассмотренные экспонаты нужно положить на мест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Экспонаты музея нельзя ломать и забирать домо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Можно и даже нужно задавать вопрос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71280" y="31680"/>
            <a:ext cx="899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6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1484280" y="141120"/>
            <a:ext cx="4995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раздники и развл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2"/>
          <a:stretch/>
        </p:blipFill>
        <p:spPr>
          <a:xfrm>
            <a:off x="344520" y="758880"/>
            <a:ext cx="5678280" cy="3273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3"/>
          <a:stretch/>
        </p:blipFill>
        <p:spPr>
          <a:xfrm>
            <a:off x="4103640" y="3024360"/>
            <a:ext cx="47512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1114560" y="216000"/>
            <a:ext cx="6662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ерспектива развития мини-муз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87280" y="754200"/>
            <a:ext cx="85676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полнение мини-музея наглядным материа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ведение экскурсий для других групп детского с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дбор коллекций детских мультфильмов, детских художественных фильмов, научно-познавательных фильмов о клоу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ведение праздников, развлечений и досугов «Мой весёлый клоу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На базе мини-музея или с использованием его коллекций можно проводить занятия по разным видам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-71280" y="-52560"/>
            <a:ext cx="9215280" cy="6917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4103640" y="216000"/>
            <a:ext cx="4824360" cy="6433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216000" y="1440000"/>
            <a:ext cx="3816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Ходите с нами в музе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пусть и музе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 </a:t>
            </a: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«приходят к вам!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71280" y="31680"/>
            <a:ext cx="899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6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144360" y="217440"/>
            <a:ext cx="4535640" cy="6478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3"/>
          <a:stretch/>
        </p:blipFill>
        <p:spPr>
          <a:xfrm>
            <a:off x="4751280" y="2519280"/>
            <a:ext cx="4046760" cy="2529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4730760" y="287280"/>
            <a:ext cx="41259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Результат участия в конкурсе на уровне МБДОУ «Детский сад №1 «Звёздочка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-20520" y="0"/>
            <a:ext cx="9196200" cy="6872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2"/>
          <p:cNvSpPr/>
          <p:nvPr/>
        </p:nvSpPr>
        <p:spPr>
          <a:xfrm>
            <a:off x="1085760" y="144360"/>
            <a:ext cx="67611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Используемые 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440" y="1000080"/>
            <a:ext cx="920448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1. Байдина Е.А. Мини-музей в ДОУ как средство патриотического воспитания» /Справочник старшего воспитателя. – 2013. - № 2. - С. 32-37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2. Малюшова, Н. Здравствуй, музей [Текст] / Н. Малюшова // Дошкольное воспитание. -2009. - N11. - С. 24-2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3. Рыжова Н., Логинова Л., Данюкова А. Мини-музей в детском саду. М: Линка-Пресс, 2008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4. Трунова, М. Секреты музейной педагогики: из опыта работы // Дошкольное воспитание. - 2006. - N 4. - С. 38-4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5. Чумалова, Т. Музейная педагогика для дошкольников // Дошкольное воспитание. - 2007. - N 10. - С. 44-50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6. Чумалова, Т. Основные принципы музейной педагогики: путешествие на машине времени // Дошкольное воспитание. - 2008. - N 3. - С. 58-63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03280" y="576360"/>
            <a:ext cx="7991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Клоун в цирке каждый вечер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Сколько радости от встречи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Балагурит и хохочет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Рассмешит, кого захочет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71280" y="71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44360" y="1201680"/>
            <a:ext cx="892836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-73080" y="-52560"/>
            <a:ext cx="9215640" cy="69170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216000" y="225360"/>
            <a:ext cx="8640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Основные характеристики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16000" y="1065240"/>
            <a:ext cx="864072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Тип проекта –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творчески-игров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Продолжительность –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долгосро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Возраст детей –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младший дошкольный</a:t>
            </a:r>
            <a:r>
              <a:rPr b="0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возра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"/>
          <p:cNvSpPr/>
          <p:nvPr/>
        </p:nvSpPr>
        <p:spPr>
          <a:xfrm>
            <a:off x="2347920" y="247680"/>
            <a:ext cx="3771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16000" y="1130400"/>
            <a:ext cx="8712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связи с модернизацией образования встает вопрос о необходимости выбора методов и организационных форм образовательно-воспитательного процесса, позволяющей современному ребенку вести диалог с наследиями веков в одухотворенном предметном мире, созданном человеком. Именно музейная педагогика является одной из инновационных технологий воспитания детей, создающая условия погружения личности в специально организованную предметно-пространственную среду в рамках ФГОС. Еще известные русские философы, искусствоведы, педагоги начала  двадцатого века (Н. Федоров, П.А. Флоренский, Ф. Шмит, А.В. Бакушинский) придавали огромное значение образовательной, воспитательной, эстетической и духовной функциям музе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Тему экспозиции мини-музея "Весёлый клоун» мы выбрали не случайно.  В условиях тревожного современного мира, нестабильной политической ситуации, катастроф, разрушений, терроризма хочется вызвать положительные эмоции у детей. А в триаде “воспитатель-ребенок-родитель” складываются партнерские взаимоотношения, основанные на доверии и сотрудничест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"/>
          <p:cNvPicPr/>
          <p:nvPr/>
        </p:nvPicPr>
        <p:blipFill>
          <a:blip r:embed="rId1"/>
          <a:stretch/>
        </p:blipFill>
        <p:spPr>
          <a:xfrm>
            <a:off x="0" y="-58680"/>
            <a:ext cx="9215280" cy="69166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2"/>
          <p:cNvSpPr/>
          <p:nvPr/>
        </p:nvSpPr>
        <p:spPr>
          <a:xfrm>
            <a:off x="1893960" y="216000"/>
            <a:ext cx="59180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11120" y="1008000"/>
            <a:ext cx="808524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рмирование познавательных интересов дошкольников путем использования различных видов наглядност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3384720" y="247680"/>
            <a:ext cx="1957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-42840" y="936720"/>
            <a:ext cx="91155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Расширять кругозор детей с помощью информационной и экскурсион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влекать родителей к культурно —досуговой  деятельности детского с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Обогащать предметно-развивающую среду детского с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Через игрушку знакомить с историей и традициями на Рус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Включать родителей и детей в поисково-исследовательскую работ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Сбор информации по заданной тем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Развивать познавательную активность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общать дошкольников к общечеловеческим ценностя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Воспитывать у детей интерес к культуре своих предков, культуре предков России и ми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Воспитывать у дошкольников представлений о взаимосвязях разных культ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"/>
          <p:cNvSpPr/>
          <p:nvPr/>
        </p:nvSpPr>
        <p:spPr>
          <a:xfrm>
            <a:off x="287280" y="285840"/>
            <a:ext cx="8566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В основу этих задач положены следующ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ринци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87280" y="1351080"/>
            <a:ext cx="85676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нцип учета возрастных особенностей дошкольник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нцип опоры на интересы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осуществления взаимодействия воспитателя с детьми при руководящей роли взросл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нагляд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последова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сотрудничества и взаимоуваж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"/>
          <p:cNvSpPr/>
          <p:nvPr/>
        </p:nvSpPr>
        <p:spPr>
          <a:xfrm>
            <a:off x="2028960" y="174600"/>
            <a:ext cx="45226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Новизна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60360" y="936720"/>
            <a:ext cx="8423280" cy="31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использовании музейной педагогики, котора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пособствует расширению кругозора  ребёнка и взрослого, повышению образованности, воспитанности, приобщению к вечным ценностям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- В возможности применения материалов другими педагога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- В создании творческого взаимодействия взрослых и дет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6:37:27Z</dcterms:created>
  <dc:creator>Admin</dc:creator>
  <dc:description/>
  <cp:keywords/>
  <dc:language>en-US</dc:language>
  <cp:lastModifiedBy>admin</cp:lastModifiedBy>
  <dcterms:modified xsi:type="dcterms:W3CDTF">2017-02-09T11:04:06Z</dcterms:modified>
  <cp:revision>34</cp:revision>
  <dc:subject/>
  <dc:title>                                                                                                              Дети должны жить                                                                                                               в мире красоты, игры,                                                                                                                сказки, музыки, рисунка,                                                                                                               фантазии, творчества.                                                                                                                           Сухомлинский В.А.</dc:title>
</cp:coreProperties>
</file>