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1"/>
          <p:cNvSpPr/>
          <p:nvPr/>
        </p:nvSpPr>
        <p:spPr>
          <a:xfrm>
            <a:off x="0" y="0"/>
            <a:ext cx="6807240" cy="9825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825120"/>
              <a:gd name="textAreaBottom" fmla="*/ 9824760 h 9825120"/>
            </a:gdLst>
            <a:ahLst/>
            <a:rect l="textAreaLeft" t="textAreaTop" r="textAreaRight" b="textAreaBottom"/>
            <a:pathLst>
              <a:path w="21600" h="31176">
                <a:moveTo>
                  <a:pt x="5" y="0"/>
                </a:moveTo>
                <a:arcTo wR="5" hR="5" stAng="16200000" swAng="-5400000"/>
                <a:lnTo>
                  <a:pt x="0" y="31171"/>
                </a:lnTo>
                <a:arcTo wR="5" hR="5" stAng="10800000" swAng="-5400000"/>
                <a:lnTo>
                  <a:pt x="21595" y="311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647280" y="826920"/>
            <a:ext cx="55069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47280" y="4300560"/>
            <a:ext cx="550692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512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0"/>
          </p:nvPr>
        </p:nvSpPr>
        <p:spPr>
          <a:xfrm>
            <a:off x="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11"/>
          </p:nvPr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3AFA3-1075-44FA-9169-598A8BF928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A715D-3848-4B0B-8125-118D677654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70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B6FAA-8294-4A65-BF64-8F934227DB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97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8A8BD-E947-4BCF-AE9D-BB3B44A503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00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9F397-7703-4C8E-9D5D-FD8386888C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03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3F676-47A4-4053-8366-72DED9B33C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06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64944-A66A-4E62-998C-0FA0C90CFC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09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4AAB1-B279-4789-B1A8-0719E3D210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12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8B124-8663-4681-9556-4CFC7541C8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15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45FDA-DCE1-4BA8-97E3-B7AB1F4658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18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300AE-5657-4616-89D7-038574303E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05360" cy="3679920"/>
          </a:xfrm>
          <a:prstGeom prst="rect">
            <a:avLst/>
          </a:prstGeom>
          <a:ln w="0">
            <a:noFill/>
          </a:ln>
        </p:spPr>
      </p:sp>
      <p:sp>
        <p:nvSpPr>
          <p:cNvPr id="421" name="Text Box 2"/>
          <p:cNvSpPr/>
          <p:nvPr/>
        </p:nvSpPr>
        <p:spPr>
          <a:xfrm>
            <a:off x="681120" y="4665600"/>
            <a:ext cx="544176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A4F4D-2EC1-40C7-9556-AA25C072E7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424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CD7BB-4914-4942-BB96-3D3FC95714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73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F30BA-5B59-4C11-9BE9-C244948730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05360" cy="3679920"/>
          </a:xfrm>
          <a:prstGeom prst="rect">
            <a:avLst/>
          </a:prstGeom>
          <a:ln w="0">
            <a:noFill/>
          </a:ln>
        </p:spPr>
      </p:sp>
      <p:sp>
        <p:nvSpPr>
          <p:cNvPr id="427" name="Text Box 2"/>
          <p:cNvSpPr/>
          <p:nvPr/>
        </p:nvSpPr>
        <p:spPr>
          <a:xfrm>
            <a:off x="681120" y="4665600"/>
            <a:ext cx="544176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BDEF3-0F67-48FB-A810-878C86C97D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95280" y="826920"/>
            <a:ext cx="4213440" cy="31608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47640" y="4300200"/>
            <a:ext cx="550872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E7439-885F-48E2-8B27-8119957A5B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76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058E0-FB4E-43F3-A622-64A355C6A3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0040" cy="3681360"/>
          </a:xfrm>
          <a:prstGeom prst="rect">
            <a:avLst/>
          </a:prstGeom>
          <a:ln w="0">
            <a:noFill/>
          </a:ln>
        </p:spPr>
      </p:sp>
      <p:sp>
        <p:nvSpPr>
          <p:cNvPr id="379" name="Text Box 2"/>
          <p:cNvSpPr/>
          <p:nvPr/>
        </p:nvSpPr>
        <p:spPr>
          <a:xfrm>
            <a:off x="681120" y="4665600"/>
            <a:ext cx="54435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09876-A425-48FD-9255-264ACDE2E8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82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4E2EF-1E56-445C-94E7-FA306F1D88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85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42EB2-31FF-42EC-8C77-9DC0644F35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88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7ACF8-860B-4736-8842-0651DF04AE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91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52720" y="9333000"/>
            <a:ext cx="29512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6468A-39F8-4D14-B406-875C9E1667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93840" y="826920"/>
            <a:ext cx="4218120" cy="3162600"/>
          </a:xfrm>
          <a:prstGeom prst="rect">
            <a:avLst/>
          </a:prstGeom>
          <a:ln w="0">
            <a:noFill/>
          </a:ln>
        </p:spPr>
      </p:sp>
      <p:sp>
        <p:nvSpPr>
          <p:cNvPr id="394" name="Text Box 2"/>
          <p:cNvSpPr/>
          <p:nvPr/>
        </p:nvSpPr>
        <p:spPr>
          <a:xfrm>
            <a:off x="647640" y="4300560"/>
            <a:ext cx="55101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A3A2-6852-48D0-8B71-57FBA516B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EDFB-67CB-4C4D-8612-DC110A05C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38F9-9300-4447-93A1-AE1D842F9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FF7C-33CB-496E-8921-6653F1AD1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090F-1281-46B2-849D-CD089B229E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5286-21A4-4282-93B5-4CFD9C657D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DC00-D442-4366-A9FE-AACCADDFD1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76C7-70A5-46E1-B055-D9DA2A0C37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EC75-40AF-4D28-B7E4-83C093F8BE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2E1AF-014E-4729-B7ED-4748533E34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FA76-489D-4F68-8D3C-931C9CC76B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B090-0B39-46ED-9DBD-D4CF38B4A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1D98-6CF8-49AA-BCE0-A2E08576AE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4028-6D21-4237-BF3D-EBAD9DD88B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3560-A289-4535-883C-5BD3CCB245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165F-9159-4865-9EA3-984A2BF84E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4CB7-35F4-4F63-8676-D0CE034BB6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640C9-0F28-4EE6-9F3C-52D79F31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00F8E-B0FC-4D32-BE83-75A86479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773B3-3FE4-4E64-867C-109C1B48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E6B8-1814-4B71-818E-1B3BA0CA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88C3D-A0B2-45F9-8B6C-17388D6F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AB83-D8EC-4235-9890-1DB69507D4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0CFCB-CB4C-4987-A960-1A253BD6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67A2B-5F7B-494B-A54B-5A2BC6A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78CC0-FF1F-466D-BB27-8F43F85F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56B84-92D0-41D1-9B21-69D20263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25FE1-BE82-4B55-9DFF-3F22147D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05C3C-0B8D-43DA-8E05-3CB863AB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285C4-08EE-4246-AA9C-8C0584E4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9C34-45A9-4BC1-B55D-6C514479F1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1C51-E960-4421-9001-B568FA38259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D7F8-9C82-4406-8016-4193225C43F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9C9EF-90E5-4AE5-BE74-D460C217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7A5C0-43FB-4FF2-8BB4-6859156E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EB850-562B-4EC0-AD77-31D8D185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D35A4-FBF4-41A5-9A6A-0A537CD2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A7C56-1943-46BC-8264-02FAB075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69880" y="260280"/>
            <a:ext cx="7345440" cy="52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3D53D-6A9F-4CF7-AD8E-2CD4A729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68304-E993-4FDF-B667-BB2C0388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ACA70-4C04-42A3-984A-95B66E4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7295B-2B96-4C91-A7D7-2D35919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4D7A-E865-4C5E-86E7-B1D70456E4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CE672-F2C6-487B-8A78-12B44DA4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73CA7-5CEF-4A7D-BDAC-619F6470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95352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6800" y="16538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46988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95352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6800" y="3729240"/>
            <a:ext cx="23648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746A0-F627-4640-A55D-2653D08C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34040" y="37292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F157-60D7-40D5-85B7-BD001D410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6988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34040" y="1653840"/>
            <a:ext cx="35845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69880" y="3729240"/>
            <a:ext cx="73454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285E-F4E4-42A9-8A30-9A7BC218B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7240" cy="6845400"/>
            <a:chOff x="0" y="0"/>
            <a:chExt cx="9147240" cy="6845400"/>
          </a:xfrm>
        </p:grpSpPr>
        <p:sp>
          <p:nvSpPr>
            <p:cNvPr id="1" name="Rectangle 2"/>
            <p:cNvSpPr/>
            <p:nvPr/>
          </p:nvSpPr>
          <p:spPr>
            <a:xfrm>
              <a:off x="8305920" y="1440"/>
              <a:ext cx="825480" cy="6843960"/>
            </a:xfrm>
            <a:prstGeom prst="rect">
              <a:avLst/>
            </a:prstGeom>
            <a:gradFill rotWithShape="0">
              <a:gsLst>
                <a:gs pos="0">
                  <a:srgbClr val="4f627e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1676520" y="0"/>
              <a:ext cx="2919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2743200" y="0"/>
              <a:ext cx="67320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3581280" y="0"/>
              <a:ext cx="368280" cy="68454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133720" y="0"/>
              <a:ext cx="59688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762120" y="0"/>
              <a:ext cx="90144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57200" y="0"/>
              <a:ext cx="2919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0" y="0"/>
              <a:ext cx="44460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f52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3429000" y="0"/>
              <a:ext cx="36828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419720" y="0"/>
              <a:ext cx="8254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1981080" y="0"/>
              <a:ext cx="216000" cy="68454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5238720" y="0"/>
              <a:ext cx="387360" cy="68454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391520" y="0"/>
              <a:ext cx="21564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15200" y="0"/>
              <a:ext cx="1054080" cy="68454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5562720" y="0"/>
              <a:ext cx="9777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6095880" y="0"/>
              <a:ext cx="8254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6934320" y="0"/>
              <a:ext cx="3682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19"/>
            <p:cNvSpPr/>
            <p:nvPr/>
          </p:nvSpPr>
          <p:spPr>
            <a:xfrm>
              <a:off x="4254480" y="0"/>
              <a:ext cx="22860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0"/>
            <p:cNvSpPr/>
            <p:nvPr/>
          </p:nvSpPr>
          <p:spPr>
            <a:xfrm>
              <a:off x="3755880" y="0"/>
              <a:ext cx="52092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1440" y="6151680"/>
              <a:ext cx="9131400" cy="69372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0" y="6138720"/>
              <a:ext cx="9147240" cy="263520"/>
            </a:xfrm>
            <a:custGeom>
              <a:avLst/>
              <a:gdLst>
                <a:gd name="textAreaLeft" fmla="*/ 0 w 9147240"/>
                <a:gd name="textAreaRight" fmla="*/ 9147600 w 91472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7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70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Text Box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211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C6DBC9-2FE9-4040-8649-C7231A4AA16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Text Box 2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"/>
          <p:cNvGrpSpPr/>
          <p:nvPr/>
        </p:nvGrpSpPr>
        <p:grpSpPr>
          <a:xfrm>
            <a:off x="0" y="0"/>
            <a:ext cx="9147240" cy="6845400"/>
            <a:chOff x="0" y="0"/>
            <a:chExt cx="9147240" cy="6845400"/>
          </a:xfrm>
        </p:grpSpPr>
        <p:sp>
          <p:nvSpPr>
            <p:cNvPr id="64" name="Rectangle 2"/>
            <p:cNvSpPr/>
            <p:nvPr/>
          </p:nvSpPr>
          <p:spPr>
            <a:xfrm>
              <a:off x="8305920" y="1440"/>
              <a:ext cx="825480" cy="6843960"/>
            </a:xfrm>
            <a:prstGeom prst="rect">
              <a:avLst/>
            </a:prstGeom>
            <a:gradFill rotWithShape="0">
              <a:gsLst>
                <a:gs pos="0">
                  <a:srgbClr val="4f627e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3"/>
            <p:cNvSpPr/>
            <p:nvPr/>
          </p:nvSpPr>
          <p:spPr>
            <a:xfrm>
              <a:off x="1676520" y="0"/>
              <a:ext cx="2919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2743200" y="0"/>
              <a:ext cx="67320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3581280" y="0"/>
              <a:ext cx="368280" cy="68454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2133720" y="0"/>
              <a:ext cx="59688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762120" y="0"/>
              <a:ext cx="90144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457200" y="0"/>
              <a:ext cx="2919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0" y="0"/>
              <a:ext cx="44460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f52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3429000" y="0"/>
              <a:ext cx="36828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4419720" y="0"/>
              <a:ext cx="8254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1981080" y="0"/>
              <a:ext cx="216000" cy="68454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5238720" y="0"/>
              <a:ext cx="387360" cy="68454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7391520" y="0"/>
              <a:ext cx="21564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7315200" y="0"/>
              <a:ext cx="1054080" cy="68454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5562720" y="0"/>
              <a:ext cx="97776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6095880" y="0"/>
              <a:ext cx="8254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6934320" y="0"/>
              <a:ext cx="36828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4254480" y="0"/>
              <a:ext cx="228600" cy="68454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3755880" y="0"/>
              <a:ext cx="520920" cy="68454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1440" y="6151680"/>
              <a:ext cx="9131400" cy="69372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0" y="6138720"/>
              <a:ext cx="9147240" cy="263520"/>
            </a:xfrm>
            <a:custGeom>
              <a:avLst/>
              <a:gdLst>
                <a:gd name="textAreaLeft" fmla="*/ 0 w 9147240"/>
                <a:gd name="textAreaRight" fmla="*/ 9147600 w 91472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7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70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11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958CE6-702B-434D-ACB5-2F3FCC1C509F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3"/>
          </p:nvPr>
        </p:nvSpPr>
        <p:spPr>
          <a:xfrm>
            <a:off x="45684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4"/>
          </p:nvPr>
        </p:nvSpPr>
        <p:spPr>
          <a:xfrm>
            <a:off x="3126960" y="6246360"/>
            <a:ext cx="28875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5"/>
          </p:nvPr>
        </p:nvSpPr>
        <p:spPr>
          <a:xfrm>
            <a:off x="6555960" y="62463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57DE6E-2D32-4C25-9752-D6D441202B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-31680" y="0"/>
            <a:ext cx="9240840" cy="6891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 fontScale="98000"/>
          </a:bodyPr>
          <a:p>
            <a:pPr marL="335880" indent="0"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Click to edit the outline text format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1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econd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2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Third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3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Four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4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Fif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5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ix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  <a:p>
            <a:pPr lvl="6" marL="335880" indent="-335880" algn="ctr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666666"/>
                </a:solidFill>
                <a:latin typeface="DejaVu Sans"/>
              </a:rPr>
              <a:t>Seventh Outline Level</a:t>
            </a:r>
            <a:endParaRPr b="0" lang="en-US" sz="2900" spc="-1" strike="noStrike">
              <a:solidFill>
                <a:srgbClr val="666666"/>
              </a:solidFill>
              <a:latin typeface="DejaVu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357120" y="285840"/>
            <a:ext cx="8499600" cy="6213240"/>
          </a:xfrm>
          <a:custGeom>
            <a:avLst/>
            <a:gdLst>
              <a:gd name="textAreaLeft" fmla="*/ 0 w 8499600"/>
              <a:gd name="textAreaRight" fmla="*/ 8499960 w 8499600"/>
              <a:gd name="textAreaTop" fmla="*/ 0 h 6213240"/>
              <a:gd name="textAreaBottom" fmla="*/ 6213600 h 6213240"/>
            </a:gdLst>
            <a:ahLst/>
            <a:rect l="textAreaLeft" t="textAreaTop" r="textAreaRight" b="textAreaBottom"/>
            <a:pathLst>
              <a:path w="8499475" h="6213475">
                <a:moveTo>
                  <a:pt x="0" y="0"/>
                </a:moveTo>
                <a:lnTo>
                  <a:pt x="0" y="0"/>
                </a:lnTo>
                <a:lnTo>
                  <a:pt x="180" y="90"/>
                </a:lnTo>
                <a:lnTo>
                  <a:pt x="23611" y="0"/>
                </a:lnTo>
                <a:lnTo>
                  <a:pt x="0" y="0"/>
                </a:lnTo>
                <a:lnTo>
                  <a:pt x="270" y="90"/>
                </a:lnTo>
                <a:lnTo>
                  <a:pt x="23611" y="172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57d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71280" y="71280"/>
            <a:ext cx="199872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357120" y="285840"/>
            <a:ext cx="8499600" cy="6213240"/>
          </a:xfrm>
          <a:custGeom>
            <a:avLst/>
            <a:gdLst>
              <a:gd name="textAreaLeft" fmla="*/ 0 w 8499600"/>
              <a:gd name="textAreaRight" fmla="*/ 8499960 w 8499600"/>
              <a:gd name="textAreaTop" fmla="*/ 0 h 6213240"/>
              <a:gd name="textAreaBottom" fmla="*/ 6213600 h 6213240"/>
            </a:gdLst>
            <a:ahLst/>
            <a:rect l="textAreaLeft" t="textAreaTop" r="textAreaRight" b="textAreaBottom"/>
            <a:pathLst>
              <a:path w="8499475" h="6213475">
                <a:moveTo>
                  <a:pt x="0" y="0"/>
                </a:moveTo>
                <a:lnTo>
                  <a:pt x="0" y="0"/>
                </a:lnTo>
                <a:lnTo>
                  <a:pt x="180" y="90"/>
                </a:lnTo>
                <a:lnTo>
                  <a:pt x="23611" y="0"/>
                </a:lnTo>
                <a:lnTo>
                  <a:pt x="0" y="0"/>
                </a:lnTo>
                <a:lnTo>
                  <a:pt x="270" y="90"/>
                </a:lnTo>
                <a:lnTo>
                  <a:pt x="23611" y="172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57d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71280" y="71280"/>
            <a:ext cx="1998720" cy="1998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69880" y="260280"/>
            <a:ext cx="7345440" cy="11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469880" y="1653840"/>
            <a:ext cx="7345440" cy="397332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1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2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3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4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5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  <a:p>
            <a:pPr lvl="6" marL="288000" indent="-28800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6"/>
          </p:nvPr>
        </p:nvSpPr>
        <p:spPr>
          <a:xfrm>
            <a:off x="143640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7"/>
          </p:nvPr>
        </p:nvSpPr>
        <p:spPr>
          <a:xfrm>
            <a:off x="3616200" y="6246720"/>
            <a:ext cx="28958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8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682F88-EA18-43AA-8C4B-D8EFC85D3FC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-71280" y="-52560"/>
            <a:ext cx="9215280" cy="69170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"/>
          <p:cNvSpPr/>
          <p:nvPr/>
        </p:nvSpPr>
        <p:spPr>
          <a:xfrm>
            <a:off x="287280" y="235080"/>
            <a:ext cx="8350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Муниципальное бюджетное дошкольное образовательное учрежд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           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DejaVu Sans"/>
              </a:rPr>
              <a:t>«Детский сад № 1 «Звёздоч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06200" y="647640"/>
            <a:ext cx="89935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едагогический проек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Музейная педагоги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Актуальность, современность, перспектив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  <a:ea typeface="DejaVu Sans"/>
              </a:rPr>
              <a:t>мини-муз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Times New Roman"/>
                <a:ea typeface="DejaVu Sans"/>
              </a:rPr>
              <a:t>«</a:t>
            </a:r>
            <a:r>
              <a:rPr b="0" lang="ru-RU" sz="6000" spc="-1" strike="noStrike">
                <a:solidFill>
                  <a:srgbClr val="cc0000"/>
                </a:solidFill>
                <a:latin typeface="Times New Roman"/>
                <a:ea typeface="DejaVu Sans"/>
              </a:rPr>
              <a:t>	</a:t>
            </a:r>
            <a:r>
              <a:rPr b="0" lang="ru-RU" sz="6000" spc="-1" strike="noStrike">
                <a:solidFill>
                  <a:srgbClr val="cc0000"/>
                </a:solidFill>
                <a:latin typeface="Times New Roman"/>
                <a:ea typeface="DejaVu Sans"/>
              </a:rPr>
              <a:t>ВЕСЁЛЫЙ КЛОУН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887640" y="5472000"/>
            <a:ext cx="49672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Автор проекта: воспитатель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                               </a:t>
            </a: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Толстова И.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"/>
          <p:cNvSpPr/>
          <p:nvPr/>
        </p:nvSpPr>
        <p:spPr>
          <a:xfrm>
            <a:off x="1738440" y="144360"/>
            <a:ext cx="69372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Участники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44360" y="936720"/>
            <a:ext cx="85680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Руководитель проекта: </a:t>
            </a:r>
            <a:r>
              <a:rPr b="0" i="1" lang="ru-RU" sz="3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Толстова И.Е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Воспитанник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i="1" lang="ru-RU" sz="3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группы № 2 «Божьи                                       коровк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Родите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Коллег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Дарители</a:t>
            </a:r>
            <a:r>
              <a:rPr b="0" i="1" lang="ru-RU" sz="3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 семейных коллек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7920" y="1440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863640" y="144360"/>
            <a:ext cx="7386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Этапы создания мини-музе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71280" y="932040"/>
            <a:ext cx="9072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DejaVu Sans"/>
              </a:rPr>
              <a:t>Подготовительный этап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 —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пределение темы, разработка  цели и задач,  сбор информации, использование компьютерных технологий, подбор художественной литературы и  иллюстративного материала,  заготовки экспона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DejaVu Sans"/>
              </a:rPr>
              <a:t>Основной этап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оведение игр, наблюдений, бесед с детьми (как групповых, так и индивидуальных). Совместная деятельность воспитателей, детей, их родителей. Оформление выставок поделок и рисунков «Весёлые клоуны». Подготовка консультаций для родителей по данной тематике. Создание фото галереи мини-музе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DejaVu Sans"/>
              </a:rPr>
              <a:t>Заключительный эта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подведение  итогов. Участие в конкурсе «Мини-музеи ДО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" descr=""/>
          <p:cNvPicPr/>
          <p:nvPr/>
        </p:nvPicPr>
        <p:blipFill>
          <a:blip r:embed="rId1"/>
          <a:stretch/>
        </p:blipFill>
        <p:spPr>
          <a:xfrm>
            <a:off x="7920" y="1440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2"/>
          <p:cNvSpPr/>
          <p:nvPr/>
        </p:nvSpPr>
        <p:spPr>
          <a:xfrm>
            <a:off x="1009800" y="247680"/>
            <a:ext cx="68389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ланируемые результа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71280" y="1069920"/>
            <a:ext cx="90727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рганизация познавательно-исследовательской деятельности в рамках мини-музея будет осуществляться чере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формирование и организацию коллекций, создание экспозиц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совместную исследовательскую и творческую деятельность, чувственного восприятия (сенсорный опы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использование метода проектов в образовательной работе с деть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организацию выставок, экскурсий, занятий, тематических вечеров и музейных   праздн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взаимодействие музея с предметно-развивающей средой групп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* организацию встреч с интересными людь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Благодаря эффективным формам и методам мини-музей станет местом познания, исследования, общения и совместного творчества педагогов, детей и род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2"/>
          <p:cNvSpPr/>
          <p:nvPr/>
        </p:nvSpPr>
        <p:spPr>
          <a:xfrm>
            <a:off x="1224000" y="103320"/>
            <a:ext cx="63640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одготовительный эта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87280" y="765000"/>
            <a:ext cx="856764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 начале работы коллектив группы (дети, воспитатели) вместе с родителями определили тему и название мини-музея, разработали его модель, выбрали место для его размещ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Методическая служба детского сада разработала критерии конкурса на лучший мини-муз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Родителям было предложено обсудить, что такое музей, для чего он создаётся, для чего его посещают люди и т.д. , по возможности посетить с детьми муз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" descr=""/>
          <p:cNvPicPr/>
          <p:nvPr/>
        </p:nvPicPr>
        <p:blipFill>
          <a:blip r:embed="rId1"/>
          <a:stretch/>
        </p:blipFill>
        <p:spPr>
          <a:xfrm>
            <a:off x="7920" y="1440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"/>
          <p:cNvSpPr/>
          <p:nvPr/>
        </p:nvSpPr>
        <p:spPr>
          <a:xfrm>
            <a:off x="2448000" y="287280"/>
            <a:ext cx="39495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Основной эта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-41400" y="1101600"/>
          <a:ext cx="9153720" cy="5792760"/>
        </p:xfrm>
        <a:graphic>
          <a:graphicData uri="http://schemas.openxmlformats.org/drawingml/2006/table">
            <a:tbl>
              <a:tblPr/>
              <a:tblGrid>
                <a:gridCol w="7472520"/>
                <a:gridCol w="1681200"/>
              </a:tblGrid>
              <a:tr h="532080">
                <a:tc>
                  <a:txBody>
                    <a:bodyPr lIns="90000" rIns="90000" tIns="168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Содержание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Авгус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86832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Сбор экспонатов и оформление экспозиций мини-музея «Весёлый клоун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Авгус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028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Посещение цирка-шапито совместно с родителям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Сент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6832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Консультация «Музей в жизни ребенка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Август-окт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028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Изготовление экспонатов детьми и взрослым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Сент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52992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Круглый стол «День музея в семье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Сент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028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Семейный клуб « Самодельная игрушк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Сентябр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6832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Работа по организации посещений экспозиций мини-музе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Окт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4960"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щита проекта мини-музей «Весёлый клоун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6848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roid Sans Fallback"/>
                        </a:rPr>
                        <a:t>Ноябр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2"/>
          <p:cNvSpPr/>
          <p:nvPr/>
        </p:nvSpPr>
        <p:spPr>
          <a:xfrm>
            <a:off x="1260360" y="144360"/>
            <a:ext cx="65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Семейный клу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«Самодельная игрушк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454200" cy="2592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3"/>
          <a:stretch/>
        </p:blipFill>
        <p:spPr>
          <a:xfrm>
            <a:off x="4932360" y="3141720"/>
            <a:ext cx="347976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2"/>
          <p:cNvSpPr/>
          <p:nvPr/>
        </p:nvSpPr>
        <p:spPr>
          <a:xfrm>
            <a:off x="1560600" y="144360"/>
            <a:ext cx="5927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Заключительный эта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287280" y="996840"/>
            <a:ext cx="8567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явление интереса к музеям, музей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вышение качества усвоения знаний детьми во время Н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бобщение педагогического опыта по применению музейной педагог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Использование опыта проекта в разных видах деятельности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аграждение грамотами самых активных участников про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2"/>
          <p:cNvSpPr/>
          <p:nvPr/>
        </p:nvSpPr>
        <p:spPr>
          <a:xfrm>
            <a:off x="216000" y="216000"/>
            <a:ext cx="8690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равила поведения в мини-музе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216000" y="892080"/>
            <a:ext cx="8640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 нашем музее многие экспонаты разрешено трогать рукам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Рассмотренные экспонаты нужно положить на место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Экспонаты музея нельзя ломать и забирать домо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Можно и даже нужно задавать вопрос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71280" y="31680"/>
            <a:ext cx="8999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6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"/>
          <p:cNvSpPr/>
          <p:nvPr/>
        </p:nvSpPr>
        <p:spPr>
          <a:xfrm>
            <a:off x="1484280" y="141120"/>
            <a:ext cx="4995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раздники и развле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2"/>
          <a:stretch/>
        </p:blipFill>
        <p:spPr>
          <a:xfrm>
            <a:off x="344520" y="758880"/>
            <a:ext cx="5678280" cy="3273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3"/>
          <a:stretch/>
        </p:blipFill>
        <p:spPr>
          <a:xfrm>
            <a:off x="4103640" y="3024360"/>
            <a:ext cx="47512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2"/>
          <p:cNvSpPr/>
          <p:nvPr/>
        </p:nvSpPr>
        <p:spPr>
          <a:xfrm>
            <a:off x="1114560" y="216000"/>
            <a:ext cx="6662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ерспектива развития мини-муз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87280" y="754200"/>
            <a:ext cx="85676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полнение мини-музея наглядным материа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роведение экскурсий для других групп детского са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дбор коллекций детских мультфильмов, детских художественных фильмов, научно-познавательных фильмов о клоу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роведение праздников, развлечений и досугов «Мой весёлый клоу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На базе мини-музея или с использованием его коллекций можно проводить занятия по разным видам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" descr=""/>
          <p:cNvPicPr/>
          <p:nvPr/>
        </p:nvPicPr>
        <p:blipFill>
          <a:blip r:embed="rId1"/>
          <a:stretch/>
        </p:blipFill>
        <p:spPr>
          <a:xfrm>
            <a:off x="-71280" y="-52560"/>
            <a:ext cx="9215280" cy="6917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"/>
          <p:cNvPicPr/>
          <p:nvPr/>
        </p:nvPicPr>
        <p:blipFill>
          <a:blip r:embed="rId2"/>
          <a:stretch/>
        </p:blipFill>
        <p:spPr>
          <a:xfrm>
            <a:off x="4103640" y="216000"/>
            <a:ext cx="4824360" cy="6433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216000" y="1440000"/>
            <a:ext cx="3816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Ходите с нами в музеи;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пусть и музе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 </a:t>
            </a: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«приходят к вам!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71280" y="31680"/>
            <a:ext cx="8999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6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144360" y="217440"/>
            <a:ext cx="4535640" cy="6478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3"/>
          <a:stretch/>
        </p:blipFill>
        <p:spPr>
          <a:xfrm>
            <a:off x="4751280" y="2519280"/>
            <a:ext cx="4046760" cy="2529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4730760" y="287280"/>
            <a:ext cx="412596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Результат участия в конкурсе на уровне МБДОУ «Детский сад №1 «Звёздочка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-20520" y="0"/>
            <a:ext cx="9196200" cy="68724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2"/>
          <p:cNvSpPr/>
          <p:nvPr/>
        </p:nvSpPr>
        <p:spPr>
          <a:xfrm>
            <a:off x="1085760" y="144360"/>
            <a:ext cx="67611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Используемые источ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440" y="1000080"/>
            <a:ext cx="920448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1. Байдина Е.А. Мини-музей в ДОУ как средство патриотического воспитания» /Справочник старшего воспитателя. – 2013. - № 2. - С. 32-37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2. Малюшова, Н. Здравствуй, музей [Текст] / Н. Малюшова // Дошкольное воспитание. -2009. - N11. - С. 24-29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3. Рыжова Н., Логинова Л., Данюкова А. Мини-музей в детском саду. М: Линка-Пресс, 2008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4. Трунова, М. Секреты музейной педагогики: из опыта работы // Дошкольное воспитание. - 2006. - N 4. - С. 38-4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5. Чумалова, Т. Музейная педагогика для дошкольников // Дошкольное воспитание. - 2007. - N 10. - С. 44-50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6. Чумалова, Т. Основные принципы музейной педагогики: путешествие на машине времени // Дошкольное воспитание. - 2008. - N 3. - С. 58-63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03280" y="576360"/>
            <a:ext cx="79912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Клоун в цирке каждый вечер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Сколько радости от встречи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Балагурит и хохочет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roid Sans Fallback"/>
              </a:rPr>
              <a:t>Рассмешит, кого захочет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71280" y="71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144360" y="1201680"/>
            <a:ext cx="892836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-73080" y="-52560"/>
            <a:ext cx="9215640" cy="69170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216000" y="225360"/>
            <a:ext cx="86407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Основные характеристики проек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16000" y="1065240"/>
            <a:ext cx="864072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Тип проекта –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 </a:t>
            </a:r>
            <a:r>
              <a:rPr b="0" i="1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DejaVu Sans"/>
              </a:rPr>
              <a:t>творчески-игров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Продолжительность –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 </a:t>
            </a:r>
            <a:r>
              <a:rPr b="0" i="1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DejaVu Sans"/>
              </a:rPr>
              <a:t>долгосро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DejaVu Sans"/>
              </a:rPr>
              <a:t>Возраст детей – </a:t>
            </a:r>
            <a:r>
              <a:rPr b="0" i="1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DejaVu Sans"/>
              </a:rPr>
              <a:t>младший дошкольный</a:t>
            </a:r>
            <a:r>
              <a:rPr b="0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DejaVu Sans"/>
              </a:rPr>
              <a:t> </a:t>
            </a:r>
            <a:r>
              <a:rPr b="0" i="1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DejaVu Sans"/>
              </a:rPr>
              <a:t>возра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2"/>
          <p:cNvSpPr/>
          <p:nvPr/>
        </p:nvSpPr>
        <p:spPr>
          <a:xfrm>
            <a:off x="2347920" y="247680"/>
            <a:ext cx="3771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216000" y="1130400"/>
            <a:ext cx="8712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 связи с модернизацией образования встает вопрос о необходимости выбора методов и организационных форм образовательно-воспитательного процесса, позволяющей современному ребенку вести диалог с наследиями веков в одухотворенном предметном мире, созданном человеком. Именно музейная педагогика является одной из инновационных технологий воспитания детей, создающая условия погружения личности в специально организованную предметно-пространственную среду в рамках ФГОС. Еще известные русские философы, искусствоведы, педагоги начала  двадцатого века (Н. Федоров, П.А. Флоренский, Ф. Шмит, А.В. Бакушинский) придавали огромное значение образовательной, воспитательной, эстетической и духовной функциям музе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Тему экспозиции мини-музея "Весёлый клоун» мы выбрали не случайно.  В условиях тревожного современного мира, нестабильной политической ситуации, катастроф, разрушений, терроризма хочется вызвать положительные эмоции у детей. А в триаде “воспитатель-ребенок-родитель” складываются партнерские взаимоотношения, основанные на доверии и сотрудничест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"/>
          <p:cNvPicPr/>
          <p:nvPr/>
        </p:nvPicPr>
        <p:blipFill>
          <a:blip r:embed="rId1"/>
          <a:stretch/>
        </p:blipFill>
        <p:spPr>
          <a:xfrm>
            <a:off x="0" y="-58680"/>
            <a:ext cx="9215280" cy="69166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2"/>
          <p:cNvSpPr/>
          <p:nvPr/>
        </p:nvSpPr>
        <p:spPr>
          <a:xfrm>
            <a:off x="1893960" y="216000"/>
            <a:ext cx="59180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411120" y="1008000"/>
            <a:ext cx="808524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Формирование познавательных интересов дошкольников путем использования различных видов наглядност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2"/>
          <p:cNvSpPr/>
          <p:nvPr/>
        </p:nvSpPr>
        <p:spPr>
          <a:xfrm>
            <a:off x="3384720" y="247680"/>
            <a:ext cx="19573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-42840" y="936720"/>
            <a:ext cx="91155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Расширять кругозор детей с помощью информационной и экскурсионной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Привлекать родителей к культурно —досуговой  деятельности детского са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Обогащать предметно-развивающую среду детского са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Через игрушку знакомить с историей и традициями на Рус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Включать родителей и детей в поисково-исследовательскую работ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Сбор информации по заданной тем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Развивать познавательную активность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Приобщать дошкольников к общечеловеческим ценностя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Воспитывать у детей интерес к культуре своих предков, культуре предков России и ми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Воспитывать у дошкольников представлений о взаимосвязях разных культу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"/>
          <p:cNvSpPr/>
          <p:nvPr/>
        </p:nvSpPr>
        <p:spPr>
          <a:xfrm>
            <a:off x="287280" y="285840"/>
            <a:ext cx="85662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В основу этих задач положены следующ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принци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87280" y="1351080"/>
            <a:ext cx="85676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принцип учета возрастных особенностей дошкольник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 принцип опоры на интересы ребе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инцип осуществления взаимодействия воспитателя с детьми при руководящей роли взросл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инцип нагляд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инцип последова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21924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инцип сотрудничества и взаимоуваж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"/>
          <p:cNvSpPr/>
          <p:nvPr/>
        </p:nvSpPr>
        <p:spPr>
          <a:xfrm>
            <a:off x="2028960" y="174600"/>
            <a:ext cx="45226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Times New Roman"/>
                <a:ea typeface="DejaVu Sans"/>
              </a:rPr>
              <a:t>Новизна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360360" y="936720"/>
            <a:ext cx="8423280" cy="31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 использовании музейной педагогики, котора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способствует расширению кругозора  ребёнка и взрослого, повышению образованности, воспитанности, приобщению к вечным ценностям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- В возможности применения материалов другими педагогам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- В создании творческого взаимодействия взрослых и дет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6:37:27Z</dcterms:created>
  <dc:creator>Admin</dc:creator>
  <dc:description/>
  <cp:keywords/>
  <dc:language>en-US</dc:language>
  <cp:lastModifiedBy>admin</cp:lastModifiedBy>
  <dcterms:modified xsi:type="dcterms:W3CDTF">2017-02-09T11:04:06Z</dcterms:modified>
  <cp:revision>34</cp:revision>
  <dc:subject/>
  <dc:title>                                                                                                              Дети должны жить                                                                                                               в мире красоты, игры,                                                                                                                сказки, музыки, рисунка,                                                                                                               фантазии, творчества.                                                                                                                           Сухомлинский В.А.</dc:title>
</cp:coreProperties>
</file>