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0F3B-4850-4EB9-AD3B-3D66D0092E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3920"/>
            <a:ext cx="78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1EAA-F2D4-4C9B-80CC-F56564F0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4FD7-D98C-4EF1-947E-29AB9E4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560" y="182520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82520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392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560" y="409392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4093920"/>
            <a:ext cx="2536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8989-0CF0-45BF-91AD-3BD1C81F6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78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C761-A86B-494B-ACA8-FBF9EE6A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78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5171-3131-486D-B2E9-846CBB57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1A0D-F4D3-485B-B59A-C9574EA8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E746-2AA1-4EAF-8347-F8B36081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7896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1D85-0729-4024-A620-744B0FDE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2F4E-4A70-4B3D-AE55-CFF12A84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09392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8CFF-D91A-4F83-B8B4-257A9051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825200"/>
            <a:ext cx="3844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3920"/>
            <a:ext cx="78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655A-67EE-4174-96CA-F58D20EC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789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78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49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49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3D92-086C-403D-898B-1C3D5114C5FD}" type="slidenum">
              <a:rPr b="0" lang="uk-UA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5480" y="360360"/>
            <a:ext cx="788688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1224000"/>
            <a:ext cx="82803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идеофрагменты из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оветских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мультфильмов и вопросы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задания к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ни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0360" y="431640"/>
            <a:ext cx="842328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Антош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зовут мальчи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он любит: работать или отдых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81280" y="2808360"/>
            <a:ext cx="721836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6000" y="287280"/>
            <a:ext cx="87836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Кошкин д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то в гости приходит в Кошкин до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Ещё кто просится в Кошкин до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От чего загорается Кошкин д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После пожара Кошка к кому обращается в д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то их приюти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Какая концовка мультфильм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0360" y="287280"/>
            <a:ext cx="849636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Трое из Простокваши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Назовите героев мультфиль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Папа с мамой посылают в Простоквашино посылку. Что там был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Шарик кого снимал на фо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Шарик и Матроскин сколько дней не разговаривали между собо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7280" y="360360"/>
            <a:ext cx="8567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6000" y="287280"/>
            <a:ext cx="8640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286920"/>
            <a:ext cx="7886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174320"/>
            <a:ext cx="788688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36720" y="2376360"/>
            <a:ext cx="719928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576360"/>
            <a:ext cx="842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А что ты умееш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ак зовут главного геро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чему герои мультфильма наливают воду на Тыквю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2960" y="3384720"/>
            <a:ext cx="5873760" cy="30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28560" y="144360"/>
            <a:ext cx="78868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 Light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628560" y="1511280"/>
            <a:ext cx="77961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224000" y="4248000"/>
            <a:ext cx="7632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431640"/>
            <a:ext cx="8712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Возвращение блудного попуг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9640" y="3168720"/>
            <a:ext cx="2735280" cy="331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81440" y="3168720"/>
            <a:ext cx="219384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2160720"/>
            <a:ext cx="54468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зовут попуг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Почему Кеша улетает из до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ернётся ли Кеша обратно дом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188640"/>
            <a:ext cx="788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/>
          <p:nvPr/>
        </p:nvSpPr>
        <p:spPr>
          <a:xfrm>
            <a:off x="431640" y="936720"/>
            <a:ext cx="83520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87280" y="431640"/>
            <a:ext cx="849636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Гуси — Лебед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Гуси — Лебеди украли мальчика. Как зовут мальчи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бы выручать брата Маша мчится вперёд. На своей пути кому она помог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На обратной пути, когда Маша нашла брата, где они укрываются от Гусей — Лебед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200" y="216000"/>
            <a:ext cx="7883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200" y="1079640"/>
            <a:ext cx="788364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008000"/>
            <a:ext cx="82072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60360" y="360360"/>
            <a:ext cx="856764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Как Львёнок и Черепаха пели песню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зовут Львён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акие герои исполняют песню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О чём поётся в пес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40360" y="3311640"/>
            <a:ext cx="38876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7280" y="431640"/>
            <a:ext cx="85676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Волк и семеро козля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Назовите мультфиль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озлята открыли дверь волк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Сколько козлят волк укра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60720" y="4248000"/>
            <a:ext cx="68403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000" y="287280"/>
            <a:ext cx="86407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Снеговик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тов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Ребята написали письмо Деду Морозу. Кто отнесёт письм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должен делать Снеговик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Снеговик найдёт ли Дедушку Мороз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3743280"/>
            <a:ext cx="45356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360360"/>
            <a:ext cx="85676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льтфильм «Петушок золотой гребеш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ие цвета на хвосте петуш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колько раз петушок попал в бед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то унесёт петушка золотого гребеш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6:16:18Z</dcterms:created>
  <dc:creator>Інна</dc:creator>
  <dc:description/>
  <dc:language>en-US</dc:language>
  <cp:lastModifiedBy>Інна</cp:lastModifiedBy>
  <dcterms:modified xsi:type="dcterms:W3CDTF">2015-07-11T16:48:03Z</dcterms:modified>
  <cp:revision>9</cp:revision>
  <dc:subject/>
  <dc:title>Презентація PowerPoint</dc:title>
</cp:coreProperties>
</file>