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4942D-F577-41AE-8F0E-F55E9054FF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78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3920"/>
            <a:ext cx="78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48BD3-F629-4CF7-A2FC-15026E6C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78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4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825200"/>
            <a:ext cx="3844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3920"/>
            <a:ext cx="3844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093920"/>
            <a:ext cx="3844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A3D51-8BCB-4C93-B66E-22AF700B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78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6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560" y="1825200"/>
            <a:ext cx="2536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920" y="1825200"/>
            <a:ext cx="2536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3920"/>
            <a:ext cx="2536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560" y="4093920"/>
            <a:ext cx="2536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920" y="4093920"/>
            <a:ext cx="2536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4F440-3953-49EE-9E18-15FE9049B1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78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78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0682E-FB81-4948-8AA6-6F721CC7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78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78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F49C8-FF13-4636-98F8-6CC955B1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78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825200"/>
            <a:ext cx="384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FD8E1-9EA9-434D-959E-4067EC0C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78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0E9C1-678C-45A3-A27C-DEE09108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7896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489F7-1C79-473C-8665-BFD79E37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78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4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825200"/>
            <a:ext cx="384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3920"/>
            <a:ext cx="3844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0E8BD-3AA0-4502-A875-72AF0AF6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78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825200"/>
            <a:ext cx="3844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093920"/>
            <a:ext cx="3844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6F836-23AA-47E3-AB12-F2AF098F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78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4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825200"/>
            <a:ext cx="3844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3920"/>
            <a:ext cx="78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CD4E-6611-4E20-AC8E-E9FEC2E0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78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78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49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457680" y="6356520"/>
            <a:ext cx="2049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99616-1FFA-4FFF-B478-510916E7BDF8}" type="slidenum">
              <a:rPr b="0" lang="uk-UA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5480" y="360360"/>
            <a:ext cx="7886880" cy="61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503280" y="1224000"/>
            <a:ext cx="828036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Видеофрагменты из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советских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мультфильмов и вопросы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задания к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ним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60360" y="431640"/>
            <a:ext cx="8423280" cy="59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льтфильм «Антош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Как зовут мальчик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Что он любит: работать или отдых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81280" y="2808360"/>
            <a:ext cx="7218360" cy="36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6000" y="287280"/>
            <a:ext cx="878364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льтфильм «Кошкин д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Кто в гости приходит в Кошкин дом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Ещё кто просится в Кошкин дом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От чего загорается Кошкин д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После пожара Кошка к кому обращается в д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Кто их приюти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Какая концовка мультфильм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0360" y="287280"/>
            <a:ext cx="849636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льтфильм «Трое из Простоквашин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Назовите героев мультфиль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Папа с мамой посылают в Простоквашино посылку. Что там было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Шарик кого снимал на фото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Шарик и Матроскин сколько дней не разговаривали между собо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87280" y="360360"/>
            <a:ext cx="856764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6000" y="287280"/>
            <a:ext cx="86407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286920"/>
            <a:ext cx="788688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31640" y="1174320"/>
            <a:ext cx="7886880" cy="496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936720" y="2376360"/>
            <a:ext cx="719928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431640" y="576360"/>
            <a:ext cx="842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льтфильм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А что ты умеешь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Как зовут главного геро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Почему герои мультфильма наливают воду на Тыквюн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42960" y="3384720"/>
            <a:ext cx="5873760" cy="30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28560" y="144360"/>
            <a:ext cx="78868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 Light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628560" y="1511280"/>
            <a:ext cx="779616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1224000" y="4248000"/>
            <a:ext cx="7632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216000" y="431640"/>
            <a:ext cx="8712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льтфильм «Возвращение блудного попуга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119640" y="3168720"/>
            <a:ext cx="2735280" cy="3311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81440" y="3168720"/>
            <a:ext cx="2193840" cy="23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2160720"/>
            <a:ext cx="54468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Как зовут попуга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Почему Кеша улетает из дом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Вернётся ли Кеша обратно дом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200" y="188640"/>
            <a:ext cx="788364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/>
          <p:nvPr/>
        </p:nvSpPr>
        <p:spPr>
          <a:xfrm>
            <a:off x="431640" y="936720"/>
            <a:ext cx="835200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87280" y="431640"/>
            <a:ext cx="8496360" cy="59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льтфильм «Гуси — Лебед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Гуси — Лебеди украли мальчика. Как зовут мальчик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Чтобы выручать брата Маша мчится вперёд. На своей пути кому она помогае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На обратной пути, когда Маша нашла брата, где они укрываются от Гусей — Лебеде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200" y="216000"/>
            <a:ext cx="7883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28200" y="1079640"/>
            <a:ext cx="788364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1008000"/>
            <a:ext cx="820728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60360" y="360360"/>
            <a:ext cx="856764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льтфильм «Как Львёнок и Черепаха пели песню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Как зовут Львёнк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Какие герои исполняют песню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О чём поётся в пес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40360" y="3311640"/>
            <a:ext cx="388764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87280" y="431640"/>
            <a:ext cx="856764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льтфильм «Волк и семеро козля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Назовите мультфиль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Козлята открыли дверь волку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Сколько козлят волк украл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160720" y="4248000"/>
            <a:ext cx="684036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6000" y="287280"/>
            <a:ext cx="864072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льтфильм «Снеговик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чтов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Ребята написали письмо Деду Морозу. Кто отнесёт письмо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Что должен делать Снеговик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Снеговик найдёт ли Дедушку Мороз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95280" y="3743280"/>
            <a:ext cx="453564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87280" y="360360"/>
            <a:ext cx="856764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льтфильм «Петушок золотой гребешо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Какие цвета на хвосте петуш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Сколько раз петушок попал в беду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Кто унесёт петушка золотого гребеш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1T16:16:18Z</dcterms:created>
  <dc:creator>Інна</dc:creator>
  <dc:description/>
  <dc:language>en-US</dc:language>
  <cp:lastModifiedBy>Інна</cp:lastModifiedBy>
  <dcterms:modified xsi:type="dcterms:W3CDTF">2015-07-11T16:48:03Z</dcterms:modified>
  <cp:revision>9</cp:revision>
  <dc:subject/>
  <dc:title>Презентація PowerPoint</dc:title>
</cp:coreProperties>
</file>