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9EBC-0FBC-4D57-BE2D-1DE517890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739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1760"/>
            <a:ext cx="78739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BB51-B4F0-458C-9004-7011EDE8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884A-AAB5-4B27-9672-0A0F37B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8255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2960" y="18255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17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40917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2960" y="4091760"/>
            <a:ext cx="25351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E245-8472-48B4-9163-45DB0735A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7392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7CA0-4C3B-42BC-9A5F-125E365C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739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A42F-2B5B-4A29-9505-4BDF4FA6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50E2-A5BE-4D70-B961-F4F98C16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F898-0DB0-479B-A71E-4E4CD9A3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7392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47DC-F30C-4753-B558-E9F17857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C9A0-DCB5-42D0-9F7C-323B5D32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40917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3365-5565-49E7-A213-6F5FB43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825560"/>
            <a:ext cx="38422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1760"/>
            <a:ext cx="787392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665F-68F4-42F2-9DBE-7F6283D5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73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739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4480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4444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11FB4-7CA6-4B55-BE29-CCBD8DBD8204}" type="slidenum">
              <a:rPr b="0" lang="uk-UA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286920"/>
            <a:ext cx="842328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1c1c1c"/>
                </a:solidFill>
                <a:latin typeface="Calibri Light"/>
              </a:rPr>
              <a:t>Загадки </a:t>
            </a:r>
            <a:r>
              <a:rPr b="1" i="1" lang="ru-RU" sz="6000" spc="-1" strike="noStrike">
                <a:solidFill>
                  <a:srgbClr val="1c1c1c"/>
                </a:solidFill>
                <a:latin typeface="Calibri Light"/>
              </a:rPr>
              <a:t>о героях мультфильмов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9200" y="1995480"/>
            <a:ext cx="80676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818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9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29800" y="1368000"/>
            <a:ext cx="78822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216000" y="107964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м долго неизвест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л он каждому дру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по сказке интерес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к — луковка зна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просто и недлин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зовётся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27640" y="1800360"/>
            <a:ext cx="352728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200" y="338040"/>
            <a:ext cx="7882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0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28200" y="1054080"/>
            <a:ext cx="7882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079640"/>
            <a:ext cx="85676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я такая? Кто тут подскаж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же случилось попасть мне на ба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голову принц от любви потеря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я башмачок потерял тогда 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я такая? Кто тут подскаж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24720" y="3456000"/>
            <a:ext cx="25192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200" y="371520"/>
            <a:ext cx="7882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1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1440" y="945720"/>
            <a:ext cx="7881840" cy="55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152360"/>
            <a:ext cx="84391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rot="21360000">
            <a:off x="414360" y="938160"/>
            <a:ext cx="792972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671640" cy="237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6000" y="1152360"/>
            <a:ext cx="864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ела стрела и попала в болот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 этом болоте поймал её кто — 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, распростившись с зелёною кож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лся мигом красивой, пригож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263520"/>
            <a:ext cx="78818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0720" y="1008000"/>
            <a:ext cx="845820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81080" y="1079640"/>
            <a:ext cx="856908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деревян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оде и под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щет ключик золо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ду нос сует он дли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же эт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84720" y="3095640"/>
            <a:ext cx="38163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8280"/>
            <a:ext cx="7880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3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7280" y="936360"/>
            <a:ext cx="822168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1079640"/>
            <a:ext cx="8423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ходит с длинной бород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чень жадный, хитрый, з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всё же не испугает н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ойник этот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64000" y="3168720"/>
            <a:ext cx="4535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0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4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6000" y="1173240"/>
            <a:ext cx="829296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60360" y="1008000"/>
            <a:ext cx="8496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 лесу, и на бол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ушонка ходит в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ё нелепый ви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х вокруг она смеш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на совсем не зл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едь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67280" y="1295280"/>
            <a:ext cx="388944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263520"/>
            <a:ext cx="7880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15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04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16000" y="1008000"/>
            <a:ext cx="864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казка, а не шут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была такая ут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й яйцо, игла в яйц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бель на её ко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без этаких ве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ть не мог стари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87640" y="3168720"/>
            <a:ext cx="50403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18960"/>
            <a:ext cx="7880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 Light"/>
              </a:rPr>
              <a:t>      </a:t>
            </a:r>
            <a:r>
              <a:rPr b="1" i="1" lang="ru-RU" sz="9600" spc="-1" strike="noStrike">
                <a:solidFill>
                  <a:srgbClr val="000000"/>
                </a:solidFill>
                <a:latin typeface="Calibri Light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040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9120" y="1728720"/>
            <a:ext cx="86788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86920"/>
            <a:ext cx="7886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 1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174320"/>
            <a:ext cx="788688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ёл он как балалай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зовут ег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36720" y="2376360"/>
            <a:ext cx="719928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2440" y="2303640"/>
            <a:ext cx="857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8560" y="144360"/>
            <a:ext cx="788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 Light"/>
              </a:rPr>
              <a:t>                          </a:t>
            </a:r>
            <a:r>
              <a:rPr b="1" i="1" lang="uk-UA" sz="4400" spc="-1" strike="noStrike">
                <a:solidFill>
                  <a:srgbClr val="000000"/>
                </a:solidFill>
                <a:latin typeface="Calibri Light"/>
              </a:rPr>
              <a:t>Загадка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11280"/>
            <a:ext cx="77961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152360" y="1008000"/>
            <a:ext cx="7632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него прогулки — праздни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а мёд особый ню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люшевый проказни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жонок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90840" y="3816360"/>
            <a:ext cx="609588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188640"/>
            <a:ext cx="788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3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/>
          <p:nvPr/>
        </p:nvSpPr>
        <p:spPr>
          <a:xfrm>
            <a:off x="431640" y="936720"/>
            <a:ext cx="8352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 телефонной будке жи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л песни, с Геном дружи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мягкими уш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мнился нам с в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6360" y="2232000"/>
            <a:ext cx="36716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216000"/>
            <a:ext cx="7883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4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28200" y="1079640"/>
            <a:ext cx="788364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1008000"/>
            <a:ext cx="82072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яв для подкре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ночку варен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правляется в полё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чек — вертол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96000" y="1800360"/>
            <a:ext cx="40320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7882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5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/>
          <p:nvPr/>
        </p:nvSpPr>
        <p:spPr>
          <a:xfrm>
            <a:off x="417600" y="941400"/>
            <a:ext cx="843732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серого волка в лесу повстреч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бабушкин домик ему показ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чилась бе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лк обманщиком бы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бедную бабушку проглот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75280" y="3311640"/>
            <a:ext cx="2952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788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6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4160" y="1270080"/>
            <a:ext cx="78818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129528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152360"/>
            <a:ext cx="8496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днажды появил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ревянной мастерс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па Карло потрудил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 игрушкою смеш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51280" y="2664000"/>
            <a:ext cx="410364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7882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7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60360" y="1079640"/>
            <a:ext cx="815040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079640"/>
            <a:ext cx="8351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ле леса на опу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е их живёт в избуш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три стула и три кру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ровати, три под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адайте без подсказ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герои этой сказк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720" y="1944720"/>
            <a:ext cx="331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200" y="301680"/>
            <a:ext cx="7882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Загадка 8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998640"/>
            <a:ext cx="806436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1008000"/>
            <a:ext cx="84232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бесах, не на зем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чет баба на мет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шная и злая 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она така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87640" y="2735280"/>
            <a:ext cx="489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6:16:18Z</dcterms:created>
  <dc:creator>Інна</dc:creator>
  <dc:description/>
  <dc:language>en-US</dc:language>
  <cp:lastModifiedBy>Інна</cp:lastModifiedBy>
  <dcterms:modified xsi:type="dcterms:W3CDTF">2015-07-11T16:48:03Z</dcterms:modified>
  <cp:revision>9</cp:revision>
  <dc:subject/>
  <dc:title>Презентація PowerPoint</dc:title>
</cp:coreProperties>
</file>