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0647-6F14-4374-A3DD-DD5F2DD95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17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2343-AE04-4FFD-A27C-878A3BA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2A9F-F457-4B07-AB0E-492DB87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29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29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9B9C-B9BD-4D62-934D-62AD08FCB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0D60-2E41-4839-8B95-07818C6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B187-7922-4BF2-9815-4D5A5396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11F1-DF4F-4875-B3ED-F8D326A7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3C8E-F322-443C-9431-8FEEA8BA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7392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00FF-7D4A-4896-931A-AF259D8E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6292-5A07-403A-A9D9-E3994D9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4995-9809-4D74-B67D-6CA81E6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11E8-ACA5-4A2E-9F1B-2EEB19F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4480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4444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FB2AF-38D2-46EC-B975-72AA04C87C59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286920"/>
            <a:ext cx="842328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1c1c1c"/>
                </a:solidFill>
                <a:latin typeface="Calibri Light"/>
              </a:rPr>
              <a:t>Загадки </a:t>
            </a:r>
            <a:r>
              <a:rPr b="1" i="1" lang="ru-RU" sz="6000" spc="-1" strike="noStrike">
                <a:solidFill>
                  <a:srgbClr val="1c1c1c"/>
                </a:solidFill>
                <a:latin typeface="Calibri Light"/>
              </a:rPr>
              <a:t>о героях мультфильмов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9200" y="1995480"/>
            <a:ext cx="80676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818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9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9800" y="1368000"/>
            <a:ext cx="78822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216000" y="107964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м долго неизвест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 он каждому дру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по сказке интерес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 — луковка зн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просто и недлин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зовётся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27640" y="1800360"/>
            <a:ext cx="35272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200" y="33804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0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28200" y="1054080"/>
            <a:ext cx="7882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079640"/>
            <a:ext cx="8567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я такая? Кто тут подскаж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же случилось попасть мне на ба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голову принц от любви потеря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я башмачок потерял тогда 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я такая? Кто тут подскаж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4720" y="3456000"/>
            <a:ext cx="25192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37152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1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1440" y="945720"/>
            <a:ext cx="7881840" cy="55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152360"/>
            <a:ext cx="84391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rot="21360000">
            <a:off x="414360" y="938160"/>
            <a:ext cx="792972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37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6000" y="1152360"/>
            <a:ext cx="864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ела стрела и попала в болот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этом болоте поймал её кто — 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, распростившись с зелёною ко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лся мигом красивой, пригож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63520"/>
            <a:ext cx="78818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0720" y="1008000"/>
            <a:ext cx="8458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81080" y="1079640"/>
            <a:ext cx="856908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деревян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де и под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щет ключик зол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ду нос сует он дли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же э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84720" y="3095640"/>
            <a:ext cx="38163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8280"/>
            <a:ext cx="7880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3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7280" y="9363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079640"/>
            <a:ext cx="8423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ходит с длинной бород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чень жадный, хитрый, з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всё же не испугает н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ойник это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64000" y="3168720"/>
            <a:ext cx="4535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0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4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6000" y="1173240"/>
            <a:ext cx="829296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60360" y="1008000"/>
            <a:ext cx="8496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 лесу, и на бол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ушонка ходит в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ё нелепый ви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вокруг она смеш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на совсем не зл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едь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67280" y="1295280"/>
            <a:ext cx="388944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263520"/>
            <a:ext cx="7880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5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04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16000" y="1008000"/>
            <a:ext cx="864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казка, а не шу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была такая у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яйцо, игла в яйц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ель на её ко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ез этаки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ть не мог стари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87640" y="3168720"/>
            <a:ext cx="5040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18960"/>
            <a:ext cx="7880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1" i="1" lang="ru-RU" sz="9600" spc="-1" strike="noStrike">
                <a:solidFill>
                  <a:srgbClr val="000000"/>
                </a:solidFill>
                <a:latin typeface="Calibri Light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04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9120" y="1728720"/>
            <a:ext cx="86788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86920"/>
            <a:ext cx="7886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 1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174320"/>
            <a:ext cx="78868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ёл он как балалай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овут ег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36720" y="2376360"/>
            <a:ext cx="719928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2440" y="2303640"/>
            <a:ext cx="857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8560" y="144360"/>
            <a:ext cx="788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 Light"/>
              </a:rPr>
              <a:t>                          </a:t>
            </a:r>
            <a:r>
              <a:rPr b="1" i="1" lang="uk-UA" sz="4400" spc="-1" strike="noStrike">
                <a:solidFill>
                  <a:srgbClr val="000000"/>
                </a:solidFill>
                <a:latin typeface="Calibri Light"/>
              </a:rPr>
              <a:t>Загадка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11280"/>
            <a:ext cx="77961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152360" y="1008000"/>
            <a:ext cx="7632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его прогулки — праздн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мёд особый ню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люшевый проказн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жоно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90840" y="3816360"/>
            <a:ext cx="60958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188640"/>
            <a:ext cx="788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3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/>
          <p:nvPr/>
        </p:nvSpPr>
        <p:spPr>
          <a:xfrm>
            <a:off x="431640" y="936720"/>
            <a:ext cx="8352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 телефонной будке жи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л песни, с Геном дружи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мягкими уш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мнился нам с в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6360" y="2232000"/>
            <a:ext cx="36716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216000"/>
            <a:ext cx="7883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4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8200" y="1079640"/>
            <a:ext cx="788364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008000"/>
            <a:ext cx="8207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яв для подкре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у варен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правляется в пол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чек — вертол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96000" y="1800360"/>
            <a:ext cx="4032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5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/>
          <p:nvPr/>
        </p:nvSpPr>
        <p:spPr>
          <a:xfrm>
            <a:off x="417600" y="941400"/>
            <a:ext cx="84373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серого волка в лесу повстреч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абушкин домик ему показ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чилась бе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к обманщиком бы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едную бабушку проглот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75280" y="331164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6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4160" y="1270080"/>
            <a:ext cx="78818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129528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152360"/>
            <a:ext cx="849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днажды появи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ревянной мастер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а Карло потруди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 игрушкою смеш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51280" y="2664000"/>
            <a:ext cx="410364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7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60360" y="1079640"/>
            <a:ext cx="815040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079640"/>
            <a:ext cx="8351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ле леса на опу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е их живёт в избуш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три стула и три кр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ровати, три под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адайте без подсказ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герои этой сказк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720" y="1944720"/>
            <a:ext cx="33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200" y="30168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8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998640"/>
            <a:ext cx="80643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1008000"/>
            <a:ext cx="84232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бесах, не на зем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чет баба на мет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шная и злая 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она така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87640" y="2735280"/>
            <a:ext cx="489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