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20.png" ContentType="image/png"/>
  <Override PartName="/ppt/media/image8.png" ContentType="image/png"/>
  <Override PartName="/ppt/media/image14.jpeg" ContentType="image/jpeg"/>
  <Override PartName="/ppt/media/image6.jpeg" ContentType="image/jpeg"/>
  <Override PartName="/ppt/media/image21.png" ContentType="image/png"/>
  <Override PartName="/ppt/media/image19.png" ContentType="image/png"/>
  <Override PartName="/ppt/media/image18.jpeg" ContentType="image/jpeg"/>
  <Override PartName="/ppt/media/image17.jpeg" ContentType="image/jpeg"/>
  <Override PartName="/ppt/media/image16.jpeg" ContentType="image/jpeg"/>
  <Override PartName="/ppt/media/image22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15.png" ContentType="image/png"/>
  <Override PartName="/ppt/media/image5.jpeg" ContentType="image/jpeg"/>
  <Override PartName="/ppt/media/image10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CA6A7-9D87-42AA-AADD-0F54B79FB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3919B-DCC9-4605-A26E-7F5B34EFF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DD290-D711-42EB-AD4F-DD6E109EB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EB813-9583-4962-92A3-99510348A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92C85-C121-42B5-A4D1-83B3A4948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A53AA-4A70-4C62-99F6-BEAFDAF87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9CCB0-62CB-459C-910B-B0862155C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82EFE-56A0-47E2-A46A-8F23A381E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B416E-989F-4343-9A9F-E5C47EA60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A1698-5530-4CB7-95DA-BEB59B964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C4A02-7415-498D-9601-2DC100291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80E46-306C-435A-8F0E-9BF1CEB58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193F2-2470-4A57-A480-54A2AE1C3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5A10C-607C-454D-A568-AD1436817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3343C-D81D-4DA9-A599-24393776D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50D17-8CA6-4ED2-A5D4-611568E10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DA706-9A6D-476C-B468-5F8F1F4FD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305D5-D6CD-4880-8615-F2AE63627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5D32A-90D2-42BC-A761-B03AA419D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9AD90-D68B-4D88-887B-A5557133B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82144-9610-420A-A7DD-5BDCC44F4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28DAA-F250-4BA1-A686-A73CCD932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C8F0E-6C5D-4ACA-AC3D-AC4CD6195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B0D89-94DB-4286-B1F6-91FA044D4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8DFFD-7919-4E5C-B29C-26F13606549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06233-8F2B-4C62-B63B-0D0951774C6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photosight.ru/photos/3066299/" TargetMode="External"/><Relationship Id="rId2" Type="http://schemas.openxmlformats.org/officeDocument/2006/relationships/hyperlink" Target="http://artnow.ru/ru/selected/7375/0/picture/0/359110.html?commentshttp://artnow.ru/ru/selected/7375/0/picture/0/359110.html?comments" TargetMode="External"/><Relationship Id="rId3" Type="http://schemas.openxmlformats.org/officeDocument/2006/relationships/hyperlink" Target="http://fotki.yandex.ru/users/art-valeri93/view/269757?page=0" TargetMode="External"/><Relationship Id="rId4" Type="http://schemas.openxmlformats.org/officeDocument/2006/relationships/hyperlink" Target="http://img-fotki.yandex.ru/get/3004/olga544.e/0_23ed7_87b29a70_L" TargetMode="External"/><Relationship Id="rId5" Type="http://schemas.openxmlformats.org/officeDocument/2006/relationships/hyperlink" Target="http://www.supersadovnik.ru/site_images/00000011/00053067.jpg" TargetMode="External"/><Relationship Id="rId6" Type="http://schemas.openxmlformats.org/officeDocument/2006/relationships/hyperlink" Target="http://www.panoramio.com/photo/31583601" TargetMode="External"/><Relationship Id="rId7" Type="http://schemas.openxmlformats.org/officeDocument/2006/relationships/hyperlink" Target="http://www.ecosystema.ru/08nature/trees/48.htm" TargetMode="External"/><Relationship Id="rId8" Type="http://schemas.openxmlformats.org/officeDocument/2006/relationships/hyperlink" Target="http://fotki.yandex.ru/users/sa7sha/view/305812?page=0" TargetMode="External"/><Relationship Id="rId9" Type="http://schemas.openxmlformats.org/officeDocument/2006/relationships/hyperlink" Target="http://foto.rambler.ru/photos/43f32f99-70ac-70e2-0be2-fc187b4c49c2/?viewsize=small" TargetMode="External"/><Relationship Id="rId10" Type="http://schemas.openxmlformats.org/officeDocument/2006/relationships/hyperlink" Target="http://www.looduskalender.ee/ru/node/6099" TargetMode="External"/><Relationship Id="rId11" Type="http://schemas.openxmlformats.org/officeDocument/2006/relationships/hyperlink" Target="http://www.shurgin.moifoto.ru/121751/f3391910/" TargetMode="External"/><Relationship Id="rId1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4000" y="1773360"/>
            <a:ext cx="8205480" cy="194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мся различать деревья зимо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ственница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1213920" y="135720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войное дерево — лиственница все хвоинки на зиму сбросила! Чёрные голые ветки растопырились в стороны. Только по оставшимся большим круглым шишкам сообразишь, что перед тобой хвойное дерево — лиственница. Теперь понятно, почему у неё такое странное название, ведь только лиственные деревья на зиму листву сбрасывают. Вот за сходство с ними получила она своё  имя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Содержимое 3" descr="лиственница.jpg"/>
          <p:cNvPicPr/>
          <p:nvPr/>
        </p:nvPicPr>
        <p:blipFill>
          <a:blip r:embed="rId1"/>
          <a:stretch/>
        </p:blipFill>
        <p:spPr>
          <a:xfrm>
            <a:off x="5572080" y="1285920"/>
            <a:ext cx="3392640" cy="4525920"/>
          </a:xfrm>
          <a:prstGeom prst="rect">
            <a:avLst/>
          </a:prstGeom>
          <a:ln w="57240">
            <a:solidFill>
              <a:srgbClr val="558ed5"/>
            </a:solidFill>
            <a:miter/>
          </a:ln>
        </p:spPr>
      </p:pic>
      <p:pic>
        <p:nvPicPr>
          <p:cNvPr id="116" name="Picture 2" descr=""/>
          <p:cNvPicPr/>
          <p:nvPr/>
        </p:nvPicPr>
        <p:blipFill>
          <a:blip r:embed="rId2"/>
          <a:stretch/>
        </p:blipFill>
        <p:spPr>
          <a:xfrm>
            <a:off x="4714920" y="5214960"/>
            <a:ext cx="2162160" cy="1428840"/>
          </a:xfrm>
          <a:prstGeom prst="rect">
            <a:avLst/>
          </a:prstGeom>
          <a:ln w="57240">
            <a:solidFill>
              <a:srgbClr val="558ed5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ль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56760" y="142884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т ель. Мохнатые ветки ели похожи на большие лапы. Их и называют лапником. Снизу доверху укутывают они ствол лесной красавицы. Xвоинки - иголочки плотно-плотно сидят на веточках. Ни один зимний рисунок не обойдётся без ели. На концах веток висят большие, длинные шишки. В этих шишках семена. У хвойных растений семена созревают зимой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Содержимое 7" descr="3394937kpd.jpg"/>
          <p:cNvPicPr/>
          <p:nvPr/>
        </p:nvPicPr>
        <p:blipFill>
          <a:blip r:embed="rId1"/>
          <a:stretch/>
        </p:blipFill>
        <p:spPr>
          <a:xfrm>
            <a:off x="4572000" y="1500120"/>
            <a:ext cx="4071960" cy="3054240"/>
          </a:xfrm>
          <a:prstGeom prst="rect">
            <a:avLst/>
          </a:prstGeom>
          <a:ln w="57240">
            <a:solidFill>
              <a:srgbClr val="558ed5"/>
            </a:solidFill>
            <a:miter/>
          </a:ln>
        </p:spPr>
      </p:pic>
      <p:pic>
        <p:nvPicPr>
          <p:cNvPr id="120" name="Picture 5" descr=""/>
          <p:cNvPicPr/>
          <p:nvPr/>
        </p:nvPicPr>
        <p:blipFill>
          <a:blip r:embed="rId2"/>
          <a:stretch/>
        </p:blipFill>
        <p:spPr>
          <a:xfrm>
            <a:off x="4500720" y="4786200"/>
            <a:ext cx="2714400" cy="1809720"/>
          </a:xfrm>
          <a:prstGeom prst="rect">
            <a:avLst/>
          </a:prstGeom>
          <a:ln w="57240">
            <a:solidFill>
              <a:srgbClr val="558ed5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на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071720" y="15001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ну узнать просто по высокому оранжевому или желтоватому стволу. На веточках хвоя, но совсем не похожая на еловую. Иголочки собраны пучками на концах веток. Сами хвоинки длинные, и растут только по две хвоинки из одного места, как склеенные. Шишки тоже другие по форме, чем у ели: большие, округлые, с круглыми чешуйкам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3" name="Picture 2" descr=""/>
          <p:cNvPicPr/>
          <p:nvPr/>
        </p:nvPicPr>
        <p:blipFill>
          <a:blip r:embed="rId1"/>
          <a:stretch/>
        </p:blipFill>
        <p:spPr>
          <a:xfrm>
            <a:off x="5929200" y="1214280"/>
            <a:ext cx="2654280" cy="4267440"/>
          </a:xfrm>
          <a:prstGeom prst="rect">
            <a:avLst/>
          </a:prstGeom>
          <a:ln w="57240">
            <a:solidFill>
              <a:srgbClr val="558ed5"/>
            </a:solidFill>
            <a:miter/>
          </a:ln>
        </p:spPr>
      </p:pic>
      <p:pic>
        <p:nvPicPr>
          <p:cNvPr id="124" name="Picture 3" descr=""/>
          <p:cNvPicPr/>
          <p:nvPr/>
        </p:nvPicPr>
        <p:blipFill>
          <a:blip r:embed="rId2"/>
          <a:stretch/>
        </p:blipFill>
        <p:spPr>
          <a:xfrm>
            <a:off x="5072040" y="5072040"/>
            <a:ext cx="2252520" cy="1500120"/>
          </a:xfrm>
          <a:prstGeom prst="rect">
            <a:avLst/>
          </a:prstGeom>
          <a:ln w="57240">
            <a:solidFill>
              <a:srgbClr val="558ed5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их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1071720" y="15001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елёная вечно, не гаснет,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ряд круглый год не меняет,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взор не бесчувственный, –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сный,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виду она, как свята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Picture 2" descr=""/>
          <p:cNvPicPr/>
          <p:nvPr/>
        </p:nvPicPr>
        <p:blipFill>
          <a:blip r:embed="rId1"/>
          <a:stretch/>
        </p:blipFill>
        <p:spPr>
          <a:xfrm>
            <a:off x="5159520" y="1773360"/>
            <a:ext cx="3423960" cy="3423960"/>
          </a:xfrm>
          <a:prstGeom prst="rect">
            <a:avLst/>
          </a:prstGeom>
          <a:ln w="57240">
            <a:solidFill>
              <a:srgbClr val="558ed5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териалы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рёза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"/>
              </a:rPr>
              <a:t>http://www.photosight.ru/photos/3066299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уб </a:t>
            </a:r>
            <a:r>
              <a:rPr b="0" lang="ru-RU" sz="13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2"/>
              </a:rPr>
              <a:t>http://artnow.ru/ru/selected/7375/0/picture/0/359110.html?commentshttp://artnow.ru/ru/selected/7375/0/picture/0/359110.html?comment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уб фото </a:t>
            </a:r>
            <a:r>
              <a:rPr b="0" lang="ru-RU" sz="13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3"/>
              </a:rPr>
              <a:t>http://fotki.yandex.ru/users/art-valeri93/view/269757?page=0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4"/>
              </a:rPr>
              <a:t>http://img-fotki.yandex.ru/get/3004/olga544.e/0_23ed7_87b29a70_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рёзовые серёжки </a:t>
            </a:r>
            <a:r>
              <a:rPr b="0" lang="en-US" sz="13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5"/>
              </a:rPr>
              <a:t>http://www.supersadovnik.ru/site_images/00000011/00053067.jpg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поль </a:t>
            </a:r>
            <a:r>
              <a:rPr b="0" lang="ru-RU" sz="13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6"/>
              </a:rPr>
              <a:t>http://www.panoramio.com/photo/31583601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па ветки </a:t>
            </a:r>
            <a:r>
              <a:rPr b="0" lang="ru-RU" sz="13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7"/>
              </a:rPr>
              <a:t>http://www.ecosystema.ru/08nature/trees/48.htm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па дерево </a:t>
            </a:r>
            <a:r>
              <a:rPr b="0" lang="ru-RU" sz="13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8"/>
              </a:rPr>
              <a:t>http://fotki.yandex.ru/users/sa7sha/view/305812?page=0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па семена </a:t>
            </a:r>
            <a:r>
              <a:rPr b="0" lang="en-US" sz="13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9"/>
              </a:rPr>
              <a:t>http://foto.rambler.ru/photos/43f32f99-70ac-70e2-0be2-fc187b4c49c2/?viewsize=smal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мся узнавать деревья </a:t>
            </a:r>
            <a:r>
              <a:rPr b="0" lang="ru-RU" sz="13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0"/>
              </a:rPr>
              <a:t>http://www.looduskalender.ee/ru/node/6099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ён дерево  </a:t>
            </a:r>
            <a:r>
              <a:rPr b="0" lang="ru-RU" sz="13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1"/>
              </a:rPr>
              <a:t>http://www.shurgin.moifoto.ru/121751/f3391910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зимуют деревья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pochemuchca.ru/naturalist/priroda21.htm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ишки лиственницы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img-2007-03.photosight.ru/02/1954061.jpg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на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dic.academic.ru/pictures/wiki/files/77/Miedzyborow_160yo_pinus01.jpg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тка ели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www.torange.biz/photo/1/12/1235637432_53.jpg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тка сосны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img-fotki.yandex.ru/get/3303/galpeko7.e/0_1eeb9_baeaaf94_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исание липы , дуба, рябины , берёзы. Трафимова Г.В., Трафимов С.А., Федотова О.Н. Давай знакомиться мир! Книга для чтения. 1 класс. –М.: Издательство «Академкнига/Учебник», 2002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1000080" y="713880"/>
            <a:ext cx="8229600" cy="54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ятно увидеть липу, клён или дуб летом, ещё приятнее узнать их при встрече зимою. Узнать издалека, как узнаёшь старого знакомого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Рисунок 3" descr="Безимени-2 копия.jpg"/>
          <p:cNvPicPr/>
          <p:nvPr/>
        </p:nvPicPr>
        <p:blipFill>
          <a:blip r:embed="rId1"/>
          <a:stretch/>
        </p:blipFill>
        <p:spPr>
          <a:xfrm>
            <a:off x="928800" y="1952640"/>
            <a:ext cx="7215120" cy="4809960"/>
          </a:xfrm>
          <a:prstGeom prst="rect">
            <a:avLst/>
          </a:prstGeom>
          <a:ln w="57240">
            <a:solidFill>
              <a:srgbClr val="558ed5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па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Содержимое 3" descr="1 .jpg"/>
          <p:cNvPicPr/>
          <p:nvPr/>
        </p:nvPicPr>
        <p:blipFill>
          <a:blip r:embed="rId1"/>
          <a:stretch/>
        </p:blipFill>
        <p:spPr>
          <a:xfrm>
            <a:off x="5500800" y="1214280"/>
            <a:ext cx="3392280" cy="4526280"/>
          </a:xfrm>
          <a:prstGeom prst="rect">
            <a:avLst/>
          </a:prstGeom>
          <a:ln w="57240">
            <a:solidFill>
              <a:srgbClr val="558ed5"/>
            </a:solidFill>
            <a:miter/>
          </a:ln>
        </p:spPr>
      </p:pic>
      <p:sp>
        <p:nvSpPr>
          <p:cNvPr id="89" name=""/>
          <p:cNvSpPr txBox="1"/>
          <p:nvPr/>
        </p:nvSpPr>
        <p:spPr>
          <a:xfrm>
            <a:off x="1213920" y="164304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т дерево, у которого все ветки изогнутые. В середине прогибаются книзу, наверху поднимаются. Это липа. Проверь на ней или под ней на снегу ещё лежат крылатые липовые орешк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 По Н. Павловой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2" descr=""/>
          <p:cNvPicPr/>
          <p:nvPr/>
        </p:nvPicPr>
        <p:blipFill>
          <a:blip r:embed="rId2"/>
          <a:stretch/>
        </p:blipFill>
        <p:spPr>
          <a:xfrm>
            <a:off x="4214880" y="4714920"/>
            <a:ext cx="2690640" cy="2017800"/>
          </a:xfrm>
          <a:prstGeom prst="rect">
            <a:avLst/>
          </a:prstGeom>
          <a:ln w="57240">
            <a:solidFill>
              <a:srgbClr val="558ed5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едр сибирски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Содержимое 3" descr=""/>
          <p:cNvPicPr/>
          <p:nvPr/>
        </p:nvPicPr>
        <p:blipFill>
          <a:blip r:embed="rId1"/>
          <a:stretch/>
        </p:blipFill>
        <p:spPr>
          <a:xfrm>
            <a:off x="5497560" y="1844640"/>
            <a:ext cx="2735280" cy="3336840"/>
          </a:xfrm>
          <a:prstGeom prst="rect">
            <a:avLst/>
          </a:prstGeom>
          <a:ln w="57240">
            <a:solidFill>
              <a:srgbClr val="558ed5"/>
            </a:solidFill>
            <a:miter/>
          </a:ln>
        </p:spPr>
      </p:pic>
      <p:sp>
        <p:nvSpPr>
          <p:cNvPr id="93" name=""/>
          <p:cNvSpPr txBox="1"/>
          <p:nvPr/>
        </p:nvSpPr>
        <p:spPr>
          <a:xfrm>
            <a:off x="1042920" y="1844640"/>
            <a:ext cx="3751200" cy="33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дерево большое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ветвях его растё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листва – густая хво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еленеет круглый год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всегда на шишки щед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ин сибирский – кедр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уб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928800" y="1357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т мощное дерево с засохшими листьями на верхушках ветвей. Это дуб. Он не успел сбросить всю листву до морозов, и убитые листья остались на ветвях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 По Н. Павловой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Содержимое 3" descr="0_41dbd_19aba5c_L.jpeg"/>
          <p:cNvPicPr/>
          <p:nvPr/>
        </p:nvPicPr>
        <p:blipFill>
          <a:blip r:embed="rId1"/>
          <a:stretch/>
        </p:blipFill>
        <p:spPr>
          <a:xfrm>
            <a:off x="5357880" y="1357200"/>
            <a:ext cx="3386160" cy="4525920"/>
          </a:xfrm>
          <a:prstGeom prst="rect">
            <a:avLst/>
          </a:prstGeom>
          <a:ln w="57240">
            <a:solidFill>
              <a:srgbClr val="558ed5"/>
            </a:solidFill>
            <a:miter/>
          </a:ln>
        </p:spPr>
      </p:pic>
      <p:pic>
        <p:nvPicPr>
          <p:cNvPr id="97" name="Picture 2" descr=""/>
          <p:cNvPicPr/>
          <p:nvPr/>
        </p:nvPicPr>
        <p:blipFill>
          <a:blip r:embed="rId2"/>
          <a:stretch/>
        </p:blipFill>
        <p:spPr>
          <a:xfrm>
            <a:off x="3643200" y="4000680"/>
            <a:ext cx="1982880" cy="2643120"/>
          </a:xfrm>
          <a:prstGeom prst="rect">
            <a:avLst/>
          </a:prstGeom>
          <a:ln w="9360">
            <a:solidFill>
              <a:srgbClr val="558ed5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ябина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785880" y="16430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уж как красива рябина, всё ещё увешанная яркими гроздьями ягод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 По Н. Павловой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Содержимое 3" descr="рябина.jpg"/>
          <p:cNvPicPr/>
          <p:nvPr/>
        </p:nvPicPr>
        <p:blipFill>
          <a:blip r:embed="rId1"/>
          <a:stretch/>
        </p:blipFill>
        <p:spPr>
          <a:xfrm>
            <a:off x="4970520" y="1600200"/>
            <a:ext cx="3394080" cy="4525920"/>
          </a:xfrm>
          <a:prstGeom prst="rect">
            <a:avLst/>
          </a:prstGeom>
          <a:ln w="57240">
            <a:solidFill>
              <a:srgbClr val="558ed5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рёза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Содержимое 3" descr="3066299_large.jpg"/>
          <p:cNvPicPr/>
          <p:nvPr/>
        </p:nvPicPr>
        <p:blipFill>
          <a:blip r:embed="rId1"/>
          <a:stretch/>
        </p:blipFill>
        <p:spPr>
          <a:xfrm>
            <a:off x="6000840" y="1357200"/>
            <a:ext cx="2663640" cy="4525920"/>
          </a:xfrm>
          <a:prstGeom prst="rect">
            <a:avLst/>
          </a:prstGeom>
          <a:ln w="38160">
            <a:solidFill>
              <a:srgbClr val="558ed5"/>
            </a:solidFill>
            <a:miter/>
          </a:ln>
        </p:spPr>
      </p:pic>
      <p:sp>
        <p:nvSpPr>
          <p:cNvPr id="103" name=""/>
          <p:cNvSpPr txBox="1"/>
          <p:nvPr/>
        </p:nvSpPr>
        <p:spPr>
          <a:xfrm>
            <a:off x="1643040" y="12859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берёзы ещё виднеются на ветках сухие серёжки, в которых спрятаны крылатые орешк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 По Н. Павловой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Picture 4" descr=""/>
          <p:cNvPicPr/>
          <p:nvPr/>
        </p:nvPicPr>
        <p:blipFill>
          <a:blip r:embed="rId2"/>
          <a:stretch/>
        </p:blipFill>
        <p:spPr>
          <a:xfrm>
            <a:off x="3429000" y="4643280"/>
            <a:ext cx="2786040" cy="2038680"/>
          </a:xfrm>
          <a:prstGeom prst="rect">
            <a:avLst/>
          </a:prstGeom>
          <a:ln w="57240">
            <a:solidFill>
              <a:srgbClr val="558ed5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поль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143000" y="1357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ще всего в городе можно увидеть тополь. Ствол этого большого высокого дерева светло-серый. Веточку тополя можно определить по крупным шерстисто-пушистым почкам, покрытым крупными коричневыми чешуями. Почки на веточках расположены поочередно: одна справа другая повыше — слева, следующая — опять справа, и так до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ой верхушки ветки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Содержимое 3" descr="31583601.jpg"/>
          <p:cNvPicPr/>
          <p:nvPr/>
        </p:nvPicPr>
        <p:blipFill>
          <a:blip r:embed="rId1"/>
          <a:stretch/>
        </p:blipFill>
        <p:spPr>
          <a:xfrm>
            <a:off x="5643720" y="1428840"/>
            <a:ext cx="3330360" cy="4525920"/>
          </a:xfrm>
          <a:prstGeom prst="rect">
            <a:avLst/>
          </a:prstGeom>
          <a:ln w="57240">
            <a:solidFill>
              <a:srgbClr val="558ed5"/>
            </a:solidFill>
            <a:miter/>
          </a:ln>
        </p:spPr>
      </p:pic>
      <p:pic>
        <p:nvPicPr>
          <p:cNvPr id="108" name="Picture 2" descr=""/>
          <p:cNvPicPr/>
          <p:nvPr/>
        </p:nvPicPr>
        <p:blipFill>
          <a:blip r:embed="rId2"/>
          <a:stretch/>
        </p:blipFill>
        <p:spPr>
          <a:xfrm>
            <a:off x="4500720" y="5000760"/>
            <a:ext cx="2054160" cy="1725480"/>
          </a:xfrm>
          <a:prstGeom prst="rect">
            <a:avLst/>
          </a:prstGeom>
          <a:ln w="57240">
            <a:solidFill>
              <a:srgbClr val="558ed5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ён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Содержимое 3" descr="клён.jpg"/>
          <p:cNvPicPr/>
          <p:nvPr/>
        </p:nvPicPr>
        <p:blipFill>
          <a:blip r:embed="rId1"/>
          <a:stretch/>
        </p:blipFill>
        <p:spPr>
          <a:xfrm>
            <a:off x="5500800" y="1428840"/>
            <a:ext cx="3392280" cy="4525920"/>
          </a:xfrm>
          <a:prstGeom prst="rect">
            <a:avLst/>
          </a:prstGeom>
          <a:ln w="57240">
            <a:solidFill>
              <a:srgbClr val="558ed5"/>
            </a:solidFill>
            <a:miter/>
          </a:ln>
        </p:spPr>
      </p:pic>
      <p:sp>
        <p:nvSpPr>
          <p:cNvPr id="111" name=""/>
          <p:cNvSpPr txBox="1"/>
          <p:nvPr/>
        </p:nvSpPr>
        <p:spPr>
          <a:xfrm>
            <a:off x="1071720" y="157176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ён можно узнать по правильной, упорядоченной кроне. Вторым хорошим признаком являются черешки. На концах веток даже зимой сохраняются черешки «носиков»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Picture 2" descr=""/>
          <p:cNvPicPr/>
          <p:nvPr/>
        </p:nvPicPr>
        <p:blipFill>
          <a:blip r:embed="rId2"/>
          <a:stretch/>
        </p:blipFill>
        <p:spPr>
          <a:xfrm>
            <a:off x="3929040" y="4714920"/>
            <a:ext cx="2789280" cy="1857240"/>
          </a:xfrm>
          <a:prstGeom prst="rect">
            <a:avLst/>
          </a:prstGeom>
          <a:ln w="57240">
            <a:solidFill>
              <a:srgbClr val="558ed5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Денис</dc:creator>
  <dc:description/>
  <dc:language>en-US</dc:language>
  <cp:lastModifiedBy>RePack by Diakov</cp:lastModifiedBy>
  <dcterms:modified xsi:type="dcterms:W3CDTF">2017-02-09T08:40:04Z</dcterms:modified>
  <cp:revision>57</cp:revision>
  <dc:subject/>
  <dc:title>Слайд 1</dc:title>
</cp:coreProperties>
</file>