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0F64-43C8-40AE-A13D-45606667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F4D1-ADCE-4F2B-9601-439698AD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5BC5-F050-4A0C-81B2-08E11BFC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42FB-C2B3-45C4-B00B-651FD24EF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16E4-AB13-44CC-90EE-69C6688C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145A-5EF8-407A-85D2-995B4EC0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51DC-9437-4424-BEBE-6BE533A2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5B7F-ADAB-4EBF-A728-7B87EA98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F082-8367-4426-85D7-A47A2A51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CDF5-FA8B-465F-9602-936F6C25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890C-FD12-41F6-A7C0-4D46C5FA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E789-BAC6-4AC4-ACEE-BF76B21F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0079-A9F6-4206-9112-AC5E72FF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58DF-8D4B-4284-929A-70C5CEEA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5273-F146-4939-B7D6-5E2C71AD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EE2A-8C7F-4DFF-9ACC-86DFADAC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F8D9-65F4-4196-9C2C-6A2AD6A3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0F27-BDF9-492B-83E8-BC5BAEC6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193F-A702-4117-8962-9CFC49D9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4912-26B0-4EA9-B414-678E248A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74D7-84FD-4E65-B4B0-A30D5A4D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927F-616D-4E21-AEE7-238EA956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51A4-B41D-4EAD-8002-4CB17521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8B0F-F2BA-42A4-B1D6-5C182786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6E61-64D2-4F8F-ACE6-11FC90DD6F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098D-6B46-4D7C-8B1F-899491B40B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hotosight.ru/photos/3066299/" TargetMode="External"/><Relationship Id="rId2" Type="http://schemas.openxmlformats.org/officeDocument/2006/relationships/hyperlink" Target="http://artnow.ru/ru/selected/7375/0/picture/0/359110.html?commentshttp://artnow.ru/ru/selected/7375/0/picture/0/359110.html?comments" TargetMode="External"/><Relationship Id="rId3" Type="http://schemas.openxmlformats.org/officeDocument/2006/relationships/hyperlink" Target="http://fotki.yandex.ru/users/art-valeri93/view/269757?page=0" TargetMode="External"/><Relationship Id="rId4" Type="http://schemas.openxmlformats.org/officeDocument/2006/relationships/hyperlink" Target="http://img-fotki.yandex.ru/get/3004/olga544.e/0_23ed7_87b29a70_L" TargetMode="External"/><Relationship Id="rId5" Type="http://schemas.openxmlformats.org/officeDocument/2006/relationships/hyperlink" Target="http://www.supersadovnik.ru/site_images/00000011/00053067.jpg" TargetMode="External"/><Relationship Id="rId6" Type="http://schemas.openxmlformats.org/officeDocument/2006/relationships/hyperlink" Target="http://www.panoramio.com/photo/31583601" TargetMode="External"/><Relationship Id="rId7" Type="http://schemas.openxmlformats.org/officeDocument/2006/relationships/hyperlink" Target="http://www.ecosystema.ru/08nature/trees/48.htm" TargetMode="External"/><Relationship Id="rId8" Type="http://schemas.openxmlformats.org/officeDocument/2006/relationships/hyperlink" Target="http://fotki.yandex.ru/users/sa7sha/view/305812?page=0" TargetMode="External"/><Relationship Id="rId9" Type="http://schemas.openxmlformats.org/officeDocument/2006/relationships/hyperlink" Target="http://foto.rambler.ru/photos/43f32f99-70ac-70e2-0be2-fc187b4c49c2/?viewsize=small" TargetMode="External"/><Relationship Id="rId10" Type="http://schemas.openxmlformats.org/officeDocument/2006/relationships/hyperlink" Target="http://www.looduskalender.ee/ru/node/6099" TargetMode="External"/><Relationship Id="rId11" Type="http://schemas.openxmlformats.org/officeDocument/2006/relationships/hyperlink" Target="http://www.shurgin.moifoto.ru/121751/f3391910/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1773360"/>
            <a:ext cx="8205480" cy="19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мся различать деревья зим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венниц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13920" y="1357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войное дерево — лиственница все хвоинки на зиму сбросила! Чёрные голые ветки растопырились в стороны. Только по оставшимся большим круглым шишкам сообразишь, что перед тобой хвойное дерево — лиственница. Теперь понятно, почему у неё такое странное название, ведь только лиственные деревья на зиму листву сбрасывают. Вот за сходство с ними получила она своё  им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Содержимое 3" descr="лиственница.jpg"/>
          <p:cNvPicPr/>
          <p:nvPr/>
        </p:nvPicPr>
        <p:blipFill>
          <a:blip r:embed="rId1"/>
          <a:stretch/>
        </p:blipFill>
        <p:spPr>
          <a:xfrm>
            <a:off x="5572080" y="1285920"/>
            <a:ext cx="3392640" cy="452592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4714920" y="5214960"/>
            <a:ext cx="2162160" cy="142884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ь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4288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ель. Мохнатые ветки ели похожи на большие лапы. Их и называют лапником. Снизу доверху укутывают они ствол лесной красавицы. Xвоинки - иголочки плотно-плотно сидят на веточках. Ни один зимний рисунок не обойдётся без ели. На концах веток висят большие, длинные шишки. В этих шишках семена. У хвойных растений семена созревают зимо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Содержимое 7" descr="3394937kpd.jpg"/>
          <p:cNvPicPr/>
          <p:nvPr/>
        </p:nvPicPr>
        <p:blipFill>
          <a:blip r:embed="rId1"/>
          <a:stretch/>
        </p:blipFill>
        <p:spPr>
          <a:xfrm>
            <a:off x="4572000" y="1500120"/>
            <a:ext cx="4071960" cy="305424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4500720" y="4786200"/>
            <a:ext cx="2714400" cy="180972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71720" y="150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ну узнать просто по высокому оранжевому или желтоватому стволу. На веточках хвоя, но совсем не похожая на еловую. Иголочки собраны пучками на концах веток. Сами хвоинки длинные, и растут только по две хвоинки из одного места, как склеенные. Шишки тоже другие по форме, чем у ели: большие, округлые, с круглыми чешуй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929200" y="1214280"/>
            <a:ext cx="2654280" cy="426744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5072040" y="5072040"/>
            <a:ext cx="2252520" cy="150012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х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71720" y="150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ёная вечно, не гасне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д круглый год не меняе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зор не бесчувственный, –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сны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иду она, как свят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5159520" y="1773360"/>
            <a:ext cx="3423960" cy="342396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ёза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www.photosight.ru/photos/3066299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 </a:t>
            </a:r>
            <a:r>
              <a:rPr b="0" lang="ru-RU" sz="13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artnow.ru/ru/selected/7375/0/picture/0/359110.html?commentshttp://artnow.ru/ru/selected/7375/0/picture/0/359110.html?comment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 фото </a:t>
            </a:r>
            <a:r>
              <a:rPr b="0" lang="ru-RU" sz="13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fotki.yandex.ru/users/art-valeri93/view/269757?page=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img-fotki.yandex.ru/get/3004/olga544.e/0_23ed7_87b29a70_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ёзовые серёжки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supersadovnik.ru/site_images/00000011/00053067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оль </a:t>
            </a:r>
            <a:r>
              <a:rPr b="0" lang="ru-RU" sz="13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panoramio.com/photo/3158360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а ветки </a:t>
            </a:r>
            <a:r>
              <a:rPr b="0" lang="ru-RU" sz="13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ecosystema.ru/08nature/trees/48.ht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а дерево </a:t>
            </a:r>
            <a:r>
              <a:rPr b="0" lang="ru-RU" sz="13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fotki.yandex.ru/users/sa7sha/view/305812?page=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а семена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foto.rambler.ru/photos/43f32f99-70ac-70e2-0be2-fc187b4c49c2/?viewsize=smal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мся узнавать деревья </a:t>
            </a:r>
            <a:r>
              <a:rPr b="0" lang="ru-RU" sz="13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www.looduskalender.ee/ru/node/609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ён дерево  </a:t>
            </a:r>
            <a:r>
              <a:rPr b="0" lang="ru-RU" sz="13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www.shurgin.moifoto.ru/121751/f3391910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зимуют деревья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pochemuchca.ru/naturalist/priroda21.ht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шки лиственницы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2007-03.photosight.ru/02/1954061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на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dic.academic.ru/pictures/wiki/files/77/Miedzyborow_160yo_pinus01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ка ели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torange.biz/photo/1/12/1235637432_53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ка сосны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fotki.yandex.ru/get/3303/galpeko7.e/0_1eeb9_baeaaf94_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липы , дуба, рябины , берёзы. Трафимова Г.В., Трафимов С.А., Федотова О.Н. Давай знакомиться мир! Книга для чтения. 1 класс. –М.: Издательство «Академкнига/Учебник», 200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0008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ятно увидеть липу, клён или дуб летом, ещё приятнее узнать их при встрече зимою. Узнать издалека, как узнаёшь старого знаком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3" descr="Безимени-2 копия.jpg"/>
          <p:cNvPicPr/>
          <p:nvPr/>
        </p:nvPicPr>
        <p:blipFill>
          <a:blip r:embed="rId1"/>
          <a:stretch/>
        </p:blipFill>
        <p:spPr>
          <a:xfrm>
            <a:off x="928800" y="1952640"/>
            <a:ext cx="7215120" cy="480996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3" descr="1 .jpg"/>
          <p:cNvPicPr/>
          <p:nvPr/>
        </p:nvPicPr>
        <p:blipFill>
          <a:blip r:embed="rId1"/>
          <a:stretch/>
        </p:blipFill>
        <p:spPr>
          <a:xfrm>
            <a:off x="5500800" y="1214280"/>
            <a:ext cx="3392280" cy="452628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  <p:sp>
        <p:nvSpPr>
          <p:cNvPr id="89" name=""/>
          <p:cNvSpPr txBox="1"/>
          <p:nvPr/>
        </p:nvSpPr>
        <p:spPr>
          <a:xfrm>
            <a:off x="121392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дерево, у которого все ветки изогнутые. В середине прогибаются книзу, наверху поднимаются. Это липа. Проверь на ней или под ней на снегу ещё лежат крылатые липовые ореш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По Н. Павлово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4214880" y="4714920"/>
            <a:ext cx="2690640" cy="201780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др сибир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"/>
          <p:cNvPicPr/>
          <p:nvPr/>
        </p:nvPicPr>
        <p:blipFill>
          <a:blip r:embed="rId1"/>
          <a:stretch/>
        </p:blipFill>
        <p:spPr>
          <a:xfrm>
            <a:off x="5497560" y="1844640"/>
            <a:ext cx="2735280" cy="333684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  <p:sp>
        <p:nvSpPr>
          <p:cNvPr id="93" name=""/>
          <p:cNvSpPr txBox="1"/>
          <p:nvPr/>
        </p:nvSpPr>
        <p:spPr>
          <a:xfrm>
            <a:off x="1042920" y="1844640"/>
            <a:ext cx="37512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дерево большо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етвях его растё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листва – густая хво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еет круглый го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гда на шишки щед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ин сибирский – ке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28800" y="135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мощное дерево с засохшими листьями на верхушках ветвей. Это дуб. Он не успел сбросить всю листву до морозов, и убитые листья остались на ветв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По Н. Павлово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3" descr="0_41dbd_19aba5c_L.jpeg"/>
          <p:cNvPicPr/>
          <p:nvPr/>
        </p:nvPicPr>
        <p:blipFill>
          <a:blip r:embed="rId1"/>
          <a:stretch/>
        </p:blipFill>
        <p:spPr>
          <a:xfrm>
            <a:off x="5357880" y="1357200"/>
            <a:ext cx="3386160" cy="452592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3643200" y="4000680"/>
            <a:ext cx="1982880" cy="264312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бин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85880" y="1643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уж как красива рябина, всё ещё увешанная яркими гроздьями ягод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По Н. Павлово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Содержимое 3" descr="рябина.jpg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ёз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3" descr="3066299_large.jpg"/>
          <p:cNvPicPr/>
          <p:nvPr/>
        </p:nvPicPr>
        <p:blipFill>
          <a:blip r:embed="rId1"/>
          <a:stretch/>
        </p:blipFill>
        <p:spPr>
          <a:xfrm>
            <a:off x="6000840" y="1357200"/>
            <a:ext cx="2663640" cy="4525920"/>
          </a:xfrm>
          <a:prstGeom prst="rect">
            <a:avLst/>
          </a:prstGeom>
          <a:ln w="38160">
            <a:solidFill>
              <a:srgbClr val="558ed5"/>
            </a:solidFill>
            <a:miter/>
          </a:ln>
        </p:spPr>
      </p:pic>
      <p:sp>
        <p:nvSpPr>
          <p:cNvPr id="103" name=""/>
          <p:cNvSpPr txBox="1"/>
          <p:nvPr/>
        </p:nvSpPr>
        <p:spPr>
          <a:xfrm>
            <a:off x="1643040" y="1285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берёзы ещё виднеются на ветках сухие серёжки, в которых спрятаны крылатые ореш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По Н. Павлово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3429000" y="4643280"/>
            <a:ext cx="2786040" cy="203868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ол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43000" y="135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сего в городе можно увидеть тополь. Ствол этого большого высокого дерева светло-серый. Веточку тополя можно определить по крупным шерстисто-пушистым почкам, покрытым крупными коричневыми чешуями. Почки на веточках расположены поочередно: одна справа другая повыше — слева, следующая — опять справа, и так д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й верхушки ветк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Содержимое 3" descr="31583601.jpg"/>
          <p:cNvPicPr/>
          <p:nvPr/>
        </p:nvPicPr>
        <p:blipFill>
          <a:blip r:embed="rId1"/>
          <a:stretch/>
        </p:blipFill>
        <p:spPr>
          <a:xfrm>
            <a:off x="5643720" y="1428840"/>
            <a:ext cx="3330360" cy="452592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4500720" y="5000760"/>
            <a:ext cx="2054160" cy="172548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ён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Содержимое 3" descr="клён.jpg"/>
          <p:cNvPicPr/>
          <p:nvPr/>
        </p:nvPicPr>
        <p:blipFill>
          <a:blip r:embed="rId1"/>
          <a:stretch/>
        </p:blipFill>
        <p:spPr>
          <a:xfrm>
            <a:off x="5500800" y="1428840"/>
            <a:ext cx="3392280" cy="452592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  <p:sp>
        <p:nvSpPr>
          <p:cNvPr id="111" name=""/>
          <p:cNvSpPr txBox="1"/>
          <p:nvPr/>
        </p:nvSpPr>
        <p:spPr>
          <a:xfrm>
            <a:off x="107172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ён можно узнать по правильной, упорядоченной кроне. Вторым хорошим признаком являются черешки. На концах веток даже зимой сохраняются черешки «носиков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3929040" y="4714920"/>
            <a:ext cx="2789280" cy="185724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енис</dc:creator>
  <dc:description/>
  <dc:language>en-US</dc:language>
  <cp:lastModifiedBy>RePack by Diakov</cp:lastModifiedBy>
  <dcterms:modified xsi:type="dcterms:W3CDTF">2017-02-09T08:40:04Z</dcterms:modified>
  <cp:revision>57</cp:revision>
  <dc:subject/>
  <dc:title>Слайд 1</dc:title>
</cp:coreProperties>
</file>