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applause.wav" ContentType="audio/x-wav"/>
  <Override PartName="/ppt/media/bomb.wav" ContentType="audio/x-wav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2EB1-4A1F-4685-9E86-05C4B83AA2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80AD-5C49-4C1B-90C3-BE1B39E360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DA86-670A-4B76-A58C-5D5D08F8C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870A-9D85-43BD-90FD-A715E8AA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8FE5-CB53-4475-94AF-B3D2551E9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B836-780B-4CC0-931B-4BD6B90E5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374C-CA59-4F45-8079-B93ABEE2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76FF-70AA-4DD6-8909-3973DAE9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36C3-2512-40A3-A975-05C4ADFA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B1FB-836A-47A7-B0D8-3ECF3D10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672A-6886-4E69-87FC-A0E1CE95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6BC3-E344-459E-BCBF-F8DEA3E7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B418-0CDD-4A27-903B-7F8434D4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971F-18F7-4C9B-AF7C-AFFA45EA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8953-73D3-4D3C-94F9-7B1195F8EF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audio" Target="../media/applause.wav"/><Relationship Id="rId6" Type="http://schemas.openxmlformats.org/officeDocument/2006/relationships/audio" Target="../media/bomb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6" descr="5732ea8502fc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казенное дошкольное образовательное учреждение                                                детский сад №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асти суток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дошкольного возрас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лаева С.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Острогожск -2016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3" descr="5732ea8502fc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" descr="3205.jpeg"/>
          <p:cNvPicPr/>
          <p:nvPr/>
        </p:nvPicPr>
        <p:blipFill>
          <a:blip r:embed="rId2"/>
          <a:stretch/>
        </p:blipFill>
        <p:spPr>
          <a:xfrm>
            <a:off x="250920" y="765000"/>
            <a:ext cx="4992480" cy="5904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"/>
          <p:cNvSpPr/>
          <p:nvPr/>
        </p:nvSpPr>
        <p:spPr>
          <a:xfrm>
            <a:off x="5148360" y="2281680"/>
            <a:ext cx="360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б здоровье сохрани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рганизм свой укреп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нает вся моя сем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лжен быть режим у дн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49673_html_m7802000.jpg"/>
          <p:cNvPicPr/>
          <p:nvPr/>
        </p:nvPicPr>
        <p:blipFill>
          <a:blip r:embed="rId1"/>
          <a:stretch/>
        </p:blipFill>
        <p:spPr>
          <a:xfrm>
            <a:off x="0" y="0"/>
            <a:ext cx="896472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3" descr="5732ea8502fc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1"/>
          <p:cNvSpPr/>
          <p:nvPr/>
        </p:nvSpPr>
        <p:spPr>
          <a:xfrm>
            <a:off x="826920" y="26028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проснулось в небе солнце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лянуло к нам в оконце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ушок горланит мудро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вещая: «Это…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тр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2" descr="загруженное.jpg"/>
          <p:cNvPicPr/>
          <p:nvPr/>
        </p:nvPicPr>
        <p:blipFill>
          <a:blip r:embed="rId2"/>
          <a:stretch/>
        </p:blipFill>
        <p:spPr>
          <a:xfrm>
            <a:off x="2195640" y="1844640"/>
            <a:ext cx="51130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2" descr="5732ea8502fc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1"/>
          <p:cNvSpPr/>
          <p:nvPr/>
        </p:nvSpPr>
        <p:spPr>
          <a:xfrm>
            <a:off x="755640" y="333360"/>
            <a:ext cx="4859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 ярко осветило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ю, всё позолотило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о сияет и блестит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 лениться не велит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нь)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4" descr="c49b96c36047_png(1).jpg"/>
          <p:cNvPicPr/>
          <p:nvPr/>
        </p:nvPicPr>
        <p:blipFill>
          <a:blip r:embed="rId2"/>
          <a:stretch/>
        </p:blipFill>
        <p:spPr>
          <a:xfrm>
            <a:off x="1979640" y="1700280"/>
            <a:ext cx="48960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2" descr="5732ea8502fc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1"/>
          <p:cNvSpPr/>
          <p:nvPr/>
        </p:nvSpPr>
        <p:spPr>
          <a:xfrm>
            <a:off x="755640" y="18900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прошел. Садится солнце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рак медленно крадетс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жигайте лампы, свечи —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ает темный...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ече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5" descr="main_351763_original.jpg"/>
          <p:cNvPicPr/>
          <p:nvPr/>
        </p:nvPicPr>
        <p:blipFill>
          <a:blip r:embed="rId2"/>
          <a:stretch/>
        </p:blipFill>
        <p:spPr>
          <a:xfrm>
            <a:off x="1835280" y="1557360"/>
            <a:ext cx="52578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2" descr="5732ea8502fc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1"/>
          <p:cNvSpPr/>
          <p:nvPr/>
        </p:nvSpPr>
        <p:spPr>
          <a:xfrm>
            <a:off x="468360" y="26028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бе звездочки горят,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чке струйки говорят,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ам в окно луна глядит,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им деткам спать велит.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очь)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4" descr="1383945145_www.radionetplus.ru-14.jpg"/>
          <p:cNvPicPr/>
          <p:nvPr/>
        </p:nvPicPr>
        <p:blipFill>
          <a:blip r:embed="rId2"/>
          <a:stretch/>
        </p:blipFill>
        <p:spPr>
          <a:xfrm>
            <a:off x="1476360" y="1557360"/>
            <a:ext cx="612288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img-fotki.yandex.ru/get/5908/kur-valentina.13d/0_8e761_7069918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2"/>
          <p:cNvSpPr/>
          <p:nvPr/>
        </p:nvSpPr>
        <p:spPr>
          <a:xfrm>
            <a:off x="571680" y="214200"/>
            <a:ext cx="3189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70c0"/>
                </a:solidFill>
                <a:latin typeface="Monotype Corsiva"/>
              </a:rPr>
              <a:t>Сутки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285840" y="2000160"/>
            <a:ext cx="5002200" cy="131292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Когда мы просыпаемся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285840" y="2714760"/>
            <a:ext cx="3709800" cy="131292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Когда мы гуляе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-1000080" y="3429000"/>
            <a:ext cx="9384120" cy="70344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Когда вся семья собирается дом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-278640" y="4143240"/>
            <a:ext cx="4473720" cy="70344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Когда мы спи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8" descr="http://cdn-write.demandstudios.com/upload/2000/400/10/5/2415.gif"/>
          <p:cNvPicPr/>
          <p:nvPr/>
        </p:nvPicPr>
        <p:blipFill>
          <a:blip r:embed="rId2"/>
          <a:stretch/>
        </p:blipFill>
        <p:spPr>
          <a:xfrm>
            <a:off x="4857840" y="785880"/>
            <a:ext cx="4286160" cy="3537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http://img-fotki.yandex.ru/get/5906/enik2217.36/0_65388_4a71c88b_XL"/>
          <p:cNvPicPr/>
          <p:nvPr/>
        </p:nvPicPr>
        <p:blipFill>
          <a:blip r:embed="rId3"/>
          <a:stretch/>
        </p:blipFill>
        <p:spPr>
          <a:xfrm>
            <a:off x="5214960" y="428760"/>
            <a:ext cx="4714920" cy="3375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0" descr="http://s11.radikal.ru/i184/1008/bb/ecd1e74c8d02.png"/>
          <p:cNvPicPr/>
          <p:nvPr/>
        </p:nvPicPr>
        <p:blipFill>
          <a:blip r:embed="rId4"/>
          <a:stretch/>
        </p:blipFill>
        <p:spPr>
          <a:xfrm>
            <a:off x="7102440" y="4000680"/>
            <a:ext cx="2041560" cy="2857320"/>
          </a:xfrm>
          <a:prstGeom prst="rect">
            <a:avLst/>
          </a:prstGeom>
          <a:ln w="0">
            <a:noFill/>
          </a:ln>
        </p:spPr>
      </p:pic>
      <p:sp>
        <p:nvSpPr>
          <p:cNvPr id="97" name="Улыбающееся лицо 12"/>
          <p:cNvSpPr/>
          <p:nvPr/>
        </p:nvSpPr>
        <p:spPr>
          <a:xfrm>
            <a:off x="214200" y="5572080"/>
            <a:ext cx="357480" cy="357120"/>
          </a:xfrm>
          <a:prstGeom prst="smileyFace">
            <a:avLst>
              <a:gd name="adj" fmla="val 9282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олния 14"/>
          <p:cNvSpPr/>
          <p:nvPr/>
        </p:nvSpPr>
        <p:spPr>
          <a:xfrm>
            <a:off x="714240" y="5643720"/>
            <a:ext cx="357480" cy="285480"/>
          </a:xfrm>
          <a:prstGeom prst="lightningBol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19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5732ea8502fc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Формировать знания детей о последовательности частей сут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Учить детей различать части суток(утро, день, вечер, ночь), закрепить названия, последовательность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Обогащать словарь детей: «сутки», «утро», «день», «вечер»,ночь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5732ea8502fc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" descr="vremy_sutok_dly_detey.jpg"/>
          <p:cNvPicPr/>
          <p:nvPr/>
        </p:nvPicPr>
        <p:blipFill>
          <a:blip r:embed="rId2"/>
          <a:stretch/>
        </p:blipFill>
        <p:spPr>
          <a:xfrm>
            <a:off x="1619280" y="1341360"/>
            <a:ext cx="5853240" cy="537228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>
            <a:off x="2340000" y="115920"/>
            <a:ext cx="453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 хочу Вам объяснить, 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на части день делить. 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ждый может по часам 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мя дня увидеть с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6" descr="2_01.jpg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555120" y="0"/>
            <a:ext cx="28018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onotype Corsiva"/>
              </a:rPr>
              <a:t>Утро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3348000" y="0"/>
            <a:ext cx="5796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ом солнышко встает, за окошком рассветет.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ыпайся, детвора, на зарядку всем пора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395280" y="-171360"/>
            <a:ext cx="2365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onotype Corsiva"/>
              </a:rPr>
              <a:t>День</a:t>
            </a:r>
            <a:r>
              <a:rPr b="1" lang="ru-RU" sz="8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3203640" y="0"/>
            <a:ext cx="594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на улице светло, время полдника пришло.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гулять, играть идем, много дел бывает днем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7" descr="b741b9f52f4fa0562a5d0f97a8f42e16.jpg"/>
          <p:cNvPicPr/>
          <p:nvPr/>
        </p:nvPicPr>
        <p:blipFill>
          <a:blip r:embed="rId1"/>
          <a:stretch/>
        </p:blipFill>
        <p:spPr>
          <a:xfrm>
            <a:off x="250920" y="1052640"/>
            <a:ext cx="864216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369214410fcf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6" descr="96060164_Risunok__31_.jpg"/>
          <p:cNvPicPr/>
          <p:nvPr/>
        </p:nvPicPr>
        <p:blipFill>
          <a:blip r:embed="rId1"/>
          <a:stretch/>
        </p:blipFill>
        <p:spPr>
          <a:xfrm>
            <a:off x="304920" y="981000"/>
            <a:ext cx="8534160" cy="561816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2"/>
          <p:cNvSpPr/>
          <p:nvPr/>
        </p:nvSpPr>
        <p:spPr>
          <a:xfrm>
            <a:off x="2700360" y="0"/>
            <a:ext cx="623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и солнышко садится, это вечер к нам стучится.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 семья вернется в дом, соберется за сто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-170280" y="0"/>
            <a:ext cx="323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onotype Corsiva"/>
              </a:rPr>
              <a:t>Вече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Управляющая кнопка: домой 5">
            <a:hlinkClick r:id="rId2" action="ppaction://hlinksldjump"/>
          </p:cNvPr>
          <p:cNvSpPr/>
          <p:nvPr/>
        </p:nvSpPr>
        <p:spPr>
          <a:xfrm>
            <a:off x="8358120" y="614376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5" descr="1383945145_www.radionetplus.ru-14.jpg"/>
          <p:cNvPicPr/>
          <p:nvPr/>
        </p:nvPicPr>
        <p:blipFill>
          <a:blip r:embed="rId1"/>
          <a:stretch/>
        </p:blipFill>
        <p:spPr>
          <a:xfrm>
            <a:off x="539640" y="907920"/>
            <a:ext cx="8067960" cy="57024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>
            <a:off x="2627280" y="115920"/>
            <a:ext cx="608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закончился давно. На дворе совсем темно.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чь приходит. Нам она доброго желает с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-331560" y="260280"/>
            <a:ext cx="303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onotype Corsiva"/>
              </a:rPr>
              <a:t>Ночь</a:t>
            </a:r>
            <a:r>
              <a:rPr b="0" lang="ru-RU" sz="8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img10.jpg"/>
          <p:cNvPicPr/>
          <p:nvPr/>
        </p:nvPicPr>
        <p:blipFill>
          <a:blip r:embed="rId1"/>
          <a:stretch/>
        </p:blipFill>
        <p:spPr>
          <a:xfrm>
            <a:off x="611280" y="260280"/>
            <a:ext cx="813096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15:08:50Z</dcterms:created>
  <dc:creator>Светлана</dc:creator>
  <dc:description/>
  <dc:language>en-US</dc:language>
  <cp:lastModifiedBy>user</cp:lastModifiedBy>
  <dcterms:modified xsi:type="dcterms:W3CDTF">2017-02-09T16:15:35Z</dcterms:modified>
  <cp:revision>43</cp:revision>
  <dc:subject/>
  <dc:title>Слайд 1</dc:title>
</cp:coreProperties>
</file>