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applause.wav" ContentType="audio/x-wav"/>
  <Override PartName="/ppt/media/bomb.wav" ContentType="audio/x-wav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516C-6C5E-4B04-A4CD-25989B2F7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A861-9DAB-4399-B8BD-2592987BE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086-B8EE-4337-8E12-CB483C3E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DFB-CDAF-4333-9685-5049CD98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B98-6231-4FA8-8805-0087EB05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5BB-1A6A-4A68-9B34-F06F2049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BF6-2D6A-4A4F-AD3F-B79371FA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CA7-3A70-48A4-BFA4-357E6BAC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B28-6499-420A-9C12-6A1AD450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79D-3B3F-468B-B25E-C30355C8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38B-300D-4CCB-A1D8-8F53BB56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D60-3152-40A2-B222-F747634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084-390B-4D82-A17A-72F3926C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E77-49C3-4548-973D-5AB32B2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A8E0-E226-4BA9-8458-8206AFF02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pplause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                                               детский сад №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 суток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школьного возрас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а С.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строгожск -2016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3205.jpeg"/>
          <p:cNvPicPr/>
          <p:nvPr/>
        </p:nvPicPr>
        <p:blipFill>
          <a:blip r:embed="rId2"/>
          <a:stretch/>
        </p:blipFill>
        <p:spPr>
          <a:xfrm>
            <a:off x="250920" y="765000"/>
            <a:ext cx="4992480" cy="5904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5148360" y="228168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 здоровье сохран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м свой укреп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ет вся моя 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ен быть режим у дн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49673_html_m7802000.jpg"/>
          <p:cNvPicPr/>
          <p:nvPr/>
        </p:nvPicPr>
        <p:blipFill>
          <a:blip r:embed="rId1"/>
          <a:stretch/>
        </p:blipFill>
        <p:spPr>
          <a:xfrm>
            <a:off x="0" y="0"/>
            <a:ext cx="8964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826920" y="260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роснулось в небе солнц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нуло к нам в оконц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ушок горланит мудр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ещая: «Это…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т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загруженное.jpg"/>
          <p:cNvPicPr/>
          <p:nvPr/>
        </p:nvPicPr>
        <p:blipFill>
          <a:blip r:embed="rId2"/>
          <a:stretch/>
        </p:blipFill>
        <p:spPr>
          <a:xfrm>
            <a:off x="2195640" y="1844640"/>
            <a:ext cx="511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755640" y="333360"/>
            <a:ext cx="485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ярко освети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ю, всё позолотил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сияет и блест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лениться не вел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)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c49b96c36047_png(1).jpg"/>
          <p:cNvPicPr/>
          <p:nvPr/>
        </p:nvPicPr>
        <p:blipFill>
          <a:blip r:embed="rId2"/>
          <a:stretch/>
        </p:blipFill>
        <p:spPr>
          <a:xfrm>
            <a:off x="1979640" y="1700280"/>
            <a:ext cx="4896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755640" y="189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шел. Садится солнц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рак медленно крадетс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гайте лампы, свечи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ает темный..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ч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main_351763_original.jpg"/>
          <p:cNvPicPr/>
          <p:nvPr/>
        </p:nvPicPr>
        <p:blipFill>
          <a:blip r:embed="rId2"/>
          <a:stretch/>
        </p:blipFill>
        <p:spPr>
          <a:xfrm>
            <a:off x="1835280" y="1557360"/>
            <a:ext cx="5257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468360" y="260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звездочки г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чке струйки гов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в окно луна гляди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м деткам спать вели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чь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1383945145_www.radionetplus.ru-14.jpg"/>
          <p:cNvPicPr/>
          <p:nvPr/>
        </p:nvPicPr>
        <p:blipFill>
          <a:blip r:embed="rId2"/>
          <a:stretch/>
        </p:blipFill>
        <p:spPr>
          <a:xfrm>
            <a:off x="1476360" y="1557360"/>
            <a:ext cx="61228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mg-fotki.yandex.ru/get/5908/kur-valentina.13d/0_8e761_7069918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571680" y="214200"/>
            <a:ext cx="318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Monotype Corsiva"/>
              </a:rPr>
              <a:t>Сутк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85840" y="2000160"/>
            <a:ext cx="5002200" cy="131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просыпаемс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85840" y="2714760"/>
            <a:ext cx="3709800" cy="131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гуля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-1000080" y="3429000"/>
            <a:ext cx="9384120" cy="703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вся семья собирается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-278640" y="4143240"/>
            <a:ext cx="4473720" cy="703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сп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http://cdn-write.demandstudios.com/upload/2000/400/10/5/2415.gif"/>
          <p:cNvPicPr/>
          <p:nvPr/>
        </p:nvPicPr>
        <p:blipFill>
          <a:blip r:embed="rId2"/>
          <a:stretch/>
        </p:blipFill>
        <p:spPr>
          <a:xfrm>
            <a:off x="4857840" y="785880"/>
            <a:ext cx="4286160" cy="353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img-fotki.yandex.ru/get/5906/enik2217.36/0_65388_4a71c88b_XL"/>
          <p:cNvPicPr/>
          <p:nvPr/>
        </p:nvPicPr>
        <p:blipFill>
          <a:blip r:embed="rId3"/>
          <a:stretch/>
        </p:blipFill>
        <p:spPr>
          <a:xfrm>
            <a:off x="5214960" y="428760"/>
            <a:ext cx="4714920" cy="337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://s11.radikal.ru/i184/1008/bb/ecd1e74c8d02.png"/>
          <p:cNvPicPr/>
          <p:nvPr/>
        </p:nvPicPr>
        <p:blipFill>
          <a:blip r:embed="rId4"/>
          <a:stretch/>
        </p:blipFill>
        <p:spPr>
          <a:xfrm>
            <a:off x="7102440" y="4000680"/>
            <a:ext cx="2041560" cy="2857320"/>
          </a:xfrm>
          <a:prstGeom prst="rect">
            <a:avLst/>
          </a:prstGeom>
          <a:ln w="0">
            <a:noFill/>
          </a:ln>
        </p:spPr>
      </p:pic>
      <p:sp>
        <p:nvSpPr>
          <p:cNvPr id="97" name="Улыбающееся лицо 12"/>
          <p:cNvSpPr/>
          <p:nvPr/>
        </p:nvSpPr>
        <p:spPr>
          <a:xfrm>
            <a:off x="214200" y="5572080"/>
            <a:ext cx="357480" cy="35712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олния 14"/>
          <p:cNvSpPr/>
          <p:nvPr/>
        </p:nvSpPr>
        <p:spPr>
          <a:xfrm>
            <a:off x="714240" y="5643720"/>
            <a:ext cx="357480" cy="285480"/>
          </a:xfrm>
          <a:prstGeom prst="lightningBol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знания детей о последовательности частей су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ить детей различать части суток(утро, день, вечер, ночь), закрепить названия, последовательность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огащать словарь детей: «сутки», «утро», «день», «вечер»,ноч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vremy_sutok_dly_detey.jpg"/>
          <p:cNvPicPr/>
          <p:nvPr/>
        </p:nvPicPr>
        <p:blipFill>
          <a:blip r:embed="rId2"/>
          <a:stretch/>
        </p:blipFill>
        <p:spPr>
          <a:xfrm>
            <a:off x="1619280" y="1341360"/>
            <a:ext cx="5853240" cy="5372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340000" y="11592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хочу Вам объяснить, 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 части день делить. 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дый может по часам 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дня увидеть 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2_0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55120" y="0"/>
            <a:ext cx="28018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Утр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348000" y="0"/>
            <a:ext cx="579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солнышко встает, за окошком рассвет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ыпайся, детвора, на зарядку всем пор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95280" y="-171360"/>
            <a:ext cx="236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День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203640" y="0"/>
            <a:ext cx="59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 улице светло, время полдника пришло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улять, играть идем, много дел бывает днем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7" descr="b741b9f52f4fa0562a5d0f97a8f42e16.jpg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369214410fcf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96060164_Risunok__31_.jpg"/>
          <p:cNvPicPr/>
          <p:nvPr/>
        </p:nvPicPr>
        <p:blipFill>
          <a:blip r:embed="rId1"/>
          <a:stretch/>
        </p:blipFill>
        <p:spPr>
          <a:xfrm>
            <a:off x="304920" y="981000"/>
            <a:ext cx="8534160" cy="5618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700360" y="0"/>
            <a:ext cx="62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солнышко садится, это вечер к нам стучитс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 вернется в дом, соберется за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-170280" y="0"/>
            <a:ext cx="323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Веч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омой 5">
            <a:hlinkClick r:id="rId2" action="ppaction://hlinksldjump"/>
          </p:cNvPr>
          <p:cNvSpPr/>
          <p:nvPr/>
        </p:nvSpPr>
        <p:spPr>
          <a:xfrm>
            <a:off x="835812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1383945145_www.radionetplus.ru-14.jpg"/>
          <p:cNvPicPr/>
          <p:nvPr/>
        </p:nvPicPr>
        <p:blipFill>
          <a:blip r:embed="rId1"/>
          <a:stretch/>
        </p:blipFill>
        <p:spPr>
          <a:xfrm>
            <a:off x="539640" y="907920"/>
            <a:ext cx="8067960" cy="57024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627280" y="115920"/>
            <a:ext cx="608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закончился давно. На дворе совсем темно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 приходит. Нам она доброго желает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-331560" y="260280"/>
            <a:ext cx="303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Ночь</a:t>
            </a: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img10.jpg"/>
          <p:cNvPicPr/>
          <p:nvPr/>
        </p:nvPicPr>
        <p:blipFill>
          <a:blip r:embed="rId1"/>
          <a:stretch/>
        </p:blipFill>
        <p:spPr>
          <a:xfrm>
            <a:off x="611280" y="260280"/>
            <a:ext cx="8130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08:50Z</dcterms:created>
  <dc:creator>Светлана</dc:creator>
  <dc:description/>
  <dc:language>en-US</dc:language>
  <cp:lastModifiedBy>user</cp:lastModifiedBy>
  <dcterms:modified xsi:type="dcterms:W3CDTF">2017-02-09T16:15:35Z</dcterms:modified>
  <cp:revision>43</cp:revision>
  <dc:subject/>
  <dc:title>Слайд 1</dc:title>
</cp:coreProperties>
</file>