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1603-E141-46AA-83B2-07D530F0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1CE1-7050-4894-A8DB-9BB751E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99B5-C1D7-44AE-83B1-5CA6B787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1FF8-999A-45E8-89F8-8B0D9396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B677-0689-4FD7-B543-ED10C9D6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514A-F558-4D98-87A2-ECB7AFE0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F3C3-A9EA-429A-9BD4-5B991675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5D89-D952-4FC2-B7C4-03E5137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B7E4-9570-4937-B38A-E21B6FE9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E5A2-9F6A-4DAD-AFCC-991E65D1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5EBE-E21B-47A7-A6E2-2E033E9D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06AA-2D5B-4E6E-AAAE-62099619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CB9E-1F04-46C2-B733-D206B042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BB7E-CD40-4D1C-929A-E714119D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E1CC-1D9C-44D8-AD6F-6757DF68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C6DB-CD9B-4229-B23C-8B6B901D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504C-C378-4CC9-978B-E9826119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B3D1-0680-4395-B263-56C73D72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CDBD-A2AF-4C5A-88E6-680FC320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E750-A12B-4662-89F4-C8F15C59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68CD-D0E5-49FE-9B12-7A5CE047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51AE-C139-4367-AC7B-C5A6F3A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5B36-B9AD-4320-AA45-B5C982B3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92E3-1E22-4836-8C5A-A1D683D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BBF2-6878-43DF-BBDA-EAB7FB6A45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66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0922-B707-4D7D-AE88-861691CC36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4000" y="4508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fdef6"/>
                </a:solidFill>
                <a:latin typeface="Arial"/>
              </a:rPr>
              <a:t>Крещение 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4083120" y="622620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23640" y="5722560"/>
            <a:ext cx="815652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ентация для детей разновозрастной группы компенсирующей направ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ДОУ № 18 «Колосок» ст.Тернов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9" descr="8014f89b671b79d08e2cff0ea720f056"/>
          <p:cNvPicPr/>
          <p:nvPr/>
        </p:nvPicPr>
        <p:blipFill>
          <a:blip r:embed="rId2"/>
          <a:stretch/>
        </p:blipFill>
        <p:spPr>
          <a:xfrm>
            <a:off x="1547640" y="404640"/>
            <a:ext cx="60278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8920" y="5444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и крещении детей погружают в наполненную водой купель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0" name="Picture 3" descr="c1999ce9a582"/>
          <p:cNvPicPr/>
          <p:nvPr/>
        </p:nvPicPr>
        <p:blipFill>
          <a:blip r:embed="rId1"/>
          <a:stretch/>
        </p:blipFill>
        <p:spPr>
          <a:xfrm>
            <a:off x="1258920" y="260280"/>
            <a:ext cx="6754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аздник Крещение Господне отмечается </a:t>
            </a:r>
            <a:br>
              <a:rPr sz="32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19 января у всех православных верующих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3" descr="58254647"/>
          <p:cNvPicPr/>
          <p:nvPr/>
        </p:nvPicPr>
        <p:blipFill>
          <a:blip r:embed="rId1"/>
          <a:stretch/>
        </p:blipFill>
        <p:spPr>
          <a:xfrm>
            <a:off x="1258920" y="189000"/>
            <a:ext cx="68659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Это один из самых древних праздников христианской Церкви, связан с крещением Иисуса Христа в реке Иордан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Picture 4" descr="03052009196"/>
          <p:cNvPicPr/>
          <p:nvPr/>
        </p:nvPicPr>
        <p:blipFill>
          <a:blip r:embed="rId1"/>
          <a:stretch/>
        </p:blipFill>
        <p:spPr>
          <a:xfrm>
            <a:off x="1187280" y="18900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280" y="5300640"/>
            <a:ext cx="8964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огда Иисусу исполнилось 30 лет, он пришел на реку Иордан к Иоанну Крестителю, чтобы принять от него крещение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3" descr="1515pati"/>
          <p:cNvPicPr/>
          <p:nvPr/>
        </p:nvPicPr>
        <p:blipFill>
          <a:blip r:embed="rId1"/>
          <a:stretch/>
        </p:blipFill>
        <p:spPr>
          <a:xfrm>
            <a:off x="1763640" y="189000"/>
            <a:ext cx="58485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5444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Когда Иоанн крестил в воде Иисуса, открылось небо, и сошел на Иисуса Христа Святой Дух в виде голубя, и послышался голос с небес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8" name="Picture 4" descr="kreshenie_gospodne3"/>
          <p:cNvPicPr/>
          <p:nvPr/>
        </p:nvPicPr>
        <p:blipFill>
          <a:blip r:embed="rId1"/>
          <a:stretch/>
        </p:blipFill>
        <p:spPr>
          <a:xfrm>
            <a:off x="2484360" y="189000"/>
            <a:ext cx="374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551628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В память крещения Спасителя в праздник совершается великое освящение воды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Picture 4" descr="picturecontent-pid-2b91d"/>
          <p:cNvPicPr/>
          <p:nvPr/>
        </p:nvPicPr>
        <p:blipFill>
          <a:blip r:embed="rId1"/>
          <a:stretch/>
        </p:blipFill>
        <p:spPr>
          <a:xfrm>
            <a:off x="611280" y="18900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8:16:18Z</dcterms:created>
  <dc:creator>Admin</dc:creator>
  <dc:description/>
  <dc:language>en-US</dc:language>
  <cp:lastModifiedBy>user</cp:lastModifiedBy>
  <dcterms:modified xsi:type="dcterms:W3CDTF">2017-02-09T16:41:56Z</dcterms:modified>
  <cp:revision>81</cp:revision>
  <dc:subject/>
  <dc:title>Муниципальное дошкольное образовательное  учреждение Детский сад №4 «Золушка»</dc:title>
</cp:coreProperties>
</file>