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E717-80A5-4750-9F65-FCD9225E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E9AD-5BD2-4B93-9BA1-1D0AE311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7880-541B-4EEC-9D7B-20196336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9238-0CB6-4FA5-8FA7-E15180EF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F33F-E0C5-45A1-83E6-CDF7A54D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91E6-DA21-48E2-A244-46F0FF9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8166-14F5-4E28-B3F8-2F876E56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E7E0-BC94-42D5-90DF-F9381CD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80C9-16E9-4C49-8393-C026307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3D01-66A4-4215-950A-558F910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E02F-82B9-4CE8-972B-1BEA9A6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236F-8630-444B-9252-6CBEB4F7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EF4-F0A9-48A2-AF5C-2AEFADB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30F3-377F-4A13-ADB6-A3827BA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CBDF-6E63-4FA0-B4E0-F3EB0B9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5510-2840-4F00-ACD1-F738D1C1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4173-657D-4EB1-B131-C7542A67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1CE8-D56A-4B46-BA40-80DD42E8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DE34-EB05-43EF-B28D-02C9033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895A-09F0-4A60-B93D-3106DF09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6B00-34F5-41BC-8404-B02B2E2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6E82-30B1-4AE3-B4AE-584A4532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740E-336A-4ABC-9BF9-542291D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7D5F-5A8D-44CA-BF7F-97724B9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E9E9-F5CD-453F-938B-D0930CA71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66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5CF0-4611-4B74-B74B-D6927E0E46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Крещение 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4083120" y="622620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3640" y="5722560"/>
            <a:ext cx="815652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я для детей разновозрастной группы компенсирующей направ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 18 «Колосок» ст.Тернов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9" descr="8014f89b671b79d08e2cff0ea720f056"/>
          <p:cNvPicPr/>
          <p:nvPr/>
        </p:nvPicPr>
        <p:blipFill>
          <a:blip r:embed="rId2"/>
          <a:stretch/>
        </p:blipFill>
        <p:spPr>
          <a:xfrm>
            <a:off x="1547640" y="404640"/>
            <a:ext cx="6027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544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и крещении детей погружают в наполненную водой купел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Picture 3" descr="c1999ce9a582"/>
          <p:cNvPicPr/>
          <p:nvPr/>
        </p:nvPicPr>
        <p:blipFill>
          <a:blip r:embed="rId1"/>
          <a:stretch/>
        </p:blipFill>
        <p:spPr>
          <a:xfrm>
            <a:off x="1258920" y="26028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здник Крещение Господне отмечается 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19 января у всех православных верующи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3" descr="58254647"/>
          <p:cNvPicPr/>
          <p:nvPr/>
        </p:nvPicPr>
        <p:blipFill>
          <a:blip r:embed="rId1"/>
          <a:stretch/>
        </p:blipFill>
        <p:spPr>
          <a:xfrm>
            <a:off x="1258920" y="1890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Это один из самых древних праздников христианской Церкви, связан с крещением Иисуса Христа в реке Иордан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4" descr="03052009196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280" y="530064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огда Иисусу исполнилось 30 лет, он пришел на реку Иордан к Иоанну Крестителю, чтобы принять от него крещ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3" descr="1515pati"/>
          <p:cNvPicPr/>
          <p:nvPr/>
        </p:nvPicPr>
        <p:blipFill>
          <a:blip r:embed="rId1"/>
          <a:stretch/>
        </p:blipFill>
        <p:spPr>
          <a:xfrm>
            <a:off x="1763640" y="189000"/>
            <a:ext cx="58485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Когда Иоанн крестил в воде Иисуса, открылось небо, и сошел на Иисуса Христа Святой Дух в виде голубя, и послышался голос с небес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4" descr="kreshenie_gospodne3"/>
          <p:cNvPicPr/>
          <p:nvPr/>
        </p:nvPicPr>
        <p:blipFill>
          <a:blip r:embed="rId1"/>
          <a:stretch/>
        </p:blipFill>
        <p:spPr>
          <a:xfrm>
            <a:off x="2484360" y="189000"/>
            <a:ext cx="374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5516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память крещения Спасителя в праздник совершается великое освящение воды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4" descr="picturecontent-pid-2b91d"/>
          <p:cNvPicPr/>
          <p:nvPr/>
        </p:nvPicPr>
        <p:blipFill>
          <a:blip r:embed="rId1"/>
          <a:stretch/>
        </p:blipFill>
        <p:spPr>
          <a:xfrm>
            <a:off x="611280" y="18900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16:18Z</dcterms:created>
  <dc:creator>Admin</dc:creator>
  <dc:description/>
  <dc:language>en-US</dc:language>
  <cp:lastModifiedBy>user</cp:lastModifiedBy>
  <dcterms:modified xsi:type="dcterms:W3CDTF">2017-02-09T16:41:56Z</dcterms:modified>
  <cp:revision>81</cp:revision>
  <dc:subject/>
  <dc:title>Муниципальное дошкольное образовательное  учреждение Детский сад №4 «Золушка»</dc:title>
</cp:coreProperties>
</file>