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2BA-1642-4C38-9AF6-D1E7873C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BE2-2C73-4952-9712-CA8E99ED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B28-9C69-4B32-B2E6-EFB63872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905-4DAA-4A5B-8DD2-34DF8DF0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A6B99-884E-4DEF-A245-CFF9FB77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001B3-11BE-447B-A56F-9E86BFF8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34972-2355-4A81-8ADA-A8D5BA7E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9E880-93C3-4656-B194-6CB283B4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5007C-58AE-403C-9D51-C31519D0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D354D-D576-4772-AA11-5311248F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E0EC3-966B-49C3-9ACE-23AFC883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8A8-8653-47DA-ABA7-A91383E3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B87B9-E07D-4F15-942F-BE27FF7B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AC4CE-B364-45BE-9D3D-F04A3163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527FA-F619-4CBE-95E7-0B33A247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6F281-60FA-4C61-BA14-E0EAD785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AD905-8E44-4BEC-98E0-719F79E2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FFE-4D39-49F7-BEC2-BFBFAACC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26C-3A2D-48C3-B494-13224AFA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C46-CCEE-45C0-8ADE-F123EED2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D55-8B03-47E0-9BCA-90DB843A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CA5-C126-4908-ADFB-25227F1E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584-E085-40F9-86E7-F73CFB7B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F49C-630F-44E2-9CC0-79ECE2D1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930C-F06C-48D0-A1FF-E9D9E92974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CF7C-42D1-4249-BA05-71AA7B6C9C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Arial"/>
              </a:rPr>
              <a:t>Подводный мир Байкала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2464a597eae9ec5c73d86156c9b27b655c7e3429966908"/>
          <p:cNvPicPr/>
          <p:nvPr/>
        </p:nvPicPr>
        <p:blipFill>
          <a:blip r:embed="rId1"/>
          <a:stretch/>
        </p:blipFill>
        <p:spPr>
          <a:xfrm>
            <a:off x="1476360" y="162864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Байкальский</a:t>
            </a: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хариус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6" name="Picture 5" descr="246"/>
          <p:cNvPicPr/>
          <p:nvPr/>
        </p:nvPicPr>
        <p:blipFill>
          <a:blip r:embed="rId1"/>
          <a:stretch/>
        </p:blipFill>
        <p:spPr>
          <a:xfrm>
            <a:off x="179280" y="4005360"/>
            <a:ext cx="6156360" cy="2730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47"/>
          <p:cNvPicPr/>
          <p:nvPr/>
        </p:nvPicPr>
        <p:blipFill>
          <a:blip r:embed="rId2"/>
          <a:stretch/>
        </p:blipFill>
        <p:spPr>
          <a:xfrm>
            <a:off x="2987640" y="1052640"/>
            <a:ext cx="5943600" cy="30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Байкальский</a:t>
            </a: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омуль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9" name="Picture 4" descr="249"/>
          <p:cNvPicPr/>
          <p:nvPr/>
        </p:nvPicPr>
        <p:blipFill>
          <a:blip r:embed="rId1"/>
          <a:stretch/>
        </p:blipFill>
        <p:spPr>
          <a:xfrm>
            <a:off x="324000" y="1628640"/>
            <a:ext cx="84326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Обыкновенная щука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1" name="Picture 4" descr="252"/>
          <p:cNvPicPr/>
          <p:nvPr/>
        </p:nvPicPr>
        <p:blipFill>
          <a:blip r:embed="rId1"/>
          <a:stretch/>
        </p:blipFill>
        <p:spPr>
          <a:xfrm>
            <a:off x="179280" y="1916280"/>
            <a:ext cx="872028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Голомян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3" name="Picture 2" descr="http://zooex.baikal.ru/pictures/fish/comephorus_dybowskii_m.jpg"/>
          <p:cNvPicPr/>
          <p:nvPr/>
        </p:nvPicPr>
        <p:blipFill>
          <a:blip r:embed="rId1"/>
          <a:stretch/>
        </p:blipFill>
        <p:spPr>
          <a:xfrm>
            <a:off x="509760" y="1557360"/>
            <a:ext cx="7642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2:28:09Z</dcterms:created>
  <dc:creator>User</dc:creator>
  <dc:description/>
  <dc:language>en-US</dc:language>
  <cp:lastModifiedBy>Nika</cp:lastModifiedBy>
  <dcterms:modified xsi:type="dcterms:W3CDTF">2016-06-08T17:57:21Z</dcterms:modified>
  <cp:revision>9</cp:revision>
  <dc:subject/>
  <dc:title>Подводный мир Байкала</dc:title>
</cp:coreProperties>
</file>