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C52-4196-4469-9085-63560CE8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B8E-E92E-4FEF-89D3-E3143BE7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BBA-93CD-4692-9FFF-B7158010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1D0-05A3-464C-8F41-A24EF652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70048-F3B2-4248-A40B-CB6C86A2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57AEB-474C-42ED-A88C-B8B06FB6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1C0C9-0912-440E-8F35-2C0ABE2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ECF84-B4EE-4209-8FD5-1FE4CBAC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24990-86FA-4D6C-B079-50870D75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11C2E-4376-44DE-A43C-B03C3AD9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BD990-2DE6-46E8-A4AE-3D23BF7B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979-171E-4486-9A97-C098DD50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10CE8-60AF-4B14-AE3E-DB281BE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6D73A-6169-4F32-83F4-9918314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2A317-2627-4627-B4DC-4727B785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5D0EF-2E9A-42E0-9786-B3E93DDC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E5836-AC98-491D-B222-EB4D6945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109-5043-4B95-B0C1-207C73B4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6C3-4F7F-4A86-9A32-B06C657F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7F8-3856-4F21-88FD-87FC7822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554-5F82-49CD-8EE6-A1BD0314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E2E-DC82-4520-93F8-08FE59F7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343-B15D-422C-B284-20F3513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960-340F-422A-98A4-BFCA1B09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4C0-95A6-4146-A75C-E4FC9C86DF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76EF-A0E7-4407-85A0-36B2CAAA26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Arial"/>
              </a:rPr>
              <a:t>Подводный мир Байкала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2464a597eae9ec5c73d86156c9b27b655c7e3429966908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хариус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Picture 5" descr="246"/>
          <p:cNvPicPr/>
          <p:nvPr/>
        </p:nvPicPr>
        <p:blipFill>
          <a:blip r:embed="rId1"/>
          <a:stretch/>
        </p:blipFill>
        <p:spPr>
          <a:xfrm>
            <a:off x="179280" y="4005360"/>
            <a:ext cx="6156360" cy="2730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47"/>
          <p:cNvPicPr/>
          <p:nvPr/>
        </p:nvPicPr>
        <p:blipFill>
          <a:blip r:embed="rId2"/>
          <a:stretch/>
        </p:blipFill>
        <p:spPr>
          <a:xfrm>
            <a:off x="2987640" y="1052640"/>
            <a:ext cx="594360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омул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9" name="Picture 4" descr="249"/>
          <p:cNvPicPr/>
          <p:nvPr/>
        </p:nvPicPr>
        <p:blipFill>
          <a:blip r:embed="rId1"/>
          <a:stretch/>
        </p:blipFill>
        <p:spPr>
          <a:xfrm>
            <a:off x="324000" y="1628640"/>
            <a:ext cx="84326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Обыкновенная щука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1" name="Picture 4" descr="252"/>
          <p:cNvPicPr/>
          <p:nvPr/>
        </p:nvPicPr>
        <p:blipFill>
          <a:blip r:embed="rId1"/>
          <a:stretch/>
        </p:blipFill>
        <p:spPr>
          <a:xfrm>
            <a:off x="179280" y="1916280"/>
            <a:ext cx="87202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Голомян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3" name="Picture 2" descr="http://zooex.baikal.ru/pictures/fish/comephorus_dybowskii_m.jpg"/>
          <p:cNvPicPr/>
          <p:nvPr/>
        </p:nvPicPr>
        <p:blipFill>
          <a:blip r:embed="rId1"/>
          <a:stretch/>
        </p:blipFill>
        <p:spPr>
          <a:xfrm>
            <a:off x="509760" y="1557360"/>
            <a:ext cx="7642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2:28:09Z</dcterms:created>
  <dc:creator>User</dc:creator>
  <dc:description/>
  <dc:language>en-US</dc:language>
  <cp:lastModifiedBy>Nika</cp:lastModifiedBy>
  <dcterms:modified xsi:type="dcterms:W3CDTF">2016-06-08T17:57:21Z</dcterms:modified>
  <cp:revision>9</cp:revision>
  <dc:subject/>
  <dc:title>Подводный мир Байкала</dc:title>
</cp:coreProperties>
</file>