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0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73F4-A5B6-4CE2-B883-D28C006FE4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94CC-9BC8-419A-BAFD-4DA82F26789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зентация разработана  для учащихся 1 класса (программа УМК «Начальная школ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века» к учебник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.Ф. Виноградовой  «Окружающий мир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986F-73B3-445B-9F7F-FE84991F999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рогие ребята, конечно вы догадались, что носорог – только дикое животное. А вот слон может быть, как домашним, так и диким. Прочитайте книги, посмотрите телевизионные передачи, поищите сведения  о жизни слонов. Узнайте в каких странах слоны являются домашними животными. Для чего люди приручили слонов, сделав их домашними животными. Приятных поисков вам новых знаний, дорогие мои друзь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BB94-9149-4E55-A281-044AD1B67B1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 этом слайде думаю вы определили диких животных – пингвины и сова. Верблюды и овцы могут быть как домашними животными, так и дики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ебята,  очень интересно изучать жизнь животных. Вот например,  только верблюды могут передвигаться по рыхлому песку, в котором другие животные вязнут. Интересно узнать о жизни сов. Ведь они глотают пищу целиком, впоследствии отрыгивая остатки. Становитесь, ребята исследователями, узнаете   сколько видов сов в мире? Чем питаются совы-сипухи? Из какого необычного материала строят гнёзда совы-сипухи. Почему  отличный отец пингвин? Почему некоторые виды овец могут жить в жарком климате – в пустынях, а другие наоборот живут в холодном климате. Когда были приручены первые овцы? Ответы на все эти вопросы и на многие другие  найдёте обратившись 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Большой иллюстрированной энциклопедии животных – Москва  Изд-во: Махаон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Энциклопедии животных – Москва: Изд-во Эксмо,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DBB4-8671-4D6A-9B85-CC282C77216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онечно, вы догадались – эти животные родственники. Домашнее животное под №2, дикое под №1. А вот о том, какие виды диких свиней существуют в природе прочитайте в Энциклопедии животных, не пожалеете. А затем расскажите в классе о том, что узна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2BAE-906A-453A-8F7D-DA14777D40C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онечно, эти животные родственн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5CC2-B1D0-418C-B5A4-B77769BE693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ополнительную информацию по этому вопросу можно найти в Интернете, а также из книг о живот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6538-CB56-4646-8EC8-81CE5966355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дующее сообщение  на уроке может сделать учен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D4DA-1C4F-4FDA-B094-8E6465713BF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дание всем любителям собак: Составьте альбом с изображением всех видов соба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22E6-4DA6-46AE-8220-CE6889B24C2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та тема может стать вашей исследовательской работой. Выдвинете гипотезу,  поставьте цели и задачи, составьте план работы и вперёд. Желаю узнать много интересного и полезного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E358-53A7-410D-8D44-3561A0D59A4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ожно включить в свою исследовательскую работу и этот во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6818-8F21-4B83-A22B-E1515DDE88F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Ребята, я надеюсь вы уже догадалис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/о  Они все ищут себе пищ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Конечно, все эти животные добывают себе пищу, для этого передвигаются на разные расстоя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Ребята, ответьте на вопрос «Как ищет себе пищу корова, пчела, кр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/о Корова ходит по лугу и щиплет траву; пчела берёт нектар с цветков, для этого перелетает с цветка на цветок; крот роет под землёй ходы и питается червями, а так же воруют овощи с ого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3061-CF88-406E-B4D2-B010FBCEBE1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Ребята, каких вы видите животных, назови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/о Паук, обезьяны, дельфин, индю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Как видите животные могут жить везде: под землёй, в воде, на земле. В поисках пищи могут летать, плавать, бегать, рыть земл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Что же объединяет всех этих животны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/о Все они живые и  двигаются в поисках пищ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2BB4-65AC-4794-91EE-6F02C56D7DB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66"/>
                </a:solidFill>
                <a:latin typeface="Arial"/>
              </a:rPr>
              <a:t>Животные – это живые существа, обладающие способность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66"/>
                </a:solidFill>
                <a:latin typeface="Arial"/>
              </a:rPr>
              <a:t>двигаться в поисках 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EE04-0179-4F6B-BA32-6715909A4B2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ебята, вы рассмотрели изображения животных,  ответьте теперь какие бывают животные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/о Домашние и ди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абота по учебни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ите иллюстрации учебника стр.42 и скажите, кто заботится о домашних животны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/о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ыполните задание в учебнике стр.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читайте пословицу в учебнике. Что она обозначае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ыполняем задания учебника на стр.43-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ем теперь  в тетрад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1EC9-0DE3-42F3-945F-2AE13DE2B24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ебята, давайте поиграем в  интересную игру «Великий совет диких и домашних зверей». Представьте себе, что все мы звери. Одни – домашние звери, а другие – дикие звери. (Выберите себе роль, кого вы бы хотели сейчас сыграть дикого или домашнего животного. Распределение ролей. Дети одевают шапочки зверей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ли  на свете домашние и дикие животные и вот однажды собрались они на большой совет и   между ними возник спор: Кому живётся лучше диким или домашним животным. (класс разбивается на 2 команды – 1 команда -домашние животные; другая -дикие животные. Каждый должен защитить своего животного, рассказать о  его условиях жизни). В результате игры заполняется таблица характеризующая домашних и диких животных. Таким образом учащиеся самостоятельно знакомится с новым материалом, с понятиями дикие и домашние живот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DD3E-EC17-49D8-9580-0BA1D11923E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деюсь, вы догадались, что утверждение это неверно, так как рысь – дикое животно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9FE2-2A4A-438D-A280-BB06725E803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авайте рассмотрим место жительства диких живот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D094-DDD5-4DBE-AD63-E6B5DF998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1A16-079B-4636-8489-9A442B13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FD92-3556-4497-BFD4-9F038CD02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91A5-CD82-483C-8221-1E084FAAA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183D-CA5A-4C11-8233-C9ED2D632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43B6-6A14-43C5-BC3D-1F45A2A2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DAB21-9AFE-4575-91A9-DAA39C4E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90BEE-ACEE-4850-9985-186A627B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49C7-9B3F-42FB-A38F-1D70378A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DE49-289B-4308-8D0E-571CDE28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D47F-7025-4D56-A239-2FDFD9C4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65AA-0835-406A-BFD0-4EC46A10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F918-B430-4682-8014-F9B0FF0D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9BBF-BF12-41E0-BFA7-D21C925E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30EB-AB14-4402-862E-C5737680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B5DA-840D-4A24-8810-62621C9D0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627C0-57E7-480F-86EF-15EA80B6E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5B65-241D-4E6D-A64B-0D40AF9B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856E-5CE0-43D7-9822-06EEC5DD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3E8E-12A8-4C1D-8958-FACC781A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C7FB-4A18-4BC8-9268-AC42E155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5119-1B58-431E-A364-D86C5BC1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3992-57F9-478E-BCD2-492A3971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305D-CF37-472D-B207-5254DC2E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76BA-06EB-4142-96A0-90CD2241B1A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9FEE-C596-41FC-AA96-01B02DA0E88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Arial"/>
              </a:rPr>
              <a:t>Дикие животны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114"/>
          <p:cNvPicPr/>
          <p:nvPr/>
        </p:nvPicPr>
        <p:blipFill>
          <a:blip r:embed="rId1"/>
          <a:stretch/>
        </p:blipFill>
        <p:spPr>
          <a:xfrm>
            <a:off x="250920" y="1916280"/>
            <a:ext cx="3673440" cy="475272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5"/>
          <p:cNvSpPr/>
          <p:nvPr/>
        </p:nvSpPr>
        <p:spPr>
          <a:xfrm>
            <a:off x="250920" y="260280"/>
            <a:ext cx="489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Там, где обед себе можно добы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высоко на деревьях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если только вытянуть ше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6" descr="129"/>
          <p:cNvPicPr/>
          <p:nvPr/>
        </p:nvPicPr>
        <p:blipFill>
          <a:blip r:embed="rId2"/>
          <a:stretch/>
        </p:blipFill>
        <p:spPr>
          <a:xfrm>
            <a:off x="4284720" y="1916280"/>
            <a:ext cx="4608360" cy="468144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7"/>
          <p:cNvSpPr/>
          <p:nvPr/>
        </p:nvSpPr>
        <p:spPr>
          <a:xfrm>
            <a:off x="5003640" y="333360"/>
            <a:ext cx="36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Живут  и на крайнем север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где очень холод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04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18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33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37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3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132"/>
          <p:cNvPicPr/>
          <p:nvPr/>
        </p:nvPicPr>
        <p:blipFill>
          <a:blip r:embed="rId1"/>
          <a:stretch/>
        </p:blipFill>
        <p:spPr>
          <a:xfrm>
            <a:off x="324000" y="2708280"/>
            <a:ext cx="3743280" cy="3457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135"/>
          <p:cNvPicPr/>
          <p:nvPr/>
        </p:nvPicPr>
        <p:blipFill>
          <a:blip r:embed="rId2"/>
          <a:stretch/>
        </p:blipFill>
        <p:spPr>
          <a:xfrm>
            <a:off x="4500720" y="2708280"/>
            <a:ext cx="4321080" cy="343548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6"/>
          <p:cNvSpPr/>
          <p:nvPr/>
        </p:nvSpPr>
        <p:spPr>
          <a:xfrm>
            <a:off x="179280" y="54936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Назовите этих животны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Какое из животных может быть только дики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а какое  может быть диким , а может быть и домашни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8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77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1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84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8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91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5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0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6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100"/>
          <p:cNvPicPr/>
          <p:nvPr/>
        </p:nvPicPr>
        <p:blipFill>
          <a:blip r:embed="rId1"/>
          <a:stretch/>
        </p:blipFill>
        <p:spPr>
          <a:xfrm>
            <a:off x="250920" y="476280"/>
            <a:ext cx="3954240" cy="3097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105"/>
          <p:cNvPicPr/>
          <p:nvPr/>
        </p:nvPicPr>
        <p:blipFill>
          <a:blip r:embed="rId2"/>
          <a:stretch/>
        </p:blipFill>
        <p:spPr>
          <a:xfrm>
            <a:off x="4500720" y="476280"/>
            <a:ext cx="4392360" cy="30970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117"/>
          <p:cNvPicPr/>
          <p:nvPr/>
        </p:nvPicPr>
        <p:blipFill>
          <a:blip r:embed="rId3"/>
          <a:stretch/>
        </p:blipFill>
        <p:spPr>
          <a:xfrm>
            <a:off x="324000" y="3716280"/>
            <a:ext cx="3816360" cy="2952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128"/>
          <p:cNvPicPr/>
          <p:nvPr/>
        </p:nvPicPr>
        <p:blipFill>
          <a:blip r:embed="rId4"/>
          <a:stretch/>
        </p:blipFill>
        <p:spPr>
          <a:xfrm>
            <a:off x="4356000" y="3716280"/>
            <a:ext cx="4537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4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0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6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2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4"/>
          <p:cNvSpPr/>
          <p:nvPr/>
        </p:nvSpPr>
        <p:spPr>
          <a:xfrm>
            <a:off x="468360" y="404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Родственники эти животные или не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Под каким номером дикое животное, а под каким домашне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5" descr="118"/>
          <p:cNvPicPr/>
          <p:nvPr/>
        </p:nvPicPr>
        <p:blipFill>
          <a:blip r:embed="rId1"/>
          <a:stretch/>
        </p:blipFill>
        <p:spPr>
          <a:xfrm>
            <a:off x="179280" y="2219400"/>
            <a:ext cx="4176720" cy="44496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112"/>
          <p:cNvPicPr/>
          <p:nvPr/>
        </p:nvPicPr>
        <p:blipFill>
          <a:blip r:embed="rId2"/>
          <a:stretch/>
        </p:blipFill>
        <p:spPr>
          <a:xfrm>
            <a:off x="4572000" y="2133720"/>
            <a:ext cx="4176720" cy="453528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7"/>
          <p:cNvSpPr/>
          <p:nvPr/>
        </p:nvSpPr>
        <p:spPr>
          <a:xfrm>
            <a:off x="2126160" y="155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6661440" y="17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86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93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7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2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0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4"/>
          <p:cNvSpPr/>
          <p:nvPr/>
        </p:nvSpPr>
        <p:spPr>
          <a:xfrm>
            <a:off x="250920" y="4046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Выскажите своё предположение  по следующему вопросу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могут ли эти живот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быть родственникам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5" descr="107"/>
          <p:cNvPicPr/>
          <p:nvPr/>
        </p:nvPicPr>
        <p:blipFill>
          <a:blip r:embed="rId1"/>
          <a:stretch/>
        </p:blipFill>
        <p:spPr>
          <a:xfrm>
            <a:off x="179280" y="1700280"/>
            <a:ext cx="4681800" cy="4968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109"/>
          <p:cNvPicPr/>
          <p:nvPr/>
        </p:nvPicPr>
        <p:blipFill>
          <a:blip r:embed="rId2"/>
          <a:stretch/>
        </p:blipFill>
        <p:spPr>
          <a:xfrm>
            <a:off x="5076720" y="1700280"/>
            <a:ext cx="38163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36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0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43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7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50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4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5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6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4"/>
          <p:cNvSpPr/>
          <p:nvPr/>
        </p:nvSpPr>
        <p:spPr>
          <a:xfrm>
            <a:off x="324000" y="333360"/>
            <a:ext cx="8496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Предком всех современных собак являются волки, дружеский сою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 которыми человек заключил 15 – 20 тысяч лет наза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5" descr="107"/>
          <p:cNvPicPr/>
          <p:nvPr/>
        </p:nvPicPr>
        <p:blipFill>
          <a:blip r:embed="rId1"/>
          <a:stretch/>
        </p:blipFill>
        <p:spPr>
          <a:xfrm>
            <a:off x="2124000" y="1628640"/>
            <a:ext cx="46814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2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5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89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2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4"/>
          <p:cNvSpPr/>
          <p:nvPr/>
        </p:nvSpPr>
        <p:spPr>
          <a:xfrm>
            <a:off x="1479600" y="405000"/>
            <a:ext cx="680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</a:rPr>
              <a:t>15 – 20 тысяч лет назад предки собак начали помога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</a:rPr>
              <a:t>человеку в охране жилища и охо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</a:rPr>
              <a:t>За многие века приручённые человеком волки сильн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</a:rPr>
              <a:t>изменились. Индийские волки стали родоначальника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</a:rPr>
              <a:t>легавых, гончих, борзых, терьеров и болонок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</a:rPr>
              <a:t>шпицев и пуделей. Люди вывели множе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66"/>
                </a:solidFill>
                <a:latin typeface="Arial"/>
              </a:rPr>
              <a:t>пород собак. Некоторые из них декоративны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Arial"/>
              </a:rPr>
              <a:t>Но собаки многих пород имеют свои «профессии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3493440" y="3698280"/>
            <a:ext cx="31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«Профессии собак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2215800" y="5444640"/>
            <a:ext cx="20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лужат в арм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 поли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6447600" y="436500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щут нарко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8"/>
          <p:cNvSpPr/>
          <p:nvPr/>
        </p:nvSpPr>
        <p:spPr>
          <a:xfrm>
            <a:off x="5867640" y="4941000"/>
            <a:ext cx="210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храняют добр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9"/>
          <p:cNvSpPr/>
          <p:nvPr/>
        </p:nvSpPr>
        <p:spPr>
          <a:xfrm>
            <a:off x="5222520" y="5589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аботают поводыря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0"/>
          <p:cNvSpPr/>
          <p:nvPr/>
        </p:nvSpPr>
        <p:spPr>
          <a:xfrm>
            <a:off x="1979640" y="3284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Охотя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11"/>
          <p:cNvSpPr/>
          <p:nvPr/>
        </p:nvSpPr>
        <p:spPr>
          <a:xfrm>
            <a:off x="3711960" y="2852280"/>
            <a:ext cx="139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асут ск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12"/>
          <p:cNvSpPr/>
          <p:nvPr/>
        </p:nvSpPr>
        <p:spPr>
          <a:xfrm>
            <a:off x="888840" y="4076280"/>
            <a:ext cx="249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ытаскивают сет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пасают утопающ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13"/>
          <p:cNvSpPr/>
          <p:nvPr/>
        </p:nvSpPr>
        <p:spPr>
          <a:xfrm>
            <a:off x="6994440" y="2852640"/>
            <a:ext cx="116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пасаю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 гора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люд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5"/>
          <p:cNvSpPr/>
          <p:nvPr/>
        </p:nvSpPr>
        <p:spPr>
          <a:xfrm flipH="1" flipV="1">
            <a:off x="4642920" y="3357720"/>
            <a:ext cx="36036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16"/>
          <p:cNvSpPr/>
          <p:nvPr/>
        </p:nvSpPr>
        <p:spPr>
          <a:xfrm flipH="1" flipV="1">
            <a:off x="2987640" y="3645000"/>
            <a:ext cx="43200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17"/>
          <p:cNvSpPr/>
          <p:nvPr/>
        </p:nvSpPr>
        <p:spPr>
          <a:xfrm flipH="1">
            <a:off x="3348000" y="4221000"/>
            <a:ext cx="719280" cy="1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18"/>
          <p:cNvSpPr/>
          <p:nvPr/>
        </p:nvSpPr>
        <p:spPr>
          <a:xfrm flipH="1">
            <a:off x="4140360" y="4221000"/>
            <a:ext cx="79200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19"/>
          <p:cNvSpPr/>
          <p:nvPr/>
        </p:nvSpPr>
        <p:spPr>
          <a:xfrm flipV="1">
            <a:off x="6372360" y="3715920"/>
            <a:ext cx="72072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20"/>
          <p:cNvSpPr/>
          <p:nvPr/>
        </p:nvSpPr>
        <p:spPr>
          <a:xfrm>
            <a:off x="6443640" y="4292640"/>
            <a:ext cx="43344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21"/>
          <p:cNvSpPr/>
          <p:nvPr/>
        </p:nvSpPr>
        <p:spPr>
          <a:xfrm>
            <a:off x="6012000" y="4221000"/>
            <a:ext cx="28872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22"/>
          <p:cNvSpPr/>
          <p:nvPr/>
        </p:nvSpPr>
        <p:spPr>
          <a:xfrm>
            <a:off x="5651640" y="4292640"/>
            <a:ext cx="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0" dur="5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9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2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5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0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0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5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8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3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1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5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3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7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1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5" dur="5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9" dur="5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3" dur="500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829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34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37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40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45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50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55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60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63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68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71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76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81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886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91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4"/>
          <p:cNvSpPr/>
          <p:nvPr/>
        </p:nvSpPr>
        <p:spPr>
          <a:xfrm>
            <a:off x="611280" y="278280"/>
            <a:ext cx="79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ИДЫ СОБА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758160" y="1196280"/>
            <a:ext cx="16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СЛУЖЕБ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3710880" y="1196280"/>
            <a:ext cx="162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ОХОТНИЧЬ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6589440" y="1125000"/>
            <a:ext cx="20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ДЕКОРАТИВ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224280" y="1774440"/>
            <a:ext cx="3138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До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Шотландская овчар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Кавказская овчар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Сенберн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Восточноевропей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овчар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Пу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Доберман-Пинч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Ньюфаундленд (водолаз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Эрдельтерь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Боксё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Чёрный терь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Южнорусская овчар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9"/>
          <p:cNvSpPr/>
          <p:nvPr/>
        </p:nvSpPr>
        <p:spPr>
          <a:xfrm>
            <a:off x="3061440" y="1702080"/>
            <a:ext cx="33415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Русская псовая борз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Спани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Гладкошерст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фокстерь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Русская пегая гонч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Русско-Европей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лай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Жесткошерстная немец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лега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Пойнт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Так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Ирландский сетт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Шотландский сетт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Короткошерстная немец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лега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Английский сетт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10"/>
          <p:cNvSpPr/>
          <p:nvPr/>
        </p:nvSpPr>
        <p:spPr>
          <a:xfrm>
            <a:off x="6228720" y="2134800"/>
            <a:ext cx="2674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Тибетский терь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Японский х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Бедлингтонтерь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Французская боло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Папильон (Бабоч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Пуд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Тойтерь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Карликовый Пинч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Шпи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Моп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Чау-Ча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Пекине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0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5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0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5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0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3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6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9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2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5" dur="5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8" dur="500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1" dur="500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4" dur="500"/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7" dur="500"/>
                                        <p:tgtEl>
                                          <p:spTgt spid="2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0" dur="500"/>
                                        <p:tgtEl>
                                          <p:spTgt spid="2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3" dur="500"/>
                                        <p:tgtEl>
                                          <p:spTgt spid="2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6" dur="500"/>
                                        <p:tgtEl>
                                          <p:spTgt spid="2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1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4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7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0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3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6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9" dur="5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2" dur="500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5" dur="500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8" dur="500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1" dur="500"/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4" dur="500"/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7" dur="500"/>
                                        <p:tgtEl>
                                          <p:spTgt spid="2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0" dur="500"/>
                                        <p:tgtEl>
                                          <p:spTgt spid="2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3" dur="500"/>
                                        <p:tgtEl>
                                          <p:spTgt spid="2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6" dur="500"/>
                                        <p:tgtEl>
                                          <p:spTgt spid="2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1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4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7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0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3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6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9" dur="5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2" dur="500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5" dur="500"/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8" dur="500"/>
                                        <p:tgtEl>
                                          <p:spTgt spid="2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1" dur="500"/>
                                        <p:tgtEl>
                                          <p:spTgt spid="2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4" dur="500"/>
                                        <p:tgtEl>
                                          <p:spTgt spid="2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8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54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8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63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7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72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76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1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5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8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9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2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3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6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7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0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1" dur="5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5" dur="500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9" dur="500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2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3" dur="500"/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/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7" dur="500"/>
                                        <p:tgtEl>
                                          <p:spTgt spid="2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/>
                                        <p:tgtEl>
                                          <p:spTgt spid="2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0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1" dur="500"/>
                                        <p:tgtEl>
                                          <p:spTgt spid="2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/>
                                        <p:tgtEl>
                                          <p:spTgt spid="2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5" dur="500"/>
                                        <p:tgtEl>
                                          <p:spTgt spid="2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/>
                                        <p:tgtEl>
                                          <p:spTgt spid="2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9" dur="500"/>
                                        <p:tgtEl>
                                          <p:spTgt spid="2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/>
                                        <p:tgtEl>
                                          <p:spTgt spid="2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135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7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138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0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141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3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144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6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147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150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2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153" dur="5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156" dur="500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159" dur="500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162" dur="500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4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165" dur="500"/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7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168" dur="500"/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0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171" dur="500"/>
                                        <p:tgtEl>
                                          <p:spTgt spid="2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174" dur="500"/>
                                        <p:tgtEl>
                                          <p:spTgt spid="2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6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177" dur="500"/>
                                        <p:tgtEl>
                                          <p:spTgt spid="2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9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180" dur="500"/>
                                        <p:tgtEl>
                                          <p:spTgt spid="2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85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88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91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94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97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00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03" dur="5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06" dur="500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09" dur="500"/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2" dur="500"/>
                                        <p:tgtEl>
                                          <p:spTgt spid="2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5" dur="500"/>
                                        <p:tgtEl>
                                          <p:spTgt spid="2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8" dur="500"/>
                                        <p:tgtEl>
                                          <p:spTgt spid="2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4"/>
          <p:cNvSpPr/>
          <p:nvPr/>
        </p:nvSpPr>
        <p:spPr>
          <a:xfrm>
            <a:off x="395280" y="259200"/>
            <a:ext cx="856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"/>
              </a:rPr>
              <a:t>Собака – друг челове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5" descr="114"/>
          <p:cNvPicPr/>
          <p:nvPr/>
        </p:nvPicPr>
        <p:blipFill>
          <a:blip r:embed="rId1"/>
          <a:stretch/>
        </p:blipFill>
        <p:spPr>
          <a:xfrm>
            <a:off x="755640" y="1484280"/>
            <a:ext cx="762012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0" dur="indefinite" restart="never" nodeType="tmRoot">
          <p:childTnLst>
            <p:seq>
              <p:cTn id="1221" dur="indefinite" nodeType="mainSeq">
                <p:childTnLst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6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35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4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Детёныши собак – щенки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Как нужно правильно заботиться об этих удивительных животных.?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4" descr="110"/>
          <p:cNvPicPr/>
          <p:nvPr/>
        </p:nvPicPr>
        <p:blipFill>
          <a:blip r:embed="rId1"/>
          <a:stretch/>
        </p:blipFill>
        <p:spPr>
          <a:xfrm>
            <a:off x="539640" y="1700280"/>
            <a:ext cx="82090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7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26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роблемные вопрос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324000" y="212400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Кого называют животным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250920" y="313200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Какие бывают животны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5"/>
          <p:cNvSpPr/>
          <p:nvPr/>
        </p:nvSpPr>
        <p:spPr>
          <a:xfrm>
            <a:off x="611280" y="784080"/>
            <a:ext cx="77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Это всё животные. Они разные, но всех их объединяет общая чер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Чем они похож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6" descr="101"/>
          <p:cNvPicPr/>
          <p:nvPr/>
        </p:nvPicPr>
        <p:blipFill>
          <a:blip r:embed="rId1"/>
          <a:stretch/>
        </p:blipFill>
        <p:spPr>
          <a:xfrm>
            <a:off x="179280" y="2924280"/>
            <a:ext cx="3097440" cy="3481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056"/>
          <p:cNvPicPr/>
          <p:nvPr/>
        </p:nvPicPr>
        <p:blipFill>
          <a:blip r:embed="rId2"/>
          <a:stretch/>
        </p:blipFill>
        <p:spPr>
          <a:xfrm>
            <a:off x="3492360" y="2924280"/>
            <a:ext cx="2592360" cy="3457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крот"/>
          <p:cNvPicPr/>
          <p:nvPr/>
        </p:nvPicPr>
        <p:blipFill>
          <a:blip r:embed="rId3"/>
          <a:stretch/>
        </p:blipFill>
        <p:spPr>
          <a:xfrm>
            <a:off x="6300720" y="2924280"/>
            <a:ext cx="25923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8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8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8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5" descr="010"/>
          <p:cNvPicPr/>
          <p:nvPr/>
        </p:nvPicPr>
        <p:blipFill>
          <a:blip r:embed="rId1"/>
          <a:stretch/>
        </p:blipFill>
        <p:spPr>
          <a:xfrm>
            <a:off x="324000" y="333360"/>
            <a:ext cx="3527280" cy="2952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35"/>
          <p:cNvPicPr/>
          <p:nvPr/>
        </p:nvPicPr>
        <p:blipFill>
          <a:blip r:embed="rId2"/>
          <a:stretch/>
        </p:blipFill>
        <p:spPr>
          <a:xfrm>
            <a:off x="4067280" y="333360"/>
            <a:ext cx="4752720" cy="2951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104"/>
          <p:cNvPicPr/>
          <p:nvPr/>
        </p:nvPicPr>
        <p:blipFill>
          <a:blip r:embed="rId3"/>
          <a:stretch/>
        </p:blipFill>
        <p:spPr>
          <a:xfrm>
            <a:off x="324000" y="3500280"/>
            <a:ext cx="3527280" cy="3168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107"/>
          <p:cNvPicPr/>
          <p:nvPr/>
        </p:nvPicPr>
        <p:blipFill>
          <a:blip r:embed="rId4"/>
          <a:stretch/>
        </p:blipFill>
        <p:spPr>
          <a:xfrm>
            <a:off x="4067280" y="3500280"/>
            <a:ext cx="475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130"/>
          <p:cNvPicPr/>
          <p:nvPr/>
        </p:nvPicPr>
        <p:blipFill>
          <a:blip r:embed="rId1"/>
          <a:stretch/>
        </p:blipFill>
        <p:spPr>
          <a:xfrm>
            <a:off x="250920" y="189000"/>
            <a:ext cx="3743280" cy="3097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137"/>
          <p:cNvPicPr/>
          <p:nvPr/>
        </p:nvPicPr>
        <p:blipFill>
          <a:blip r:embed="rId2"/>
          <a:stretch/>
        </p:blipFill>
        <p:spPr>
          <a:xfrm>
            <a:off x="4356000" y="189000"/>
            <a:ext cx="4608720" cy="309708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7"/>
          <p:cNvSpPr/>
          <p:nvPr/>
        </p:nvSpPr>
        <p:spPr>
          <a:xfrm>
            <a:off x="395280" y="3860640"/>
            <a:ext cx="856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Кого можно назвать животным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1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1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4"/>
          <p:cNvSpPr/>
          <p:nvPr/>
        </p:nvSpPr>
        <p:spPr>
          <a:xfrm>
            <a:off x="684360" y="277956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Живот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2787480" y="4425840"/>
            <a:ext cx="70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395280" y="3879720"/>
            <a:ext cx="43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Домаш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3780000" y="386064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Ди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 flipH="1">
            <a:off x="3348000" y="3213000"/>
            <a:ext cx="432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9"/>
          <p:cNvSpPr/>
          <p:nvPr/>
        </p:nvSpPr>
        <p:spPr>
          <a:xfrm>
            <a:off x="5219640" y="3213000"/>
            <a:ext cx="576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468360" y="63972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Какие бывают животны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250920" y="208080"/>
            <a:ext cx="8569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Проблемный вопрос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Определить особенности домашних и диких живот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324000" y="3141720"/>
            <a:ext cx="29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Домашние живот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5364000" y="3213000"/>
            <a:ext cx="193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Дикие живот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7"/>
          <p:cNvSpPr/>
          <p:nvPr/>
        </p:nvSpPr>
        <p:spPr>
          <a:xfrm flipH="1">
            <a:off x="900000" y="3573360"/>
            <a:ext cx="28728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180720" y="4005360"/>
            <a:ext cx="127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Челове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охраня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Живот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от враг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9"/>
          <p:cNvSpPr/>
          <p:nvPr/>
        </p:nvSpPr>
        <p:spPr>
          <a:xfrm>
            <a:off x="2987640" y="3645000"/>
            <a:ext cx="21600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2484360" y="3860640"/>
            <a:ext cx="180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Живут в дом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человека, и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около дома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надворных постройк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11"/>
          <p:cNvSpPr/>
          <p:nvPr/>
        </p:nvSpPr>
        <p:spPr>
          <a:xfrm flipH="1" flipV="1">
            <a:off x="1835280" y="2852280"/>
            <a:ext cx="7128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12"/>
          <p:cNvSpPr/>
          <p:nvPr/>
        </p:nvSpPr>
        <p:spPr>
          <a:xfrm>
            <a:off x="468360" y="1413000"/>
            <a:ext cx="287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Человек корми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домашн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животных, заботи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о них, леч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если заболе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5"/>
          <p:cNvSpPr/>
          <p:nvPr/>
        </p:nvSpPr>
        <p:spPr>
          <a:xfrm>
            <a:off x="4643280" y="1557360"/>
            <a:ext cx="40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Животные сами добывают пищу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если заболели, то  лечат себя сам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заботятся о себе с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16"/>
          <p:cNvSpPr/>
          <p:nvPr/>
        </p:nvSpPr>
        <p:spPr>
          <a:xfrm flipH="1">
            <a:off x="5292360" y="3645000"/>
            <a:ext cx="14436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4213440" y="4005360"/>
            <a:ext cx="248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От врагов спасают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самостоятель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19"/>
          <p:cNvSpPr/>
          <p:nvPr/>
        </p:nvSpPr>
        <p:spPr>
          <a:xfrm>
            <a:off x="7236000" y="3716280"/>
            <a:ext cx="288720" cy="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20"/>
          <p:cNvSpPr/>
          <p:nvPr/>
        </p:nvSpPr>
        <p:spPr>
          <a:xfrm>
            <a:off x="7092720" y="3933720"/>
            <a:ext cx="218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Живут в дик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природе, жилищ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Делают себ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самостоятель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21"/>
          <p:cNvSpPr/>
          <p:nvPr/>
        </p:nvSpPr>
        <p:spPr>
          <a:xfrm flipH="1" flipV="1">
            <a:off x="6084720" y="2636640"/>
            <a:ext cx="216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23"/>
          <p:cNvSpPr/>
          <p:nvPr/>
        </p:nvSpPr>
        <p:spPr>
          <a:xfrm>
            <a:off x="0" y="5373720"/>
            <a:ext cx="383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Человек разводит  животных для своей   пользы(для получения мяса, шерсти, молока,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пуха, охраны жилища и т.д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24"/>
          <p:cNvSpPr/>
          <p:nvPr/>
        </p:nvSpPr>
        <p:spPr>
          <a:xfrm flipH="1">
            <a:off x="1763280" y="3789360"/>
            <a:ext cx="7164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6"/>
          <p:cNvSpPr/>
          <p:nvPr/>
        </p:nvSpPr>
        <p:spPr>
          <a:xfrm>
            <a:off x="4840200" y="5392800"/>
            <a:ext cx="303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Звери живут свободными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в дикой природ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27"/>
          <p:cNvSpPr/>
          <p:nvPr/>
        </p:nvSpPr>
        <p:spPr>
          <a:xfrm>
            <a:off x="6659640" y="3716280"/>
            <a:ext cx="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Верно ли, что перед вами одни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дикие животны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4" descr="134"/>
          <p:cNvPicPr/>
          <p:nvPr/>
        </p:nvPicPr>
        <p:blipFill>
          <a:blip r:embed="rId1"/>
          <a:stretch/>
        </p:blipFill>
        <p:spPr>
          <a:xfrm>
            <a:off x="250920" y="2349360"/>
            <a:ext cx="4033800" cy="432144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5"/>
          <p:cNvSpPr/>
          <p:nvPr/>
        </p:nvSpPr>
        <p:spPr>
          <a:xfrm>
            <a:off x="395280" y="1557360"/>
            <a:ext cx="458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Думал кошка, крикнул «Брысь»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Оказалась это…  Рыс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6" descr="107"/>
          <p:cNvPicPr/>
          <p:nvPr/>
        </p:nvPicPr>
        <p:blipFill>
          <a:blip r:embed="rId2"/>
          <a:stretch/>
        </p:blipFill>
        <p:spPr>
          <a:xfrm>
            <a:off x="4572000" y="2349360"/>
            <a:ext cx="4321080" cy="43196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7"/>
          <p:cNvSpPr/>
          <p:nvPr/>
        </p:nvSpPr>
        <p:spPr>
          <a:xfrm>
            <a:off x="6804000" y="1197000"/>
            <a:ext cx="201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Четыре ног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Пятый хвос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Шестая гри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1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b46d0"/>
                                      </p:to>
                                    </p:animClr>
                                    <p:animClr clrSpc="rgb">
                                      <p:cBhvr>
                                        <p:cTn id="200" dur="1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b46d0"/>
                                      </p:to>
                                    </p:animClr>
                                    <p:set>
                                      <p:cBhvr>
                                        <p:cTn id="201" dur="1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8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8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1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6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8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5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8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2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8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324000" y="0"/>
            <a:ext cx="8609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Дикие животные могут жить в разных места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1476360" y="155736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1. В лес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6" descr="116"/>
          <p:cNvPicPr/>
          <p:nvPr/>
        </p:nvPicPr>
        <p:blipFill>
          <a:blip r:embed="rId1"/>
          <a:stretch/>
        </p:blipFill>
        <p:spPr>
          <a:xfrm>
            <a:off x="179280" y="2133720"/>
            <a:ext cx="3745080" cy="44640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8"/>
          <p:cNvSpPr/>
          <p:nvPr/>
        </p:nvSpPr>
        <p:spPr>
          <a:xfrm>
            <a:off x="4067280" y="1413000"/>
            <a:ext cx="48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2. Там, где очень жарко, и 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больших расстояниях один пес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9" descr="119"/>
          <p:cNvPicPr/>
          <p:nvPr/>
        </p:nvPicPr>
        <p:blipFill>
          <a:blip r:embed="rId2"/>
          <a:stretch/>
        </p:blipFill>
        <p:spPr>
          <a:xfrm>
            <a:off x="4140360" y="2133720"/>
            <a:ext cx="48243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29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3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2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7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53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57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5:36:18Z</dcterms:created>
  <dc:creator>Любовь</dc:creator>
  <dc:description/>
  <dc:language>en-US</dc:language>
  <cp:lastModifiedBy>User</cp:lastModifiedBy>
  <dcterms:modified xsi:type="dcterms:W3CDTF">2017-02-08T09:50:40Z</dcterms:modified>
  <cp:revision>64</cp:revision>
  <dc:subject/>
  <dc:title>Дикие животные</dc:title>
</cp:coreProperties>
</file>