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EEAC-5657-4482-8B76-25677BCF62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80A-609F-4615-BD8A-95EADFE7C3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разработана  для учащихся 1 класса (программа УМК «Начальная школ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ека» к учебн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.Ф. Виноградовой  «Окружающий мир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829-B72E-42C8-B075-ADBE40B92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ребята, конечно вы догадались, что носорог – только дикое животное. А вот слон может быть, как домашним, так и диким. Прочитайте книги, посмотрите телевизионные передачи, поищите сведения  о жизни слонов. Узнайте в каких странах слоны являются домашними животными. Для чего люди приручили слонов, сделав их домашними животными. Приятных поисков вам новых знаний, дорогие мои друз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2F7-6D35-416F-A7FA-70C16B2B44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этом слайде думаю вы определили диких животных – пингвины и сова. Верблюды и овцы могут быть как домашними животными, так и дик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 очень интересно изучать жизнь животных. Вот например,  только верблюды могут передвигаться по рыхлому песку, в котором другие животные вязнут. Интересно узнать о жизни сов. Ведь они глотают пищу целиком, впоследствии отрыгивая остатки. Становитесь, ребята исследователями, узнаете   сколько видов сов в мире? Чем питаются совы-сипухи? Из какого необычного материала строят гнёзда совы-сипухи. Почему  отличный отец пингвин? Почему некоторые виды овец могут жить в жарком климате – в пустынях, а другие наоборот живут в холодном климате. Когда были приручены первые овцы? Ответы на все эти вопросы и на многие другие  найдёте обратившись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ольшой иллюстрированной энциклопедии животных – Москва  Изд-во: Махао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Энциклопедии животных – Москва: Изд-во Эксмо,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10B8-FEEB-4269-9A50-8958A0BE8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нечно, вы догадались – эти животные родственники. Домашнее животное под №2, дикое под №1. А вот о том, какие виды диких свиней существуют в природе прочитайте в Энциклопедии животных, не пожалеете. А затем расскажите в классе о том, что узн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CA2-2042-41AB-980C-0275E493B9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нечно, эти животные родствен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6CA-F0C6-4B5F-A87F-9F0B142990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полнительную информацию по этому вопросу можно найти в Интернете, а также из книг о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7D71-284E-4DE4-8F95-4C1F18A887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ее сообщение  на уроке может сделать уче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C6A-4867-47DB-ACB4-E358A75B8A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ние всем любителям собак: Составьте альбом с изображением всех видов соб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DB7-CF7A-46C6-867C-1A75DF1757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 тема может стать вашей исследовательской работой. Выдвинете гипотезу,  поставьте цели и задачи, составьте план работы и вперёд. Желаю узнать много интересного и полезно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9EAA-C20F-4B92-AEE7-AF272D7A34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но включить в свою исследовательскую работу и этот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57C-E14D-4AB1-B75B-CB6EFC20D1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ебята, я надеюсь вы уже догадали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 Они все ищут себе пищ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онечно, все эти животные добывают себе пищу, для этого передвигаются на разные рас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бята, ответьте на вопрос «Как ищет себе пищу корова, пчела, к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Корова ходит по лугу и щиплет траву; пчела берёт нектар с цветков, для этого перелетает с цветка на цветок; крот роет под землёй ходы и питается червями, а так же воруют овощи с о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12E-ADA4-48E8-AA65-14F34C7381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ебята, каких вы видите животных, назов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Паук, обезьяны, дельфин, индю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к видите животные могут жить везде: под землёй, в воде, на земле. В поисках пищи могут летать, плавать, бегать, рыть земл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Что же объединяет всех этих живот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Все они живые и  двигаются в поисках пи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A864-C721-4E47-9083-BCE0BCE890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Arial"/>
              </a:rPr>
              <a:t>Животные – это живые существа, обладающие способ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Arial"/>
              </a:rPr>
              <a:t>двигаться в поисках 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AD2-C93A-4089-8968-B7E0DB2131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вы рассмотрели изображения животных,  ответьте теперь какие бывают животны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о Домашние и ди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бота по учеб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те иллюстрации учебника стр.42 и скажите, кто заботится о домашних живот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о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полните задание в учебнике стр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тайте пословицу в учебнике. Что она обознач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полняем задания учебника на стр.43-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м теперь  в тетр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2B5-D79C-4E50-9870-815F052F3F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давайте поиграем в  интересную игру «Великий совет диких и домашних зверей». Представьте себе, что все мы звери. Одни – домашние звери, а другие – дикие звери. (Выберите себе роль, кого вы бы хотели сейчас сыграть дикого или домашнего животного. Распределение ролей. Дети одевают шапочки звере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  на свете домашние и дикие животные и вот однажды собрались они на большой совет и   между ними возник спор: Кому живётся лучше диким или домашним животным. (класс разбивается на 2 команды – 1 команда -домашние животные; другая -дикие животные. Каждый должен защитить своего животного, рассказать о  его условиях жизни). В результате игры заполняется таблица характеризующая домашних и диких животных. Таким образом учащиеся самостоятельно знакомится с новым материалом, с понятиями дикие и домашние живот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5FD-0372-4529-99B6-D825CA4EB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деюсь, вы догадались, что утверждение это неверно, так как рысь – дикое живот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5AF-8D04-4B41-879F-726E469565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вайте рассмотрим место жительства диких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FE8-52C9-4582-AF11-F02D4753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CC4-7E8C-42C4-93B4-904C73F7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33D-1ABD-4907-A4BD-F995A53D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AC-0BC4-496D-8711-2C40273F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CDB8-75A3-49DA-9BA0-FAA70292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937D-52E4-4997-B0A6-AC4CE7D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28CD-429A-444A-9FA6-C924637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10E4-1068-4809-8B69-3A8B982C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23EA-20EC-4EFC-9097-FE30F703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36C-1861-451E-AAB2-0366EF7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C6EC-907D-4D06-8294-4C46DFA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7BE-A016-4EEA-9756-67C0F73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8028-BB85-4C9D-AACE-8355CA0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988-5BC7-4884-BA73-AB8BEDC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4C5C-D7BE-4E5A-8B09-2BF8C7C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C790-0F63-4AA6-845D-77C99A3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FCB5-60F0-4799-866B-F127BBA1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73E-9062-43FE-BEB3-D900E0BC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DBD-28F1-4855-AFDC-30C2DB8D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BAD-CF37-4FCB-9262-699EF65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608-F1BC-424D-AE3B-096AF66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793-7CC4-403D-B6EB-FECD0C9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81D-3B19-4054-B3BD-4889850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758-7312-4891-B719-158CBB0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33A-E9D4-4EE5-8802-B92C35DF72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65CA-3512-45A8-A02F-6A06A6375D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Дикие живот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14"/>
          <p:cNvPicPr/>
          <p:nvPr/>
        </p:nvPicPr>
        <p:blipFill>
          <a:blip r:embed="rId1"/>
          <a:stretch/>
        </p:blipFill>
        <p:spPr>
          <a:xfrm>
            <a:off x="250920" y="1916280"/>
            <a:ext cx="3673440" cy="4752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50920" y="26028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Там, где обед себе можно доб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ысоко на деревь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если только вытянуть ше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129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46814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5003640" y="333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Живут  и на крайнем севе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де очень холод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32"/>
          <p:cNvPicPr/>
          <p:nvPr/>
        </p:nvPicPr>
        <p:blipFill>
          <a:blip r:embed="rId1"/>
          <a:stretch/>
        </p:blipFill>
        <p:spPr>
          <a:xfrm>
            <a:off x="324000" y="2708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135"/>
          <p:cNvPicPr/>
          <p:nvPr/>
        </p:nvPicPr>
        <p:blipFill>
          <a:blip r:embed="rId2"/>
          <a:stretch/>
        </p:blipFill>
        <p:spPr>
          <a:xfrm>
            <a:off x="4500720" y="2708280"/>
            <a:ext cx="4321080" cy="343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179280" y="549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азовите этих живот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ое из животных может быть только дики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 какое  может быть диким , а может быть и домашни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395424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105"/>
          <p:cNvPicPr/>
          <p:nvPr/>
        </p:nvPicPr>
        <p:blipFill>
          <a:blip r:embed="rId2"/>
          <a:stretch/>
        </p:blipFill>
        <p:spPr>
          <a:xfrm>
            <a:off x="4500720" y="47628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17"/>
          <p:cNvPicPr/>
          <p:nvPr/>
        </p:nvPicPr>
        <p:blipFill>
          <a:blip r:embed="rId3"/>
          <a:stretch/>
        </p:blipFill>
        <p:spPr>
          <a:xfrm>
            <a:off x="324000" y="371628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28"/>
          <p:cNvPicPr/>
          <p:nvPr/>
        </p:nvPicPr>
        <p:blipFill>
          <a:blip r:embed="rId4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одственники эти животные или н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д каким номером дикое животное, а под каким домаш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118"/>
          <p:cNvPicPr/>
          <p:nvPr/>
        </p:nvPicPr>
        <p:blipFill>
          <a:blip r:embed="rId1"/>
          <a:stretch/>
        </p:blipFill>
        <p:spPr>
          <a:xfrm>
            <a:off x="179280" y="2219400"/>
            <a:ext cx="417672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112"/>
          <p:cNvPicPr/>
          <p:nvPr/>
        </p:nvPicPr>
        <p:blipFill>
          <a:blip r:embed="rId2"/>
          <a:stretch/>
        </p:blipFill>
        <p:spPr>
          <a:xfrm>
            <a:off x="4572000" y="2133720"/>
            <a:ext cx="4176720" cy="4535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212616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6661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5092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ыскажите своё предположение  по следующему вопрос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огут ли эти 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ть родственник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107"/>
          <p:cNvPicPr/>
          <p:nvPr/>
        </p:nvPicPr>
        <p:blipFill>
          <a:blip r:embed="rId1"/>
          <a:stretch/>
        </p:blipFill>
        <p:spPr>
          <a:xfrm>
            <a:off x="179280" y="1700280"/>
            <a:ext cx="4681800" cy="496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109"/>
          <p:cNvPicPr/>
          <p:nvPr/>
        </p:nvPicPr>
        <p:blipFill>
          <a:blip r:embed="rId2"/>
          <a:stretch/>
        </p:blipFill>
        <p:spPr>
          <a:xfrm>
            <a:off x="5076720" y="170028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24000" y="333360"/>
            <a:ext cx="849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редком всех современных собак являются волки, дружеский сою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 которыми человек заключил 15 – 20 тысяч лет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107"/>
          <p:cNvPicPr/>
          <p:nvPr/>
        </p:nvPicPr>
        <p:blipFill>
          <a:blip r:embed="rId1"/>
          <a:stretch/>
        </p:blipFill>
        <p:spPr>
          <a:xfrm>
            <a:off x="2124000" y="1628640"/>
            <a:ext cx="46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479600" y="405000"/>
            <a:ext cx="68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15 – 20 тысяч лет назад предки собак начали помог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человеку в охране жилища и ох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За многие века приручённые человеком волки си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изменились. Индийские волки стали родоначальник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легавых, гончих, борзых, терьеров и болоно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шпицев и пуделей. Люди вывели множ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ород собак. Некоторые из них декоратив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о собаки многих пород имеют свои «професс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493440" y="36982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Профессии соба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215800" y="54446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ужат в ар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ол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447600" y="4365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щут нарко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867640" y="494100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храняют доб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5222520" y="558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ботают поводыр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97964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хот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711960" y="285228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сут ск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88840" y="407628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таскивают се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асают утоп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6994440" y="2852640"/>
            <a:ext cx="11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ас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го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H="1" flipV="1">
            <a:off x="4642920" y="335772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 flipV="1">
            <a:off x="2987640" y="3645000"/>
            <a:ext cx="43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3348000" y="4221000"/>
            <a:ext cx="7192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414036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V="1">
            <a:off x="6372360" y="3715920"/>
            <a:ext cx="720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6443640" y="4292640"/>
            <a:ext cx="4334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6012000" y="4221000"/>
            <a:ext cx="288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2"/>
          <p:cNvSpPr/>
          <p:nvPr/>
        </p:nvSpPr>
        <p:spPr>
          <a:xfrm>
            <a:off x="5651640" y="42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2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611280" y="278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ИДЫ СОБ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758160" y="11962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ЛУЖЕБ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0880" y="119628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ХОТНИЧ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6589440" y="1125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ЕКОР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24280" y="1774440"/>
            <a:ext cx="313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Д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отланд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вказ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енберн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Восточноевропе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у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Доберман-Пинч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ьюфаундленд (водола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Эрдель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оксё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Чёрный 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Южнорус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061440" y="1702080"/>
            <a:ext cx="334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ая псовая бор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пани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Гладкошерст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фокс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ая пегая гон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о-Европе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Жесткошерстная немец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ега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йн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ак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рланд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отланд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ороткошерстная немец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ега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Англий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228720" y="2134800"/>
            <a:ext cx="267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ибетский 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Японский х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едлингтон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Французская боло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апильон 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у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ой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рликовый Пинч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п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Мо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Чау-Ч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екин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2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6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9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2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5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8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1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4" dur="5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7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80" dur="500"/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7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3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2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5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8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95280" y="25920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Собака – друг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114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тёныши собак – щенки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нужно правильно заботиться об этих удивительных животных.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110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24000" y="2124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го называют живот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3132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кие бывают живот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611280" y="78408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Это всё животные. Они разные, но всех их объединяет общая че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Чем они похож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101"/>
          <p:cNvPicPr/>
          <p:nvPr/>
        </p:nvPicPr>
        <p:blipFill>
          <a:blip r:embed="rId1"/>
          <a:stretch/>
        </p:blipFill>
        <p:spPr>
          <a:xfrm>
            <a:off x="179280" y="2924280"/>
            <a:ext cx="3097440" cy="3481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056"/>
          <p:cNvPicPr/>
          <p:nvPr/>
        </p:nvPicPr>
        <p:blipFill>
          <a:blip r:embed="rId2"/>
          <a:stretch/>
        </p:blipFill>
        <p:spPr>
          <a:xfrm>
            <a:off x="3492360" y="2924280"/>
            <a:ext cx="2592360" cy="345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крот"/>
          <p:cNvPicPr/>
          <p:nvPr/>
        </p:nvPicPr>
        <p:blipFill>
          <a:blip r:embed="rId3"/>
          <a:stretch/>
        </p:blipFill>
        <p:spPr>
          <a:xfrm>
            <a:off x="6300720" y="2924280"/>
            <a:ext cx="259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010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35"/>
          <p:cNvPicPr/>
          <p:nvPr/>
        </p:nvPicPr>
        <p:blipFill>
          <a:blip r:embed="rId2"/>
          <a:stretch/>
        </p:blipFill>
        <p:spPr>
          <a:xfrm>
            <a:off x="4067280" y="333360"/>
            <a:ext cx="47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104"/>
          <p:cNvPicPr/>
          <p:nvPr/>
        </p:nvPicPr>
        <p:blipFill>
          <a:blip r:embed="rId3"/>
          <a:stretch/>
        </p:blipFill>
        <p:spPr>
          <a:xfrm>
            <a:off x="324000" y="350028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107"/>
          <p:cNvPicPr/>
          <p:nvPr/>
        </p:nvPicPr>
        <p:blipFill>
          <a:blip r:embed="rId4"/>
          <a:stretch/>
        </p:blipFill>
        <p:spPr>
          <a:xfrm>
            <a:off x="4067280" y="3500280"/>
            <a:ext cx="47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30"/>
          <p:cNvPicPr/>
          <p:nvPr/>
        </p:nvPicPr>
        <p:blipFill>
          <a:blip r:embed="rId1"/>
          <a:stretch/>
        </p:blipFill>
        <p:spPr>
          <a:xfrm>
            <a:off x="250920" y="189000"/>
            <a:ext cx="3743280" cy="309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137"/>
          <p:cNvPicPr/>
          <p:nvPr/>
        </p:nvPicPr>
        <p:blipFill>
          <a:blip r:embed="rId2"/>
          <a:stretch/>
        </p:blipFill>
        <p:spPr>
          <a:xfrm>
            <a:off x="4356000" y="189000"/>
            <a:ext cx="4608720" cy="3097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395280" y="3860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го можно назвать животны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684360" y="2779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787480" y="442584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5280" y="38797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780000" y="386064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3348000" y="3213000"/>
            <a:ext cx="4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219640" y="3213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68360" y="63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кие бывают живот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0920" y="208080"/>
            <a:ext cx="856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блемный вопро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пределить особенности домашних и диких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24000" y="314172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64000" y="32130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икие 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900000" y="3573360"/>
            <a:ext cx="28728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80720" y="4005360"/>
            <a:ext cx="12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хран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т вра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2987640" y="3645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484360" y="386064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ут в дом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а, 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оло дома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надворных построй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 flipV="1">
            <a:off x="1835280" y="2852280"/>
            <a:ext cx="7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68360" y="141300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корм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омаш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х, забот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 них, ле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забол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4643280" y="155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е сами добывают пищ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заболели, то  лечат себя с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заботятся о себе 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H="1">
            <a:off x="5292360" y="3645000"/>
            <a:ext cx="144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213440" y="400536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т врагов спас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амостоя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7236000" y="3716280"/>
            <a:ext cx="2887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7092720" y="3933720"/>
            <a:ext cx="21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ут в ди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ироде, жилищ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елают с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амостоя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 flipH="1" flipV="1">
            <a:off x="6084720" y="2636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0" y="537372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разводит  животных для своей   пользы(для получения мяса, шерсти, молока,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уха, охраны жилища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4"/>
          <p:cNvSpPr/>
          <p:nvPr/>
        </p:nvSpPr>
        <p:spPr>
          <a:xfrm flipH="1">
            <a:off x="1763280" y="3789360"/>
            <a:ext cx="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4840200" y="539280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Звери живут свободным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 дикой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659640" y="371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ерно ли, что перед вами одн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икие животны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134"/>
          <p:cNvPicPr/>
          <p:nvPr/>
        </p:nvPicPr>
        <p:blipFill>
          <a:blip r:embed="rId1"/>
          <a:stretch/>
        </p:blipFill>
        <p:spPr>
          <a:xfrm>
            <a:off x="250920" y="234936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95280" y="1557360"/>
            <a:ext cx="45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Думал кошка, крикнул «Брысь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казалась это…  Ры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107"/>
          <p:cNvPicPr/>
          <p:nvPr/>
        </p:nvPicPr>
        <p:blipFill>
          <a:blip r:embed="rId2"/>
          <a:stretch/>
        </p:blipFill>
        <p:spPr>
          <a:xfrm>
            <a:off x="457200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6804000" y="119700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Четыре ног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ятый хвос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Шестая гр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201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24000" y="0"/>
            <a:ext cx="860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икие животные могут жить в разных мес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476360" y="155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 В л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116"/>
          <p:cNvPicPr/>
          <p:nvPr/>
        </p:nvPicPr>
        <p:blipFill>
          <a:blip r:embed="rId1"/>
          <a:stretch/>
        </p:blipFill>
        <p:spPr>
          <a:xfrm>
            <a:off x="179280" y="213372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4067280" y="1413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 Там, где очень жарко, и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ольших расстояниях один пе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119"/>
          <p:cNvPicPr/>
          <p:nvPr/>
        </p:nvPicPr>
        <p:blipFill>
          <a:blip r:embed="rId2"/>
          <a:stretch/>
        </p:blipFill>
        <p:spPr>
          <a:xfrm>
            <a:off x="4140360" y="2133720"/>
            <a:ext cx="482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36:18Z</dcterms:created>
  <dc:creator>Любовь</dc:creator>
  <dc:description/>
  <dc:language>en-US</dc:language>
  <cp:lastModifiedBy>User</cp:lastModifiedBy>
  <dcterms:modified xsi:type="dcterms:W3CDTF">2017-02-08T09:50:40Z</dcterms:modified>
  <cp:revision>64</cp:revision>
  <dc:subject/>
  <dc:title>Дикие животные</dc:title>
</cp:coreProperties>
</file>