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4EA-53C1-4487-9416-CBF17E74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391-B1D4-4E8A-9BF7-A2C187AB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477-A6BC-4AE4-AE39-260F958C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FCF-6030-42FD-8609-C0AA7E2A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7B1C-77EC-4994-9E03-90095843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F7DC-FEEE-44B0-906D-CEEAC5F1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8F9D-322A-4CE2-9B07-CBB0BBAA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C767-AF82-44D3-8345-6D9D4B59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5304-37F0-4CB3-9F96-8A980E4D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090B-31C7-495E-8E1A-A825ED36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69F3-7152-496F-972F-F83FEA8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0CD-03A8-48D1-8E7D-EA1BBA6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6930-E772-4C1A-9398-C7296A90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6AD4-9AC4-436A-84F6-1B6C5ECF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7038-5494-41F0-8498-649D225B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B1BA-D344-47F0-885E-7BE68F5E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8BF9-CA08-4D1E-9D67-D0C2F09C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E80-345E-40B6-8444-3CDCD383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8A9-7BD0-4C76-9AA3-0DA3C639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389-04DF-48C7-BB81-A84344AD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2BE-1BA0-4B40-9239-04743DAE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C15-1102-4C23-8BEE-7F94F20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057-75F0-4AA7-915D-DDEA6766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CF3-EBF1-465E-BA91-C5FB87E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E009-42C3-49DF-8D4B-81F0D0260EC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BC94-F00C-43A1-A336-9B27C622E63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Презентация на тему: «Соборы России»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4120" y="4876920"/>
            <a:ext cx="3657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боту выполнил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ченица  4 клас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БОУ «Волошинская  СОШ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лохова Крист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ff"/>
                </a:solidFill>
                <a:latin typeface="Arial"/>
              </a:rPr>
              <a:t>Спасский  Староярмарочный соб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5720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пасский Староярмарочный собор  в городе Нижний Новгород, находится на территории Нижегородской ярмарки. Строительство было закончено в 1822 году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скоре после строительства, грунтовые воды размыли насыпь, служившую основой для здания и зданию потребовался капитальный ремонт, который был проведен в 1899 году. В 1906 году была сооружена новая колокольня. В советское время храм служил складом, но после передачи его обратно церкви, там были начаты реставрационные работ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 сегодня восстановительные работы почти закончены, в храме проходят богослужения. Также в храме хранятся святыни - восемь икон, шесть из которых с частицами мощ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flipH="1" rot="30000">
            <a:off x="374040" y="1523520"/>
            <a:ext cx="380844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ec85e"/>
                </a:solidFill>
                <a:latin typeface="Arial"/>
              </a:rPr>
              <a:t>Собор Александра Невск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67080" y="914040"/>
            <a:ext cx="45720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тот величественный собор занимает третье место по высоте среди всех российских храмов. Первый камень был положен 15 июля 1868 года великим князем Владимиром Александровичем, а все строительство велось по проекту архитектора Р.Я. Килевей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осписью икон занимался известный московский иконописец Ф.А. Соколов. На протяжении десятилетий храм пользовался популярностью как у купцов, так и у простых горожан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 сожалению, в 1930 году по решению советских властей решили храм закрыть. Прихожани сумели сохранить чудотворную икону Божией Матери и Животворящий Крес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настоящее время можно посетить и полюбоваться удивительным  собор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038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Петропавловский соб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9880" y="1219320"/>
            <a:ext cx="5029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тропавловский собор, построенный в 1726 году, является самой высокой церковью Казани. Его высота составляет 52 мет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бор, построенный в стиле русского барокко, основан купцом Иваном Афанасьевичем Михляевым в честь пятидесятилетия Петра I, в знак благодарности за доверие государя, отдавшего ему казенные суконные мануфактур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лавным украшением собора выступает величественный, 25-метровый 7-ярусный иконостас с барочной золоченой резьбой и деревянными золочеными Царскими вратами, выполненными в технике сквозной резьб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Arial"/>
              </a:rPr>
              <a:t>Пятигорский соб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190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ысль о постройке этого храма возникла у императора Николая I во время его пребывания в Пятигорске в октябре 1837 года. Государь обратил внимание на то, что существовавшая в то время Скорбященская церковь стала мала для города, и пообещал прислать проект новой каменной церкви. 25 октября 1842 года император утвердил проект и смету в 45 тысяч рублей, при чем, ввиду малочисленности пятигорцев, позволил собирать деньги на постройку по всей импери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5720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офийский соб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91120" y="121896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офийский собор - первый каменный храм и главная вологодская святыня. К строительству приложил руку сам Иоанн Васильевич Грозный. В 1565 году он начал сооружение каменной крепости, по площади вдвое превышающей Московский Кремль. Иван Грозный успел выстроить две каменных стены с 11 башнями, основал могучий Софийский собор, заложил еще несколько храмов и каменные палат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осписи 1680-х годов, выполненные ярославскими мастерами. При соборе имеется монументальная колокольня со смотровой площадкой, подъем на которую осуществляется по не менее монументальных деревянных всходов, занимающих все внутреннее пространство башн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Сретенский соб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43400" y="10663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ретенский собор являлся главной святыней Ялуторовска на протяжении полутора столет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Отличался от других городских храмов своей двухэтажной постройкой и шестью главами. Высота колокольни достигала 35 метров. Выдающимся являлся и иконостас храма, который состоял из трех ярусов и имел высоту более одиннадцати метров. Он был одним из самых красивых храмов в Сибир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Из-за того, что стены храма дали трещину, в 1931 году эту величественную церковь разобрали по кирпичикам. До наших дней дошли лишь фотографии духовного символа Ялуторовска. В 2002 году было принято решение о воссоздании храма. В 2010 году Сретенский храм, напоминающий прежний, был открыт на городской площади Ялуторовс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26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Сергиево - Казанский  собо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1120" y="1066320"/>
            <a:ext cx="45720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ергиево - Казанский собор действующий православный храм в г. Курске. Он был возведен в 1778 году в барочном стиле и является жемчужиной храмовой архитектуры. Подрядчиком в строительстве был отец Прохора Мошнина, который известен нам как Серафим Саровски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рам представляет собой стройную, устремленную ввысь двухэтажную постройку с ребристыми куполами, с большим количеством окон и разнообразных деталей декора. В тридцатых годах храм закрыли, а в нем разместили антирелигиозный музей, который был разграблен во время войны. В послевоенное время храм стал действенным и уже не закрывал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04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Собор Святой Екатерин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14440" y="1066320"/>
            <a:ext cx="47242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обор Святой Екатерины - центр духовной жизни Кубани. Его сооружение имеет статус памятника архитектуры и является одним из самых больших в России. Храм был возведен в честь избавления царской семьи от гибели во время катастрофы царского поезда в 1888 году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еличественный собор с семью престолами, вмещающий 4 тысячи человек был построен из красного кирпича и в обиходе жителей назывался "красным". В 1930 годах собор удалось спасти от сноса ради кирпичей, однако в 1934 году из-за малочисленности прихода он был превращен в склад, колокола были отправлены на переплавку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 1988 году к 1000-летию Крещения Руси собор был отреставрирован, вновь зазвучали колокола, а в 2012 году главный купол храма был покрыт сусальным золо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038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11:17:40Z</dcterms:created>
  <dc:creator>4</dc:creator>
  <dc:description/>
  <dc:language>en-US</dc:language>
  <cp:lastModifiedBy>note5</cp:lastModifiedBy>
  <dcterms:modified xsi:type="dcterms:W3CDTF">2017-02-08T19:19:1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