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971-C598-4E11-9513-E5721C0C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B95-28FE-4AD3-B0A4-244426F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8A0-74DF-4653-9087-3C628AE3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270-CB17-4980-AA32-F5C7DF2F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C38-06CC-4253-BA4A-2E91F0AA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985-1F2C-4957-AC65-0040272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4C4-216F-4761-9308-73865E02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1DE-4C6B-4875-9DDB-2C0E192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FA9-6C73-4AE6-9404-0E9A4FD2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558-4BFB-43BE-B269-0148B29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A52-5532-4946-8EFB-540C31E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A62-8A11-4B1A-ABC1-2A827F1A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F844-05F5-4797-AECE-5490F0D7B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линия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линия"/>
          <p:cNvPicPr/>
          <p:nvPr/>
        </p:nvPicPr>
        <p:blipFill>
          <a:blip r:embed="rId2"/>
          <a:stretch/>
        </p:blipFill>
        <p:spPr>
          <a:xfrm>
            <a:off x="0" y="45072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меты вес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 для занятий с детьми раннего возраста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итель: психолог Щукина И.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7fad2_eaf134b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f9fd9f1b7b6a5319400181f95bbf332cf0917ec0"/>
          <p:cNvPicPr/>
          <p:nvPr/>
        </p:nvPicPr>
        <p:blipFill>
          <a:blip r:embed="rId1"/>
          <a:stretch/>
        </p:blipFill>
        <p:spPr>
          <a:xfrm>
            <a:off x="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676f5680d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5211ea29ba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30231621_b22ba57c0e9733da659e1a8c1060615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img_5780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76fb466af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6bfc2b1dd8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78996514_4514961_beryozovii_ve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090d1c58193ab0dfe580045221e42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75c21d85f8c8342434298ee181f52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865f4dbaee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0a15260d7da6002efa0b47008b127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63476670_58011fc0ae6147379ce7f83845a1f9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72416232_1861251_474890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32"/>
          <p:cNvPicPr/>
          <p:nvPr/>
        </p:nvPicPr>
        <p:blipFill>
          <a:blip r:embed="rId1"/>
          <a:stretch/>
        </p:blipFill>
        <p:spPr>
          <a:xfrm>
            <a:off x="39528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d9fe29b15975c3e16ed7852d00b569e29e633f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_42851_37affc0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909851043e1f119cb73c67a2e4071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71605686_647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ido2c25edkz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vesna_vesennie_peyzagi_foto_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2:42:19Z</dcterms:created>
  <dc:creator>Ирина</dc:creator>
  <dc:description/>
  <dc:language>en-US</dc:language>
  <cp:lastModifiedBy>Irina</cp:lastModifiedBy>
  <dcterms:modified xsi:type="dcterms:W3CDTF">2017-02-09T06:34:45Z</dcterms:modified>
  <cp:revision>149</cp:revision>
  <dc:subject/>
  <dc:title>Презентация PowerPoint</dc:title>
</cp:coreProperties>
</file>