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DA2-F917-4868-97E5-A97461E1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AB6-AF6F-45B7-9445-E145392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B05-97B6-4929-AA85-F5ED2A67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94B-8346-4292-ABD3-743998F8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2C5-7820-4174-BE50-A63B3B5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950-E567-44A6-8845-65008ED6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3E0-9D75-4C68-9423-7E0C660F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4E6-BC2A-42DD-9FD1-8AEB53B8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214-79D1-4377-95C2-152EC42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F70-C982-4702-8C82-32303F8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2D4-AFA2-4BC8-B099-FDF9974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C13-D0EE-4C5E-822E-536EF24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23A-3787-4B7F-8CE9-75A7F6882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линия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линия"/>
          <p:cNvPicPr/>
          <p:nvPr/>
        </p:nvPicPr>
        <p:blipFill>
          <a:blip r:embed="rId2"/>
          <a:stretch/>
        </p:blipFill>
        <p:spPr>
          <a:xfrm>
            <a:off x="0" y="450720"/>
            <a:ext cx="9144000" cy="158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меты вес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риал для занятий с детьми раннего возраста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итель: психолог Щукина И.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7fad2_eaf134b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f9fd9f1b7b6a5319400181f95bbf332cf0917ec0"/>
          <p:cNvPicPr/>
          <p:nvPr/>
        </p:nvPicPr>
        <p:blipFill>
          <a:blip r:embed="rId1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676f5680d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5211ea29ba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30231621_b22ba57c0e9733da659e1a8c1060615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img_5780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76fb466af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6bfc2b1dd8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8996514_4514961_beryozovii_ve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090d1c58193ab0dfe580045221e42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175c21d85f8c8342434298ee181f52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865f4dbaee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0a15260d7da6002efa0b47008b127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63476670_58011fc0ae6147379ce7f83845a1f9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72416232_1861251_474890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2"/>
          <p:cNvPicPr/>
          <p:nvPr/>
        </p:nvPicPr>
        <p:blipFill>
          <a:blip r:embed="rId1"/>
          <a:stretch/>
        </p:blipFill>
        <p:spPr>
          <a:xfrm>
            <a:off x="39528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9fe29b15975c3e16ed7852d00b569e29e633f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_42851_37affc0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909851043e1f119cb73c67a2e4071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1605686_647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ido2c25edkz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vesna_vesennie_peyzagi_foto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2:42:19Z</dcterms:created>
  <dc:creator>Ирина</dc:creator>
  <dc:description/>
  <dc:language>en-US</dc:language>
  <cp:lastModifiedBy>Irina</cp:lastModifiedBy>
  <dcterms:modified xsi:type="dcterms:W3CDTF">2017-02-09T06:34:45Z</dcterms:modified>
  <cp:revision>149</cp:revision>
  <dc:subject/>
  <dc:title>Презентация PowerPoint</dc:title>
</cp:coreProperties>
</file>