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DEC-C9DD-4251-9AEB-D9B2B6F7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31A-DC63-4676-86FF-54226717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27C-C3CF-4C2B-B848-596276BF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C9F-788B-46A0-9EA9-44A2AAFD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215CD-474F-485F-9DDA-E913D51F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9F7AF-2949-41D3-9266-538D3DD9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62FC8-FB11-450D-945B-FE211A81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A81B1-371B-4AFB-8CA8-C74FDF90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0378C-ED5D-44A4-8F81-020582F9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DF731-F595-4DBB-8EB4-28B3EEF7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8B886-D925-4B5D-8F05-0BBD8A89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27B-96E4-4543-977E-E026E34D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DDA7B-5920-465C-9EBA-5D330350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CD061-0320-419F-8D18-AE0B7183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9A586-22EA-453A-9D1D-C329BEC9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CC987-B0F8-4B01-BD70-8E301E6C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372DE-8245-4DEB-AFBA-DC6E1FA2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2B3-4B3E-4AE8-AB20-A9C781D4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A9E-D82B-455D-9FB9-CC1E553B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03E-B8BD-4B9B-BB55-A244CAF4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22B-400B-4644-8813-3E17E209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671-45DF-42AB-B04A-41B65D8A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2EE-3880-4455-AE45-6A8DD8C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473-2A83-432C-A53E-EA1725F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E8A6-39DA-4070-ACF4-D87D4A27EE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4A9B-B19E-4C42-8D24-6E96C7E741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268280"/>
            <a:ext cx="80629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уховная жизнь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еловека и обществ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ультур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Может быть, можно было бы подумать, не строить ли нрав­ственность на чем-либо другом: полностью игнорировать прошлое с его порой ошибками и тяжелыми воспоминаниями и быть устрем­ленным в будущее, строить это будущее на «разумных основани­ях» самих по себе, забыть о прошлом с его темными и светлыми сторонам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не только не нужно, но и невозможно. Память о прошлом прежде всего «светла» (пушкинское выражение), поэтична. Она воспитывает эстетиче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ловеческая культура в целом не только обладает памятью, но это память по преимуществу.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ультура человечества — это активная память человечества, активно же введенная в современность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Лихачев Д. С. Нравственные вершины // Книга беспокойств,— М„ 1991,— С. 328, 329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. С. Лихачев (1906—1999) —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российский филолог, куль­туролог, академик Российской академии нау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нквей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и глаго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ноним ( антони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Современные угрозы культуре, духовному развитию челове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куль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Функции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роблема сохранения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291960"/>
          <a:ext cx="8229600" cy="572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 но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ая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чем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йте текст 1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черкните все определения, относящиеся к понятию «культура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йдите общее во всех этих определе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формулируйте свое определение понятия «культур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ультура- это все виды преобразовательной деятельности человека и общества, а также все её результа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83520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ункции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ведите в соответствие карточки с названиями функций культуры и их сущ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476280"/>
          <a:ext cx="8229600" cy="617076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х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аптацио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способление человека и общества к условиям ср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еполагание и регулирование общественной жизни и человеческ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тановление непрерывной связи поколений и непрерывность развития об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изац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ние ценностей, образцов человеческ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ммуникатив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воение новыми поколениями созданной в обществе  системы це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копление, хранение и передача культурных це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еспечение взаимодействия между отдельными людьми и общност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4:43:55Z</dcterms:created>
  <dc:creator>Admin</dc:creator>
  <dc:description/>
  <dc:language>en-US</dc:language>
  <cp:lastModifiedBy>школа№35</cp:lastModifiedBy>
  <dcterms:modified xsi:type="dcterms:W3CDTF">2013-10-22T09:18:33Z</dcterms:modified>
  <cp:revision>4</cp:revision>
  <dc:subject/>
  <dc:title>Слайд 1</dc:title>
</cp:coreProperties>
</file>