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F3E-47A4-4F40-B678-5A690E82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0EA-9153-40CD-8619-1CED22A3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BC3-060C-4071-A1B2-7407A249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567-37DB-4601-90B9-1A3F85EA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C3AA2-548A-4015-93B8-776D7577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8DF5D-367D-40CA-8592-7DB598FF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16EDC-5654-4356-95E6-68863263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8C3BC-A8F3-404C-8843-74CED4A2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4AA2D-6AE0-41CA-BC0F-B821D33C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C9131-043F-4DFC-9829-B0747258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8EBAA-AC46-489B-9830-2509CF7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023-DE26-4C03-829B-36A31CED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43D20-5F19-4DAB-8AA7-B4B8DE29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007D5-5869-49B8-A8B3-BF7BBAD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377E3-ED1A-4277-A4A0-5C52D4F8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5889D-20BD-4245-BD12-3B5F2B81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5A7E7-535D-43F2-BFF6-9CB4E1C3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983-5211-440C-8C7B-CFDD8475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B13-773E-48C3-9EDE-87866DA9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2BF-43D6-4630-8B64-17765136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F49-1E23-4B80-B115-BF0A42DF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C81-6DF4-4CB6-A213-AB6D0AB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E96-3EF2-40FF-93CE-245CD944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CD4-AA95-4BF2-B2B6-DBA5B406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414F-3D54-443A-8FA0-57FFB9ECDC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D22C-5372-4EA1-9DFC-3A7ED45942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268280"/>
            <a:ext cx="80629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уховная жизнь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еловека и обществ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ультур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Может быть, можно было бы подумать, не строить ли нрав­ственность на чем-либо другом: полностью игнорировать прошлое с его порой ошибками и тяжелыми воспоминаниями и быть устрем­ленным в будущее, строить это будущее на «разумных основани­ях» самих по себе, забыть о прошлом с его темными и светлыми сторонам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не только не нужно, но и невозможно. Память о прошлом прежде всего «светла» (пушкинское выражение), поэтична. Она воспитывает эстетиче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ловеческая культура в целом не только обладает памятью, но это память по преимуществу.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ультура человечества — это активная память человечества, активно же введенная в современность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Лихачев Д. С. Нравственные вершины // Книга беспокойств,— М„ 1991,— С. 328, 329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. С. Лихачев (1906—1999) —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российский филолог, куль­туролог, академик Российской академии нау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нквейн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и глаго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ноним ( антони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Современные угрозы культуре, духовному развитию челове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куль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Функции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роблема сохранения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291960"/>
          <a:ext cx="8229600" cy="572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 но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ая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чем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йте текст 1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черкните все определения, относящиеся к понятию «культура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йдите общее во всех этих определе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формулируйте свое определение понятия «культур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ультура- это все виды преобразовательной деятельности человека и общества, а также все её результа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83520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ункции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ведите в соответствие карточки с названиями функций культуры и их сущ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476280"/>
          <a:ext cx="8229600" cy="617076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х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аптацио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способление человека и общества к условиям ср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еполагание и регулирование общественной жизни и человеческ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тановление непрерывной связи поколений и непрерывность развития об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изац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ние ценностей, образцов человеческ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ммуникатив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воение новыми поколениями созданной в обществе  системы це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копление, хранение и передача культурных це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еспечение взаимодействия между отдельными людьми и общност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4:43:55Z</dcterms:created>
  <dc:creator>Admin</dc:creator>
  <dc:description/>
  <dc:language>en-US</dc:language>
  <cp:lastModifiedBy>школа№35</cp:lastModifiedBy>
  <dcterms:modified xsi:type="dcterms:W3CDTF">2013-10-22T09:18:33Z</dcterms:modified>
  <cp:revision>4</cp:revision>
  <dc:subject/>
  <dc:title>Слайд 1</dc:title>
</cp:coreProperties>
</file>