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8A6-8283-448D-BE8C-B1EB1C55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408-674E-41C5-8A26-410B595B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A46-A7DC-4872-8030-F63C1F7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F76-D43A-47EA-8896-EDDF4D80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C76-1C0C-47C7-9589-281CF150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9F62-E138-4A46-B709-9487016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9C8-A8A7-426B-BE19-CF8D638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93C0-9274-43FF-8291-99A6E50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568-F8DB-44BA-9674-4555B0C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5D5F-3131-4DEA-A903-80EC133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151B-8553-4FA5-9088-21DA5F7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467-1BE4-437F-B73C-326A0D1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7DBE-65D4-444B-A27E-1D06A12E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188-B376-48E8-9CE1-0B78657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C2D-1BE0-4811-B60C-71A726C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77CB-07D8-40CB-AD0C-3014EBE4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1766-87E4-489D-AE73-CD715C95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F2D-6E29-4094-A7CF-06B9081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FA3-39E1-44A4-868B-F91E31CC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CEA-061D-4206-8946-6EB2B8F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13B-DC3C-41E6-8043-2058E6BE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CDA-B911-4B09-AAB3-E0A5D8C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232-9161-435B-B71C-C4D0673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BF7-56AB-4E3C-B1BE-CFDCDF2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39A-3239-4124-BD28-88004C0C0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5EB3-2F0E-4196-B44E-3D698F227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Весна :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пробуждение природ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mart"/>
          <p:cNvPicPr/>
          <p:nvPr/>
        </p:nvPicPr>
        <p:blipFill>
          <a:blip r:embed="rId1"/>
          <a:stretch/>
        </p:blipFill>
        <p:spPr>
          <a:xfrm>
            <a:off x="152280" y="3276720"/>
            <a:ext cx="270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ig03"/>
          <p:cNvPicPr/>
          <p:nvPr/>
        </p:nvPicPr>
        <p:blipFill>
          <a:blip r:embed="rId2"/>
          <a:stretch/>
        </p:blipFill>
        <p:spPr>
          <a:xfrm>
            <a:off x="3048120" y="3276720"/>
            <a:ext cx="281916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860760" y="2009880"/>
            <a:ext cx="1185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680640" y="2009880"/>
            <a:ext cx="1666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АПР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032960" y="2057400"/>
            <a:ext cx="98676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2663956"/>
          <p:cNvPicPr/>
          <p:nvPr/>
        </p:nvPicPr>
        <p:blipFill>
          <a:blip r:embed="rId3"/>
          <a:stretch/>
        </p:blipFill>
        <p:spPr>
          <a:xfrm>
            <a:off x="6095880" y="3276720"/>
            <a:ext cx="283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070640" y="144792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о холод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18960" y="144792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лись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93760" y="2209680"/>
            <a:ext cx="43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покрылась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3800" y="289548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уменьш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185440" y="28954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увели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841680" y="358128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 замерз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489280" y="365760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д на реке 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35320" y="42670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распуск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565960" y="44197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ья желт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7480" y="495288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улетают на ю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31720" y="50292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прилетают с ю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93600" y="563868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ет снег и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3769 L -0.37066 -0.32624 E">
                                      <p:cBhvr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1329E-006 L 0.00868 -0.11537 E">
                                      <p:cBhvr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879 L 0.25833 -0.04879 E">
                                      <p:cBhvr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4879 L 0.24722 -0.02659 E">
                                      <p:cBhvr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878 L -0.26337 -0.04878 E">
                                      <p:cBhvr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04879 L 0.24843 -0.44832 E">
                                      <p:cBhvr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878 L -0.2665 -0.01549 E">
                                      <p:cBhvr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Андрей-Нина</cp:lastModifiedBy>
  <dcterms:modified xsi:type="dcterms:W3CDTF">2016-04-19T19:06:22Z</dcterms:modified>
  <cp:revision>1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