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gif" ContentType="image/gif"/>
  <Override PartName="/ppt/media/image7.png" ContentType="image/png"/>
  <Override PartName="/ppt/media/image8.gif" ContentType="image/gif"/>
  <Override PartName="/ppt/media/image9.png" ContentType="image/png"/>
  <Override PartName="/ppt/media/image11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4012-DBE6-42D7-9AE1-EDF429B6B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67FC-3D8D-474E-8035-C757D0BC2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BBF0-98C1-4622-8F99-E9CE35EA7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5B5A-2CDF-4B75-ACC9-CEC5CAE3F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91C36-9134-417B-80B4-BDD3549AE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CB131-7697-4865-9968-9F0CD8DED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D0DA4-A2D2-4D10-A560-9A34FAF2F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52D27-9461-426F-BAB1-CB21826FD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9DB95-D4AB-4AAB-8395-78BF56A47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C68B3-5E13-4E92-AB3C-1C56727CD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2822F-22D9-432B-91E6-A91BF977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A9D4-7F2F-4FCD-9F07-B0CB1B4D2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36DE3-3E49-419C-BB13-2D71BA42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14A12-9107-4A65-A306-5F4A8EBC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3480B-FF2E-44A4-A02F-7E6CAA9A7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15E36-4CC8-4FBE-83BC-DF68DE0B3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01CC4-079D-47D2-95B1-65AA8C119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885B-7D9A-45FB-B3EB-71F0F2FD3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3285-8FDB-41F3-9B61-D68FEE78E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8734-88BA-44F5-B1F2-99F3F0E39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DB41-663A-4688-9CE7-C109631E4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341E-8F1F-4B3B-BF67-F1FB5AF2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B334-0BCF-4FE0-954D-134E2F87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071C-8BEB-429B-8C8B-932EC5D7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8.gi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7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B043D-B472-4581-8F30-E6DB89D633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0800000">
            <a:off x="0" y="6629040"/>
            <a:ext cx="9144000" cy="2286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8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46"/>
          <p:cNvGrpSpPr/>
          <p:nvPr/>
        </p:nvGrpSpPr>
        <p:grpSpPr>
          <a:xfrm>
            <a:off x="0" y="3657600"/>
            <a:ext cx="9144000" cy="3200400"/>
            <a:chOff x="0" y="3657600"/>
            <a:chExt cx="9144000" cy="3200400"/>
          </a:xfrm>
        </p:grpSpPr>
        <p:pic>
          <p:nvPicPr>
            <p:cNvPr id="48" name="Picture 47" descr="7"/>
            <p:cNvPicPr/>
            <p:nvPr/>
          </p:nvPicPr>
          <p:blipFill>
            <a:blip r:embed="rId2"/>
            <a:stretch/>
          </p:blipFill>
          <p:spPr>
            <a:xfrm rot="10800000">
              <a:off x="0" y="3657240"/>
              <a:ext cx="914400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48" descr="04"/>
            <p:cNvPicPr/>
            <p:nvPr/>
          </p:nvPicPr>
          <p:blipFill>
            <a:blip r:embed="rId3"/>
            <a:stretch/>
          </p:blipFill>
          <p:spPr>
            <a:xfrm rot="10800000">
              <a:off x="2448000" y="5694480"/>
              <a:ext cx="1361880" cy="116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10" descr="123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1" name="Picture 34" descr="water_2"/>
          <p:cNvPicPr/>
          <p:nvPr/>
        </p:nvPicPr>
        <p:blipFill>
          <a:blip r:embed="rId5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fire14"/>
          <p:cNvPicPr/>
          <p:nvPr/>
        </p:nvPicPr>
        <p:blipFill>
          <a:blip r:embed="rId6"/>
          <a:stretch/>
        </p:blipFill>
        <p:spPr>
          <a:xfrm>
            <a:off x="1295280" y="7621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1" descr="B_Fly26"/>
          <p:cNvPicPr/>
          <p:nvPr/>
        </p:nvPicPr>
        <p:blipFill>
          <a:blip r:embed="rId7"/>
          <a:stretch/>
        </p:blipFill>
        <p:spPr>
          <a:xfrm>
            <a:off x="609480" y="449280"/>
            <a:ext cx="990720" cy="892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2" descr="B_Fly26"/>
          <p:cNvPicPr/>
          <p:nvPr/>
        </p:nvPicPr>
        <p:blipFill>
          <a:blip r:embed="rId8"/>
          <a:stretch/>
        </p:blipFill>
        <p:spPr>
          <a:xfrm>
            <a:off x="609480" y="380880"/>
            <a:ext cx="990720" cy="89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3" descr="bupestrid beetle 5"/>
          <p:cNvPicPr/>
          <p:nvPr/>
        </p:nvPicPr>
        <p:blipFill>
          <a:blip r:embed="rId9"/>
          <a:stretch/>
        </p:blipFill>
        <p:spPr>
          <a:xfrm>
            <a:off x="7467480" y="6259680"/>
            <a:ext cx="838440" cy="322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6" name="Picture 55" descr="WB01292_"/>
          <p:cNvPicPr/>
          <p:nvPr/>
        </p:nvPicPr>
        <p:blipFill>
          <a:blip r:embed="rId10"/>
          <a:stretch/>
        </p:blipFill>
        <p:spPr>
          <a:xfrm>
            <a:off x="228600" y="5105520"/>
            <a:ext cx="399960" cy="3999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A1279-70F5-473F-9857-396213F7B9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Arial"/>
              </a:rPr>
              <a:t>Весна :</a:t>
            </a:r>
            <a:br>
              <a:rPr sz="4000"/>
            </a:br>
            <a:r>
              <a:rPr b="1" lang="ru-RU" sz="4000" spc="-1" strike="noStrike">
                <a:solidFill>
                  <a:srgbClr val="003300"/>
                </a:solidFill>
                <a:latin typeface="Arial"/>
              </a:rPr>
              <a:t>пробуждение природы</a:t>
            </a:r>
            <a:r>
              <a:rPr b="0" lang="ru-RU" sz="40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mart"/>
          <p:cNvPicPr/>
          <p:nvPr/>
        </p:nvPicPr>
        <p:blipFill>
          <a:blip r:embed="rId1"/>
          <a:stretch/>
        </p:blipFill>
        <p:spPr>
          <a:xfrm>
            <a:off x="152280" y="3276720"/>
            <a:ext cx="2708280" cy="2895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ig03"/>
          <p:cNvPicPr/>
          <p:nvPr/>
        </p:nvPicPr>
        <p:blipFill>
          <a:blip r:embed="rId2"/>
          <a:stretch/>
        </p:blipFill>
        <p:spPr>
          <a:xfrm>
            <a:off x="3048120" y="3276720"/>
            <a:ext cx="2819160" cy="28954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860760" y="2009880"/>
            <a:ext cx="118512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МА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3680640" y="2009880"/>
            <a:ext cx="166680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АПР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7032960" y="2057400"/>
            <a:ext cx="98676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МА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7" descr="2663956"/>
          <p:cNvPicPr/>
          <p:nvPr/>
        </p:nvPicPr>
        <p:blipFill>
          <a:blip r:embed="rId3"/>
          <a:stretch/>
        </p:blipFill>
        <p:spPr>
          <a:xfrm>
            <a:off x="6095880" y="3276720"/>
            <a:ext cx="28321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9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9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9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1070640" y="1447920"/>
            <a:ext cx="288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ло холодн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5718960" y="1447920"/>
            <a:ext cx="24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л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пл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0" y="22096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овались протал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4793760" y="2209680"/>
            <a:ext cx="434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емля покрылась снег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613800" y="2895480"/>
            <a:ext cx="331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нь уменьша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5185440" y="2895480"/>
            <a:ext cx="357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нь увеличива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841680" y="3581280"/>
            <a:ext cx="27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ка замерз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5489280" y="3657600"/>
            <a:ext cx="298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ёд на реке т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535320" y="4267080"/>
            <a:ext cx="370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стья распуска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5565960" y="441972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стья желте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537480" y="4952880"/>
            <a:ext cx="371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тицы улетают на ю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5031720" y="5029200"/>
            <a:ext cx="410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тицы прилетают с ю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6"/>
          <p:cNvSpPr/>
          <p:nvPr/>
        </p:nvSpPr>
        <p:spPr>
          <a:xfrm>
            <a:off x="993600" y="5638680"/>
            <a:ext cx="276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ет снег и лё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566 -0.03769 L -0.37066 -0.32624 E">
                                      <p:cBhvr>
                                        <p:cTn id="6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4.91329E-006 L 0.00868 -0.11537 E">
                                      <p:cBhvr>
                                        <p:cTn id="67" dur="1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33 -0.04879 L 0.25833 -0.04879 E">
                                      <p:cBhvr>
                                        <p:cTn id="71" dur="1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78 -0.04879 L 0.24722 -0.02659 E">
                                      <p:cBhvr>
                                        <p:cTn id="73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3 -0.04878 L -0.26337 -0.04878 E">
                                      <p:cBhvr>
                                        <p:cTn id="75" dur="1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7 -0.04879 L 0.24843 -0.44832 E">
                                      <p:cBhvr>
                                        <p:cTn id="77" dur="1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4878 L -0.2665 -0.01549 E">
                                      <p:cBhvr>
                                        <p:cTn id="79" dur="1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Андрей-Нина</cp:lastModifiedBy>
  <dcterms:modified xsi:type="dcterms:W3CDTF">2016-04-19T19:06:22Z</dcterms:modified>
  <cp:revision>15</cp:revision>
  <dc:subject>биология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