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54A-5A72-4AA0-834F-F2706EF7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E34-5DC4-4A41-B27B-C80D4C31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104-981F-4F92-9FFD-26360B14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8BD-4E07-4623-AD61-7444D248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4BC3-D0CB-4394-8C93-2D950A40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708A-F1DF-4219-9854-99E75C07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6E75-9734-45A0-8B86-34D63383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3121-DBEC-40B5-8AA3-8C3DD226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DC2F-11FF-4B0B-BCB2-F43A865F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9CB6-BFD8-4F9F-89DA-83A94C80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8627-F6EC-4A38-89CF-CEC1323C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3A7-FC37-4607-9610-C2E3F1CF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CECF-E6AE-4F9D-81EC-10AAD7CB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4932-9DCB-4257-B770-157505DF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E87E-3153-4969-804D-DA6C04DA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2056-28DC-4B02-B688-C446510F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5DD2-8B92-4E8E-88CE-37C7AE67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6F94-DDC4-43F0-A3DB-9AB23E5E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755E-037D-4571-9DBF-74B593A3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C6EE-3F94-4F91-841F-5731B3A0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FD0D6-328E-45DC-99B9-A66FE8DC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A7E6-6CD5-4C65-B023-575C148A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A78-5963-4B8B-AC91-298C2AB7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3E74D-7394-4FE6-832E-3EE472D1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18D8-668E-42F0-9CD2-C8B7BD2E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367BD-AE1C-48FA-B46E-E927263D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73DD-AF5B-4759-B505-79DC73EC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80EF-F345-495A-8764-9AEED412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3EED-C18F-4116-A3B8-D0C7F016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DDEB-5EF8-4B09-AE8E-7C8F6882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7C80-CA7C-4D2F-8AF6-A04BADEC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53A70-CC25-45B0-87D2-E11573CD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0294-7FAD-4F8F-8E5C-F75DD887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723-0BFA-4612-90C4-035626E0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83384-FF8F-4C18-8720-806BA678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AB23-2EA6-4896-8D5C-2F7781F4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CB2E-8168-494A-B6AB-2C3D76F5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D34D-3AC1-4A68-A72C-5DCA403E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96430-D33C-4C30-829F-C4E565A5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5A2AB-81F2-4A99-807C-1FE4F442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C72B-CDCF-40D7-ACC9-91EF536C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94551-4A27-40F0-9BB3-1F7E5DA1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A0E86-3D00-4BB0-B78D-839FF2A5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A1BA7-B348-4366-AC22-6A08C9A1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03F-4BEA-46EE-9CED-851A5625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8825C-2F17-4439-86F1-92A41B2B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03030-937A-43C2-B975-14994DCD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E606C-5334-462E-92CD-B4462B12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8A303-8974-45EB-8CC9-49A0CE7C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B6FC1-68E8-4316-B955-10C4EA0F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AA3AF-9102-4139-AB1B-481AB3AD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ECF69-7EDD-464C-A22E-4395FEBC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8705-DD7E-4C01-9FE5-A5A6DB59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3579C-7D14-4EC9-ABBB-0B590775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264BC-C580-401D-B237-85EF6E06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B85-DF5B-4DE1-A904-85E2A40B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3D48F-DB42-4021-A2A3-EB60E55A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992BB-AB4D-49BE-9F76-0D36FDF2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FEE35-3239-4B58-8C1D-EC82B39F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60FC0-AB93-4AAE-AE7A-A258FCF6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5323-A0BE-448D-9D94-CE23E285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C5D0B-4039-4BA4-AE45-19680858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723EB-8DFF-476E-AD19-A7E943E4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26820-E1FE-4E8A-8DC2-F67C832E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7057-92ED-4552-BF8C-771423D8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901A4-0FEC-42F3-BF86-5B368F7C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FC0-8156-41AF-9D36-5660961C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4ACFB-B6B0-4E68-98D1-E9327B0C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763A8-3F1B-4889-B1BB-E38F8DD8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B2536-3652-4EFB-9991-A4F8CA0D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C76AD-42B2-4B3B-9276-8F0FE741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D4744-B3F0-4FB3-8AFF-1916F558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AA2C4-CF0C-4AB4-9ABF-F693D488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5ACF6-7CC5-4DDA-A605-6FC6FE47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751D2-555A-42E8-960D-CDA40FA8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AA923-FBF3-42E0-BD41-0ECBDB2B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84495-FB1F-4AF9-87CB-74DF6094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B65-1EFE-4E88-A0A4-0982589B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7AE01-86B5-4B45-B6CE-FDB5A18A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0756C-ED94-407B-A3D5-D949BA0F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D3574-9726-4A3E-8EF4-D306233F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11E2F-9586-4171-9857-92B319D2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59D3C-44FC-45AF-9113-DBD90DF3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B4D-BAF8-411C-B05C-C62445EA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6B01-7A26-40C5-9E5B-48FA44E0F1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5048-9F5D-4354-86A2-288053C986C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F609-72DF-43D5-8D33-DAAA71CDADD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CBC2-8590-4C59-A831-D0FDBE4255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53B5-443F-42CE-8DBD-FDE9BCE7FB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8131-BD7D-4D86-9E4E-528E098FAA0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2740-5351-4C21-92FD-CA0E7496C8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рок обучения грамот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8592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1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4286160" y="500076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Зинченко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лицей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285840" y="2857680"/>
            <a:ext cx="871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Тема: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Гласная буква Ю ю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лук"/>
          <p:cNvPicPr/>
          <p:nvPr/>
        </p:nvPicPr>
        <p:blipFill>
          <a:blip r:embed="rId1"/>
          <a:stretch/>
        </p:blipFill>
        <p:spPr>
          <a:xfrm>
            <a:off x="1442880" y="1773360"/>
            <a:ext cx="3200400" cy="244152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5220720" y="2935440"/>
            <a:ext cx="267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=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2987640" y="189000"/>
            <a:ext cx="30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cc"/>
                </a:solidFill>
                <a:latin typeface="Arial"/>
              </a:rPr>
              <a:t>ЛЮ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900" spc="-1" strike="noStrike">
                <a:solidFill>
                  <a:srgbClr val="0000cc"/>
                </a:solidFill>
                <a:latin typeface="Corbel"/>
              </a:rPr>
              <a:t>Юля</a:t>
            </a:r>
            <a:endParaRPr b="0" lang="en-US" sz="7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4" descr="юла"/>
          <p:cNvPicPr/>
          <p:nvPr/>
        </p:nvPicPr>
        <p:blipFill>
          <a:blip r:embed="rId1"/>
          <a:stretch/>
        </p:blipFill>
        <p:spPr>
          <a:xfrm>
            <a:off x="1441440" y="2781360"/>
            <a:ext cx="2986200" cy="27194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4861440" y="3716280"/>
            <a:ext cx="268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f271c"/>
                </a:solidFill>
                <a:latin typeface="Arial"/>
              </a:rPr>
              <a:t>а = 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2943000" cy="45975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4"/>
          <p:cNvSpPr/>
          <p:nvPr/>
        </p:nvSpPr>
        <p:spPr>
          <a:xfrm>
            <a:off x="4913280" y="134928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.4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. Я. Марша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678400" cy="3826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3200040" y="148428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Arial"/>
              </a:rPr>
              <a:t>Сказка « О глупом мышон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кошка мать"/>
          <p:cNvPicPr/>
          <p:nvPr/>
        </p:nvPicPr>
        <p:blipFill>
          <a:blip r:embed="rId2"/>
          <a:stretch/>
        </p:blipFill>
        <p:spPr>
          <a:xfrm>
            <a:off x="3564000" y="2205000"/>
            <a:ext cx="4508280" cy="3175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Corbel"/>
              </a:rPr>
              <a:t>Спасибо за урок!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1" name="Picture 5" descr="c6ad815825856799c6eda9ef626ad187"/>
          <p:cNvPicPr/>
          <p:nvPr/>
        </p:nvPicPr>
        <p:blipFill>
          <a:blip r:embed="rId1"/>
          <a:stretch/>
        </p:blipFill>
        <p:spPr>
          <a:xfrm>
            <a:off x="3241800" y="1905120"/>
            <a:ext cx="2881080" cy="2881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715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очитайте сначала гласные, которыми обозначается твёрдость согласных,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отом те, которые обозначают мягкость согласных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очитайте гласные, которые могут обозначать два звука.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252720" y="24890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260720" y="2489040"/>
            <a:ext cx="60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2197440" y="2492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3133800" y="2492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4141800" y="2492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5149800" y="2489040"/>
            <a:ext cx="5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6158160" y="2492280"/>
            <a:ext cx="72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7237440" y="25653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3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4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rbel"/>
              </a:rPr>
              <a:t>Закружится на острой ножке,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orbel"/>
              </a:rPr>
              <a:t>Жужжит, как будто бы жучок.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orbel"/>
              </a:rPr>
              <a:t>Захочет – вскачь пройдёт немножко,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Corbel"/>
              </a:rPr>
              <a:t>Захочет – ляжет на бочок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68000" y="2420640"/>
            <a:ext cx="8351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4" descr="юла"/>
          <p:cNvPicPr/>
          <p:nvPr/>
        </p:nvPicPr>
        <p:blipFill>
          <a:blip r:embed="rId2"/>
          <a:stretch/>
        </p:blipFill>
        <p:spPr>
          <a:xfrm>
            <a:off x="250920" y="3789360"/>
            <a:ext cx="2035080" cy="2317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3419640" y="314172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Arial"/>
              </a:rPr>
              <a:t>Ю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бы </a:t>
            </a:r>
            <a:r>
              <a:rPr b="0" lang="ru-RU" sz="4300" spc="-1" strike="noStrike">
                <a:solidFill>
                  <a:srgbClr val="0000ff"/>
                </a:solidFill>
                <a:latin typeface="Corbel"/>
              </a:rPr>
              <a:t>О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не укатилось,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епко к столбику прибью.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й смотри-ка,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случилось: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лучилась… бук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Picture 4" descr="DSC05866"/>
          <p:cNvPicPr/>
          <p:nvPr/>
        </p:nvPicPr>
        <p:blipFill>
          <a:blip r:embed="rId1"/>
          <a:stretch/>
        </p:blipFill>
        <p:spPr>
          <a:xfrm>
            <a:off x="2771640" y="4000680"/>
            <a:ext cx="2514600" cy="22158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5"/>
          <p:cNvSpPr/>
          <p:nvPr/>
        </p:nvSpPr>
        <p:spPr>
          <a:xfrm>
            <a:off x="7380360" y="2924280"/>
            <a:ext cx="109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Ю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572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На арене укротитель-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Грозных тигров повелитель.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Он, как буква Ю, с кольцом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К тиграм смело встал лицом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5" descr="DSC05865"/>
          <p:cNvPicPr/>
          <p:nvPr/>
        </p:nvPicPr>
        <p:blipFill>
          <a:blip r:embed="rId1"/>
          <a:stretch/>
        </p:blipFill>
        <p:spPr>
          <a:xfrm>
            <a:off x="1434960" y="2212920"/>
            <a:ext cx="5208840" cy="22716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027160" cy="2151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ландыш"/>
          <p:cNvPicPr/>
          <p:nvPr/>
        </p:nvPicPr>
        <p:blipFill>
          <a:blip r:embed="rId2"/>
          <a:stretch/>
        </p:blipFill>
        <p:spPr>
          <a:xfrm>
            <a:off x="3419640" y="1557360"/>
            <a:ext cx="1795320" cy="2136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"/>
          <p:cNvPicPr/>
          <p:nvPr/>
        </p:nvPicPr>
        <p:blipFill>
          <a:blip r:embed="rId3"/>
          <a:stretch/>
        </p:blipFill>
        <p:spPr>
          <a:xfrm>
            <a:off x="5364000" y="1557360"/>
            <a:ext cx="2216160" cy="20858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8"/>
          <p:cNvSpPr/>
          <p:nvPr/>
        </p:nvSpPr>
        <p:spPr>
          <a:xfrm>
            <a:off x="1256760" y="77472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ервым звукам названий отгадайте имя дев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1980720" y="4797360"/>
            <a:ext cx="8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71c"/>
                </a:solidFill>
                <a:latin typeface="Arial"/>
              </a:rPr>
              <a:t>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4141440" y="479736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71c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5941800" y="4797360"/>
            <a:ext cx="5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71c"/>
                </a:solidFill>
                <a:latin typeface="Aria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34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34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96720" y="1413000"/>
            <a:ext cx="56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3959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rbel"/>
              </a:rPr>
              <a:t>СОСТАВЬ СЛО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64000" y="4365360"/>
            <a:ext cx="58327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4067280" y="2565360"/>
            <a:ext cx="14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ю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252360" y="2421000"/>
            <a:ext cx="9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3995640" y="1484280"/>
            <a:ext cx="14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251640" y="3429000"/>
            <a:ext cx="10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ю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4284720" y="544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324720" y="4437000"/>
            <a:ext cx="146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р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5"/>
          <p:cNvSpPr/>
          <p:nvPr/>
        </p:nvSpPr>
        <p:spPr>
          <a:xfrm>
            <a:off x="4357800" y="3429000"/>
            <a:ext cx="9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х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469800" y="558972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7"/>
          <p:cNvSpPr/>
          <p:nvPr/>
        </p:nvSpPr>
        <p:spPr>
          <a:xfrm>
            <a:off x="4141080" y="429264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ю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3247E-006 L 0.34687 0.1642 E">
                                      <p:cBhvr>
                                        <p:cTn id="108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78 0.0067 L 0.32848 -0.14015 E">
                                      <p:cBhvr>
                                        <p:cTn id="11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-0.0037 L 0.33247 0.30065 E">
                                      <p:cBhvr>
                                        <p:cTn id="118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8 0.00694 L 0.29757 -0.13992 E">
                                      <p:cBhvr>
                                        <p:cTn id="123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6827E-006 L 0.31823 -0.18201 E">
                                      <p:cBhvr>
                                        <p:cTn id="12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rbel"/>
              </a:rPr>
              <a:t>Анаграммы</a:t>
            </a:r>
            <a:br>
              <a:rPr sz="5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5219640" y="141300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УТЮ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6084720" y="45813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1765080" y="400536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3421080" y="40053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2411280" y="4005360"/>
            <a:ext cx="5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973440" y="4005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4"/>
          <p:cNvSpPr/>
          <p:nvPr/>
        </p:nvSpPr>
        <p:spPr>
          <a:xfrm>
            <a:off x="611640" y="1341360"/>
            <a:ext cx="21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ГЮ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470880" y="270828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Л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5150880" y="263700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ПЛЮ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542520" y="414972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ЮБ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8"/>
          <p:cNvSpPr/>
          <p:nvPr/>
        </p:nvSpPr>
        <p:spPr>
          <a:xfrm>
            <a:off x="5079240" y="407664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БРЮ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9"/>
          <p:cNvSpPr/>
          <p:nvPr/>
        </p:nvSpPr>
        <p:spPr>
          <a:xfrm>
            <a:off x="612360" y="5373720"/>
            <a:ext cx="25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УТЮ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5149440" y="5373720"/>
            <a:ext cx="25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УТЮ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БУС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Line 4"/>
          <p:cNvSpPr/>
          <p:nvPr/>
        </p:nvSpPr>
        <p:spPr>
          <a:xfrm>
            <a:off x="684360" y="1916280"/>
            <a:ext cx="0" cy="410508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"/>
          <p:cNvSpPr/>
          <p:nvPr/>
        </p:nvSpPr>
        <p:spPr>
          <a:xfrm>
            <a:off x="684360" y="3860640"/>
            <a:ext cx="187164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6"/>
          <p:cNvSpPr/>
          <p:nvPr/>
        </p:nvSpPr>
        <p:spPr>
          <a:xfrm>
            <a:off x="2627280" y="1773360"/>
            <a:ext cx="2665440" cy="4319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Arial"/>
              </a:rPr>
              <a:t>Г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211640" y="1159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Arial"/>
              </a:rPr>
              <a:t>ВЬЮ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48:01Z</dcterms:created>
  <dc:creator>Work_user</dc:creator>
  <dc:description/>
  <dc:language>en-US</dc:language>
  <cp:lastModifiedBy>User</cp:lastModifiedBy>
  <dcterms:modified xsi:type="dcterms:W3CDTF">2017-02-09T16:33:37Z</dcterms:modified>
  <cp:revision>41</cp:revision>
  <dc:subject/>
  <dc:title>Урок чтения в 1 классе. Тема: « Гласная буква Ю ю»</dc:title>
</cp:coreProperties>
</file>