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CF42-255A-404B-8A46-B52F4D9D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F840-1F14-4894-B7A4-D2068D6A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9F40-077C-4BAE-8915-48549F1B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B61A-63F0-4EB1-9571-43149DC5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D480-7259-4349-BCD8-C17EC13F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1A63-F0C5-48E5-8ABC-13A5A524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0899-317E-46CE-A908-505770B4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35E2-5BDE-4461-8CE8-8EE132A4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E710-716E-4D0B-AA7E-47F82D2F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947C-801E-47D4-BA5B-BDC3E012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C0A4-267D-4B01-B5BC-D609CCAA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BCBA-FC9D-47E9-B9A4-F38759EE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D423-2888-4E60-9BB9-D98DF4AC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63AF-FB80-4779-B9FA-96079267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45BE-7E75-4CDA-8834-1214DB9E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09FD-3617-4E36-814B-9B2C6A1F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18BB-F5E1-471B-B9CE-7A7DF77C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8BFDD-88A1-4F71-BF93-2573CB77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F3590-BEB3-4C6A-9EA8-A9294B4D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B49C0-0EF3-4444-918D-4FE48527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9AA59-6248-4739-9A76-5E9051DF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24B4E-97BA-41C8-941C-9F80BBC8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905E-6889-4B57-B6F1-648C5D2E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37112-828A-4141-BD78-0D7A7900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A22D1-1698-4351-8796-8414AF9E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819F6-8134-4F2D-94A4-59E531AC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EEBA4-5D7B-4C90-A9A9-3D1E0889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3338D-5A14-4DEF-BE05-5727E199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82219-FEDE-4042-8DAA-F791967C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8B5B7-55DB-495E-B799-D698C342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083C7-7CF8-48A6-B699-92D48FA4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3A5AA-DB8E-4216-92AE-FB373159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B9759-84EE-45EB-8458-FEAA28A3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5B88-6A6B-49B4-9FD2-1099B479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3BF34-6743-4365-B4FD-54DB1DB5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AF6F5-B3F0-42BF-B9DF-57B0161B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A3D87-52C9-46F4-A08B-95D10DA4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C3E06-B39B-4385-9C59-4BD0AB2C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D7DF7-0D95-465B-A56E-AE885483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B11EE-871C-4336-8A22-01EC4BF8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FF4A9-5C5D-40D4-A26A-421A41AF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631AE-8A0B-4756-8817-E7B76E73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49CE0-767D-4BF2-9D95-C1AB675B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6F1C5-A04D-43DC-980E-90352716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8AD7-CB13-4893-9921-8A9F6C0E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3A54C-C6B1-474C-A0F7-1ABA8819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D1B83-E135-41DB-B471-0A8AEA7D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8FF7B-84FA-47AC-A961-E98B0DED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1B141-9716-47B6-B4D6-25BE105B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43C1F-C9B5-441C-A63D-0BCBBFA7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B8CE5-4438-4D82-8850-9B8E1BA6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D1A6B-984F-4EAD-A6E7-0DD05DF3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A45C6-1A7C-473E-89EF-B200B315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74F41-03AE-4B51-A2F2-B504B0E3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CFECF-F62E-44E3-9E1D-E855715A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C5D-F198-4A67-8B34-1E2702CD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E1535-21D5-4B40-8ED8-6C1BC0A7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3D950-8A96-4B95-A7EC-559AEC5B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66DA7-FDDB-4F99-81EF-EA35A4ED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7F848-6439-403F-807B-1F5BF581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C5BF7-4621-4552-B71C-A2CBB0D5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9EB19-271F-47D7-8C9F-06C3601D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AB704-A45A-41A7-92B4-48ADC0E7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ABF69-2A5F-499E-9C46-C4E31109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F831A-4AE2-4B61-877C-2899FE57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BBCD7-35DD-4FBD-9680-E83609E2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09A8-41C4-4CC9-85F1-74193796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C1C1E-4ADD-4720-8B5E-71B2D392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F1B15-2C56-418C-83EC-CE1668C0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D6DB2-3FE4-4FBB-80F2-8C2E256D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D1D90-BBD1-4674-BE10-70F78B0A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3AB93-A0F2-495A-9F78-CF158F69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A672A-1406-48B7-B85E-900CB41F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5032E-D697-4A76-8DCE-C6992DF4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620F6-A0E4-44E9-A309-92FF9792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579AB-D572-4895-B2A2-92BECD78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CFA88-936E-4E51-8E87-1D8B5962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3DBF-001D-4D8C-AB81-03D574A6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F9BC1-BE01-4D94-8462-9809191B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B0062-8F72-4057-95C0-D7B2E518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F9938-1CDF-4A36-A1DC-5A79F2CC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ED955-3277-41E4-A6DF-0DEBA7A7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B928A-D783-4F29-90D5-85EE6E2C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AA3B-9343-4AC2-8E6F-C606A92C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7595-A2D8-40C6-83D3-903B7A08E56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8198-526F-4B93-9754-9F2ADA329BC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4E89-8A89-4284-92EE-91D084DEC42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6D45-34FF-4438-8C16-EBD716F9CA7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C85E-F95E-486A-AE95-EEF1E49C8BD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F8C5-6D9D-4CD0-84D9-8A27854ECF4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16E2-FAEA-48B4-888B-C350FAC8089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рок обучения грамот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285920" y="20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1 класс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4286160" y="500076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ла: Зинченко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ОУ лицей №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4"/>
          <p:cNvSpPr/>
          <p:nvPr/>
        </p:nvSpPr>
        <p:spPr>
          <a:xfrm>
            <a:off x="285840" y="2857680"/>
            <a:ext cx="871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Тема: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Гласная буква Ю ю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4" descr="лук"/>
          <p:cNvPicPr/>
          <p:nvPr/>
        </p:nvPicPr>
        <p:blipFill>
          <a:blip r:embed="rId1"/>
          <a:stretch/>
        </p:blipFill>
        <p:spPr>
          <a:xfrm>
            <a:off x="1442880" y="1773360"/>
            <a:ext cx="3200400" cy="244152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6"/>
          <p:cNvSpPr/>
          <p:nvPr/>
        </p:nvSpPr>
        <p:spPr>
          <a:xfrm>
            <a:off x="5220720" y="2935440"/>
            <a:ext cx="267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У=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2987640" y="189000"/>
            <a:ext cx="30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cc"/>
                </a:solidFill>
                <a:latin typeface="Arial"/>
              </a:rPr>
              <a:t>ЛЮ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900" spc="-1" strike="noStrike">
                <a:solidFill>
                  <a:srgbClr val="0000cc"/>
                </a:solidFill>
                <a:latin typeface="Corbel"/>
              </a:rPr>
              <a:t>Юля</a:t>
            </a:r>
            <a:endParaRPr b="0" lang="en-US" sz="7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2" name="Picture 4" descr="юла"/>
          <p:cNvPicPr/>
          <p:nvPr/>
        </p:nvPicPr>
        <p:blipFill>
          <a:blip r:embed="rId1"/>
          <a:stretch/>
        </p:blipFill>
        <p:spPr>
          <a:xfrm>
            <a:off x="1441440" y="2781360"/>
            <a:ext cx="2986200" cy="271944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5"/>
          <p:cNvSpPr/>
          <p:nvPr/>
        </p:nvSpPr>
        <p:spPr>
          <a:xfrm>
            <a:off x="4861440" y="3716280"/>
            <a:ext cx="268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f271c"/>
                </a:solidFill>
                <a:latin typeface="Arial"/>
              </a:rPr>
              <a:t>а = 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1428840" y="1143000"/>
            <a:ext cx="2943000" cy="459756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4"/>
          <p:cNvSpPr/>
          <p:nvPr/>
        </p:nvSpPr>
        <p:spPr>
          <a:xfrm>
            <a:off x="4913280" y="1349280"/>
            <a:ext cx="16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.4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. Я. Маршак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7" name="Picture 5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2678400" cy="38260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6"/>
          <p:cNvSpPr/>
          <p:nvPr/>
        </p:nvSpPr>
        <p:spPr>
          <a:xfrm>
            <a:off x="3200040" y="148428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Arial"/>
              </a:rPr>
              <a:t>Сказка « О глупом мышонк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7" descr="кошка мать"/>
          <p:cNvPicPr/>
          <p:nvPr/>
        </p:nvPicPr>
        <p:blipFill>
          <a:blip r:embed="rId2"/>
          <a:stretch/>
        </p:blipFill>
        <p:spPr>
          <a:xfrm>
            <a:off x="3564000" y="2205000"/>
            <a:ext cx="4508280" cy="3175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Corbel"/>
              </a:rPr>
              <a:t>Спасибо за урок!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1" name="Picture 5" descr="c6ad815825856799c6eda9ef626ad187"/>
          <p:cNvPicPr/>
          <p:nvPr/>
        </p:nvPicPr>
        <p:blipFill>
          <a:blip r:embed="rId1"/>
          <a:stretch/>
        </p:blipFill>
        <p:spPr>
          <a:xfrm>
            <a:off x="3241800" y="1905120"/>
            <a:ext cx="2881080" cy="2881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4200" y="785520"/>
            <a:ext cx="87156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очитайте сначала гласные, которыми обозначается твёрдость согласных,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отом те, которые обозначают мягкость согласных.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очитайте гласные, которые могут обозначать два звука.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252720" y="248904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1260720" y="2489040"/>
            <a:ext cx="60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2197440" y="24922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3133800" y="24922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9"/>
          <p:cNvSpPr/>
          <p:nvPr/>
        </p:nvSpPr>
        <p:spPr>
          <a:xfrm>
            <a:off x="4141800" y="2492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0"/>
          <p:cNvSpPr/>
          <p:nvPr/>
        </p:nvSpPr>
        <p:spPr>
          <a:xfrm>
            <a:off x="5149800" y="2489040"/>
            <a:ext cx="59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1"/>
          <p:cNvSpPr/>
          <p:nvPr/>
        </p:nvSpPr>
        <p:spPr>
          <a:xfrm>
            <a:off x="6158160" y="2492280"/>
            <a:ext cx="72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2"/>
          <p:cNvSpPr/>
          <p:nvPr/>
        </p:nvSpPr>
        <p:spPr>
          <a:xfrm>
            <a:off x="7237440" y="256536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10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34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43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rbel"/>
              </a:rPr>
              <a:t>Закружится на острой ножке,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Corbel"/>
              </a:rPr>
              <a:t>Жужжит, как будто бы жучок.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Corbel"/>
              </a:rPr>
              <a:t>Захочет – вскачь пройдёт немножко,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Corbel"/>
              </a:rPr>
              <a:t>Захочет – ляжет на бочок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68000" y="2420640"/>
            <a:ext cx="83516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Picture 4" descr="юла"/>
          <p:cNvPicPr/>
          <p:nvPr/>
        </p:nvPicPr>
        <p:blipFill>
          <a:blip r:embed="rId2"/>
          <a:stretch/>
        </p:blipFill>
        <p:spPr>
          <a:xfrm>
            <a:off x="250920" y="3789360"/>
            <a:ext cx="2035080" cy="2317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6"/>
          <p:cNvSpPr/>
          <p:nvPr/>
        </p:nvSpPr>
        <p:spPr>
          <a:xfrm>
            <a:off x="3419640" y="3141720"/>
            <a:ext cx="33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cc"/>
                </a:solidFill>
                <a:latin typeface="Arial"/>
              </a:rPr>
              <a:t>ЮЛ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тобы </a:t>
            </a:r>
            <a:r>
              <a:rPr b="0" lang="ru-RU" sz="4300" spc="-1" strike="noStrike">
                <a:solidFill>
                  <a:srgbClr val="0000ff"/>
                </a:solidFill>
                <a:latin typeface="Corbel"/>
              </a:rPr>
              <a:t>О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не укатилось, 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репко к столбику прибью.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й смотри-ка, 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то случилось: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лучилась… букв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6" name="Picture 4" descr="DSC05866"/>
          <p:cNvPicPr/>
          <p:nvPr/>
        </p:nvPicPr>
        <p:blipFill>
          <a:blip r:embed="rId1"/>
          <a:stretch/>
        </p:blipFill>
        <p:spPr>
          <a:xfrm>
            <a:off x="2771640" y="4000680"/>
            <a:ext cx="2514600" cy="22158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5"/>
          <p:cNvSpPr/>
          <p:nvPr/>
        </p:nvSpPr>
        <p:spPr>
          <a:xfrm>
            <a:off x="7380360" y="2924280"/>
            <a:ext cx="109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Ю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45720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На арене укротитель-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Грозных тигров повелитель.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Он, как буква Ю, с кольцом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К тиграм смело встал лицом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Picture 5" descr="DSC05865"/>
          <p:cNvPicPr/>
          <p:nvPr/>
        </p:nvPicPr>
        <p:blipFill>
          <a:blip r:embed="rId1"/>
          <a:stretch/>
        </p:blipFill>
        <p:spPr>
          <a:xfrm>
            <a:off x="1434960" y="2212920"/>
            <a:ext cx="5208840" cy="22716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2027160" cy="2151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ландыш"/>
          <p:cNvPicPr/>
          <p:nvPr/>
        </p:nvPicPr>
        <p:blipFill>
          <a:blip r:embed="rId2"/>
          <a:stretch/>
        </p:blipFill>
        <p:spPr>
          <a:xfrm>
            <a:off x="3419640" y="1557360"/>
            <a:ext cx="1795320" cy="21366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"/>
          <p:cNvPicPr/>
          <p:nvPr/>
        </p:nvPicPr>
        <p:blipFill>
          <a:blip r:embed="rId3"/>
          <a:stretch/>
        </p:blipFill>
        <p:spPr>
          <a:xfrm>
            <a:off x="5364000" y="1557360"/>
            <a:ext cx="2216160" cy="208584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8"/>
          <p:cNvSpPr/>
          <p:nvPr/>
        </p:nvSpPr>
        <p:spPr>
          <a:xfrm>
            <a:off x="1256760" y="774720"/>
            <a:ext cx="76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ервым звукам названий отгадайте имя дев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1980720" y="4797360"/>
            <a:ext cx="87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f271c"/>
                </a:solidFill>
                <a:latin typeface="Arial"/>
              </a:rPr>
              <a:t>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4141440" y="479736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f271c"/>
                </a:solidFill>
                <a:latin typeface="Arial"/>
              </a:rPr>
              <a:t>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5941800" y="4797360"/>
            <a:ext cx="55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f271c"/>
                </a:solidFill>
                <a:latin typeface="Arial"/>
              </a:rPr>
              <a:t>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34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34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34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5"/>
          <p:cNvSpPr/>
          <p:nvPr/>
        </p:nvSpPr>
        <p:spPr>
          <a:xfrm>
            <a:off x="396720" y="1413000"/>
            <a:ext cx="56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3959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rbel"/>
              </a:rPr>
              <a:t>СОСТАВЬ СЛОВ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64000" y="4365360"/>
            <a:ext cx="58327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4067280" y="2565360"/>
            <a:ext cx="14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ю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252360" y="2421000"/>
            <a:ext cx="90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3995640" y="1484280"/>
            <a:ext cx="141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лю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1"/>
          <p:cNvSpPr/>
          <p:nvPr/>
        </p:nvSpPr>
        <p:spPr>
          <a:xfrm>
            <a:off x="251640" y="3429000"/>
            <a:ext cx="108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ю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3"/>
          <p:cNvSpPr/>
          <p:nvPr/>
        </p:nvSpPr>
        <p:spPr>
          <a:xfrm>
            <a:off x="4284720" y="5445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4"/>
          <p:cNvSpPr/>
          <p:nvPr/>
        </p:nvSpPr>
        <p:spPr>
          <a:xfrm>
            <a:off x="324720" y="4437000"/>
            <a:ext cx="146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р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5"/>
          <p:cNvSpPr/>
          <p:nvPr/>
        </p:nvSpPr>
        <p:spPr>
          <a:xfrm>
            <a:off x="4357800" y="3429000"/>
            <a:ext cx="90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х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6"/>
          <p:cNvSpPr/>
          <p:nvPr/>
        </p:nvSpPr>
        <p:spPr>
          <a:xfrm>
            <a:off x="469800" y="558972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7"/>
          <p:cNvSpPr/>
          <p:nvPr/>
        </p:nvSpPr>
        <p:spPr>
          <a:xfrm>
            <a:off x="4141080" y="4292640"/>
            <a:ext cx="139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ю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93247E-006 L 0.34687 0.1642 E">
                                      <p:cBhvr>
                                        <p:cTn id="108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278 0.0067 L 0.32848 -0.14015 E">
                                      <p:cBhvr>
                                        <p:cTn id="113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96 -0.0037 L 0.33247 0.30065 E">
                                      <p:cBhvr>
                                        <p:cTn id="118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128 0.00694 L 0.29757 -0.13992 E">
                                      <p:cBhvr>
                                        <p:cTn id="123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6827E-006 L 0.31823 -0.18201 E">
                                      <p:cBhvr>
                                        <p:cTn id="128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Corbel"/>
              </a:rPr>
              <a:t>Анаграммы</a:t>
            </a:r>
            <a:br>
              <a:rPr sz="5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5219640" y="141300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УТЮ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6084720" y="458136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0"/>
          <p:cNvSpPr/>
          <p:nvPr/>
        </p:nvSpPr>
        <p:spPr>
          <a:xfrm>
            <a:off x="1765080" y="4005360"/>
            <a:ext cx="75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1"/>
          <p:cNvSpPr/>
          <p:nvPr/>
        </p:nvSpPr>
        <p:spPr>
          <a:xfrm>
            <a:off x="3421080" y="400536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2"/>
          <p:cNvSpPr/>
          <p:nvPr/>
        </p:nvSpPr>
        <p:spPr>
          <a:xfrm>
            <a:off x="2411280" y="4005360"/>
            <a:ext cx="50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3"/>
          <p:cNvSpPr/>
          <p:nvPr/>
        </p:nvSpPr>
        <p:spPr>
          <a:xfrm>
            <a:off x="973440" y="4005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4"/>
          <p:cNvSpPr/>
          <p:nvPr/>
        </p:nvSpPr>
        <p:spPr>
          <a:xfrm>
            <a:off x="611640" y="1341360"/>
            <a:ext cx="21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ТГЮ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5"/>
          <p:cNvSpPr/>
          <p:nvPr/>
        </p:nvSpPr>
        <p:spPr>
          <a:xfrm>
            <a:off x="470880" y="2708280"/>
            <a:ext cx="23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ПЛ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6"/>
          <p:cNvSpPr/>
          <p:nvPr/>
        </p:nvSpPr>
        <p:spPr>
          <a:xfrm>
            <a:off x="5150880" y="2637000"/>
            <a:ext cx="23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ПЛЮ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7"/>
          <p:cNvSpPr/>
          <p:nvPr/>
        </p:nvSpPr>
        <p:spPr>
          <a:xfrm>
            <a:off x="542520" y="4149720"/>
            <a:ext cx="267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ЮБ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8"/>
          <p:cNvSpPr/>
          <p:nvPr/>
        </p:nvSpPr>
        <p:spPr>
          <a:xfrm>
            <a:off x="5079240" y="4076640"/>
            <a:ext cx="267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БРЮ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9"/>
          <p:cNvSpPr/>
          <p:nvPr/>
        </p:nvSpPr>
        <p:spPr>
          <a:xfrm>
            <a:off x="612360" y="5373720"/>
            <a:ext cx="25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ГУТЮ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0"/>
          <p:cNvSpPr/>
          <p:nvPr/>
        </p:nvSpPr>
        <p:spPr>
          <a:xfrm>
            <a:off x="5149440" y="5373720"/>
            <a:ext cx="25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УТЮ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ЕБУС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Line 4"/>
          <p:cNvSpPr/>
          <p:nvPr/>
        </p:nvSpPr>
        <p:spPr>
          <a:xfrm>
            <a:off x="684360" y="1916280"/>
            <a:ext cx="0" cy="410508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5"/>
          <p:cNvSpPr/>
          <p:nvPr/>
        </p:nvSpPr>
        <p:spPr>
          <a:xfrm>
            <a:off x="684360" y="3860640"/>
            <a:ext cx="187164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6"/>
          <p:cNvSpPr/>
          <p:nvPr/>
        </p:nvSpPr>
        <p:spPr>
          <a:xfrm>
            <a:off x="2627280" y="1773360"/>
            <a:ext cx="2665440" cy="43196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0" spc="-1" strike="noStrike">
                <a:solidFill>
                  <a:srgbClr val="000000"/>
                </a:solidFill>
                <a:latin typeface="Arial"/>
              </a:rPr>
              <a:t>ГА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4211640" y="11592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cc"/>
                </a:solidFill>
                <a:latin typeface="Arial"/>
              </a:rPr>
              <a:t>ВЬЮГ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8:48:01Z</dcterms:created>
  <dc:creator>Work_user</dc:creator>
  <dc:description/>
  <dc:language>en-US</dc:language>
  <cp:lastModifiedBy>User</cp:lastModifiedBy>
  <dcterms:modified xsi:type="dcterms:W3CDTF">2017-02-09T16:33:37Z</dcterms:modified>
  <cp:revision>41</cp:revision>
  <dc:subject/>
  <dc:title>Урок чтения в 1 классе. Тема: « Гласная буква Ю ю»</dc:title>
</cp:coreProperties>
</file>