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702-8266-4E98-8BF9-48312133C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CE52-7137-4C99-A91C-9A624FC67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 же он сочинял маленькие рассказы для детей и взрослых. В книжках он рассказывал про своих домашних любимцах, а так же про зверей, живущих в лесу – волков, медведей, лис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7DC-18CA-4513-92D5-B53326DB8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370-FD5C-4893-863E-4DB261F8C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ное чтение текста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бята, придвиньте учебники. Откройте их на странице 136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Жужжащее чтение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нализ содержания по вопросам  «Толстые и тонкие вопр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де жили Шура и Петя? Найдите и прочитайте подтверждение ваших слов. (Они жили на даче – у самого леса, в маленьком домик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можно охарактеризовать мальчиков? (дружные, самостоятельные, послушные) Подтвердите словами из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но ли детей назвать смелыми? Почему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F27-CDB1-4172-8C88-5B0C65217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ти выполняют тест в парах. Затем проверка на эк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2F96-DCE8-4122-8728-A5C0873A1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только часть книг, которые иллюстрировал Е. Чару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3AF-4A5E-4C37-B2DD-FE5A46B6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E38-642D-46E9-A8D6-265D5B3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326-D9EB-49E8-8489-F095305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B21-32AE-4B4B-9F15-FA718C0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DB9-702E-4E31-B4B6-58BBDE3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6C9-F57A-4206-A41B-59A5942D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9D4-FEEE-4267-AE46-919D0B3F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470-37EA-461A-B931-85AE48A0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612-7595-49E9-9965-E3BFF117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833-21B9-4FF0-9B60-883DFE0D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7C-3B6E-4602-BA0E-561B93B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BE3-57B5-40BF-861C-6D1342F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2DA-4562-4CE0-94AE-B8C95FA8A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900000" y="2276640"/>
            <a:ext cx="75596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2bb644c8602637be2f0248de281c999f"/>
          <p:cNvPicPr/>
          <p:nvPr/>
        </p:nvPicPr>
        <p:blipFill>
          <a:blip r:embed="rId1"/>
          <a:stretch/>
        </p:blipFill>
        <p:spPr>
          <a:xfrm>
            <a:off x="6659640" y="4581360"/>
            <a:ext cx="2305080" cy="205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684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har03"/>
          <p:cNvPicPr/>
          <p:nvPr/>
        </p:nvPicPr>
        <p:blipFill>
          <a:blip r:embed="rId1"/>
          <a:stretch/>
        </p:blipFill>
        <p:spPr>
          <a:xfrm>
            <a:off x="179280" y="907920"/>
            <a:ext cx="3478320" cy="5042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har01"/>
          <p:cNvPicPr/>
          <p:nvPr/>
        </p:nvPicPr>
        <p:blipFill>
          <a:blip r:embed="rId2"/>
          <a:stretch/>
        </p:blipFill>
        <p:spPr>
          <a:xfrm>
            <a:off x="3995640" y="2924280"/>
            <a:ext cx="4667400" cy="3400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635280" y="404640"/>
            <a:ext cx="51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 наблюдал за животными, часто бывал в зоопарке и выполнял множество рисунков с натуры. Ведь для того, чтобы правдиво изобразить животное, нужно хорошо его изучить, знать не только внешность зверя, но и движения, повадки и даже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8"/>
          <p:cNvPicPr/>
          <p:nvPr/>
        </p:nvPicPr>
        <p:blipFill>
          <a:blip r:embed="rId1"/>
          <a:stretch/>
        </p:blipFill>
        <p:spPr>
          <a:xfrm rot="20969400">
            <a:off x="395280" y="333360"/>
            <a:ext cx="1327320" cy="195408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 rot="20803800">
            <a:off x="2271600" y="1225080"/>
            <a:ext cx="1582920" cy="20862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1654200" cy="2349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 rot="20941800">
            <a:off x="826920" y="2421000"/>
            <a:ext cx="1575000" cy="206352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 rot="20934600">
            <a:off x="4500720" y="980640"/>
            <a:ext cx="1847520" cy="237492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6"/>
          <a:stretch/>
        </p:blipFill>
        <p:spPr>
          <a:xfrm rot="20725800">
            <a:off x="3347640" y="2781000"/>
            <a:ext cx="1523880" cy="21636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7"/>
          <a:stretch/>
        </p:blipFill>
        <p:spPr>
          <a:xfrm rot="20714400">
            <a:off x="5724000" y="2420640"/>
            <a:ext cx="1697040" cy="2160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8"/>
          <a:stretch/>
        </p:blipFill>
        <p:spPr>
          <a:xfrm rot="20780400">
            <a:off x="7391520" y="1052280"/>
            <a:ext cx="1752480" cy="2232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5" name="Picture 10" descr=""/>
          <p:cNvPicPr/>
          <p:nvPr/>
        </p:nvPicPr>
        <p:blipFill>
          <a:blip r:embed="rId9"/>
          <a:stretch/>
        </p:blipFill>
        <p:spPr>
          <a:xfrm>
            <a:off x="2268360" y="4508640"/>
            <a:ext cx="1789200" cy="2349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6" name="Picture 11" descr=""/>
          <p:cNvPicPr/>
          <p:nvPr/>
        </p:nvPicPr>
        <p:blipFill>
          <a:blip r:embed="rId10"/>
          <a:stretch/>
        </p:blipFill>
        <p:spPr>
          <a:xfrm>
            <a:off x="4572000" y="4437000"/>
            <a:ext cx="1628640" cy="2421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87" name="Picture 12" descr="м и б"/>
          <p:cNvPicPr/>
          <p:nvPr/>
        </p:nvPicPr>
        <p:blipFill>
          <a:blip r:embed="rId11"/>
          <a:stretch/>
        </p:blipFill>
        <p:spPr>
          <a:xfrm>
            <a:off x="7020000" y="4365720"/>
            <a:ext cx="1876320" cy="249228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88" name="WordArt 13"/>
          <p:cNvSpPr txBox="1"/>
          <p:nvPr/>
        </p:nvSpPr>
        <p:spPr>
          <a:xfrm>
            <a:off x="2050920" y="18900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писатель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144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сом катится клуб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него колючий б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охотится ночам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жуками и мыш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Documents and Settings\Александр\Рабочий стол\1248508070_src2430.jpg"/>
          <p:cNvPicPr/>
          <p:nvPr/>
        </p:nvPicPr>
        <p:blipFill>
          <a:blip r:embed="rId1"/>
          <a:stretch/>
        </p:blipFill>
        <p:spPr>
          <a:xfrm>
            <a:off x="1908000" y="2766960"/>
            <a:ext cx="5616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59712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3961080" cy="248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530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333399"/>
                </a:solidFill>
                <a:uFillTx/>
                <a:latin typeface="Century Schoolbook"/>
              </a:rPr>
              <a:t>Е. Чаруш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i="1" lang="ru-RU" sz="8000" spc="-1" strike="noStrike">
                <a:solidFill>
                  <a:srgbClr val="0000ff"/>
                </a:solidFill>
                <a:latin typeface="Century Schoolbook"/>
              </a:rPr>
              <a:t>«Страшный рассказ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68360" y="2098440"/>
            <a:ext cx="36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емнело 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Негромко 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Шлёпает  -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11280" y="49860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ловар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Ёжик1"/>
          <p:cNvPicPr/>
          <p:nvPr/>
        </p:nvPicPr>
        <p:blipFill>
          <a:blip r:embed="rId1"/>
          <a:stretch/>
        </p:blipFill>
        <p:spPr>
          <a:xfrm rot="429600">
            <a:off x="7308360" y="5373720"/>
            <a:ext cx="1457280" cy="1090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851280" y="2133720"/>
            <a:ext cx="468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упил веч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п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588000" y="1617840"/>
            <a:ext cx="117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116000" y="764640"/>
            <a:ext cx="721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помещение между жилой частью дома и крыльцом в деревенских изб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51400" cy="46875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102" name="Rectangle 4"/>
          <p:cNvSpPr/>
          <p:nvPr/>
        </p:nvSpPr>
        <p:spPr>
          <a:xfrm>
            <a:off x="3565800" y="260280"/>
            <a:ext cx="182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3600"/>
                </a:solidFill>
                <a:latin typeface="Times New Roman"/>
              </a:rPr>
              <a:t>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71640" y="981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3600"/>
                </a:solidFill>
                <a:latin typeface="Times New Roman"/>
              </a:rPr>
              <a:t>помещение в доме, служащее клад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2963880" cy="4464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sp>
        <p:nvSpPr>
          <p:cNvPr id="105" name="Rectangle 4"/>
          <p:cNvSpPr/>
          <p:nvPr/>
        </p:nvSpPr>
        <p:spPr>
          <a:xfrm>
            <a:off x="3781080" y="35568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3600"/>
                </a:solidFill>
                <a:latin typeface="Times New Roman"/>
              </a:rPr>
              <a:t>ЧУ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859280" y="2637000"/>
            <a:ext cx="3529080" cy="234144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ozitive_ejiki_3"/>
          <p:cNvPicPr/>
          <p:nvPr/>
        </p:nvPicPr>
        <p:blipFill>
          <a:blip r:embed="rId1"/>
          <a:stretch/>
        </p:blipFill>
        <p:spPr>
          <a:xfrm>
            <a:off x="4932360" y="333360"/>
            <a:ext cx="3889440" cy="264312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pic>
        <p:nvPicPr>
          <p:cNvPr id="108" name="Picture 3" descr="nature056"/>
          <p:cNvPicPr/>
          <p:nvPr/>
        </p:nvPicPr>
        <p:blipFill>
          <a:blip r:embed="rId2"/>
          <a:stretch/>
        </p:blipFill>
        <p:spPr>
          <a:xfrm>
            <a:off x="250920" y="333360"/>
            <a:ext cx="3889440" cy="260208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pic>
        <p:nvPicPr>
          <p:cNvPr id="109" name="Picture 4" descr="Рисунок1"/>
          <p:cNvPicPr/>
          <p:nvPr/>
        </p:nvPicPr>
        <p:blipFill>
          <a:blip r:embed="rId3"/>
          <a:stretch/>
        </p:blipFill>
        <p:spPr>
          <a:xfrm>
            <a:off x="2411280" y="3357720"/>
            <a:ext cx="4407120" cy="331128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" y="1772640"/>
            <a:ext cx="898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хорошо, что хорошо кончается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всякую беду страха не напасешься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 страха глаза велики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835280" y="260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63640" y="33336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26920" y="242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 ёжика и ёлки иголки ко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583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c3600"/>
                </a:solidFill>
                <a:latin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268280"/>
          <a:ext cx="8064360" cy="3903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1. Мальчиков звали Шура и Петя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2. Без мамы и папы дети не ложились спать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3. В темноте по стене ползал-шуршал таракан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4. От страха Петя бросился к Шуре на кровать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5. В углу свернулся шариком ёжик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6. Дети дали молока в блюдце и кусочек яблока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7. Ёжик остался жить с ребятами летом на даче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8360" y="1268280"/>
          <a:ext cx="360360" cy="389736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6c3600"/>
                          </a:solidFill>
                          <a:latin typeface="Arial"/>
                        </a:rPr>
                        <a:t>+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4" descr="04_L"/>
          <p:cNvPicPr/>
          <p:nvPr/>
        </p:nvPicPr>
        <p:blipFill>
          <a:blip r:embed="rId1"/>
          <a:stretch/>
        </p:blipFill>
        <p:spPr>
          <a:xfrm>
            <a:off x="2556000" y="5345280"/>
            <a:ext cx="4176720" cy="151272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</p:spTree>
  </p:cSld>
  <p:transition spd="med">
    <p:pull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71000"/>
            <a:ext cx="8137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ходи в мир природы! Будь внимательным, добрым и смелым. Больше узнавай, больше умей, чтобы вся природа обернулась для тебя большой Родиной. Растения и животные - это наша родная природа. Оберегать и любить их - это значит любить и беречь свою Родину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Е.И.Чару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49120" y="1915560"/>
            <a:ext cx="804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ru-RU" sz="8000" spc="-1" strike="noStrike">
                <a:solidFill>
                  <a:srgbClr val="333399"/>
                </a:solidFill>
                <a:latin typeface="Times New Roman"/>
              </a:rPr>
              <a:t>Я и мои друзья”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867680"/>
            <a:ext cx="83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 Выразительно читать текст. Учебник с. 136-1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о жел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ить кратки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ить 3-4 вопроса к прочитанному текс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рать к прочитанному тексту пословицы, 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исовать иллюстрацию к понравившемуся фрагменту расска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826920" y="404640"/>
            <a:ext cx="7345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4520" y="2133000"/>
            <a:ext cx="776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Ребята ловили ут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Приказ взросл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Утка повела утят к озе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Семья продолжает путешеств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611280" y="333360"/>
            <a:ext cx="770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им 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1197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Утка повела утят к озе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Ребята ловили утя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. Приказ взросл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. Семья продолжает путешеств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75400" y="1892160"/>
            <a:ext cx="833256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3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ru-RU" sz="8300" spc="-1" strike="noStrike">
                <a:solidFill>
                  <a:srgbClr val="333399"/>
                </a:solidFill>
                <a:latin typeface="Times New Roman"/>
              </a:rPr>
              <a:t>Я и мои друзья”</a:t>
            </a:r>
            <a:r>
              <a:rPr b="0" lang="ru-RU" sz="8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ЕР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Е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А, ТИГ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, З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БР, 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ШИ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МПА</a:t>
            </a:r>
            <a:r>
              <a:rPr b="0" lang="ru-RU" sz="37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700" spc="-1" strike="noStrike">
                <a:solidFill>
                  <a:srgbClr val="0d0d0d"/>
                </a:solidFill>
                <a:latin typeface="Arial"/>
              </a:rPr>
              <a:t>З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195640" y="407664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Times New Roman"/>
              </a:rPr>
              <a:t>Чаруш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_charushin_1"/>
          <p:cNvPicPr/>
          <p:nvPr/>
        </p:nvPicPr>
        <p:blipFill>
          <a:blip r:embed="rId1"/>
          <a:stretch/>
        </p:blipFill>
        <p:spPr>
          <a:xfrm>
            <a:off x="324000" y="549360"/>
            <a:ext cx="3887640" cy="5543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60" name="WordArt 3"/>
          <p:cNvSpPr txBox="1"/>
          <p:nvPr/>
        </p:nvSpPr>
        <p:spPr>
          <a:xfrm>
            <a:off x="4643280" y="907920"/>
            <a:ext cx="3743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гений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ванович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рушин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4716360" y="422100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1901 - 1965 )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332000" y="1628640"/>
          <a:ext cx="69469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94692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WordArt 3"/>
          <p:cNvSpPr txBox="1"/>
          <p:nvPr/>
        </p:nvSpPr>
        <p:spPr>
          <a:xfrm>
            <a:off x="900000" y="260280"/>
            <a:ext cx="748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иллюстратор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21 из 314"/>
          <p:cNvPicPr/>
          <p:nvPr/>
        </p:nvPicPr>
        <p:blipFill>
          <a:blip r:embed="rId1"/>
          <a:stretch/>
        </p:blipFill>
        <p:spPr>
          <a:xfrm>
            <a:off x="1258920" y="404640"/>
            <a:ext cx="1982880" cy="2814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2016000" cy="3119760"/>
          </a:xfrm>
          <a:prstGeom prst="rect">
            <a:avLst/>
          </a:prstGeom>
          <a:ln w="28440">
            <a:solidFill>
              <a:srgbClr val="603000"/>
            </a:solidFill>
            <a:round/>
          </a:ln>
        </p:spPr>
      </p:pic>
      <p:pic>
        <p:nvPicPr>
          <p:cNvPr id="67" name="Picture 4" descr="Картинка 3 из 17"/>
          <p:cNvPicPr/>
          <p:nvPr/>
        </p:nvPicPr>
        <p:blipFill>
          <a:blip r:embed="rId3"/>
          <a:stretch/>
        </p:blipFill>
        <p:spPr>
          <a:xfrm>
            <a:off x="6443640" y="404640"/>
            <a:ext cx="1792440" cy="2814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1701720" cy="2806920"/>
          </a:xfrm>
          <a:prstGeom prst="rect">
            <a:avLst/>
          </a:prstGeom>
          <a:ln w="28440">
            <a:solidFill>
              <a:srgbClr val="603000"/>
            </a:solidFill>
            <a:round/>
          </a:ln>
        </p:spPr>
      </p:pic>
      <p:pic>
        <p:nvPicPr>
          <p:cNvPr id="69" name="Picture 6" descr="Картинка 4 из 75"/>
          <p:cNvPicPr/>
          <p:nvPr/>
        </p:nvPicPr>
        <p:blipFill>
          <a:blip r:embed="rId5"/>
          <a:stretch/>
        </p:blipFill>
        <p:spPr>
          <a:xfrm>
            <a:off x="4859280" y="2133720"/>
            <a:ext cx="2071800" cy="26654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2771640" y="2133720"/>
            <a:ext cx="2022480" cy="280800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1" name="Picture 8" descr="i_charushin6_1[1]"/>
          <p:cNvPicPr/>
          <p:nvPr/>
        </p:nvPicPr>
        <p:blipFill>
          <a:blip r:embed="rId7"/>
          <a:stretch/>
        </p:blipFill>
        <p:spPr>
          <a:xfrm>
            <a:off x="1908000" y="3645000"/>
            <a:ext cx="2235240" cy="2808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2" name="Picture 9" descr="Картинка 2 из 340"/>
          <p:cNvPicPr/>
          <p:nvPr/>
        </p:nvPicPr>
        <p:blipFill>
          <a:blip r:embed="rId8"/>
          <a:stretch/>
        </p:blipFill>
        <p:spPr>
          <a:xfrm>
            <a:off x="6753240" y="2565360"/>
            <a:ext cx="1976400" cy="2592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73" name="Picture 10" descr="Картинка 26 из 279"/>
          <p:cNvPicPr/>
          <p:nvPr/>
        </p:nvPicPr>
        <p:blipFill>
          <a:blip r:embed="rId9"/>
          <a:stretch/>
        </p:blipFill>
        <p:spPr>
          <a:xfrm>
            <a:off x="4427640" y="3645000"/>
            <a:ext cx="2006640" cy="280836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</p:spTree>
  </p:cSld>
  <p:transition spd="med"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6:10:54Z</dcterms:created>
  <dc:creator/>
  <dc:description/>
  <dc:language>en-US</dc:language>
  <cp:lastModifiedBy>user</cp:lastModifiedBy>
  <dcterms:modified xsi:type="dcterms:W3CDTF">2013-11-26T02:42:56Z</dcterms:modified>
  <cp:revision>10</cp:revision>
  <dc:subject/>
  <dc:title>Слайд 1</dc:title>
</cp:coreProperties>
</file>