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2.gif" ContentType="image/gif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31D-A1C4-41C1-8F55-BDA38F38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E8A-24A3-4EF0-8029-98F18C2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9A57C-3CB0-4506-BAF0-07A86B63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E287D-18B5-4827-8A2E-04EDD52E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13402-AAFE-45A1-8EAE-ED2D5915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56435-4181-49B1-8BB4-934C8D0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544FB-B3BF-4546-A7DD-2461DEF6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F7182-D619-48B7-998F-F4206EC9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8BFC3-761B-44B5-9EBA-4AC63E9D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B5199-BA7D-464A-A004-DA257A8C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09B4-21B8-4D1C-8AD7-AF413A96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CDD-EF8C-4D37-8436-99E80358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BD4-C71A-48D5-BBC7-FBFB3C16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FED3-0552-42CE-939D-7505583B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D206-AEFD-44F4-9C6A-AC81F216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D54C-0709-4F3D-AE1D-287660BD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3EC1-1934-4F9B-8C27-DFCCBA8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F021-5E57-43D2-95E3-DE2C3BCB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FC4-9878-4E31-B383-35E1585C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76C9-DA29-4FBD-8204-5A188D7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400-A832-434B-971C-BEB7CA8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A502-0EBB-4EF9-8A93-4E665986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924D-8549-423C-990B-E690784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0A74-247E-44D4-8324-CCC1AA48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5F5-7822-4F65-8EDC-FA723547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E85-4F65-42B0-8F67-0A1428E8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0B55-A0A6-406A-BB5D-4B9252EA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70C0-FD0A-42A0-9BB1-9763C4E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CE85-50CE-4FED-923B-81B8275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A62F-086A-4D4C-AF22-8416091C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6BF3-B6E0-4B3D-B573-31F5E0AD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A8F-5AE2-46D6-9301-4F70D403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A758-5670-45FD-BC4B-78F1157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C824-0F79-4329-A4E4-7C5654A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3B15-6A95-40C6-B16F-4C56942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5C97-5D59-4A73-B504-D602868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A597-92A3-4479-ACE7-1E15798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905C-5996-493A-A8BE-1F2AFB11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E1DC-CD7F-44DC-950F-4B3117BE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546F-EB1E-4AAF-82AF-F1E96296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51045-7AC1-4089-8B7C-0241512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FE8E-544C-4D90-8970-38C55E1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3CA-D0C9-4A1A-A8C3-481150CC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A606-A7E5-4025-B553-37DFB8DC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5196-1E1B-4FA1-896E-5DBB59D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EEC9-8B55-48D0-B6EA-65B4B09D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F418C-FA06-47EE-8389-F0091CD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B748-63B2-455D-89A0-68D1477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8FD3-8ED5-4B37-B3D9-E640702A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8FB9-8A25-49AE-A2F9-EAA73928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0D2B-C580-4314-9563-2DC11EA3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3412-E9EC-45C8-B6F0-52FCEA17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9EE0-AA6C-448D-A24B-D9238174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9B4-6BA5-482A-925B-CFCA294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6585-F999-4FF4-91C9-025F654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BCE0-6865-4C94-98F7-2258D76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4FD6-B39B-4256-8E60-5B583847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264BA-56B5-458D-A5BA-2D9E0ED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68A2-AB20-46D5-AAFB-5126FA2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36DB-5AA6-4B24-9394-8B02D41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B6CEF-729E-4B41-907D-725E643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6A58-594B-4ECE-8855-6A6B8B91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A93F-EB3C-49C3-8183-FC8EEEC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D65F-9C58-46EB-B182-51F5E192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DCD-461D-494D-A281-E02D954D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116E-D453-4C98-9B6A-BDE6404C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A5482-7D2B-4D0D-A50A-C9209B79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1060-FED2-4076-BF7B-1FA92C2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534D-8761-418C-9894-96809BC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92A7B-DBFC-409B-9C4B-C27A7B06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25B4D-D966-4BAD-BCC9-A9DA0F3F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237D-5D7E-4B9D-9401-1AA0200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2FBA8-E36F-438D-B287-2D02BDE0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5D688-9168-4F70-A894-23C6664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8C05E-0168-4547-A19A-5C2FB7C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5F7-CB88-434E-B3D3-5E5EDA2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7E6B2-C433-4AA0-86C0-5B08A76C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C22C-7500-401C-8C89-1A4EC55B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9C8D-EAC2-43E2-AA68-4EF6BF0C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D9ED3-809A-4729-A45B-ECFE271D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5A27-B6E6-48F0-9A49-BACDDBF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D704-A203-4ABC-80EA-E13A538E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526F-BDE0-4589-8B36-3DA9F35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C55AD-999D-4329-83D8-A3129560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6CC6-2B8B-485F-A4E9-B08FE429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1CDDF-93BC-4EB9-A091-BB6C1E2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D37-3143-4A76-94FD-AD58F82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D6A4C-4321-4E15-A3C9-1A5F5098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1593-1A79-4496-9F58-61013B6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FCB6-E277-4644-ABC7-107AA78E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6C8A9-AF06-4056-9A31-BD0F091E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FC9C-2EA3-43E9-8F61-FE3B4D08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6606-CD87-46A7-BBA1-4B5C61C7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ED77D-C636-4C5D-9F7E-82A6223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7BC3-D5E5-4554-9D8C-06012A45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2AD8-965D-4091-9406-60E8B5A2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8ADFB-BF02-4E82-BA79-4E95F85C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02A-2532-4F02-8630-A210E4C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5742A-81BA-4A17-AE7D-AF09DCB1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80ADC-F0D0-4ECF-AE53-2E6CDE7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C92C-854A-4EE9-9D6A-4DE6295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CF96A-F4DD-4C9A-8DF0-F0423A8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C6B2-15B7-4EA6-8C02-BB8D2804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C65F0-1EDE-4297-A6CF-01489CF8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9C8B-15AD-48A6-BF0D-CFBD97F7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E01C-E029-4FE6-B54E-67C731DB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286A4-E939-4F5F-8295-6070566A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713D3-FB1D-4E4E-8BFE-FAE9107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F23-9D54-48C9-B308-CA33572BADE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4479-4DD0-4BFF-AB01-938D44718070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7CBF-3E55-4C6A-9ECB-F5FB42056E13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13F4-31F7-4DD6-8E6C-8541A14A132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823-2780-40A4-A9BE-F09A14821183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118-1F16-4C46-BD13-511353B2B5B5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FED2-72CE-4F9B-8C0D-6DEA7EA1633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1F6-B306-40DA-90A0-96B32CE313A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F411-FAC9-45E1-9429-15890D431FE7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682560" y="268200"/>
            <a:ext cx="7864560" cy="1878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4419360" cy="2971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228600" y="236232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133200" y="249120"/>
            <a:ext cx="8882280" cy="1976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Да-  2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Нет-  0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133200" y="176040"/>
            <a:ext cx="8864640" cy="1976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Делают замечания -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угают –7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Говорят, надо стараться..-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аказывают –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Я стараюсь не приходить с плохой отметкой-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азъясняют – 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Помогают разобраться – 5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Огорчаются –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асспрашивают за что..- 3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Пишем диктанты, учим правила вместе –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ИЧЕГО - 3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6099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Нет- 1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Иногда 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089920" cy="1603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3048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D:\My private\картинки\ШКОЛА. 1 СЕНТЯБРЯ (АНИМАЦИИ и КАРТИНКИ)\БОЛЬШОЕ СПАСИБО.gif"/>
          <p:cNvPicPr/>
          <p:nvPr/>
        </p:nvPicPr>
        <p:blipFill>
          <a:blip r:embed="rId2"/>
          <a:stretch/>
        </p:blipFill>
        <p:spPr>
          <a:xfrm>
            <a:off x="2124000" y="1125360"/>
            <a:ext cx="5405400" cy="3857760"/>
          </a:xfrm>
          <a:prstGeom prst="rect">
            <a:avLst/>
          </a:prstGeom>
          <a:ln w="0">
            <a:noFill/>
          </a:ln>
        </p:spPr>
      </p:pic>
      <p:pic>
        <p:nvPicPr>
          <p:cNvPr id="434" name="TextBox 4" descr=""/>
          <p:cNvPicPr/>
          <p:nvPr/>
        </p:nvPicPr>
        <p:blipFill>
          <a:blip r:embed="rId3"/>
          <a:stretch/>
        </p:blipFill>
        <p:spPr>
          <a:xfrm>
            <a:off x="1332000" y="4797360"/>
            <a:ext cx="64990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647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4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225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Самостоятельно справляется с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Готовит с трудом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заключается в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Когда ребенок учит уроки, мы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2"/>
          <a:stretch/>
        </p:blipFill>
        <p:spPr>
          <a:xfrm>
            <a:off x="390600" y="901800"/>
            <a:ext cx="8393040" cy="2822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Да – </a:t>
            </a: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2"/>
          <a:stretch/>
        </p:blipFill>
        <p:spPr>
          <a:xfrm>
            <a:off x="2441520" y="457200"/>
            <a:ext cx="4413240" cy="8380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1 час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2 часа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3 часа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нее 1 часа - 2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103320" y="41436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Литерату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е чт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–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усск. я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 я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-е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4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 – 15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-8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ура – 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 - 7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0" y="380880"/>
            <a:ext cx="8924760" cy="1878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нглийский язык -  9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усский. яз.- 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атематика - 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кружающий мир - 6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б-е - 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нформатика –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ехнология –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ЗО 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1-19T10:58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