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2.gif" ContentType="image/gif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6AC-16D0-4107-8EAF-30AA4617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7CF-04A5-4A74-9F02-E38608DA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2A0A-004B-4683-8B64-A3910B0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472C6-9C01-4D5B-884B-7F9E1A15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F6B0-D862-4214-AF4F-CE088F72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854D8-2ED8-4DF8-BF65-9F95B30A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0886D-20FB-475F-AF7E-B4753D91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C957-0DED-4824-B81A-1152919E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A3D59-C1E5-4D9E-B3F7-720D59D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B168D-E318-4038-8861-6E12184F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DB245-BC66-4DC9-BD95-3B86E377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21A-B552-435D-A84D-A139E0F3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1E9-1ECB-40FE-8BED-A49DB814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B6E-750F-4176-9D45-922C1181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D51E-3A69-4DFE-9796-D7DEB085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4CFD-2498-47E8-8B23-CF832BC1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D75A-129F-490A-B1B5-D022814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CAD-2370-47BE-B5DE-8754BFC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07E7-F226-4542-8336-30200C5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9A97-189C-4460-9330-C1E9899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407-EA56-417E-8249-D07D5F06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B289-6FEF-4CDE-B12B-6A55072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67A4-F672-4960-8C3D-1EAB68D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922-5BE8-425F-A943-2F676B97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33A-8981-4C86-B0C0-78D81952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D38A-61A5-4A76-A8F0-DDCEB7B1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72DF-B05B-4CAA-8095-826DE860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38D0-BEFA-4E81-BA38-97AAD60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2E46-A5B5-44CA-9B48-7686E76A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930E-762B-4D61-86F0-51DDE08A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3E78-6DDE-40AD-83CE-F973D8B3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E17-FF3D-468B-8856-35624C78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54E0-6D85-473B-AA0E-D42A4934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0C99-8D69-4295-AC11-45580C5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FD0A-8F23-4464-A673-8077F96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DECC-190D-4185-AF75-80A67B4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2E77-7A8A-4D1D-AC0C-D765AD8C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9EC9-E4AE-4418-8304-69E26A9D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85BB-4F05-47AC-8A09-0D59672A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1D61-A7D7-45BE-B89D-F4552C60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481B-3C19-45B0-8584-1E9C8D2C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2A90-B9A6-4745-85F0-04432DC7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EA3-90F5-42A8-AF2C-13BB55C8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F600-29D2-4385-A0B2-45C8DCFF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0DF4-8FF3-4589-A038-DE6B394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5480-A422-4DF3-A118-6FCE489F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6C43-3467-4591-B076-44AF867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5614-7651-4E40-B57B-B4ECCEA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C283-8BB7-406D-AA58-9EB76A6D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0784-8DCE-4D84-9B0F-2040B147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43BD-3703-4174-A18C-506DF3B3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81E0-7DB2-469C-8F4F-6D0FF608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B3EF-BEF2-44E1-A632-7BFCFA9A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E0D-C1C3-4FBE-A712-4928227B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62E8-A348-4D87-A6BC-80A516B7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10D8-D580-4523-823C-5A8E9A2E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18EAC-FFCD-4831-B1F8-A7F0F0E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47E51-94F0-47D0-807F-E34A212A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BC6D3-4B24-45E6-8AD8-F51E696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FAEA-7A1E-43CF-AF20-6E93AF8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C8F27-2730-4FAF-B724-B172A29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5E01-4B99-4914-B224-43756E7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CCA0-569E-47BA-91BA-1BDB9D5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1FA8-80C9-4721-B9EB-2CE236B8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2F7-6D69-449F-A4B2-A5745AD8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BE354-4840-4412-856E-52FB5EA5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27EA-3D1C-4D91-81A5-468EAF49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631A-9B06-4409-B751-C54C792E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1947-C2C4-4925-94BD-D82B8F04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CC8A-12D9-48AD-9FC2-449B36C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418A-A1D1-4A7A-B6CA-EC4DA314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304AB-7B29-4306-87A7-29A01D5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0AA7-2935-4845-A783-63BCB07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FCA7-896C-47B1-94EC-A847253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6685-D5FF-4AA8-B798-D74F1E2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BA2-3555-4CB1-8A5E-E8FB61E7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09D6E-8B06-48DA-BA78-E814988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3122-945E-4E9C-B3C5-420D567D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7281C-3FA7-4534-AB30-F09FF86C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F2617-1D45-4EAE-A34C-A94D1616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5575-BC5D-4C4D-9BF2-48DE9F9F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B394F-2545-4548-9C1E-4176F230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8471-956E-4855-A9AC-E260515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68B96-2FA7-4ABB-8939-48902FF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7F23-7C51-46AA-B487-30776AA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264A-8C6A-4213-8ACB-E32CCDD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376-4E75-4AD3-ABB0-9A23012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7F69E-011D-4119-8CCC-43F9F86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534F-24FA-4BCF-ACFF-6D61397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DEA9-7DDC-4789-8B13-DBB9690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B1633-AB5A-4F06-8A6A-04C24D04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602E-9A2C-4F31-9680-556F53C9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7046-5C81-4AD1-B908-62989CF7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F9BA3-BC33-4C80-9BA6-82C4BEB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7D701-4D6A-4910-9F48-ADFB8BFF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1712D-86C0-457F-9ED3-B8B462A4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D821-0B85-49E3-8994-E658B46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374-C929-4495-9690-E0B2EFC7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03311-EF22-4B09-96C6-E02F6C9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CB2D9-121B-48B4-8EFF-BC50835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A470-F98C-4051-86A5-C2CFC5CF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C2737-7E55-40CF-B574-94B88F98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C43C-F8C7-474E-AE85-E63631E3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D2CD6-79E9-4515-BD66-1C527CA9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4136-0E88-435D-8C1F-472D39EE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49F43-874D-40D5-87B9-2890E25C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E59E-6AA6-44B6-8AA2-185BAD6F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01BF5-8BCC-4502-88B5-B9C3E0B2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A298-758D-421B-A223-3071809D807C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046-C46E-4E79-A6A8-1255398A7465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0F1-58A7-45AD-B02B-20A72EE9130F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49F-EA43-495D-A9FB-602B09641EE0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6F82-EDFB-41BF-8B6D-F9B72D9BC1A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3CF7-B35A-46C6-94FB-4AA41D7D4065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C32-01C4-4AB3-AA2B-27730924B8BE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C8D-E4DC-498F-8E48-41C8D5E37D8A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44BD-3C8B-4FF7-9788-D0E59F493BA0}" type="slidenum">
              <a:rPr b="0" lang="ru-RU" sz="1200" spc="-1" strike="noStrike">
                <a:solidFill>
                  <a:srgbClr val="e075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682560" y="268200"/>
            <a:ext cx="7864560" cy="1878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4419360" cy="2971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228600" y="2362320"/>
            <a:ext cx="350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133200" y="249120"/>
            <a:ext cx="8882280" cy="1976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Да-  2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Нет-  0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133200" y="176040"/>
            <a:ext cx="8864640" cy="1976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Делают замечания -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угают –7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Говорят, надо стараться..-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аказывают –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Я стараюсь не приходить с плохой отметкой-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азъясняют – 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Помогают разобраться – 5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Огорчаются –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Расспрашивают за что..- 3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Пишем диктанты, учим правила вместе – 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НИЧЕГО - 3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6099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2133720"/>
            <a:ext cx="86868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Да- 8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Нет- 13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Иногда - 2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</a:rPr>
              <a:t>УВАЖАЕМЫЕ РОДИТЕЛИ!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1. Оказываете ли Вы помощь ребенку при выполнен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В чем она заключаетс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2. В какое время Ваш ребенок садится за уроки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3. Какие предметы ему даются легче, по каким испытывает затрудне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4. Всегда ли есть у ребенка запись в дневнике о наличии домашнего задания?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5. Сколько в среднем уходит времени на выполнение письменных заданий ______;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устных заданий ___ 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Задание № 1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Старший ребенок у нас в свое время ходил в группу продленного дня. Уроки там делал кое-как, ну и успеваемость была соответствующая. Поэтому младшему строго-настрого наказала: без нас уроки не делать. Я прихожу после 18 часов, мы ужинаем и садимся за уроки. Я сижу рядом, при необходимости подсказываю или заставляю переделыва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Вопросы: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Должен ли ребенок дожидаться родителей, чтобы выполнить домашнее задание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Как вы думаете, должно ли домашнее задание выполняться сначала в черновом варианте, а потом в тетради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357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Задание № 2</a:t>
            </a: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Мы с женой сразу договорились: пусть Светлана учится сама, как может. Я и в тетрадки не заглядываю. Жена иногда интересуется. Но мы считаем, раз ученица – Света, то пусть и свои учебные проблемы решает сама. Что не понимает, у ребят, у учительницы спросит, а уж отметка – что заработает, то и получит. Двойку получит, значит, гулять не пойдет, а как иначе?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Franklin Gothic Book"/>
              </a:rPr>
              <a:t>Вопросы:</a:t>
            </a: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Как вы оцениваете поведение родителей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Нужно ли помогать ребенку в учебной деятельности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Если ребенок получит двойку, то какие будут ваши действия?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089920" cy="1603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30481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Это в идеале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А в обычной школьной жизни много нюансов, мешающих плодотворному сотрудничеству учителя и уче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D:\My private\картинки\ШКОЛА. 1 СЕНТЯБРЯ (АНИМАЦИИ и КАРТИНКИ)\БОЛЬШОЕ СПАСИБО.gif"/>
          <p:cNvPicPr/>
          <p:nvPr/>
        </p:nvPicPr>
        <p:blipFill>
          <a:blip r:embed="rId2"/>
          <a:stretch/>
        </p:blipFill>
        <p:spPr>
          <a:xfrm>
            <a:off x="2124000" y="1125360"/>
            <a:ext cx="5405400" cy="3857760"/>
          </a:xfrm>
          <a:prstGeom prst="rect">
            <a:avLst/>
          </a:prstGeom>
          <a:ln w="0">
            <a:noFill/>
          </a:ln>
        </p:spPr>
      </p:pic>
      <p:pic>
        <p:nvPicPr>
          <p:cNvPr id="434" name="TextBox 4" descr=""/>
          <p:cNvPicPr/>
          <p:nvPr/>
        </p:nvPicPr>
        <p:blipFill>
          <a:blip r:embed="rId3"/>
          <a:stretch/>
        </p:blipFill>
        <p:spPr>
          <a:xfrm>
            <a:off x="1332000" y="4797360"/>
            <a:ext cx="64990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647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Ребенок, что тест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как замесил, так и выросло”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Наша задача – приучить ребенка трудиться правильно, не нанося вред здоровью, т. к. учеба – это главный труд школьника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406" name="Прямоугольник 3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47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225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Franklin Gothic Book"/>
              </a:rPr>
              <a:t>Раздаются карточки с началом предложения, а родители должны его продолжить.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У нашего ребенка есть специальное место, где он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Самостоятельно справляется с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Готовит с трудом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Мы оказываем помощь ребенку в приготовлении домашних заданий. Эта помощь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заключается в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Когда ребенок учит уроки, мы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Book"/>
              </a:rPr>
              <a:t>- Если ребенок выполнил домашнее задание небрежно, то …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2"/>
          <a:stretch/>
        </p:blipFill>
        <p:spPr>
          <a:xfrm>
            <a:off x="390600" y="901800"/>
            <a:ext cx="8393040" cy="2822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7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Да – </a:t>
            </a: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Нет - 2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2"/>
          <a:stretch/>
        </p:blipFill>
        <p:spPr>
          <a:xfrm>
            <a:off x="2441520" y="457200"/>
            <a:ext cx="4413240" cy="8380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1 час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2 часа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3 часа –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(норма в 3 классе - 2 часа)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нее 1 часа - 2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103320" y="41436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Литерату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е чт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–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те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усск. я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 я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-е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- 4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 – 15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-8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ура – 6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 - 7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0" y="380880"/>
            <a:ext cx="8924760" cy="1878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нглийский язык -  9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усский. яз.-  4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атематика - 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кружающий мир - 6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б-е - 7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нформатика –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ехнология –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ЗО - 1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1-19T10:58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